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213-6F63-4650-9A12-2FD0355A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D1F9-07F0-4A06-8C18-B0528BEC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54B-FDE4-495E-AD22-62CBE4A3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BF8-1428-40BE-AFF1-F6E3B8DD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26B3-36D3-4F85-9478-DD348317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3CC-02CE-48B6-BC3B-E7C7DF21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3D0-B6AB-4860-93D9-8467FE77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710-8EF9-4B26-9CD6-7084144E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2F4D-CAA7-405D-A1DC-51175F3F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3987-9B79-439C-B97F-1A0D0F55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108D-1298-4337-AAA7-1B97B695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FE0-42CF-4C51-A419-C604BABF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8985-5696-4EBC-AAF5-28638FAA0AE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ثالث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مربع نص 3"/>
          <p:cNvSpPr/>
          <p:nvPr/>
        </p:nvSpPr>
        <p:spPr>
          <a:xfrm>
            <a:off x="0" y="0"/>
            <a:ext cx="9144000" cy="81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Calibri"/>
              </a:rPr>
              <a:t>باب الخيا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خيار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اسم مصدر اختار أي طلب خير الأمرين من الإمضاء والفسخ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ثمانية أقسام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أول: (خيار المجلس)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كسر اللام موضع الجلوس وهو هنا مكان التبايع (يثبت) خيار المجلس (في الب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لحديث ابن عمر يرفعه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( إذا تبايع الرجلان فكل واحد منهما بالخيار مالم يتفرقا وكانا جميعا أو يُخيِّر أحدهما الآخر فتبايعا على ذلك فقد وجب البيع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البيع (الصلح بمعناه) و (الإجارة) و(الصرف والسلم) لتناول البيع لهما (دون سائر العقو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(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كل من المتبايعين الخيار مالم يتفرقا عرفا بأبدانهم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إن نفياه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: الخيار بأن تبايعا على أن لا خيار بينهما لزم بمجرد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أو أسقطاه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 : الخيار بعد العقد (سقط)، لأن الخيار حق للعاقد فسقط بإسقاط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وإن أسقطه أحدهما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 : أحد المتبايعين أو قال لصاحبه : اختر،سقط خياره و (بقي خيار الآخ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ربع نص 4"/>
          <p:cNvSpPr/>
          <p:nvPr/>
        </p:nvSpPr>
        <p:spPr>
          <a:xfrm>
            <a:off x="0" y="0"/>
            <a:ext cx="914400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Calibri"/>
              </a:rPr>
              <a:t>القسم الثاني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ن أقسام الخيار خيار الشرط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بـ(ـأن يشترطاه) أ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شترط المتعاقدان الخيار (في) صلب (العقد) أو بعده في مدة خيار المجلس أو الشرط (مدة معلومة ولو طويل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قوله عليه السلام ((المسلمون على شروطهم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يثبت) خيار الشرط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ي البيع والصلح) والقسمة والهبة وبما معنا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الإجارة في الذم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يجوز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لمن له الخيار الفسخ ولو مع غيب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صاحبه (الآخر و) مع (سخط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كالملك) في البيع (مدة الخيارين) أي : خيار الشرط وخيار المجلس (للمشتر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قوله     :((من باع عبدا وله مال فماله للبائع إلا أن يشترطه المبتاع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(له) أي للمشتري(نماؤه) أي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نماء البيع (المنفصل) كالثمرة (وكسبه) في مدة الخيارين ولو فسخاه بع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يحرم ولا يصح تصرف أحدهما في المبيع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في (عوضه المعين فيها) (بغير إذن الآخر) (بغير تجربة المبي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صورة 5" descr="429PX-~1.PNG"/>
          <p:cNvPicPr/>
          <p:nvPr/>
        </p:nvPicPr>
        <p:blipFill>
          <a:blip r:embed="rId1"/>
          <a:stretch/>
        </p:blipFill>
        <p:spPr>
          <a:xfrm>
            <a:off x="7929720" y="4000680"/>
            <a:ext cx="4330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ربع نص 3"/>
          <p:cNvSpPr/>
          <p:nvPr/>
        </p:nvSpPr>
        <p:spPr>
          <a:xfrm>
            <a:off x="0" y="7142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من مات منهما) أي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 من البائع أو المشتري بشرط الخيار(بطل خياره) فلا يورث إن لم يكن طالب به قبل مو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ثالث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ن أقسام الخيار : خيار الغبن (إذا غبن في المبيع غبنا يخرج عن العادة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له ثلاثة صور:إحداها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لقي الركبان لقوله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(لا تلقَّوا الجلب فمن تلقَّاه فاشترى منه فإذا أتى السوق فهو بالخيار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ثانية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شار إليها بقوله (بزيادة الناجش) الذي لا يريد الشرا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ثالثة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ذكرها بقوله (والمسترسل) وهو من جهل القيمة ولا يحسن يما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ذا غبن ثبت له الخيار ولا أرش مع إمسا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غبن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محرم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خياره على التراخ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صورة 4" descr="429PX-~1.PNG"/>
          <p:cNvPicPr/>
          <p:nvPr/>
        </p:nvPicPr>
        <p:blipFill>
          <a:blip r:embed="rId1"/>
          <a:stretch/>
        </p:blipFill>
        <p:spPr>
          <a:xfrm>
            <a:off x="3786120" y="2857680"/>
            <a:ext cx="4334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85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85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ربع نص 3"/>
          <p:cNvSpPr/>
          <p:nvPr/>
        </p:nvSpPr>
        <p:spPr>
          <a:xfrm>
            <a:off x="0" y="0"/>
            <a:ext cx="9144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رابع: (خيار التدليس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كتسويد شعر الجارية وتجعيد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ذا تبين له التدليس ثبت له الخيار وكذا تصرية اللبن في ضرع بهيمة الأنعام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حديث أبي هريرة يرفعه ((لا تصرُّوا الإبل والغنم ، فمن ابتاعها فهو بخير النَّظرين بعد أن يحلبها ، إن شاء أمسك وإن شاء ردَّها وصاعا من تمر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خيار التدليس على التراخ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خامس: (خيار العيب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ا بمعناه، وهو أي: العيب(ما ينقص من قيمة المبيع)عادة فما عده التجار في عرفهم منقصا،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فإذا علم المشتري العيب بعد) العق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أمسكه بأرشه إن ش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أرش :(قسط ما بين قيمة الصحة والعيب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و رده وأخذ الث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خيار عيب متراخ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أنه لدفع ضرر متحقق فلم يبطل التأخير (ما لم يوجد دليل الرضى) كتصرف فيه بإجارة أو إعارة أو نحوهما عالماً بعيبه واستعماله لغير تجربة ، (ولا يفتقر )الفسخ للعيب (إلى حكم ولا رضى ولا حضور صاحبه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3"/>
          <p:cNvSpPr/>
          <p:nvPr/>
        </p:nvSpPr>
        <p:spPr>
          <a:xfrm>
            <a:off x="0" y="0"/>
            <a:ext cx="9144000" cy="77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سادس: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(خيار البيع بتخبير الثمن متى بان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ثمن (أقل أو أكثر) مما أخبره ب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ثبت في أنواعه الأربع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تولية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رأس الم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شرك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عضه بقسطه من الث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مرابح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ثمنه وربح معلو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مواضع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بيعه برأس ماله وخسران معلو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ابد في جميعها) أي: الصور الأربع من معرفة المشتري والبائع (رأس الما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أن ذلك شرط لصحة البيع فإن فات لم يص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سابع:( خيار يثبت لاختلاف المتبايعين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ي الجملة (فإذا اختلفا في قدر الثمن تحالفا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يحلف بائع أولا ما بعته بكذا وإنما بعته بكذا ثم يحلف المشتري ما اشتريته بكذا وإنما اشتريته بكذا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كل من المتبايعين بعد التحالف (الفسخ إذا لم يرض أحدهما بقول الآخر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اختلفا في عين المبيع تحالفا وبطل أي : فسخ الب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4"/>
          <p:cNvSpPr/>
          <p:nvPr/>
        </p:nvSpPr>
        <p:spPr>
          <a:xfrm>
            <a:off x="0" y="5904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ثامن:(ويثبت الخيار للخلف في الصف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ذا باعه شيئا موصوف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تغير ما تقدمت رؤيت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36:30Z</dcterms:created>
  <dc:creator>Vista</dc:creator>
  <dc:description/>
  <dc:language>en-US</dc:language>
  <cp:lastModifiedBy>Vista</cp:lastModifiedBy>
  <dcterms:modified xsi:type="dcterms:W3CDTF">2012-11-19T16:01:39Z</dcterms:modified>
  <cp:revision>3</cp:revision>
  <dc:subject/>
  <dc:title>المحاضرة الثالثة</dc:title>
</cp:coreProperties>
</file>