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221-C43E-4CA2-914A-74532E8E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5D7-0760-4FCE-8A16-CD8CA434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1A7-D247-4303-AE4E-89E78F70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A4D-C8AB-4B01-8CAC-72CE9297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25D-17EE-4E63-A9FA-7FF9BC80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58D-5654-4EFD-B381-CC83D77B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3B1-5992-4439-B42C-B4DD42D2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9A3-B15C-419F-8229-3E84ED87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C7F-221F-48A8-8794-77ACC4DB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46C-6D9D-4436-AAC2-AB4195E3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10E-33C6-4AE0-8B99-9ABFAE1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69E-BE91-46F6-82E1-DE64A91B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8230-9E31-4A31-8038-40B1B7A83C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3"/>
          <p:cNvGrpSpPr/>
          <p:nvPr/>
        </p:nvGrpSpPr>
        <p:grpSpPr>
          <a:xfrm>
            <a:off x="396720" y="658800"/>
            <a:ext cx="8423280" cy="5870520"/>
            <a:chOff x="396720" y="658800"/>
            <a:chExt cx="8423280" cy="5870520"/>
          </a:xfrm>
        </p:grpSpPr>
        <p:pic>
          <p:nvPicPr>
            <p:cNvPr id="42" name="عنوان 3" descr=""/>
            <p:cNvPicPr/>
            <p:nvPr/>
          </p:nvPicPr>
          <p:blipFill>
            <a:blip r:embed="rId1"/>
            <a:stretch/>
          </p:blipFill>
          <p:spPr>
            <a:xfrm>
              <a:off x="396720" y="658800"/>
              <a:ext cx="842328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692280"/>
              <a:ext cx="830592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600" spc="-1" strike="noStrike">
                  <a:solidFill>
                    <a:srgbClr val="ffffff"/>
                  </a:solidFill>
                  <a:latin typeface="Calibri"/>
                </a:rPr>
                <a:t>المحاضرة الثانية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3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74003a"/>
                </a:solidFill>
                <a:latin typeface="Andalus"/>
                <a:cs typeface="Andalus"/>
              </a:rPr>
              <a:t>البيوع المنهي عن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صح البيع ولا الشراء (ممن تلزمه الجمعة بعد ندائها الثا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يَـٰٓأَيُّهَا ٱلَّذِينَ ءَامَنُوٓا۟ إِذَا نُودِىَ لِلصَّلَوٰةِ مِن يَوْمِ ٱلْجُمُعَةِ فَٱسْعَوْا۟ إِلَىٰ ذِكْرِ ٱللَّهِ وَذَرُوا۟ ٱلْبَيْعَ ۚ ذَ‌ٰلِكُمْ خَيْرٌۭ لَّكُمْ إِن كُنتُمْ تَعْلَمُونَ )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سورة الجمعة الآية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نهي يقتضي الفساد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منادا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المساومة لأنهما وسيلة للبيع المحرم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قت مكتو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عصير ونحوه (ممن يتخذه خمرا) 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وَلَا تَعَاوَنُوا۟ عَلَى ٱلْإِثْمِ وَٱلْعُدْوَ‌ٰنِ ۚ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(سلاح في فتنة بين المسلمين) لأن الرسول     نهى عن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لا بيع (عبد مسلم لكافر) إذا لم يعتق عليه وهو الرحم المحر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حرم بيع المسلم على أخيه) المسلم كأن يقول لمن اشترى سلعة بعشرة أنا أعطيك هي بتسعة لقوله    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(لا يبيع بعضكم على بيع بع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حرم أيضا (شراؤ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ي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شرائ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خيه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كأن يقول لمن باع سلعة بتسعة عندي فيها بعشرة(ويبطل العقد فيهم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6000840" y="464328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47" name="صورة 5" descr="429PX-~1.PNG"/>
          <p:cNvPicPr/>
          <p:nvPr/>
        </p:nvPicPr>
        <p:blipFill>
          <a:blip r:embed="rId2"/>
          <a:stretch/>
        </p:blipFill>
        <p:spPr>
          <a:xfrm>
            <a:off x="1928880" y="3357720"/>
            <a:ext cx="360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428760" y="214200"/>
            <a:ext cx="828648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74003a"/>
                </a:solidFill>
                <a:latin typeface="Calibri"/>
              </a:rPr>
              <a:t>باب الشرط في البي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شرط هن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إلزام أحد المتعاقدين الآخر بسبب العقد ما له فيه منفعة ومحل المعتبر منها صلب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هي ضرب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نها صحيح) وهو ما وافق مقتضى العقد وهو ثلاثة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أحدهم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قتضى البيع كالتقابض وحلول الثمن فلا يؤثر فيه لأنه بيان وتأكيد لمقتضى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ا كان من مصلحة العقد (كالرهن المعين) أو الضامن المعين ،أو كـ(ـتأجيل ثمن) أو بعضه إلى مدة معلومة، أو كشرط صفة في المب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لث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فع :شرط بائع نفعا معلوما في مبيع (نحو أن يشترط البائع سكنى الدار) أو (شرط المشتري على البائع) كـ(حمل الحطب المبيع إلى  مكان معلوم) أو (تكسيره أو خياطة الثوب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مربع نص 3"/>
          <p:cNvSpPr/>
          <p:nvPr/>
        </p:nvSpPr>
        <p:spPr>
          <a:xfrm>
            <a:off x="571680" y="357120"/>
            <a:ext cx="8143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ضرب الثاني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ومنها فاسد) وهو ما ينافي مقتضى العقد وهو ثلاثة أنوا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أحدهما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بطل العقد) من أصله (كاشتراط أحدهما على الآخر عقدا آخر كسلف)(وقرض وبيع وإجارة وصر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ني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ا يصح معه البيع (وإن شرط أن لا خسارة عليه أو متى نفق المبيع إلا رده)،أو شرط أن (لا يبيع) المبيع (ولا يهبه ولا يعتقه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بطل الشرط وحده) لقوله     (من اشترط شرطا ليس في كتاب الله فهو باطل وإن كان مائة شر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لث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ا لا ينعقد معه بيع نحو (بعتك إن جئتني بكذا) أو إن (رضي زي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صورة 4" descr="429PX-~1.PNG"/>
          <p:cNvPicPr/>
          <p:nvPr/>
        </p:nvPicPr>
        <p:blipFill>
          <a:blip r:embed="rId1"/>
          <a:stretch/>
        </p:blipFill>
        <p:spPr>
          <a:xfrm>
            <a:off x="5286240" y="335772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3:27Z</dcterms:created>
  <dc:creator>Vista</dc:creator>
  <dc:description/>
  <dc:language>en-US</dc:language>
  <cp:lastModifiedBy>Vista</cp:lastModifiedBy>
  <dcterms:modified xsi:type="dcterms:W3CDTF">2012-11-19T16:02:37Z</dcterms:modified>
  <cp:revision>3</cp:revision>
  <dc:subject/>
  <dc:title>المحاضرة الثانية</dc:title>
</cp:coreProperties>
</file>