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F61-EBD3-4004-9A0E-F9484AD5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31D5-D554-4D0F-94D5-CD32BC01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9C35-11EC-4AC9-9D25-455C17DC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55AD-12FF-456B-A48B-48D83B1F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055-6DE5-4B0F-A922-8DEAC07E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2B1D-5FD1-48EF-B458-8E321584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02C-C0F9-4DE1-A436-D3930688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DD83-5210-47E8-AF85-EFEC95F6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04B7-FDA8-4B6E-BEBD-F89A653B5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C02-5EC6-47E7-92FD-0F5ECCEB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BF56-9377-4CF1-A556-FB9C8AAC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2E44-3E4A-410F-A8BA-5E5E4F3E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AA4B-8706-443A-A8D7-153E2AD3A056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963800"/>
                <a:gridCol w="1693800"/>
                <a:gridCol w="1828800"/>
              </a:tblGrid>
              <a:tr h="15627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952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دافعي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راع القيم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تباين الأهمية النسبية لدوافع الانجاز والانتماء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ظروف البيئية ومنها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افتقار إلى الظروف البيئية التي تراعي الإمكانات العقلية لهؤلا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نخفاض واضح في تقدير الذ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فتقار الشعور الايجابي بالمقدرة أو الكفاءة الذاتية الأكاديمية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مفهوم ذات متدن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تجاهات سلبية نحو المدرسة و العمل المدرسي عادات سلبية غير منتجة مع قابلية للتشتت وعدم التركي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صعوبات في العلاقات الاجتماعية وتكوين الصداق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صامتون المنسحبون 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لشاكون للمجهول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عدوانيون المشكلون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عرف بأنة الفشل في استخدام الطاقات والقدرات العقلية للفرد في الوصول إلى المستوى التحصيلي أو الأكاديمي الملائم لمستوى ذكائة وقدرات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 ذوو صعوبات التعلم وذوو التفريط التحصيلي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500200"/>
                <a:gridCol w="1928880"/>
                <a:gridCol w="2786040"/>
                <a:gridCol w="1928880"/>
              </a:tblGrid>
              <a:tr h="136044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497560"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ميل أو نزعة واضحة وقوية لدى الطفل لتجاهل المتحدث 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أو الإعراض عن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حساسية زائدة أو غير عادية للضوضاء 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الشكوى المستمرة منها أو الابتعاد عن مصادرها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صعوبة تحديد اتجاه المتحدث عندما ينادى علية أحد الأشخاص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خلل أو تشوي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أو نسيان الاتجاهات.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وعي بالصوت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ميز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ذاكرة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تتابع السمعي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مزج أو الدمج أو التوليف السمعي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يقصد باضطرابات التجهيز السمعي صعوبة تفسير المخ للمعلومات التي ترد إلية عن طريق حاسة السمع وتجهيزها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معالجتها 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التجهيز البصري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و السمعي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" name=""/>
          <p:cNvGraphicFramePr/>
          <p:nvPr/>
        </p:nvGraphicFramePr>
        <p:xfrm>
          <a:off x="0" y="71280"/>
          <a:ext cx="9144000" cy="7772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280296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عوامل التي تقف خلف المشكل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خصائ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ات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تعري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الفئة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50680"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عوامل تتعلق بالفرد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قصور انتباهيته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ندفاعيتهم في .الفعل ورد الفع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الإفراط  في النشاط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إمداد الخلايا المخية المتعلقة بالتركيز بالجلوكوز الذي يؤمن الطاقة الضرورية للعملي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ضعف في تتابع الانتقال العصبي للمعلومات والمثيرات وردود الأفعال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أنماط غير عادية لموجات النشاط الكهربي للمخ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اختلافات في التركيب البنائي لخلايا المخ .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ضطراب أو صعوبات الانتباه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غلب عليه الإفراط في النشاط مع الاندفاع 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نمط يجمع بين  قصور الانتباه والإفراط في النشاط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ضطراب أو قصور ذو أساس عقلي , يعبر عن نفسه من خلال ضعف الانتباه من حيث سعته ومداه, مصحوباً باندفاعية وزيادة حدة وتواتر الأنشطة غير الهادفة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120" rIns="60120" tIns="0" bIns="0" anchor="t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متفوقون عقلياً ذوو اضطرابات أو صعوبات الانتباه مع فرط النشاط  </a:t>
                      </a:r>
                      <a:r>
                        <a:rPr b="0" lang="ar-SA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0120" marR="60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4:45:53Z</dcterms:created>
  <dc:creator>Home User</dc:creator>
  <dc:description/>
  <dc:language>en-US</dc:language>
  <cp:lastModifiedBy>B&amp;M . Q</cp:lastModifiedBy>
  <dcterms:modified xsi:type="dcterms:W3CDTF">2012-12-18T09:46:13Z</dcterms:modified>
  <cp:revision>43</cp:revision>
  <dc:subject/>
  <dc:title>الشريحة 1</dc:title>
</cp:coreProperties>
</file>