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A65EF-E6C4-488D-801F-5FBEE958A99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C54F3-987C-4E4F-903C-64E29AA506D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5352-121A-4CE1-BAE3-8A0C56192D34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9B4DF-A7CD-47A9-9F8A-591B3F7A3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24D1-2578-4B1F-8215-34BCFF3956F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2E3-25C7-4BD2-B1B7-3BF69A16173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7636-78A2-4391-B60A-71D05405397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D03-8CFA-47D2-AE64-372B90EBD63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CD7-3DC3-464E-A3B3-28320141E32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194-FC1A-4517-B918-7F9542980B3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0A5-07C7-401D-9910-9DB0D6C5FCB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D306-D16D-4BFF-871B-53D87ABA9B8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43DD-3A3E-41FA-924D-4F6B1B81F73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9F8-8146-45BB-8819-E6075174B03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43DFE0-20B6-44D3-A94D-1AF4656043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447F-621D-4BC3-ACFC-598D148DFDF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969453-90A3-4D51-BE55-4F29143819D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3F0EF-4BCC-48FE-8386-8415E7BCE1E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6A28F-9112-4992-BF58-A506E2F13A1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E8536-A2F8-4A52-9DD0-8D2290D8154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5E0D40-D5B8-46F7-8D00-8213A0BD75A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89C01A-9D73-4806-B14E-9AF9972D5D22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265436-FA3C-465F-B4C0-453E2EF4A8B5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A6DCA-897D-4F47-BF3E-0651C79DC37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A1FD4-634C-4FF6-BB74-84D0FBC3A3C3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42230-2E6A-42DC-8B5A-8D1465C8BD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6656-51AA-4E08-A86C-C8A1D56C9169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C0BF8-3B70-42FB-B9E2-1AF38BFB938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5FED9D-0186-48C5-A51C-D06C14781F43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72AF2-ABD4-4127-B484-260CCC25674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AD4B89-5F71-4465-A2B0-B9CFA7F53BA6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0B8E0F-9E32-4319-BF3D-3E7105608CA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11091-5902-4D64-8669-87C75BA89F8C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A9E99B-D28F-465A-B2A1-8F4430E14C8B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7B4C1A-FB01-4602-872E-BAD92E213F0B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DB84A3-6C0C-4034-B6DE-E7B9C56C730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8AD6A3-C2CE-4AA9-BCC2-B2B9066E5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AF34A-CE20-47CF-B3AB-EA11A1B3C99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44F588-BCAF-4A56-94A9-DE0149B08B12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139CD9-AF00-4973-82D9-B6BD7BB2071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5E8642-4D24-46FA-8977-34B31F826DC4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B1E-B501-4C6A-9401-E518E23DBDA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E8FD7-6B4E-4BEB-9A20-1B8F29BA53A7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AF3F-6DFA-4585-9FF1-5DC81E136D3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3214-CC72-4F66-A2C1-0AECF3972B0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1419-8BB6-4972-8519-7445D08D6C3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D661-46D5-46B6-A904-68ACB5C03E2B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F46CF-357F-47A6-BEA9-5E2FE237EEE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8F3B6-C04E-45C6-AE70-F1DEA039DA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76EE-13B6-43B8-AC10-299000AEC22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02BB0-1A90-4A48-9596-FD8DF30391C5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18BE-0A6D-40C2-A9C7-1AE66F78CC2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E718-B646-401B-9C04-E05B0FCFE3E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051E-045F-4C63-8FF5-3821BD9EB9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D2922-8C2F-40D9-82D2-AE98F5B7FD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32852-D3CF-4A1E-8D69-5539873582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20F69-A2F4-4525-99D6-F0E3391B00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73D91-A706-402F-95B8-F4B6D2089D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AC202-4110-4174-94CC-07E1020834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36DF-3D22-4DFB-A750-ADC189FA5C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5CFC5-95DF-4E0B-9CE4-D2C48DD56A3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10EDC-ABF7-41DE-BA18-04A76FFD8F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B4E50-459E-4888-A5D5-C09E1B6F83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EFAB2-6D91-4582-A4A8-A7609143B4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226D-DFFD-49C7-A50B-6B0827F92E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FD89-2F44-452E-A246-D86ED7D652B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839DB-1819-493F-BC62-47949EB4986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A254B-8243-4FA4-8E35-6E462B14B6F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B46DE-41DB-449C-9596-FF6E1899ED3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99B6A-C42B-4751-9FAB-5D65E0F5457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E9C28-CC64-4955-AEC2-A91FCD3619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DB0B-F825-4353-836A-472C48E7D7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92E3-470A-4FEA-BF85-DF968355A42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807C-13E6-4EAD-8010-7FA69136EF0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B701-0679-439B-86F0-91B657B7F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914720" y="6377040"/>
            <a:ext cx="57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43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4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Num" idx="4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4534-3C67-4425-A089-29F15EEE949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49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5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B053-DF99-456D-91F4-5F105BD00103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3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6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6394-F529-4716-BE11-E1BFF7ABDA4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5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0" y="2133720"/>
            <a:ext cx="266688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7238880" y="2133720"/>
            <a:ext cx="2667240" cy="144756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49A91-889D-4B33-B106-22AD03A7EF2A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0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152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00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1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9425160" y="281160"/>
            <a:ext cx="304560" cy="10904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1"/>
          <p:cNvSpPr/>
          <p:nvPr/>
        </p:nvSpPr>
        <p:spPr>
          <a:xfrm>
            <a:off x="415800" y="1365120"/>
            <a:ext cx="9296640" cy="6480"/>
          </a:xfrm>
          <a:prstGeom prst="line">
            <a:avLst/>
          </a:prstGeom>
          <a:ln w="9360">
            <a:solidFill>
              <a:srgbClr val="6ea0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"/>
          <p:cNvSpPr/>
          <p:nvPr/>
        </p:nvSpPr>
        <p:spPr>
          <a:xfrm>
            <a:off x="9425160" y="0"/>
            <a:ext cx="304560" cy="30168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51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2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3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299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47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"/>
          <p:cNvSpPr/>
          <p:nvPr/>
        </p:nvSpPr>
        <p:spPr>
          <a:xfrm>
            <a:off x="4881600" y="6367320"/>
            <a:ext cx="671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       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0" y="6324480"/>
            <a:ext cx="9906120" cy="533520"/>
          </a:xfrm>
          <a:prstGeom prst="rect">
            <a:avLst/>
          </a:prstGeom>
          <a:solidFill>
            <a:srgbClr val="527e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7"/>
          <p:cNvGrpSpPr/>
          <p:nvPr/>
        </p:nvGrpSpPr>
        <p:grpSpPr>
          <a:xfrm>
            <a:off x="8610480" y="5791320"/>
            <a:ext cx="941400" cy="914400"/>
            <a:chOff x="8610480" y="5791320"/>
            <a:chExt cx="941400" cy="914400"/>
          </a:xfrm>
        </p:grpSpPr>
        <p:sp>
          <p:nvSpPr>
            <p:cNvPr id="395" name="Oval 12"/>
            <p:cNvSpPr/>
            <p:nvPr/>
          </p:nvSpPr>
          <p:spPr>
            <a:xfrm>
              <a:off x="8645400" y="5813280"/>
              <a:ext cx="874800" cy="868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Picture 2" descr="http://kfu.files.googlepages.com/newKFUlogo.jpg"/>
            <p:cNvPicPr/>
            <p:nvPr/>
          </p:nvPicPr>
          <p:blipFill>
            <a:blip r:embed="rId2"/>
            <a:stretch/>
          </p:blipFill>
          <p:spPr>
            <a:xfrm>
              <a:off x="8610480" y="5791320"/>
              <a:ext cx="94140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Rectangle 15"/>
          <p:cNvSpPr/>
          <p:nvPr/>
        </p:nvSpPr>
        <p:spPr>
          <a:xfrm>
            <a:off x="6785640" y="651996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King Faisal Univers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16"/>
          <p:cNvSpPr/>
          <p:nvPr/>
        </p:nvSpPr>
        <p:spPr>
          <a:xfrm>
            <a:off x="6740280" y="629136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جامعة الملك فيص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7" descr="logo EDE.png"/>
          <p:cNvPicPr/>
          <p:nvPr/>
        </p:nvPicPr>
        <p:blipFill>
          <a:blip r:embed="rId3"/>
          <a:stretch/>
        </p:blipFill>
        <p:spPr>
          <a:xfrm>
            <a:off x="304920" y="5791320"/>
            <a:ext cx="838080" cy="93816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8"/>
          <p:cNvSpPr/>
          <p:nvPr/>
        </p:nvSpPr>
        <p:spPr>
          <a:xfrm>
            <a:off x="917640" y="6581880"/>
            <a:ext cx="31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Deanship of E-Learning and Distance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557280" y="6291360"/>
            <a:ext cx="399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Calibri"/>
              </a:rPr>
              <a:t>عمادة التعليم الإكتروني والتعلم عن بع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76092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sldNum" idx="3"/>
          </p:nvPr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1323F-64FC-4961-B92C-06C1DE1D189E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4927680" y="6356520"/>
            <a:ext cx="482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E094-71DA-464C-A3FC-57758640B27B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4"/>
          <p:cNvSpPr/>
          <p:nvPr/>
        </p:nvSpPr>
        <p:spPr>
          <a:xfrm>
            <a:off x="0" y="76320"/>
            <a:ext cx="9906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5"/>
          <p:cNvSpPr/>
          <p:nvPr/>
        </p:nvSpPr>
        <p:spPr>
          <a:xfrm>
            <a:off x="0" y="0"/>
            <a:ext cx="9906120" cy="3429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ubtitle 2"/>
          <p:cNvSpPr/>
          <p:nvPr/>
        </p:nvSpPr>
        <p:spPr>
          <a:xfrm>
            <a:off x="6019920" y="4648320"/>
            <a:ext cx="354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898989"/>
                </a:solidFill>
                <a:latin typeface="Calibri"/>
              </a:rPr>
              <a:t>نظام التعليم المطور للانتسا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Group 7"/>
          <p:cNvGrpSpPr/>
          <p:nvPr/>
        </p:nvGrpSpPr>
        <p:grpSpPr>
          <a:xfrm>
            <a:off x="6494400" y="1981080"/>
            <a:ext cx="2600280" cy="2524320"/>
            <a:chOff x="6494400" y="1981080"/>
            <a:chExt cx="2600280" cy="2524320"/>
          </a:xfrm>
        </p:grpSpPr>
        <p:sp>
          <p:nvSpPr>
            <p:cNvPr id="599" name="Oval 8"/>
            <p:cNvSpPr/>
            <p:nvPr/>
          </p:nvSpPr>
          <p:spPr>
            <a:xfrm>
              <a:off x="6591240" y="2043000"/>
              <a:ext cx="2417760" cy="239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0" name="Picture 2" descr="http://kfu.files.googlepages.com/newKFUlogo.jpg"/>
            <p:cNvPicPr/>
            <p:nvPr/>
          </p:nvPicPr>
          <p:blipFill>
            <a:blip r:embed="rId1"/>
            <a:stretch/>
          </p:blipFill>
          <p:spPr>
            <a:xfrm>
              <a:off x="6494400" y="1981080"/>
              <a:ext cx="2600280" cy="25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Freeform 10"/>
          <p:cNvSpPr/>
          <p:nvPr/>
        </p:nvSpPr>
        <p:spPr>
          <a:xfrm>
            <a:off x="0" y="2666880"/>
            <a:ext cx="6091200" cy="1447920"/>
          </a:xfrm>
          <a:custGeom>
            <a:avLst/>
            <a:gdLst/>
            <a:ahLst/>
            <a:rect l="l" t="t" r="r" b="b"/>
            <a:pathLst>
              <a:path w="6090557" h="1447800">
                <a:moveTo>
                  <a:pt x="1" y="0"/>
                </a:moveTo>
                <a:lnTo>
                  <a:pt x="5366657" y="0"/>
                </a:lnTo>
                <a:cubicBezTo>
                  <a:pt x="5558647" y="0"/>
                  <a:pt x="5742774" y="76268"/>
                  <a:pt x="5878532" y="212026"/>
                </a:cubicBezTo>
                <a:cubicBezTo>
                  <a:pt x="6014289" y="347784"/>
                  <a:pt x="6090557" y="531911"/>
                  <a:pt x="6090557" y="723901"/>
                </a:cubicBezTo>
                <a:lnTo>
                  <a:pt x="6090557" y="723900"/>
                </a:lnTo>
                <a:cubicBezTo>
                  <a:pt x="6090557" y="915890"/>
                  <a:pt x="6014289" y="1100017"/>
                  <a:pt x="5878531" y="1235775"/>
                </a:cubicBezTo>
                <a:cubicBezTo>
                  <a:pt x="5742773" y="1371533"/>
                  <a:pt x="5558646" y="1447800"/>
                  <a:pt x="5366656" y="1447800"/>
                </a:cubicBezTo>
                <a:lnTo>
                  <a:pt x="0" y="14478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itle 1"/>
          <p:cNvSpPr/>
          <p:nvPr/>
        </p:nvSpPr>
        <p:spPr>
          <a:xfrm>
            <a:off x="457200" y="2895480"/>
            <a:ext cx="5257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اسم المقرر ورقمه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cs typeface="Times New Roman"/>
              </a:rPr>
              <a:t>مبادئ التربية ترب </a:t>
            </a:r>
            <a:r>
              <a:rPr b="1" lang="ar-SA" sz="3700" spc="-1" strike="noStrike">
                <a:solidFill>
                  <a:srgbClr val="527e56"/>
                </a:solidFill>
                <a:latin typeface="AYM Wadiy S_U normal."/>
                <a:ea typeface="Times New Roman"/>
              </a:rPr>
              <a:t>10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ea typeface="Times New Roman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حاضرة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700" spc="-1" strike="noStrike">
                <a:solidFill>
                  <a:srgbClr val="ff0000"/>
                </a:solidFill>
                <a:latin typeface="AYM Wadiy S_U normal."/>
                <a:cs typeface="Times New Roman"/>
              </a:rPr>
              <a:t>مراجعة للمقرر</a:t>
            </a:r>
            <a:br>
              <a:rPr sz="3700"/>
            </a:br>
            <a:r>
              <a:rPr b="1" lang="ar-SA" sz="2200" spc="-1" strike="noStrike">
                <a:solidFill>
                  <a:srgbClr val="7f7f7f"/>
                </a:solidFill>
                <a:latin typeface="Calibri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10"/>
          <p:cNvSpPr/>
          <p:nvPr/>
        </p:nvSpPr>
        <p:spPr>
          <a:xfrm>
            <a:off x="380880" y="640548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47BF-CB74-46D1-AFC2-4F77DB59475D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000" spc="-1" strike="noStrike">
                <a:solidFill>
                  <a:srgbClr val="527e56"/>
                </a:solidFill>
                <a:latin typeface="Calibri"/>
              </a:rPr>
              <a:t>السابعة </a:t>
            </a:r>
            <a:br>
              <a:rPr sz="4000"/>
            </a:br>
            <a:r>
              <a:rPr b="1" lang="ar-SA" sz="36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مفهوم الثقافة</a:t>
            </a:r>
            <a:r>
              <a:rPr b="1" lang="ar-SA" sz="3600" spc="-1" strike="noStrike">
                <a:solidFill>
                  <a:srgbClr val="bdc097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52280" y="1447920"/>
            <a:ext cx="9601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هناك تعريفات مختلفة للثقافة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تايلور :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رف الثقافة بأنها "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هي ذلك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الكل المركب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لذي يتضمن المعرفة والعقيدة والفن والقانون والأخلاق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Times New Roman"/>
                <a:cs typeface="Times New Roman"/>
              </a:rPr>
              <a:t>ابن خلدون :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صف الثقافة 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cs typeface="Times New Roman"/>
              </a:rPr>
              <a:t>بالعمر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الذي هو من صنع الإنسان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.....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ويعرفه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 كلباتريك 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بأنها ”كل ما صنعته يد الانسات وعقله من أشياء ومظاهر فى البيئة الاجتماعية ,أي كل ما اخترعه الانسان أو ما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اكتشفه وكان له دور فى العملية التعليمية</a:t>
            </a:r>
            <a:r>
              <a:rPr b="1" lang="ar-SA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“</a:t>
            </a:r>
            <a:r>
              <a:rPr b="1" lang="ar-EG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مكونات 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الثقافة</a:t>
            </a:r>
            <a:r>
              <a:rPr b="1" lang="ar-SA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EG" sz="20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أولا: الجوانب غير المادية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لغة، وهي أداة الثقافة ووعاؤها. , الفنون والآداب والعلوم وسائر أنواع المعارف التي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ينتجها الإنسان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,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اتجاهات ,التقاليد, المعايير الاجتماعية, القيم الاجتماع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..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  <a:cs typeface="AL-Mohanad Bold"/>
              </a:rPr>
              <a:t>ثانياً : الجوانب المادية : </a:t>
            </a:r>
            <a:r>
              <a:rPr b="1" lang="ar-SA" sz="18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و هي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تتضمن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كل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ما ينتجة 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الانسان من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مخترعات</a:t>
            </a:r>
            <a:r>
              <a:rPr b="1" lang="ar-SA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ar-EG" sz="2000" spc="-1" strike="noStrike">
                <a:solidFill>
                  <a:srgbClr val="676a55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676a55"/>
                </a:solidFill>
                <a:latin typeface="Times New Roman"/>
                <a:cs typeface="Times New Roman"/>
              </a:rPr>
              <a:t>حسية</a:t>
            </a:r>
            <a:r>
              <a:rPr b="1" lang="en-US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Arial"/>
                <a:ea typeface="AL-Mohanad Bold"/>
              </a:rPr>
              <a:t> مثل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المساكن والشوارع والأسوا</a:t>
            </a:r>
            <a:r>
              <a:rPr b="1" lang="ar-EG" sz="2400" spc="-1" strike="noStrike">
                <a:solidFill>
                  <a:srgbClr val="676a55"/>
                </a:solidFill>
                <a:latin typeface="Calibri"/>
                <a:cs typeface="AL-Mohanad Bold"/>
              </a:rPr>
              <a:t>ق</a:t>
            </a:r>
            <a:r>
              <a:rPr b="1" lang="en-US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cs typeface="AL-Mohanad Bold"/>
              </a:rPr>
              <a:t>تصنف الثقافة في المجتمع إلى ثلاث أصناف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 </a:t>
            </a:r>
            <a:r>
              <a:rPr b="1" lang="ar-SA" sz="2400" spc="-1" strike="noStrike" u="sng">
                <a:solidFill>
                  <a:srgbClr val="676a55"/>
                </a:solidFill>
                <a:uFillTx/>
                <a:latin typeface="Calibri"/>
                <a:ea typeface="AL-Mohanad Bol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1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عموميات: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عناصر التي يشترك فيها الغالبية العظمى من أفراد المجتمع الواحد مثل: الزى واللغة والتحية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2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خصوصيات: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تشمل الظواهر التي لا يشارك فيها سوى أفراد من فئة متميزة معينة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مثل 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ثقافة أهل الحضر </a:t>
            </a:r>
            <a:r>
              <a:rPr b="1" lang="ar-EG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و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cs typeface="AL-Mohanad Bold"/>
              </a:rPr>
              <a:t>الريف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3880" indent="-2638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  <a:ea typeface="AL-Mohanad Bold"/>
              </a:rPr>
              <a:t>3-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بدائل أو المتغيرات</a:t>
            </a:r>
            <a:r>
              <a:rPr b="1" lang="ar-SA" sz="2000" spc="-1" strike="noStrike">
                <a:solidFill>
                  <a:srgbClr val="676a55"/>
                </a:solidFill>
                <a:latin typeface="Calibri"/>
                <a:ea typeface="AL-Mohanad Bold"/>
              </a:rPr>
              <a:t>: تشمل الأشياء التي لا يشارك فيها إلا عدد محدود من الأفراد مثل بعض التقاليع والموض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41EF-5A1E-41FB-B488-02FBFD9FDB44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مراجعة محاضرة السابعة </a:t>
            </a:r>
            <a:br>
              <a:rPr sz="4000"/>
            </a:br>
            <a:r>
              <a:rPr b="1" lang="ar-EG" sz="4000" spc="-1" strike="noStrike">
                <a:solidFill>
                  <a:srgbClr val="c00000"/>
                </a:solidFill>
                <a:latin typeface="Calibri"/>
                <a:cs typeface="AL-Mohanad Bold"/>
              </a:rPr>
              <a:t>الأسس الاجتماعية للتربية</a:t>
            </a:r>
            <a:br>
              <a:rPr sz="40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8000"/>
          </a:bodyPr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مجتمع</a:t>
            </a:r>
            <a:r>
              <a:rPr b="1" lang="ar-SA" sz="1800" spc="-1" strike="noStrike">
                <a:solidFill>
                  <a:srgbClr val="c00000"/>
                </a:solidFill>
                <a:latin typeface="Times New Roman"/>
                <a:ea typeface="AL-Mohanad Bold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هو ”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مجموعة كبيرة من الناس، تعيش معاً في جماعات متماسكة، في إقليم معين، وتجمعهم ثقافة واحدة ومصالح مشتركة، ولديهم إحساس بالانتماء للجماعة.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.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 يتكون المجتمع من ثلاثة عناصر رئيسة تتداخل فيما بينها هى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 ـ البيئة الجغرافية أو الفيزيق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بما تشمل مساحة من الأرض والتضاريس والجبال والسواحل والصحاري ...وثروات طبيع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ب ـ الأفراد أو السكا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الذين يعيشون على هذه الأرض ، ولهم أنشطة اجتماعية وثقافية ، ولهم مهن ، وبيئات ( ريف / حضر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ج ـ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التنظيم الاجتماعي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، وتشمل المنظمات الاجتماعية والتربوية  والاقتصادية والإدارية والمهنية والثقافية والمشروعات التي يديرها الأفرا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واع التربية فى المجتم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في هذا النوع من التربية تنظم الخبرات التي يتعرض لها الأفراد بقصد تعليمهم وتدريبهم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أولا: 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شكلية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من خلال احتكاك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الفرد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بغيره من الأفراد داخل المجتمع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ت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تم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عمل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التعلم بطريقة آل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: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ثالثاً:ال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ترب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لقائية</a:t>
            </a:r>
            <a:r>
              <a:rPr b="1" lang="en-GB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ويتميز هذا النوع من التربية بالقليل من القصد ليتعلم الفرد شيئاً معيناً لكي يسلك سلوكاً معيناً</a:t>
            </a:r>
            <a:r>
              <a:rPr b="1" lang="en-GB" sz="1800" spc="-1" strike="noStrike">
                <a:solidFill>
                  <a:srgbClr val="c00000"/>
                </a:solidFill>
                <a:latin typeface="Arial"/>
              </a:rPr>
              <a:t>  : 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ثانياً:ال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تربية غير شكلية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مراجعة على المحاضرة التاسعة والعاشرة والحادية عشر</a:t>
            </a:r>
            <a:r>
              <a:rPr b="1" lang="en-US" sz="3600" spc="-1" strike="noStrike">
                <a:solidFill>
                  <a:srgbClr val="c00000"/>
                </a:solidFill>
                <a:latin typeface="Calibri"/>
                <a:ea typeface="AL-Mohanad Bold"/>
              </a:rPr>
              <a:t> 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1000"/>
          </a:bodyPr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فهوم الفلسف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العلاقة بين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وا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لفلسف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مجالات اهتمام فلسفة التربية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نماذج الفلسفات التربوية:-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ـ الفلسفة المثالية وتطبيقاتها التربوية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الإسلامية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ـ الفلسفة الواقعية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وتطبيقاتها التربوي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برجماتية وتطبيقاتها التربوي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الفلسفة الطبيعية وتطبيقاتها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إسلامية.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خلدون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ابن تيمية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  <a:cs typeface="SimSun"/>
              </a:rPr>
              <a:t>من أعلام التربية الغربية.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SimSu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ون ديوى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ar-SA" sz="2400" spc="-1" strike="noStrike">
                <a:solidFill>
                  <a:srgbClr val="000000"/>
                </a:solidFill>
                <a:latin typeface="Calibri"/>
              </a:rPr>
              <a:t>جان جاك روس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-27756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756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مراجعة على المحاضرة الثانية عشر</a:t>
            </a:r>
            <a:br>
              <a:rPr sz="3200"/>
            </a:br>
            <a:r>
              <a:rPr b="0" lang="en-GB" sz="32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2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الأسس النفسية للتربية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اول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:- نظريات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نى:</a:t>
            </a:r>
            <a:r>
              <a:rPr b="1" lang="ar-OM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تفكير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ثالث:</a:t>
            </a:r>
            <a:r>
              <a:rPr b="1" lang="ar-SA" sz="2400" spc="-1" strike="noStrike">
                <a:solidFill>
                  <a:srgbClr val="b0ccb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الذكاء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رابع:  الذاكرة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خامس: الفروق الفردية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الموضوع السادس:الحاجات والدواف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المحاضرة الثالثة عشر والرابعة عشر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9601200" cy="48769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8000"/>
          </a:bodyPr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فهوم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قوم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بررات التجديدات التربوية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خصائص التجديد التربوى ومراحله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مجالات ومعوقات التجديد التربوي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>
              <a:spcBef>
                <a:spcPts val="499"/>
              </a:spcBef>
              <a:buClr>
                <a:srgbClr val="ff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Calibri"/>
              </a:rPr>
              <a:t>نماذج من التجديدات التربوية فى المملكة العربية السعود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ماذج من التجديدات التربوية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تعلم المتمركز حول المشكلات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جامعة الافتراضي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>
                <a:solidFill>
                  <a:srgbClr val="002060"/>
                </a:solidFill>
                <a:latin typeface="Calibri"/>
              </a:rPr>
              <a:t>ا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لذكاءات المتعددة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سويق التعليم الجامعى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اقتصاد المعرفى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عليم الكبار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تفريد التعليم.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2060"/>
                </a:solidFill>
                <a:latin typeface="Calibri"/>
              </a:rPr>
              <a:t>المناخ المدرسى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ي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درس ........  سلوك الإنسان وما يصدر منه من أفعال وحركات وأقوال أثناء تفاعله وتكيفه مع البيئة وأفراد المجتم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تاريخ                                           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علم الاجتما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علم النفس                                              د-علم الأحي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يهدف   .......... إلى القضاء على عناصر الضعف في أحد الكفايات التي يجب أن تتوافر لدى المعلم أو العامل التربوي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لتدريب العلاجي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               ب-التدريب التجديد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تدريب التحويلي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-التدريب التكمي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مقومات مهنة التعلي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أ- النشاط  العقلي                                             ب  الإعداد القبلي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 التدريب أثناء الخدمة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  تنظيم نقابي يضم أصحاب المهن الأخرى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نوع التفكير الذي يحاول الفرد من خلاله التوصل إلى الأسباب التي تكمن وراء الأشياء ، أو الأدلة التي تثبت وجهة نظر معينة ، هو التفكير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التفكير الحسي                                                        ب ـ التفكير المنطقي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تفكير الإبداعي                                                      د ـ التفكير الناقد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قال تعالى "لاَ يُكَلِّفُ اللّهُ نَفْسًا إِلاَّ وُسْعَهَا" تدل  هذه الآية الكريمة على أن التربية الإسلامية عمل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مثالية     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ب- عالمية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مستمر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د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واقعية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شير معاجم اللغة العربية إلى أن الأصل اللغوي لكلمة التربية "ربا يربو" يعنى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زيادة و النمو                                                          ب- التنشئة والترعرع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- الإصلاح والرعاي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- التحسين و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844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601200" cy="4876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2000"/>
          </a:bodyPr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إ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لى أي مرحلة من المراحل التعليمية التالية يشير هذا الهدف " تكوين الوعي الإيجابي الذي يواجه به الطالب الأفكارَ الهدامة والاتجاهاتِ المضللة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 المرحلة الابتدائية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ب- المرحلة المتوسط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 algn="r" rtl="1">
              <a:spcBef>
                <a:spcPts val="349"/>
              </a:spcBef>
              <a:buClr>
                <a:srgbClr val="000000"/>
              </a:buClr>
              <a:buFont typeface="Calibri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حلة الثانوية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  مرحلة التعليم العال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علم الذي يبحث في التفاعل الاجتماعي داخل المدرسة  ، وبناء الشخصية الاجتماعية للتلميذ ، هو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علم الاجتماع                                                             ب ـ علم الإنسان ( الأنثروبولوجيا 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علم النفس                                                                د ـ علم الاجتماع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هي بناء خلق الطفل على ما يليق بالمجتمع الفاضل ". من الأقوال المأثورةلـ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جون ديوي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جان بول سارت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 أفلاطون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طهطاوي</a:t>
            </a:r>
            <a:r>
              <a:rPr b="0" lang="ar-SA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سويق التعليم الجامعي عملية  ....... تشمل التحليل والتخطيط والتنفيذ والرقابة ، كما أنه عملية اجتماعية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أ- نفسية                                                                    ب-إدارية</a:t>
            </a:r>
            <a:r>
              <a:rPr b="0" lang="ar-EG" sz="14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ج-إحصائية                                                             د- رياض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تهدف التربية في  ........ إلى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حشو عقول التلاميذ بالمعلومات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-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برجماتية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 الفلسف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فلسفة الطبيعي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د-الفلسفة الواقع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................هى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ي يقوم عليها المنهج التربوي الإلمام بخصائص المتعلم النمائية ، وحاجاته وميوله ، واستعداداته وقدراته ودوافعه إلى التعلم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لأسس الاجتماعية                                                    ب-الأسس النفسية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لأسس الفلسفية                                                         د - الأسس الثقاف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5360" indent="0" algn="r" rtl="1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952488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4000"/>
          </a:bodyPr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فيلسوف الذي وصف الثقافة" بالعمران الذي هو من صنع الإنسان"هو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تايلور                                                                        ب ـ ابن خلدو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أفلاطون                                                                   د - أرسط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ذهب .............إلي محتويات المنهج ليست مهمة بقدر أهمية الطريقة التي يعالج بها المدرس هذه المحتوي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ابن تيمية                                                             ب- جان جاك روسو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ابن خلدون                                                          د- جون ديو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تربية نظام له مدخلات وعمليات ومخرجات ،  وتمثل ........... الموارد المادية والبشرية وجميع العناصر الضرورية من أجل تحقيق أهداف محددة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  المدخلات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Calibri"/>
              </a:rPr>
              <a:t>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 ـ المخرج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عمليات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 ـ التغذية المرت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 عبارة عن قدرة عقلية عامة تدخل في جميع الأنشطة التي يقوم بها الفرد وتمكن الفرد من حل المشكلات 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ذكاء                                                                ب ـ الفروق الفرد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انحراف المعياري                                                د ـ الاتجاه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 دائما ما تلقي الضوء على الحكمة ، وفهم الإنسان وطبيعته وكيف يتعامل مع العالم المادي والمعنوي المحيط به.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إحصاء                       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     ب-  الفلسفة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 algn="r" rtl="1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سياسة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د -  الأحياء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ناصر الثقافية التي لا يشارك فيها إلا عدد محدود من الأفراد مثل بعض التقاليع والموضات الجديد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ه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.........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عموميات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ب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خصوصيات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بدائل                                                            د- المتوسطات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2200" indent="0" algn="r" rtl="1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0" lang="ar-EG" sz="36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9524880" cy="49528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91000"/>
          </a:bodyPr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 يشمل .........المعرفة ( تراكم الخبرات الإنسانية ) التي تقدم للتلاميذ بصورة تدريجية منظمة ،  أو غير المنظم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أ ـ المحتوى الدراسي                                                             ب ـ الهدف التربوي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ج ـ التقويم التربوي                                                                 د ـ المنهج الدراسي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" النتائج النهائية و التغيرات المأمول تحقيقها في سلوك التلاميذ بعد تعرضهم للأنشطة والمناهج التي توفرها المدرسة " هي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محتوى الدراسي                                                       ب ـ الأهداف التربو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التقويم التربوي                                                          د ـ المناهج  التربو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فى نظام .............   يتم إعداد المعلم خلال  السنوات الأربع الأول في حقله التخصصي فقط، وفي السنة الخامسة يتجه الخريج لدراسة بعض مقررات الإعداد المهني  وللتدريب الميداني في كليات التربية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تابعي                                                ب- الاعداد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كاملي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الاعداد المؤقت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الاعداد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ستم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ى ليس من الصفات الانفعالية التي  ينبغي أن يتحلى بها المعلم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قدرة على إيصال المعلومات                              ب-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انضباط في السلو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ب-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مرونة والبعد عن التصلب                                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د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التزام بالأداء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ن المجالات التربوية التالية يدرس الباحثون فيه الكفاءة الداخلية والخارجية للتعليم والتخطيط للتعليم على ضوء حاجات سوق العمل 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اقتصاديات التربية                                  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ب-نظم التربية وإدارتها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-مناهج التربية وأساليب التدريس                    د-الجوانب الفلسفية للتربي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تتمثل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العلاقة بين الدوافع والحاجات في أن :-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 ـ وراء كل حاجة دافع معين                           ب ـ وراء كل دافع حاجة معين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وراء كل حاجة  دافع و اتجاه معين                   د ـ وراء كل حاجة دافع و ميل معين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212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902988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(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أسئلة للتدريب والمناقشة</a:t>
            </a:r>
            <a:r>
              <a:rPr b="1" lang="ar-EG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937260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يعتمد التعليم على الجهد الذي يقوم به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التلميذ                                                                          ب ـ المدرس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 ـ مدير المدرسة                                                                د ـ الموجه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أي مما يل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ى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 ليس من مكونات التجديد التربوي؟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أ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الجدة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ب-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التغيي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ج- الإصلاح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د-  الزياد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-  تؤكد ........على أن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المنهج الجيد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هو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 مقدار تدريب الطلبة على حل المشكلات باستخدام الأساليب العلمية </a:t>
            </a:r>
            <a:r>
              <a:rPr b="1" lang="ar-EG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14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أ ـ </a:t>
            </a: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الفلسفة الإسلامية                                                          ب ـ الفلسفة المثالية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Calibri"/>
              </a:rPr>
              <a:t>ج ـ الفلسفة الواقعية                                                         د ـ الفلسفة البرجماتية</a:t>
            </a:r>
            <a:r>
              <a:rPr b="0" lang="ar-SA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 rtl="1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527e56"/>
                </a:solidFill>
                <a:latin typeface="Calibri"/>
              </a:rPr>
              <a:t>الفهرس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495360" y="1523520"/>
            <a:ext cx="902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الموضوع 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أول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 :مراجعة عل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موضوعات المقرر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الموضوع الثاني:</a:t>
            </a:r>
            <a:r>
              <a:rPr b="0" lang="ar-OM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ar-EG" sz="3200" spc="-1" strike="noStrike">
                <a:solidFill>
                  <a:srgbClr val="000000"/>
                </a:solidFill>
                <a:latin typeface="Calibri"/>
              </a:rPr>
              <a:t>أسئلة للمناقشة والتدريب</a:t>
            </a:r>
            <a:r>
              <a:rPr b="0" lang="ar-SA" sz="3200" spc="-1" strike="noStrike">
                <a:solidFill>
                  <a:srgbClr val="000000"/>
                </a:solidFill>
                <a:latin typeface="Calibri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5C2D-073C-4427-8B57-AD2E4A2F988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1480" bIns="51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Group 5" descr=""/>
          <p:cNvPicPr/>
          <p:nvPr/>
        </p:nvPicPr>
        <p:blipFill>
          <a:blip r:embed="rId1"/>
          <a:stretch/>
        </p:blipFill>
        <p:spPr>
          <a:xfrm>
            <a:off x="6370560" y="1884240"/>
            <a:ext cx="2797200" cy="2718000"/>
          </a:xfrm>
          <a:prstGeom prst="rect">
            <a:avLst/>
          </a:prstGeom>
          <a:ln w="0">
            <a:noFill/>
          </a:ln>
        </p:spPr>
      </p:pic>
      <p:sp>
        <p:nvSpPr>
          <p:cNvPr id="666" name="Rectangle 8"/>
          <p:cNvSpPr/>
          <p:nvPr/>
        </p:nvSpPr>
        <p:spPr>
          <a:xfrm>
            <a:off x="3429000" y="3352680"/>
            <a:ext cx="2819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7200" spc="-1" strike="noStrike">
                <a:solidFill>
                  <a:srgbClr val="ffffff"/>
                </a:solidFill>
                <a:latin typeface="Calibri"/>
              </a:rPr>
              <a:t>بحمد الل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6"/>
          <p:cNvSpPr/>
          <p:nvPr/>
        </p:nvSpPr>
        <p:spPr>
          <a:xfrm>
            <a:off x="3429000" y="2209680"/>
            <a:ext cx="2689200" cy="1236960"/>
          </a:xfrm>
          <a:custGeom>
            <a:avLst/>
            <a:gdLst>
              <a:gd name="textAreaLeft" fmla="*/ 0 w 2689200"/>
              <a:gd name="textAreaRight" fmla="*/ 2689560 w 2689200"/>
              <a:gd name="textAreaTop" fmla="*/ 0 h 1236960"/>
              <a:gd name="textAreaBottom" fmla="*/ 1237320 h 1236960"/>
            </a:gdLst>
            <a:ahLst/>
            <a:rect l="textAreaLeft" t="textAreaTop" r="textAreaRight" b="textAreaBottom"/>
            <a:pathLst>
              <a:path w="1687" h="775">
                <a:moveTo>
                  <a:pt x="1374" y="74"/>
                </a:moveTo>
                <a:lnTo>
                  <a:pt x="1308" y="141"/>
                </a:lnTo>
                <a:lnTo>
                  <a:pt x="1248" y="80"/>
                </a:lnTo>
                <a:lnTo>
                  <a:pt x="1177" y="152"/>
                </a:lnTo>
                <a:lnTo>
                  <a:pt x="1100" y="75"/>
                </a:lnTo>
                <a:lnTo>
                  <a:pt x="1169" y="8"/>
                </a:lnTo>
                <a:lnTo>
                  <a:pt x="1229" y="68"/>
                </a:lnTo>
                <a:lnTo>
                  <a:pt x="1298" y="0"/>
                </a:lnTo>
                <a:lnTo>
                  <a:pt x="1374" y="74"/>
                </a:lnTo>
                <a:close/>
                <a:moveTo>
                  <a:pt x="1687" y="612"/>
                </a:moveTo>
                <a:lnTo>
                  <a:pt x="1686" y="635"/>
                </a:lnTo>
                <a:lnTo>
                  <a:pt x="1683" y="657"/>
                </a:lnTo>
                <a:lnTo>
                  <a:pt x="1677" y="678"/>
                </a:lnTo>
                <a:lnTo>
                  <a:pt x="1669" y="698"/>
                </a:lnTo>
                <a:lnTo>
                  <a:pt x="1656" y="723"/>
                </a:lnTo>
                <a:lnTo>
                  <a:pt x="1649" y="731"/>
                </a:lnTo>
                <a:lnTo>
                  <a:pt x="1641" y="739"/>
                </a:lnTo>
                <a:lnTo>
                  <a:pt x="1633" y="745"/>
                </a:lnTo>
                <a:lnTo>
                  <a:pt x="1623" y="750"/>
                </a:lnTo>
                <a:lnTo>
                  <a:pt x="1603" y="753"/>
                </a:lnTo>
                <a:lnTo>
                  <a:pt x="1583" y="751"/>
                </a:lnTo>
                <a:lnTo>
                  <a:pt x="1561" y="743"/>
                </a:lnTo>
                <a:lnTo>
                  <a:pt x="1542" y="731"/>
                </a:lnTo>
                <a:lnTo>
                  <a:pt x="1523" y="715"/>
                </a:lnTo>
                <a:lnTo>
                  <a:pt x="1504" y="695"/>
                </a:lnTo>
                <a:lnTo>
                  <a:pt x="1488" y="672"/>
                </a:lnTo>
                <a:lnTo>
                  <a:pt x="1474" y="646"/>
                </a:lnTo>
                <a:lnTo>
                  <a:pt x="1462" y="619"/>
                </a:lnTo>
                <a:lnTo>
                  <a:pt x="1425" y="640"/>
                </a:lnTo>
                <a:lnTo>
                  <a:pt x="1387" y="660"/>
                </a:lnTo>
                <a:lnTo>
                  <a:pt x="1346" y="678"/>
                </a:lnTo>
                <a:lnTo>
                  <a:pt x="1305" y="694"/>
                </a:lnTo>
                <a:lnTo>
                  <a:pt x="1251" y="710"/>
                </a:lnTo>
                <a:lnTo>
                  <a:pt x="1198" y="722"/>
                </a:lnTo>
                <a:lnTo>
                  <a:pt x="1146" y="729"/>
                </a:lnTo>
                <a:lnTo>
                  <a:pt x="1095" y="731"/>
                </a:lnTo>
                <a:lnTo>
                  <a:pt x="1060" y="728"/>
                </a:lnTo>
                <a:lnTo>
                  <a:pt x="1025" y="719"/>
                </a:lnTo>
                <a:lnTo>
                  <a:pt x="1008" y="711"/>
                </a:lnTo>
                <a:lnTo>
                  <a:pt x="991" y="702"/>
                </a:lnTo>
                <a:lnTo>
                  <a:pt x="974" y="691"/>
                </a:lnTo>
                <a:lnTo>
                  <a:pt x="957" y="678"/>
                </a:lnTo>
                <a:lnTo>
                  <a:pt x="929" y="653"/>
                </a:lnTo>
                <a:lnTo>
                  <a:pt x="908" y="627"/>
                </a:lnTo>
                <a:lnTo>
                  <a:pt x="900" y="615"/>
                </a:lnTo>
                <a:lnTo>
                  <a:pt x="895" y="603"/>
                </a:lnTo>
                <a:lnTo>
                  <a:pt x="889" y="577"/>
                </a:lnTo>
                <a:lnTo>
                  <a:pt x="780" y="628"/>
                </a:lnTo>
                <a:lnTo>
                  <a:pt x="659" y="683"/>
                </a:lnTo>
                <a:lnTo>
                  <a:pt x="603" y="706"/>
                </a:lnTo>
                <a:lnTo>
                  <a:pt x="552" y="724"/>
                </a:lnTo>
                <a:lnTo>
                  <a:pt x="481" y="746"/>
                </a:lnTo>
                <a:lnTo>
                  <a:pt x="415" y="762"/>
                </a:lnTo>
                <a:lnTo>
                  <a:pt x="355" y="772"/>
                </a:lnTo>
                <a:lnTo>
                  <a:pt x="302" y="775"/>
                </a:lnTo>
                <a:lnTo>
                  <a:pt x="268" y="774"/>
                </a:lnTo>
                <a:lnTo>
                  <a:pt x="236" y="772"/>
                </a:lnTo>
                <a:lnTo>
                  <a:pt x="206" y="769"/>
                </a:lnTo>
                <a:lnTo>
                  <a:pt x="178" y="764"/>
                </a:lnTo>
                <a:lnTo>
                  <a:pt x="153" y="758"/>
                </a:lnTo>
                <a:lnTo>
                  <a:pt x="129" y="751"/>
                </a:lnTo>
                <a:lnTo>
                  <a:pt x="107" y="741"/>
                </a:lnTo>
                <a:lnTo>
                  <a:pt x="88" y="731"/>
                </a:lnTo>
                <a:lnTo>
                  <a:pt x="68" y="717"/>
                </a:lnTo>
                <a:lnTo>
                  <a:pt x="50" y="701"/>
                </a:lnTo>
                <a:lnTo>
                  <a:pt x="35" y="681"/>
                </a:lnTo>
                <a:lnTo>
                  <a:pt x="22" y="661"/>
                </a:lnTo>
                <a:lnTo>
                  <a:pt x="12" y="639"/>
                </a:lnTo>
                <a:lnTo>
                  <a:pt x="8" y="626"/>
                </a:lnTo>
                <a:lnTo>
                  <a:pt x="5" y="613"/>
                </a:lnTo>
                <a:lnTo>
                  <a:pt x="1" y="587"/>
                </a:lnTo>
                <a:lnTo>
                  <a:pt x="0" y="558"/>
                </a:lnTo>
                <a:lnTo>
                  <a:pt x="2" y="523"/>
                </a:lnTo>
                <a:lnTo>
                  <a:pt x="6" y="491"/>
                </a:lnTo>
                <a:lnTo>
                  <a:pt x="13" y="459"/>
                </a:lnTo>
                <a:lnTo>
                  <a:pt x="23" y="428"/>
                </a:lnTo>
                <a:lnTo>
                  <a:pt x="34" y="407"/>
                </a:lnTo>
                <a:lnTo>
                  <a:pt x="48" y="381"/>
                </a:lnTo>
                <a:lnTo>
                  <a:pt x="66" y="379"/>
                </a:lnTo>
                <a:lnTo>
                  <a:pt x="52" y="411"/>
                </a:lnTo>
                <a:lnTo>
                  <a:pt x="45" y="432"/>
                </a:lnTo>
                <a:lnTo>
                  <a:pt x="41" y="455"/>
                </a:lnTo>
                <a:lnTo>
                  <a:pt x="38" y="478"/>
                </a:lnTo>
                <a:lnTo>
                  <a:pt x="37" y="502"/>
                </a:lnTo>
                <a:lnTo>
                  <a:pt x="38" y="522"/>
                </a:lnTo>
                <a:lnTo>
                  <a:pt x="42" y="540"/>
                </a:lnTo>
                <a:lnTo>
                  <a:pt x="47" y="557"/>
                </a:lnTo>
                <a:lnTo>
                  <a:pt x="55" y="573"/>
                </a:lnTo>
                <a:lnTo>
                  <a:pt x="66" y="588"/>
                </a:lnTo>
                <a:lnTo>
                  <a:pt x="78" y="603"/>
                </a:lnTo>
                <a:lnTo>
                  <a:pt x="93" y="616"/>
                </a:lnTo>
                <a:lnTo>
                  <a:pt x="110" y="629"/>
                </a:lnTo>
                <a:lnTo>
                  <a:pt x="128" y="641"/>
                </a:lnTo>
                <a:lnTo>
                  <a:pt x="149" y="650"/>
                </a:lnTo>
                <a:lnTo>
                  <a:pt x="171" y="659"/>
                </a:lnTo>
                <a:lnTo>
                  <a:pt x="183" y="662"/>
                </a:lnTo>
                <a:lnTo>
                  <a:pt x="194" y="665"/>
                </a:lnTo>
                <a:lnTo>
                  <a:pt x="220" y="671"/>
                </a:lnTo>
                <a:lnTo>
                  <a:pt x="245" y="675"/>
                </a:lnTo>
                <a:lnTo>
                  <a:pt x="274" y="677"/>
                </a:lnTo>
                <a:lnTo>
                  <a:pt x="304" y="678"/>
                </a:lnTo>
                <a:lnTo>
                  <a:pt x="352" y="676"/>
                </a:lnTo>
                <a:lnTo>
                  <a:pt x="379" y="673"/>
                </a:lnTo>
                <a:lnTo>
                  <a:pt x="405" y="669"/>
                </a:lnTo>
                <a:lnTo>
                  <a:pt x="462" y="657"/>
                </a:lnTo>
                <a:lnTo>
                  <a:pt x="522" y="641"/>
                </a:lnTo>
                <a:lnTo>
                  <a:pt x="571" y="625"/>
                </a:lnTo>
                <a:lnTo>
                  <a:pt x="623" y="606"/>
                </a:lnTo>
                <a:lnTo>
                  <a:pt x="738" y="559"/>
                </a:lnTo>
                <a:lnTo>
                  <a:pt x="923" y="476"/>
                </a:lnTo>
                <a:lnTo>
                  <a:pt x="927" y="494"/>
                </a:lnTo>
                <a:lnTo>
                  <a:pt x="932" y="512"/>
                </a:lnTo>
                <a:lnTo>
                  <a:pt x="940" y="529"/>
                </a:lnTo>
                <a:lnTo>
                  <a:pt x="949" y="545"/>
                </a:lnTo>
                <a:lnTo>
                  <a:pt x="961" y="561"/>
                </a:lnTo>
                <a:lnTo>
                  <a:pt x="975" y="575"/>
                </a:lnTo>
                <a:lnTo>
                  <a:pt x="990" y="588"/>
                </a:lnTo>
                <a:lnTo>
                  <a:pt x="1007" y="600"/>
                </a:lnTo>
                <a:lnTo>
                  <a:pt x="1035" y="617"/>
                </a:lnTo>
                <a:lnTo>
                  <a:pt x="1049" y="624"/>
                </a:lnTo>
                <a:lnTo>
                  <a:pt x="1064" y="629"/>
                </a:lnTo>
                <a:lnTo>
                  <a:pt x="1092" y="637"/>
                </a:lnTo>
                <a:lnTo>
                  <a:pt x="1106" y="639"/>
                </a:lnTo>
                <a:lnTo>
                  <a:pt x="1120" y="639"/>
                </a:lnTo>
                <a:lnTo>
                  <a:pt x="1164" y="638"/>
                </a:lnTo>
                <a:lnTo>
                  <a:pt x="1210" y="631"/>
                </a:lnTo>
                <a:lnTo>
                  <a:pt x="1256" y="622"/>
                </a:lnTo>
                <a:lnTo>
                  <a:pt x="1304" y="608"/>
                </a:lnTo>
                <a:lnTo>
                  <a:pt x="1343" y="593"/>
                </a:lnTo>
                <a:lnTo>
                  <a:pt x="1379" y="578"/>
                </a:lnTo>
                <a:lnTo>
                  <a:pt x="1411" y="561"/>
                </a:lnTo>
                <a:lnTo>
                  <a:pt x="1439" y="543"/>
                </a:lnTo>
                <a:lnTo>
                  <a:pt x="1429" y="509"/>
                </a:lnTo>
                <a:lnTo>
                  <a:pt x="1415" y="445"/>
                </a:lnTo>
                <a:lnTo>
                  <a:pt x="1409" y="413"/>
                </a:lnTo>
                <a:lnTo>
                  <a:pt x="1406" y="365"/>
                </a:lnTo>
                <a:lnTo>
                  <a:pt x="1403" y="317"/>
                </a:lnTo>
                <a:lnTo>
                  <a:pt x="1385" y="251"/>
                </a:lnTo>
                <a:lnTo>
                  <a:pt x="1411" y="149"/>
                </a:lnTo>
                <a:lnTo>
                  <a:pt x="1507" y="340"/>
                </a:lnTo>
                <a:lnTo>
                  <a:pt x="1507" y="365"/>
                </a:lnTo>
                <a:lnTo>
                  <a:pt x="1465" y="336"/>
                </a:lnTo>
                <a:lnTo>
                  <a:pt x="1461" y="341"/>
                </a:lnTo>
                <a:lnTo>
                  <a:pt x="1458" y="347"/>
                </a:lnTo>
                <a:lnTo>
                  <a:pt x="1461" y="381"/>
                </a:lnTo>
                <a:lnTo>
                  <a:pt x="1469" y="424"/>
                </a:lnTo>
                <a:lnTo>
                  <a:pt x="1475" y="451"/>
                </a:lnTo>
                <a:lnTo>
                  <a:pt x="1483" y="475"/>
                </a:lnTo>
                <a:lnTo>
                  <a:pt x="1491" y="495"/>
                </a:lnTo>
                <a:lnTo>
                  <a:pt x="1501" y="511"/>
                </a:lnTo>
                <a:lnTo>
                  <a:pt x="1525" y="498"/>
                </a:lnTo>
                <a:lnTo>
                  <a:pt x="1549" y="490"/>
                </a:lnTo>
                <a:lnTo>
                  <a:pt x="1571" y="483"/>
                </a:lnTo>
                <a:lnTo>
                  <a:pt x="1592" y="481"/>
                </a:lnTo>
                <a:lnTo>
                  <a:pt x="1616" y="484"/>
                </a:lnTo>
                <a:lnTo>
                  <a:pt x="1626" y="488"/>
                </a:lnTo>
                <a:lnTo>
                  <a:pt x="1636" y="494"/>
                </a:lnTo>
                <a:lnTo>
                  <a:pt x="1651" y="506"/>
                </a:lnTo>
                <a:lnTo>
                  <a:pt x="1663" y="518"/>
                </a:lnTo>
                <a:lnTo>
                  <a:pt x="1672" y="532"/>
                </a:lnTo>
                <a:lnTo>
                  <a:pt x="1680" y="548"/>
                </a:lnTo>
                <a:lnTo>
                  <a:pt x="1685" y="576"/>
                </a:lnTo>
                <a:lnTo>
                  <a:pt x="1687" y="612"/>
                </a:lnTo>
                <a:close/>
                <a:moveTo>
                  <a:pt x="553" y="364"/>
                </a:moveTo>
                <a:lnTo>
                  <a:pt x="487" y="431"/>
                </a:lnTo>
                <a:lnTo>
                  <a:pt x="428" y="370"/>
                </a:lnTo>
                <a:lnTo>
                  <a:pt x="356" y="441"/>
                </a:lnTo>
                <a:lnTo>
                  <a:pt x="280" y="365"/>
                </a:lnTo>
                <a:lnTo>
                  <a:pt x="347" y="297"/>
                </a:lnTo>
                <a:lnTo>
                  <a:pt x="409" y="359"/>
                </a:lnTo>
                <a:lnTo>
                  <a:pt x="479" y="289"/>
                </a:lnTo>
                <a:lnTo>
                  <a:pt x="553" y="364"/>
                </a:lnTo>
                <a:close/>
                <a:moveTo>
                  <a:pt x="1636" y="637"/>
                </a:moveTo>
                <a:lnTo>
                  <a:pt x="1622" y="613"/>
                </a:lnTo>
                <a:lnTo>
                  <a:pt x="1605" y="593"/>
                </a:lnTo>
                <a:lnTo>
                  <a:pt x="1597" y="587"/>
                </a:lnTo>
                <a:lnTo>
                  <a:pt x="1589" y="583"/>
                </a:lnTo>
                <a:lnTo>
                  <a:pt x="1577" y="582"/>
                </a:lnTo>
                <a:lnTo>
                  <a:pt x="1561" y="584"/>
                </a:lnTo>
                <a:lnTo>
                  <a:pt x="1543" y="591"/>
                </a:lnTo>
                <a:lnTo>
                  <a:pt x="1536" y="595"/>
                </a:lnTo>
                <a:lnTo>
                  <a:pt x="1556" y="624"/>
                </a:lnTo>
                <a:lnTo>
                  <a:pt x="1568" y="636"/>
                </a:lnTo>
                <a:lnTo>
                  <a:pt x="1580" y="644"/>
                </a:lnTo>
                <a:lnTo>
                  <a:pt x="1590" y="649"/>
                </a:lnTo>
                <a:lnTo>
                  <a:pt x="1601" y="652"/>
                </a:lnTo>
                <a:lnTo>
                  <a:pt x="1611" y="649"/>
                </a:lnTo>
                <a:lnTo>
                  <a:pt x="1625" y="644"/>
                </a:lnTo>
                <a:lnTo>
                  <a:pt x="1636" y="637"/>
                </a:lnTo>
                <a:close/>
                <a:moveTo>
                  <a:pt x="1288" y="458"/>
                </a:moveTo>
                <a:lnTo>
                  <a:pt x="1287" y="475"/>
                </a:lnTo>
                <a:lnTo>
                  <a:pt x="1285" y="489"/>
                </a:lnTo>
                <a:lnTo>
                  <a:pt x="1280" y="500"/>
                </a:lnTo>
                <a:lnTo>
                  <a:pt x="1275" y="509"/>
                </a:lnTo>
                <a:lnTo>
                  <a:pt x="1268" y="516"/>
                </a:lnTo>
                <a:lnTo>
                  <a:pt x="1259" y="522"/>
                </a:lnTo>
                <a:lnTo>
                  <a:pt x="1248" y="525"/>
                </a:lnTo>
                <a:lnTo>
                  <a:pt x="1237" y="526"/>
                </a:lnTo>
                <a:lnTo>
                  <a:pt x="1222" y="523"/>
                </a:lnTo>
                <a:lnTo>
                  <a:pt x="1214" y="518"/>
                </a:lnTo>
                <a:lnTo>
                  <a:pt x="1208" y="513"/>
                </a:lnTo>
                <a:lnTo>
                  <a:pt x="1198" y="499"/>
                </a:lnTo>
                <a:lnTo>
                  <a:pt x="1191" y="483"/>
                </a:lnTo>
                <a:lnTo>
                  <a:pt x="1183" y="505"/>
                </a:lnTo>
                <a:lnTo>
                  <a:pt x="1179" y="513"/>
                </a:lnTo>
                <a:lnTo>
                  <a:pt x="1173" y="523"/>
                </a:lnTo>
                <a:lnTo>
                  <a:pt x="1165" y="529"/>
                </a:lnTo>
                <a:lnTo>
                  <a:pt x="1158" y="534"/>
                </a:lnTo>
                <a:lnTo>
                  <a:pt x="1150" y="538"/>
                </a:lnTo>
                <a:lnTo>
                  <a:pt x="1142" y="539"/>
                </a:lnTo>
                <a:lnTo>
                  <a:pt x="1134" y="538"/>
                </a:lnTo>
                <a:lnTo>
                  <a:pt x="1123" y="534"/>
                </a:lnTo>
                <a:lnTo>
                  <a:pt x="1114" y="529"/>
                </a:lnTo>
                <a:lnTo>
                  <a:pt x="1107" y="522"/>
                </a:lnTo>
                <a:lnTo>
                  <a:pt x="1101" y="513"/>
                </a:lnTo>
                <a:lnTo>
                  <a:pt x="1097" y="504"/>
                </a:lnTo>
                <a:lnTo>
                  <a:pt x="1094" y="492"/>
                </a:lnTo>
                <a:lnTo>
                  <a:pt x="1092" y="466"/>
                </a:lnTo>
                <a:lnTo>
                  <a:pt x="1095" y="430"/>
                </a:lnTo>
                <a:lnTo>
                  <a:pt x="1098" y="407"/>
                </a:lnTo>
                <a:lnTo>
                  <a:pt x="1070" y="439"/>
                </a:lnTo>
                <a:lnTo>
                  <a:pt x="1070" y="427"/>
                </a:lnTo>
                <a:lnTo>
                  <a:pt x="1079" y="408"/>
                </a:lnTo>
                <a:lnTo>
                  <a:pt x="1094" y="387"/>
                </a:lnTo>
                <a:lnTo>
                  <a:pt x="1113" y="373"/>
                </a:lnTo>
                <a:lnTo>
                  <a:pt x="1112" y="399"/>
                </a:lnTo>
                <a:lnTo>
                  <a:pt x="1112" y="424"/>
                </a:lnTo>
                <a:lnTo>
                  <a:pt x="1113" y="455"/>
                </a:lnTo>
                <a:lnTo>
                  <a:pt x="1117" y="476"/>
                </a:lnTo>
                <a:lnTo>
                  <a:pt x="1122" y="483"/>
                </a:lnTo>
                <a:lnTo>
                  <a:pt x="1127" y="490"/>
                </a:lnTo>
                <a:lnTo>
                  <a:pt x="1133" y="493"/>
                </a:lnTo>
                <a:lnTo>
                  <a:pt x="1142" y="494"/>
                </a:lnTo>
                <a:lnTo>
                  <a:pt x="1157" y="490"/>
                </a:lnTo>
                <a:lnTo>
                  <a:pt x="1164" y="485"/>
                </a:lnTo>
                <a:lnTo>
                  <a:pt x="1172" y="480"/>
                </a:lnTo>
                <a:lnTo>
                  <a:pt x="1181" y="467"/>
                </a:lnTo>
                <a:lnTo>
                  <a:pt x="1186" y="455"/>
                </a:lnTo>
                <a:lnTo>
                  <a:pt x="1182" y="433"/>
                </a:lnTo>
                <a:lnTo>
                  <a:pt x="1175" y="403"/>
                </a:lnTo>
                <a:lnTo>
                  <a:pt x="1171" y="387"/>
                </a:lnTo>
                <a:lnTo>
                  <a:pt x="1191" y="359"/>
                </a:lnTo>
                <a:lnTo>
                  <a:pt x="1196" y="376"/>
                </a:lnTo>
                <a:lnTo>
                  <a:pt x="1203" y="399"/>
                </a:lnTo>
                <a:lnTo>
                  <a:pt x="1206" y="425"/>
                </a:lnTo>
                <a:lnTo>
                  <a:pt x="1210" y="448"/>
                </a:lnTo>
                <a:lnTo>
                  <a:pt x="1214" y="464"/>
                </a:lnTo>
                <a:lnTo>
                  <a:pt x="1221" y="473"/>
                </a:lnTo>
                <a:lnTo>
                  <a:pt x="1227" y="480"/>
                </a:lnTo>
                <a:lnTo>
                  <a:pt x="1236" y="483"/>
                </a:lnTo>
                <a:lnTo>
                  <a:pt x="1246" y="484"/>
                </a:lnTo>
                <a:lnTo>
                  <a:pt x="1255" y="483"/>
                </a:lnTo>
                <a:lnTo>
                  <a:pt x="1261" y="479"/>
                </a:lnTo>
                <a:lnTo>
                  <a:pt x="1265" y="473"/>
                </a:lnTo>
                <a:lnTo>
                  <a:pt x="1268" y="464"/>
                </a:lnTo>
                <a:lnTo>
                  <a:pt x="1263" y="444"/>
                </a:lnTo>
                <a:lnTo>
                  <a:pt x="1260" y="431"/>
                </a:lnTo>
                <a:lnTo>
                  <a:pt x="1254" y="415"/>
                </a:lnTo>
                <a:lnTo>
                  <a:pt x="1239" y="384"/>
                </a:lnTo>
                <a:lnTo>
                  <a:pt x="1261" y="353"/>
                </a:lnTo>
                <a:lnTo>
                  <a:pt x="1279" y="401"/>
                </a:lnTo>
                <a:lnTo>
                  <a:pt x="1286" y="429"/>
                </a:lnTo>
                <a:lnTo>
                  <a:pt x="1288" y="458"/>
                </a:lnTo>
                <a:close/>
                <a:moveTo>
                  <a:pt x="846" y="364"/>
                </a:moveTo>
                <a:lnTo>
                  <a:pt x="1275" y="242"/>
                </a:lnTo>
                <a:lnTo>
                  <a:pt x="1222" y="284"/>
                </a:lnTo>
                <a:lnTo>
                  <a:pt x="792" y="406"/>
                </a:lnTo>
                <a:lnTo>
                  <a:pt x="846" y="364"/>
                </a:lnTo>
                <a:close/>
                <a:moveTo>
                  <a:pt x="892" y="106"/>
                </a:moveTo>
                <a:lnTo>
                  <a:pt x="881" y="110"/>
                </a:lnTo>
                <a:lnTo>
                  <a:pt x="875" y="101"/>
                </a:lnTo>
                <a:lnTo>
                  <a:pt x="869" y="95"/>
                </a:lnTo>
                <a:lnTo>
                  <a:pt x="863" y="92"/>
                </a:lnTo>
                <a:lnTo>
                  <a:pt x="859" y="95"/>
                </a:lnTo>
                <a:lnTo>
                  <a:pt x="853" y="100"/>
                </a:lnTo>
                <a:lnTo>
                  <a:pt x="844" y="125"/>
                </a:lnTo>
                <a:lnTo>
                  <a:pt x="834" y="162"/>
                </a:lnTo>
                <a:lnTo>
                  <a:pt x="825" y="205"/>
                </a:lnTo>
                <a:lnTo>
                  <a:pt x="813" y="205"/>
                </a:lnTo>
                <a:lnTo>
                  <a:pt x="805" y="178"/>
                </a:lnTo>
                <a:lnTo>
                  <a:pt x="797" y="156"/>
                </a:lnTo>
                <a:lnTo>
                  <a:pt x="787" y="144"/>
                </a:lnTo>
                <a:lnTo>
                  <a:pt x="780" y="140"/>
                </a:lnTo>
                <a:lnTo>
                  <a:pt x="762" y="140"/>
                </a:lnTo>
                <a:lnTo>
                  <a:pt x="754" y="138"/>
                </a:lnTo>
                <a:lnTo>
                  <a:pt x="748" y="134"/>
                </a:lnTo>
                <a:lnTo>
                  <a:pt x="743" y="128"/>
                </a:lnTo>
                <a:lnTo>
                  <a:pt x="738" y="121"/>
                </a:lnTo>
                <a:lnTo>
                  <a:pt x="736" y="115"/>
                </a:lnTo>
                <a:lnTo>
                  <a:pt x="736" y="106"/>
                </a:lnTo>
                <a:lnTo>
                  <a:pt x="737" y="96"/>
                </a:lnTo>
                <a:lnTo>
                  <a:pt x="741" y="88"/>
                </a:lnTo>
                <a:lnTo>
                  <a:pt x="747" y="84"/>
                </a:lnTo>
                <a:lnTo>
                  <a:pt x="755" y="83"/>
                </a:lnTo>
                <a:lnTo>
                  <a:pt x="769" y="85"/>
                </a:lnTo>
                <a:lnTo>
                  <a:pt x="781" y="94"/>
                </a:lnTo>
                <a:lnTo>
                  <a:pt x="793" y="106"/>
                </a:lnTo>
                <a:lnTo>
                  <a:pt x="802" y="125"/>
                </a:lnTo>
                <a:lnTo>
                  <a:pt x="820" y="165"/>
                </a:lnTo>
                <a:lnTo>
                  <a:pt x="828" y="129"/>
                </a:lnTo>
                <a:lnTo>
                  <a:pt x="834" y="103"/>
                </a:lnTo>
                <a:lnTo>
                  <a:pt x="842" y="83"/>
                </a:lnTo>
                <a:lnTo>
                  <a:pt x="846" y="74"/>
                </a:lnTo>
                <a:lnTo>
                  <a:pt x="850" y="68"/>
                </a:lnTo>
                <a:lnTo>
                  <a:pt x="854" y="63"/>
                </a:lnTo>
                <a:lnTo>
                  <a:pt x="859" y="59"/>
                </a:lnTo>
                <a:lnTo>
                  <a:pt x="867" y="56"/>
                </a:lnTo>
                <a:lnTo>
                  <a:pt x="874" y="57"/>
                </a:lnTo>
                <a:lnTo>
                  <a:pt x="880" y="61"/>
                </a:lnTo>
                <a:lnTo>
                  <a:pt x="893" y="75"/>
                </a:lnTo>
                <a:lnTo>
                  <a:pt x="892" y="106"/>
                </a:lnTo>
                <a:close/>
                <a:moveTo>
                  <a:pt x="500" y="84"/>
                </a:moveTo>
                <a:lnTo>
                  <a:pt x="500" y="92"/>
                </a:lnTo>
                <a:lnTo>
                  <a:pt x="497" y="101"/>
                </a:lnTo>
                <a:lnTo>
                  <a:pt x="487" y="117"/>
                </a:lnTo>
                <a:lnTo>
                  <a:pt x="481" y="123"/>
                </a:lnTo>
                <a:lnTo>
                  <a:pt x="472" y="131"/>
                </a:lnTo>
                <a:lnTo>
                  <a:pt x="450" y="143"/>
                </a:lnTo>
                <a:lnTo>
                  <a:pt x="389" y="167"/>
                </a:lnTo>
                <a:lnTo>
                  <a:pt x="356" y="167"/>
                </a:lnTo>
                <a:lnTo>
                  <a:pt x="398" y="148"/>
                </a:lnTo>
                <a:lnTo>
                  <a:pt x="420" y="136"/>
                </a:lnTo>
                <a:lnTo>
                  <a:pt x="440" y="123"/>
                </a:lnTo>
                <a:lnTo>
                  <a:pt x="471" y="98"/>
                </a:lnTo>
                <a:lnTo>
                  <a:pt x="395" y="98"/>
                </a:lnTo>
                <a:lnTo>
                  <a:pt x="387" y="99"/>
                </a:lnTo>
                <a:lnTo>
                  <a:pt x="370" y="112"/>
                </a:lnTo>
                <a:lnTo>
                  <a:pt x="370" y="91"/>
                </a:lnTo>
                <a:lnTo>
                  <a:pt x="383" y="72"/>
                </a:lnTo>
                <a:lnTo>
                  <a:pt x="393" y="64"/>
                </a:lnTo>
                <a:lnTo>
                  <a:pt x="404" y="62"/>
                </a:lnTo>
                <a:lnTo>
                  <a:pt x="500" y="62"/>
                </a:lnTo>
                <a:lnTo>
                  <a:pt x="502" y="69"/>
                </a:lnTo>
                <a:lnTo>
                  <a:pt x="500" y="84"/>
                </a:lnTo>
                <a:close/>
                <a:moveTo>
                  <a:pt x="117" y="259"/>
                </a:moveTo>
                <a:lnTo>
                  <a:pt x="113" y="276"/>
                </a:lnTo>
                <a:lnTo>
                  <a:pt x="105" y="294"/>
                </a:lnTo>
                <a:lnTo>
                  <a:pt x="96" y="303"/>
                </a:lnTo>
                <a:lnTo>
                  <a:pt x="88" y="310"/>
                </a:lnTo>
                <a:lnTo>
                  <a:pt x="78" y="314"/>
                </a:lnTo>
                <a:lnTo>
                  <a:pt x="68" y="315"/>
                </a:lnTo>
                <a:lnTo>
                  <a:pt x="58" y="314"/>
                </a:lnTo>
                <a:lnTo>
                  <a:pt x="48" y="310"/>
                </a:lnTo>
                <a:lnTo>
                  <a:pt x="41" y="303"/>
                </a:lnTo>
                <a:lnTo>
                  <a:pt x="35" y="294"/>
                </a:lnTo>
                <a:lnTo>
                  <a:pt x="29" y="282"/>
                </a:lnTo>
                <a:lnTo>
                  <a:pt x="25" y="270"/>
                </a:lnTo>
                <a:lnTo>
                  <a:pt x="23" y="259"/>
                </a:lnTo>
                <a:lnTo>
                  <a:pt x="22" y="246"/>
                </a:lnTo>
                <a:lnTo>
                  <a:pt x="23" y="227"/>
                </a:lnTo>
                <a:lnTo>
                  <a:pt x="26" y="205"/>
                </a:lnTo>
                <a:lnTo>
                  <a:pt x="33" y="182"/>
                </a:lnTo>
                <a:lnTo>
                  <a:pt x="40" y="156"/>
                </a:lnTo>
                <a:lnTo>
                  <a:pt x="50" y="131"/>
                </a:lnTo>
                <a:lnTo>
                  <a:pt x="60" y="107"/>
                </a:lnTo>
                <a:lnTo>
                  <a:pt x="71" y="86"/>
                </a:lnTo>
                <a:lnTo>
                  <a:pt x="84" y="67"/>
                </a:lnTo>
                <a:lnTo>
                  <a:pt x="83" y="80"/>
                </a:lnTo>
                <a:lnTo>
                  <a:pt x="79" y="97"/>
                </a:lnTo>
                <a:lnTo>
                  <a:pt x="74" y="117"/>
                </a:lnTo>
                <a:lnTo>
                  <a:pt x="68" y="140"/>
                </a:lnTo>
                <a:lnTo>
                  <a:pt x="55" y="184"/>
                </a:lnTo>
                <a:lnTo>
                  <a:pt x="52" y="202"/>
                </a:lnTo>
                <a:lnTo>
                  <a:pt x="51" y="217"/>
                </a:lnTo>
                <a:lnTo>
                  <a:pt x="53" y="231"/>
                </a:lnTo>
                <a:lnTo>
                  <a:pt x="57" y="245"/>
                </a:lnTo>
                <a:lnTo>
                  <a:pt x="64" y="256"/>
                </a:lnTo>
                <a:lnTo>
                  <a:pt x="70" y="260"/>
                </a:lnTo>
                <a:lnTo>
                  <a:pt x="75" y="261"/>
                </a:lnTo>
                <a:lnTo>
                  <a:pt x="84" y="258"/>
                </a:lnTo>
                <a:lnTo>
                  <a:pt x="91" y="249"/>
                </a:lnTo>
                <a:lnTo>
                  <a:pt x="100" y="234"/>
                </a:lnTo>
                <a:lnTo>
                  <a:pt x="109" y="212"/>
                </a:lnTo>
                <a:lnTo>
                  <a:pt x="112" y="217"/>
                </a:lnTo>
                <a:lnTo>
                  <a:pt x="116" y="225"/>
                </a:lnTo>
                <a:lnTo>
                  <a:pt x="117" y="242"/>
                </a:lnTo>
                <a:lnTo>
                  <a:pt x="117" y="25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Picture 8" descr="logo EDE.png"/>
          <p:cNvPicPr/>
          <p:nvPr/>
        </p:nvPicPr>
        <p:blipFill>
          <a:blip r:embed="rId2"/>
          <a:stretch/>
        </p:blipFill>
        <p:spPr>
          <a:xfrm>
            <a:off x="914400" y="2133720"/>
            <a:ext cx="2109960" cy="23619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ACCC-5177-4D51-B40A-1C147062F751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5105160" y="1523880"/>
            <a:ext cx="464796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4000"/>
          </a:bodyPr>
          <a:p>
            <a:pPr marL="601200" indent="-383760" algn="r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مفاهيم  التربية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: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-                 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تعددت الآراء حول مفهوم التربية و أختلف الناس حولها ومرجع ذلك يكمن في الاختلاف حول موضوع التربية وأيضا فهم الطبيعة الإنسان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جون ديوي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إلى أن " التربية هي الحياة ، وليست إعداد للحياة "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ستورات ميل </a:t>
            </a:r>
            <a:r>
              <a:rPr b="1" lang="ar-SA" sz="16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:-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فيقول أن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“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cs typeface="MCS Taybah S_U normal."/>
              </a:rPr>
              <a:t>التربية هي كل ما يعلمه المرء أو يعلمه لغيره.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طهطاوي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" التربية هي بناء خلق الطفل على ما يليق بالمجتمع الفاضل  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لودج :-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أن التربية لها معنيان، فهي تعامل الإنسان مع البيئة المحيط به ،وهذا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مفهوم واسع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لها ، أما التربية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معناها الضيق </a:t>
            </a:r>
            <a:r>
              <a:rPr b="1" lang="ar-SA" sz="2000" spc="-1" strike="noStrike" u="sng">
                <a:solidFill>
                  <a:srgbClr val="000000"/>
                </a:solidFill>
                <a:uFillTx/>
                <a:latin typeface="Calibri"/>
              </a:rPr>
              <a:t>فيقصد بها التعليم المدرسي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1200" indent="-38376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  <a:ea typeface="MCS Taybah S_U normal.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0" y="1523880"/>
            <a:ext cx="4952880" cy="47246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13" name="Rectangle 7"/>
          <p:cNvSpPr/>
          <p:nvPr/>
        </p:nvSpPr>
        <p:spPr>
          <a:xfrm>
            <a:off x="228600" y="1523880"/>
            <a:ext cx="472428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نياً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:خصائص عملي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: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إنسان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0" lang="ar-EG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التربية عملية تشاركيه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فردية وإ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جتماع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التربية تختلف باختلاف الزمان والمكان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عملية مستمر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املية.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التربية عملية نشاط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ثالثاً :ضرورة التربية: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أ) ضرورة التربية للفرد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</a:t>
            </a:r>
            <a:r>
              <a:rPr b="1" lang="ar-EG" sz="2000" spc="-1" strike="noStrike">
                <a:solidFill>
                  <a:srgbClr val="c00000"/>
                </a:solidFill>
                <a:latin typeface="Arial"/>
              </a:rPr>
              <a:t>ن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قل التراث الثقافي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حاجة الطفل الوليد إلى الرعاية والعناية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 تنمية وتطوير الفرد ليتعايش معها  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تابع مراجعة على المحاضرة الأولى 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تربية (مفهومها-أهدافها- خصائصها)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FC5AE-0B89-41C6-A88C-56F802354049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685440" y="1599840"/>
            <a:ext cx="8839080" cy="44197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7000"/>
          </a:bodyPr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ب) ضرورة الترب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</a:rPr>
              <a:t>للمجتمع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احتفاظ ب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تعزيز التراث الثقاف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مكافحة الأمي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رابعاً:أهداف </a:t>
            </a:r>
            <a:r>
              <a:rPr b="1" lang="ar-EG" sz="2800" spc="-1" strike="noStrike" u="sng">
                <a:solidFill>
                  <a:srgbClr val="c00000"/>
                </a:solidFill>
                <a:uFillTx/>
                <a:latin typeface="Calibri"/>
              </a:rPr>
              <a:t>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:-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1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 كسب الرزق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2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ـ نقل الأنماط السلوكية من جيل إلى أخر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3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مواطن الصالح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4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إعداد الفرد دينيا ودنيويا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5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علمي للتربية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6-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تكوين فرد ديمقراط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7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ـ الهدف التقدمي المستقبلي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000" y="0"/>
            <a:ext cx="88772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527e56"/>
                </a:solidFill>
                <a:latin typeface="Calibri"/>
              </a:rPr>
              <a:t> </a:t>
            </a:r>
            <a:br>
              <a:rPr sz="6000"/>
            </a:b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نية</a:t>
            </a:r>
            <a:br>
              <a:rPr sz="32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طبيعة التربية وعلاقتها بالعلوم الأخرى</a:t>
            </a:r>
            <a:br>
              <a:rPr sz="6000"/>
            </a:b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42D5-F06B-4807-9E10-E477505C1BFC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5181120" y="1523880"/>
            <a:ext cx="4496040" cy="457200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 fontScale="83000"/>
          </a:bodyPr>
          <a:p>
            <a:pPr marL="284400" indent="-2844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أولاً: طبيعة التربية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: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لها مقومات العلم من نظريات وقوانين .ومبادئ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طلب التطبيق العلمي للنظريات العلمية بالوسائل التي تحققها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لم وفن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يكمل كل منهما الآخر الترب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عمل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تتم من خلال إجراءات وأنشطة تمارس في المؤسسة التربوي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 -التربية نظام له مدخلات وعمليات ومخرجات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r" rt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c00000"/>
                </a:solidFill>
                <a:latin typeface="Arial"/>
              </a:rPr>
              <a:t> -</a:t>
            </a:r>
            <a:r>
              <a:rPr b="1" lang="ar-SA" sz="2000" spc="-1" strike="noStrike">
                <a:solidFill>
                  <a:srgbClr val="c00000"/>
                </a:solidFill>
                <a:latin typeface="Arial"/>
              </a:rPr>
              <a:t>التربية مهنة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تحتاج إلى تدريب منظم ومستمر وإعداد في مؤسسات علمية متخصصة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9966"/>
                </a:solidFill>
                <a:latin typeface="Tahoma"/>
                <a:ea typeface="PT Bold Heading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25" name="Rectangle 7"/>
          <p:cNvSpPr/>
          <p:nvPr/>
        </p:nvSpPr>
        <p:spPr>
          <a:xfrm>
            <a:off x="228600" y="1523880"/>
            <a:ext cx="4724280" cy="66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ثانياً علاقة التربية بالعلوم الاخرى :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  تأثرت التربية في نشأتها وتطورها بمجموعة من العلوم الإنسانية والاجتماعية والطبيعية والرياضية والتكنولوجية أخذت التربية من العلوم الأخرى ( وخاصة العلوم الإنسانية والاجتماعية ) مفاهيم ونظريات ومصطلحات وأفكار ، وقامت بتطويرها والإفادة منها بما يتناسب مع طبيعتها . وفيما يلي عرضا لعلاقة التربية ببعض العلوم الأخرى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التربية والفلسفة .              ـ التربية  والأنثروبولوجيا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   ـ التربية وعلم الاجتماع .         ـ التربية وعلم السياس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علم النفس .            ـ التربية وعلم الأحياء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ـ التربية والحاسوب .              ـ التربية وعلم الإحصا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c00000"/>
                </a:solidFill>
                <a:latin typeface="Arial"/>
              </a:rPr>
              <a:t>    -التربية وعلم الاقتصاد .           -التربية وعلم التاريخ </a:t>
            </a:r>
            <a:r>
              <a:rPr b="1" lang="ar-SA" sz="1800" spc="-1" strike="noStrike">
                <a:solidFill>
                  <a:srgbClr val="b0ccb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95000" y="380880"/>
            <a:ext cx="8800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527e56"/>
                </a:solidFill>
                <a:latin typeface="Calibri"/>
              </a:rPr>
              <a:t>مراجعة على المحاضرة الثالثة</a:t>
            </a:r>
            <a:br>
              <a:rPr sz="4000"/>
            </a:br>
            <a:r>
              <a:rPr b="1" lang="ar-SA" sz="2800" spc="-1" strike="noStrike">
                <a:solidFill>
                  <a:srgbClr val="527e56"/>
                </a:solidFill>
                <a:latin typeface="Calibri"/>
              </a:rPr>
              <a:t>الأسس الدينية للتربية</a:t>
            </a:r>
            <a:r>
              <a:rPr b="1" lang="ar-EG" sz="28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527e5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87D2-F967-4546-B479-1B5FB5C5CA57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5105520" y="1523880"/>
            <a:ext cx="4572000" cy="4648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152280" y="1523880"/>
            <a:ext cx="4800600" cy="449604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أولاً : أسس التربية الإسلا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"/>
          <p:cNvSpPr/>
          <p:nvPr/>
        </p:nvSpPr>
        <p:spPr>
          <a:xfrm>
            <a:off x="380880" y="1600200"/>
            <a:ext cx="46483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676a55"/>
                </a:solidFill>
                <a:latin typeface="Calibri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3"/>
          <p:cNvPicPr/>
          <p:nvPr/>
        </p:nvPicPr>
        <p:blipFill>
          <a:blip r:embed="rId1"/>
          <a:stretch/>
        </p:blipFill>
        <p:spPr>
          <a:xfrm>
            <a:off x="0" y="152280"/>
            <a:ext cx="2901960" cy="982800"/>
          </a:xfrm>
          <a:prstGeom prst="rect">
            <a:avLst/>
          </a:prstGeom>
          <a:ln w="0">
            <a:noFill/>
          </a:ln>
        </p:spPr>
      </p:pic>
      <p:sp>
        <p:nvSpPr>
          <p:cNvPr id="632" name="Rectangle 7"/>
          <p:cNvSpPr/>
          <p:nvPr/>
        </p:nvSpPr>
        <p:spPr>
          <a:xfrm>
            <a:off x="228600" y="1523880"/>
            <a:ext cx="4724280" cy="63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تكاملية شامل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ثالية واقع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سلوكية عملي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التربية الإسلامية تربية مستمر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إنسانية عالم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التربية الإسلامية تربية محافظة مجدد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Arial"/>
                <a:cs typeface="PT Bold Heading"/>
              </a:rPr>
              <a:t>ثانياً:أساليب التربية الإسلامية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Arial"/>
                <a:ea typeface="PT Bold Heading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قدوة الصالح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ثواب والعقاب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توجيه والنص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حوار والمناقش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أسلوب الممارسة العمل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3300"/>
                </a:solidFill>
                <a:latin typeface="Arial"/>
              </a:rPr>
              <a:t> أسلوب التلقين والحف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9"/>
          <p:cNvSpPr/>
          <p:nvPr/>
        </p:nvSpPr>
        <p:spPr>
          <a:xfrm>
            <a:off x="5257800" y="1600200"/>
            <a:ext cx="4343400" cy="71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تربية في كل مجتمع لها أسسها العقدية المستوحاة من عقيدة المجتمع والتربية في المجتمع المسلم لها أسسها التي تعتمد على عقيدتها الإسلامية 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من أهداف التربية الإسلامية تحقيق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سعادة الإنسان في الدنيا والآخرة و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نشئة الإنسان الذي يعبد الله ويخشاه وتقوية الروابط بين المسلمين بالإضافة إلى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Arial"/>
              </a:rPr>
              <a:t>تربية لضمير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إنسان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وهذه الأهداف كلها مستوحاة من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خصائص العامة للإسلام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6346800" y="3244680"/>
            <a:ext cx="1857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4400" spc="-1" strike="noStrike">
                <a:solidFill>
                  <a:srgbClr val="527e56"/>
                </a:solidFill>
                <a:latin typeface="Calibri"/>
              </a:rPr>
              <a:t>الرابعة</a:t>
            </a:r>
            <a:br>
              <a:rPr sz="4400"/>
            </a:br>
            <a:r>
              <a:rPr b="1" lang="ar-EG" sz="2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مهنة التعليم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 </a:t>
            </a:r>
            <a:r>
              <a:rPr b="0" lang="ar-SA" sz="3600" spc="-1" strike="noStrike">
                <a:solidFill>
                  <a:srgbClr val="376092"/>
                </a:solidFill>
                <a:latin typeface="Calibri"/>
              </a:rPr>
              <a:t>:-</a:t>
            </a:r>
            <a:endParaRPr b="0" lang="en-US" sz="36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151920" y="1447920"/>
            <a:ext cx="95252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تغير شبه دائم في الأداء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نتيجة للخبرة والممارسة والتدريب وليس للنضج فقط ,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أما 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مج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هود يبذل بقصد إكساب المعلومات والمعارف والمهارات للمت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، وبهدف حفز المتعلم ، واستثارة قواه العقلية ، ونشاطه الذاتي ، وتهيئة الظروف التي تمكنه من التعلم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م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قد يكون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ذاتيا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يقوم به الفرد بنفسه أما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تعلي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 فيشترط وجود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علم</a:t>
            </a:r>
            <a:r>
              <a:rPr b="1" lang="ar-SA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تقوم مهنة التعليم على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مجموعة من المقومات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,نخص منها بالذكر ما يلى: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نشاط العقلي:</a:t>
            </a:r>
            <a:r>
              <a:rPr b="0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خصص العلم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-الإعداد القبلي: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التدريب في أثناء الخدمة -عضوية دائمة في المهنة 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-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تنظيم نقابي له دوره الاجتماعي والمهني: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Arial"/>
              </a:rPr>
              <a:t>مراحل التعليم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ينقسم التعليم في المملكة السعودية إلى قسمين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أول وهو التعليم العام 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  , 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ثاني وهو التعليم العال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الركائز الأساسية لعملية التعليم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أ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تعلم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ب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نهج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.  ج-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ادار</a:t>
            </a:r>
            <a:r>
              <a:rPr b="1" lang="ar-EG" sz="2400" spc="-1" strike="noStrike">
                <a:solidFill>
                  <a:srgbClr val="c00000"/>
                </a:solidFill>
                <a:latin typeface="Arial"/>
              </a:rPr>
              <a:t>ة  د- 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المعلم</a:t>
            </a:r>
            <a:r>
              <a:rPr b="1" lang="ar-SA" sz="2400" spc="-1" strike="noStrike">
                <a:solidFill>
                  <a:srgbClr val="c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7880" indent="-4752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Slide Number Placeholder 3"/>
          <p:cNvSpPr/>
          <p:nvPr/>
        </p:nvSpPr>
        <p:spPr>
          <a:xfrm>
            <a:off x="2104920" y="6377040"/>
            <a:ext cx="571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58EE-310D-441F-9E03-6EC59E87E2AF}" type="slidenum">
              <a:rPr b="0" lang="ar-SA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800920" cy="10969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600" spc="-1" strike="noStrike">
                <a:solidFill>
                  <a:srgbClr val="527e56"/>
                </a:solidFill>
                <a:latin typeface="Calibri"/>
              </a:rPr>
              <a:t>:</a:t>
            </a: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36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600" spc="-1" strike="noStrike">
                <a:solidFill>
                  <a:srgbClr val="527e56"/>
                </a:solidFill>
                <a:latin typeface="Calibri"/>
              </a:rPr>
              <a:t>الخامسة</a:t>
            </a:r>
            <a:br>
              <a:rPr sz="3600"/>
            </a:br>
            <a:r>
              <a:rPr b="1" lang="ar-SA" sz="3600" spc="-1" strike="noStrike">
                <a:solidFill>
                  <a:srgbClr val="c00000"/>
                </a:solidFill>
                <a:latin typeface="Calibri"/>
              </a:rPr>
              <a:t>نظم إعداد المعلم</a:t>
            </a:r>
            <a:br>
              <a:rPr sz="3600"/>
            </a:b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b0ccb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9601200" cy="47246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78000"/>
          </a:bodyPr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 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8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نظام الإعداد التتابعى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    </a:t>
            </a:r>
            <a:r>
              <a:rPr b="1" lang="ar-EG" sz="1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نظام الإعداد التكاملي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أسس إعداد المعلم</a:t>
            </a:r>
            <a:r>
              <a:rPr b="1" lang="ar-EG" sz="2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ar-EG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1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ثقافي العام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أكاديمي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 ـ الإعداد المهن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التدريب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ar-EG" sz="2400" spc="-1" strike="noStrike">
                <a:solidFill>
                  <a:srgbClr val="c00000"/>
                </a:solidFill>
                <a:latin typeface="Calibri"/>
              </a:rPr>
              <a:t>1 –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التدريب التكميل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استكمال النقص الناتج عن مرحلة إعداد المعلم في مؤسسات إعداد المعلمين , وقد يكون هذا النقص في الجانب الأكاديمي أو في الجانب المسلك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علاج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عالجة ضعف في أحد الكفايات التي يجب أن تتوافر لدى المعلم أو العامل التربوي .</a:t>
            </a:r>
            <a:br>
              <a:rPr sz="2000"/>
            </a:b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3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– التدريب التجديدي :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وذلك لمسايرة المستجدات العلمية والتربوية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4-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التدريب التحويلى: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وذلك لاكتساب مهارات ومعارف وقدرات وسلوكيات تمكن المعلم من الانتقال (التحول)الى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مجال عمل اخر , عمل جديد أو تخصص جدي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صفات المعلم </a:t>
            </a:r>
            <a:r>
              <a:rPr b="1" lang="ar-SA" sz="2400" spc="-1" strike="noStrike">
                <a:solidFill>
                  <a:srgbClr val="c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أ ـ من الناحية الجسمية </a:t>
            </a:r>
            <a:r>
              <a:rPr b="1" lang="ar-SA" sz="20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ب ـ من الناحية العقل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ج ـ  من الناحية الانفعال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just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د ـ من الناحية الاجتماع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 من الناحية المعرف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هـ ـ من الناحية الأخلاقية </a:t>
            </a:r>
            <a:r>
              <a:rPr b="1" lang="ar-EG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2000" spc="-1" strike="noStrike">
                <a:solidFill>
                  <a:srgbClr val="c00000"/>
                </a:solidFill>
                <a:latin typeface="Calibri"/>
              </a:rPr>
              <a:t>م ـ من الناحية القيادية </a:t>
            </a:r>
            <a:r>
              <a:rPr b="1" lang="ar-EG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674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95000" y="228240"/>
            <a:ext cx="8877240" cy="106668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27e56"/>
                </a:solidFill>
                <a:latin typeface="Calibri"/>
              </a:rPr>
              <a:t>مراجعة على المحاضرة 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السادسة </a:t>
            </a:r>
            <a:br>
              <a:rPr sz="3200"/>
            </a:b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أهداف التربية والتعليم فى المملكة</a:t>
            </a:r>
            <a:r>
              <a:rPr b="1" lang="ar-EG" sz="3200" spc="-1" strike="noStrike">
                <a:solidFill>
                  <a:srgbClr val="527e56"/>
                </a:solidFill>
                <a:latin typeface="Calibri"/>
              </a:rPr>
              <a:t> </a:t>
            </a:r>
            <a:r>
              <a:rPr b="1" lang="ar-EG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ar-SA" sz="4400" spc="-1" strike="noStrike">
                <a:solidFill>
                  <a:srgbClr val="527e56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376092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9372600" cy="464832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txBody>
          <a:bodyPr anchor="t">
            <a:normAutofit fontScale="82000"/>
          </a:bodyPr>
          <a:p>
            <a:pPr marL="2811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1-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8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4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Rectangle 3"/>
          <p:cNvSpPr/>
          <p:nvPr/>
        </p:nvSpPr>
        <p:spPr>
          <a:xfrm>
            <a:off x="380880" y="1447920"/>
            <a:ext cx="9296640" cy="4800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1800" spc="-1" strike="noStrike" u="sng">
                <a:solidFill>
                  <a:srgbClr val="c00000"/>
                </a:solidFill>
                <a:uFillTx/>
                <a:latin typeface="Arial"/>
              </a:rPr>
              <a:t>ا</a:t>
            </a:r>
            <a:r>
              <a:rPr b="1" lang="ar-SA" sz="1800" spc="-1" strike="noStrike" u="sng">
                <a:solidFill>
                  <a:srgbClr val="c00000"/>
                </a:solidFill>
                <a:uFillTx/>
                <a:latin typeface="Arial"/>
              </a:rPr>
              <a:t>لأ</a:t>
            </a:r>
            <a:r>
              <a:rPr b="1" lang="ar-OM" sz="1800" spc="-1" strike="noStrike" u="sng">
                <a:solidFill>
                  <a:srgbClr val="c00000"/>
                </a:solidFill>
                <a:uFillTx/>
                <a:latin typeface="Arial"/>
              </a:rPr>
              <a:t>هداف التربوية: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هو الغاية التي تسعى التربية للوصول اليها مستخدمة في ذلك جميع الوسائل والامكانات المتاحة 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ar-EG" sz="1800" spc="-1" strike="noStrike">
                <a:solidFill>
                  <a:srgbClr val="000000"/>
                </a:solidFill>
                <a:latin typeface="Arial"/>
              </a:rPr>
              <a:t>والاهداف التربوية في الاساس منبثقة من النظرية الفلسفية الاجتماعية السياسية ومصاغة بشكل اهداف محددة</a:t>
            </a:r>
            <a:r>
              <a:rPr b="1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800"/>
            </a:b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مستويات الاهداف التربوي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1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عام أي الأهداف التربوية العام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مثال : إعداد الإنسان المؤمن الصالح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r>
              <a:rPr b="1" lang="ar-SA" sz="2400" spc="-1" strike="noStrike" u="sng">
                <a:solidFill>
                  <a:srgbClr val="c00000"/>
                </a:solidFill>
                <a:uFillTx/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2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متوسط وهو الاهداف التعليمية:وهي الأهداف التربوية للمراحل الدراسية </a:t>
            </a:r>
            <a:r>
              <a:rPr b="1" lang="ar-EG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مثال: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معرفة الحروف الابجدية في المرحلة الابتدائية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3-</a:t>
            </a:r>
            <a:r>
              <a:rPr b="1" lang="ar-SA" sz="2000" spc="-1" strike="noStrike" u="sng">
                <a:solidFill>
                  <a:srgbClr val="c00000"/>
                </a:solidFill>
                <a:uFillTx/>
                <a:latin typeface="Calibri"/>
              </a:rPr>
              <a:t>المستوى الخاص أي الأهداف السلوكية المحددة مثال:أن يعيد ترتيب مجموعات الاعدا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د</a:t>
            </a:r>
            <a:r>
              <a:rPr b="1" lang="ar-OM" sz="2000" spc="-1" strike="noStrike" u="sng">
                <a:solidFill>
                  <a:srgbClr val="c00000"/>
                </a:solidFill>
                <a:uFillTx/>
                <a:latin typeface="Calibri"/>
              </a:rPr>
              <a:t> </a:t>
            </a:r>
            <a:r>
              <a:rPr b="1" lang="ar-EG" sz="2400" spc="-1" strike="noStrike" u="sng">
                <a:solidFill>
                  <a:srgbClr val="c00000"/>
                </a:solidFill>
                <a:uFillTx/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400" spc="-1" strike="noStrike" u="sng">
                <a:solidFill>
                  <a:srgbClr val="000000"/>
                </a:solidFill>
                <a:uFillTx/>
                <a:latin typeface="Arial"/>
              </a:rPr>
              <a:t>مجالات الاهداف التربوي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أولا : المجال المعرفي(الادراكى)</a:t>
            </a:r>
            <a:r>
              <a:rPr b="1" lang="ar-EG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يختص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بالأهداف المرتطبة </a:t>
            </a:r>
            <a:r>
              <a:rPr b="1" lang="ar-OM" sz="2000" spc="-1" strike="noStrike">
                <a:solidFill>
                  <a:srgbClr val="000000"/>
                </a:solidFill>
                <a:latin typeface="Arial"/>
              </a:rPr>
              <a:t>بالمعلومات والمفاهيم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وتذكرها وإدراكها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نياً : المجال النفسي حركي ( المهاري )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يختص بالأهداف المرتبطة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مهارات التي تتطلب تنسيق بين عضلات الجس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</a:rPr>
              <a:t>ثالثاً : المجال الوجداني ( العاطفي )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EG" sz="2000" spc="-1" strike="noStrike">
                <a:solidFill>
                  <a:srgbClr val="000000"/>
                </a:solidFill>
                <a:latin typeface="Arial"/>
              </a:rPr>
              <a:t> يختص ب</a:t>
            </a: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الأهداف المتعلقة بالاتجاهات والعواطف والقيم التقدير والتعاو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أهداف التربية والتعليم فى المملكة العربية السعودية</a:t>
            </a:r>
            <a:r>
              <a:rPr b="1" lang="ar-S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ar-EG" sz="2400" spc="-1" strike="noStrike">
                <a:solidFill>
                  <a:srgbClr val="ff0000"/>
                </a:solidFill>
                <a:latin typeface="Arial"/>
              </a:rPr>
              <a:t>(رياض الأطفال - المرحلة الابئدائية -المرحلة المتوسطة-التعليم التعليم العالى)</a:t>
            </a:r>
            <a:r>
              <a:rPr b="1" lang="en-US" sz="2400" spc="-1" strike="noStrike" u="sng">
                <a:solidFill>
                  <a:srgbClr val="c00000"/>
                </a:solidFill>
                <a:uFillTx/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19:14:34Z</dcterms:created>
  <dc:creator>nader darawsheh</dc:creator>
  <dc:description/>
  <dc:language>en-US</dc:language>
  <cp:lastModifiedBy>User</cp:lastModifiedBy>
  <dcterms:modified xsi:type="dcterms:W3CDTF">2011-04-20T17:04:11Z</dcterms:modified>
  <cp:revision>161</cp:revision>
  <dc:subject/>
  <dc:title>Slide 1</dc:title>
</cp:coreProperties>
</file>