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FEFC-87E8-4610-8490-1CDEF5083C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450A-BE02-4146-9A6F-17F531E296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B8A15-83EC-44AD-8FDA-6BC5BCE53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3647-485B-40D8-85B8-2FC79CA5B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D745E-4F20-4C00-96FF-271E795DC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E8307-F65F-4E47-A6A6-D4251F41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B8DA-161E-4D5C-B49B-CE11A6BF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C2FB-3EA7-46A6-8939-5EC9AB51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C926-4BCB-4125-84D3-B33592AD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874D-EB8E-4008-AD16-101CD2AA9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68D0-5010-4092-A4D4-C053D3A97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C748-7938-447A-94C4-A0F9B428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7CAE-218D-4014-AC6D-AA316555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2C69-8EAD-4CFC-B794-9D036F16F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7981-0B3B-48DD-B84F-95BD5180AA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earch.babylon.com/imageres.php?iu=http://www.m09m.com/vb/storeimg/img_1317393900_937.gif&amp;ir=http://www.7la-n.net/vb/7la_t13024&amp;ig=http://t3.gstatic.com/images?q=tbn:ANd9GcRYNi38C1JNbEzX3QMpkSl-02B1RwnJbxuti2X47ZTxc93lFmROvtTQCwE&amp;h=350&amp;w=350&amp;q=&#1576;&#1575;&#1602;&#1575;&#1578;+&#1608;&#1585;&#1583;&amp;babsrc=home"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نصوص أدبية (</a:t>
            </a:r>
            <a:r>
              <a:rPr b="1" lang="ar-SA" sz="4400" spc="-1" strike="noStrike">
                <a:solidFill>
                  <a:srgbClr val="ff3300"/>
                </a:solidFill>
                <a:latin typeface="Arial"/>
              </a:rPr>
              <a:t>1</a:t>
            </a:r>
            <a:r>
              <a:rPr b="1" lang="ar-SA" sz="4400" spc="-1" strike="noStrike">
                <a:solidFill>
                  <a:srgbClr val="ff3300"/>
                </a:solidFill>
                <a:latin typeface="Arial"/>
              </a:rPr>
              <a:t>)</a:t>
            </a:r>
            <a:endParaRPr b="0" lang="en-US" sz="4400" spc="-1" strike="noStrike">
              <a:solidFill>
                <a:srgbClr val="000000"/>
              </a:solidFill>
              <a:latin typeface="Arial"/>
            </a:endParaRPr>
          </a:p>
        </p:txBody>
      </p:sp>
      <p:pic>
        <p:nvPicPr>
          <p:cNvPr id="49" name="صورة 2" descr="http://t3.gstatic.com/images?q=tbn:ANd9GcRYNi38C1JNbEzX3QMpkSl-02B1RwnJbxuti2X47ZTxc93lFmROvtTQCwE">
            <a:hlinkClick r:id="rId1"/>
          </p:cNvPr>
          <p:cNvPicPr/>
          <p:nvPr/>
        </p:nvPicPr>
        <p:blipFill>
          <a:blip r:embed="rId2"/>
          <a:stretch/>
        </p:blipFill>
        <p:spPr>
          <a:xfrm>
            <a:off x="4429080" y="3571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في قوله تعالى: (والصبح إذا تنفس) سورة التكوير الآية </a:t>
            </a:r>
            <a:r>
              <a:rPr b="1" lang="ar-SA" sz="3200" spc="-1" strike="noStrike">
                <a:solidFill>
                  <a:srgbClr val="000000"/>
                </a:solidFill>
                <a:latin typeface="Arial"/>
              </a:rPr>
              <a:t>18</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جسيم للمعنويات المجردة وإبرازها أجساماً أو محسوسات , وتشخيص يتمثل في خلع الحياة على المواد الجامدة , والظواهر الطبيعية والانفعالات الوجدانية.</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يوحي قوله تعالى بالحياة الوديعة الهادئة التي تنفرج عنها ثناياه وهو يتنفس , فتتنفس معه الحياة , ويدب النشاط في الأحياء على وجه الأرض والسماء.</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في قوله تعالى:( واشتعل الرأس شيبا) مريم الآية </a:t>
            </a:r>
            <a:r>
              <a:rPr b="1" lang="ar-SA" sz="3200" spc="-1" strike="noStrike">
                <a:solidFill>
                  <a:srgbClr val="000000"/>
                </a:solidFill>
                <a:latin typeface="Arial"/>
              </a:rPr>
              <a:t>4</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لقد منح القرآن الحركة لما من شأنه السكون, فحركة الاشتعال هنا تخيل للشيب في الرأس  حركة كحركة  من اشتعال النار في الهشيم فيها حياة وجمال. وهذه الحركة تلمس الحس وتثير الخيال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تحليل بلاغي  </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ورة الضحى:         </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ضحى  </a:t>
            </a:r>
            <a:r>
              <a:rPr b="1" lang="en-US" sz="3200" spc="-1" strike="noStrike">
                <a:solidFill>
                  <a:srgbClr val="000000"/>
                </a:solidFill>
                <a:latin typeface="Arial"/>
              </a:rPr>
              <a:t>o</a:t>
            </a:r>
            <a:r>
              <a:rPr b="1" lang="ar-SA" sz="3200" spc="-1" strike="noStrike">
                <a:solidFill>
                  <a:srgbClr val="000000"/>
                </a:solidFill>
                <a:latin typeface="Arial"/>
              </a:rPr>
              <a:t> والليل إذا سجى </a:t>
            </a:r>
            <a:r>
              <a:rPr b="1" lang="en-US" sz="3200" spc="-1" strike="noStrike">
                <a:solidFill>
                  <a:srgbClr val="000000"/>
                </a:solidFill>
                <a:latin typeface="Arial"/>
              </a:rPr>
              <a:t>o</a:t>
            </a:r>
            <a:r>
              <a:rPr b="1" lang="ar-SA" sz="3200" spc="-1" strike="noStrike">
                <a:solidFill>
                  <a:srgbClr val="000000"/>
                </a:solidFill>
                <a:latin typeface="Arial"/>
              </a:rPr>
              <a:t> ما ودعك ربك وما قلى </a:t>
            </a:r>
            <a:r>
              <a:rPr b="1" lang="en-US" sz="3200" spc="-1" strike="noStrike">
                <a:solidFill>
                  <a:srgbClr val="000000"/>
                </a:solidFill>
                <a:latin typeface="Arial"/>
              </a:rPr>
              <a:t>o</a:t>
            </a:r>
            <a:r>
              <a:rPr b="1" lang="ar-SA" sz="3200" spc="-1" strike="noStrike">
                <a:solidFill>
                  <a:srgbClr val="000000"/>
                </a:solidFill>
                <a:latin typeface="Arial"/>
              </a:rPr>
              <a:t> وللآخرة خير لك من الأولى </a:t>
            </a:r>
            <a:r>
              <a:rPr b="1" lang="en-US" sz="3200" spc="-1" strike="noStrike">
                <a:solidFill>
                  <a:srgbClr val="000000"/>
                </a:solidFill>
                <a:latin typeface="Arial"/>
              </a:rPr>
              <a:t>o</a:t>
            </a:r>
            <a:r>
              <a:rPr b="1" lang="ar-SA" sz="3200" spc="-1" strike="noStrike">
                <a:solidFill>
                  <a:srgbClr val="000000"/>
                </a:solidFill>
                <a:latin typeface="Arial"/>
              </a:rPr>
              <a:t> ولسوف يعطيك ربك فترضى </a:t>
            </a:r>
            <a:r>
              <a:rPr b="1" lang="en-US" sz="3200" spc="-1" strike="noStrike">
                <a:solidFill>
                  <a:srgbClr val="000000"/>
                </a:solidFill>
                <a:latin typeface="Arial"/>
              </a:rPr>
              <a:t>o</a:t>
            </a:r>
            <a:r>
              <a:rPr b="1" lang="ar-SA" sz="3200" spc="-1" strike="noStrike">
                <a:solidFill>
                  <a:srgbClr val="000000"/>
                </a:solidFill>
                <a:latin typeface="Arial"/>
              </a:rPr>
              <a:t> ألم يجدك يتيما فآوى </a:t>
            </a:r>
            <a:r>
              <a:rPr b="1" lang="en-US" sz="3200" spc="-1" strike="noStrike">
                <a:solidFill>
                  <a:srgbClr val="000000"/>
                </a:solidFill>
                <a:latin typeface="Arial"/>
              </a:rPr>
              <a:t>o</a:t>
            </a:r>
            <a:r>
              <a:rPr b="1" lang="ar-SA" sz="3200" spc="-1" strike="noStrike">
                <a:solidFill>
                  <a:srgbClr val="000000"/>
                </a:solidFill>
                <a:latin typeface="Arial"/>
              </a:rPr>
              <a:t> ووجدك ضالا فهدى</a:t>
            </a:r>
            <a:r>
              <a:rPr b="1" lang="en-US" sz="3200" spc="-1" strike="noStrike">
                <a:solidFill>
                  <a:srgbClr val="000000"/>
                </a:solidFill>
                <a:latin typeface="Arial"/>
              </a:rPr>
              <a:t> </a:t>
            </a:r>
            <a:r>
              <a:rPr b="1" lang="en-US" sz="3200" spc="-1" strike="noStrike">
                <a:solidFill>
                  <a:srgbClr val="000000"/>
                </a:solidFill>
                <a:latin typeface="Arial"/>
              </a:rPr>
              <a:t>o</a:t>
            </a:r>
            <a:r>
              <a:rPr b="1" lang="ar-SA" sz="3200" spc="-1" strike="noStrike">
                <a:solidFill>
                  <a:srgbClr val="000000"/>
                </a:solidFill>
                <a:latin typeface="Arial"/>
              </a:rPr>
              <a:t>ووجدك عائلا فأغنى </a:t>
            </a:r>
            <a:r>
              <a:rPr b="1" lang="en-US" sz="3200" spc="-1" strike="noStrike">
                <a:solidFill>
                  <a:srgbClr val="000000"/>
                </a:solidFill>
                <a:latin typeface="Arial"/>
              </a:rPr>
              <a:t>o</a:t>
            </a:r>
            <a:r>
              <a:rPr b="1" lang="ar-SA" sz="3200" spc="-1" strike="noStrike">
                <a:solidFill>
                  <a:srgbClr val="000000"/>
                </a:solidFill>
                <a:latin typeface="Arial"/>
              </a:rPr>
              <a:t> فأما اليتيم فلا تقهر </a:t>
            </a:r>
            <a:r>
              <a:rPr b="1" lang="en-US" sz="3200" spc="-1" strike="noStrike">
                <a:solidFill>
                  <a:srgbClr val="000000"/>
                </a:solidFill>
                <a:latin typeface="Arial"/>
              </a:rPr>
              <a:t>o</a:t>
            </a:r>
            <a:r>
              <a:rPr b="1" lang="ar-SA" sz="3200" spc="-1" strike="noStrike">
                <a:solidFill>
                  <a:srgbClr val="000000"/>
                </a:solidFill>
                <a:latin typeface="Arial"/>
              </a:rPr>
              <a:t> وأما السائل فلا تنهر </a:t>
            </a:r>
            <a:r>
              <a:rPr b="1" lang="en-US" sz="3200" spc="-1" strike="noStrike">
                <a:solidFill>
                  <a:srgbClr val="000000"/>
                </a:solidFill>
                <a:latin typeface="Arial"/>
              </a:rPr>
              <a:t>o</a:t>
            </a:r>
            <a:r>
              <a:rPr b="1" lang="ar-SA" sz="3200" spc="-1" strike="noStrike">
                <a:solidFill>
                  <a:srgbClr val="000000"/>
                </a:solidFill>
                <a:latin typeface="Arial"/>
              </a:rPr>
              <a:t> وأما بنعمة ربك فحدث </a:t>
            </a:r>
            <a:r>
              <a:rPr b="1" lang="en-US"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642960" y="728280"/>
            <a:ext cx="7929720" cy="3018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خطوات التحليل</a:t>
            </a:r>
            <a:r>
              <a:rPr b="1" lang="en-US" sz="3200" spc="-1" strike="noStrike">
                <a:solidFill>
                  <a:srgbClr val="ff0000"/>
                </a:solidFill>
                <a:latin typeface="Calibri"/>
                <a:ea typeface="Times New Roman"/>
              </a:rPr>
              <a:t> :</a:t>
            </a:r>
            <a:br>
              <a:rPr sz="3200"/>
            </a:br>
            <a:r>
              <a:rPr b="1" lang="en-US"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  الإطار العام ومناخ النص</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  طبيعة القَسَم</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 الذِّكر والحذْف</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 الألفاظ المناسبة</a:t>
            </a:r>
            <a:br>
              <a:rPr sz="3200"/>
            </a:br>
            <a:r>
              <a:rPr b="1" lang="ar-SA"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5</a:t>
            </a:r>
            <a:r>
              <a:rPr b="1" lang="ar-SA" sz="3200" spc="-1" strike="noStrike">
                <a:solidFill>
                  <a:srgbClr val="000000"/>
                </a:solidFill>
                <a:latin typeface="Calibri"/>
                <a:ea typeface="Times New Roman"/>
              </a:rPr>
              <a:t> -  سياق النص</a:t>
            </a:r>
            <a:r>
              <a:rPr b="1" lang="en-US" sz="3200" spc="-1" strike="noStrike">
                <a:solidFill>
                  <a:srgbClr val="000000"/>
                </a:solidFill>
                <a:latin typeface="Calibri"/>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مستطيل 1"/>
          <p:cNvSpPr/>
          <p:nvPr/>
        </p:nvSpPr>
        <p:spPr>
          <a:xfrm>
            <a:off x="5748840" y="285840"/>
            <a:ext cx="3432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أولا : مناخ النص :</a:t>
            </a:r>
            <a:endParaRPr b="0" lang="en-US" sz="3200" spc="-1" strike="noStrike">
              <a:solidFill>
                <a:srgbClr val="000000"/>
              </a:solidFill>
              <a:latin typeface="Arial"/>
            </a:endParaRPr>
          </a:p>
        </p:txBody>
      </p:sp>
      <p:sp>
        <p:nvSpPr>
          <p:cNvPr id="67" name="مستطيل 2"/>
          <p:cNvSpPr/>
          <p:nvPr/>
        </p:nvSpPr>
        <p:spPr>
          <a:xfrm>
            <a:off x="285840" y="1000080"/>
            <a:ext cx="8572320" cy="69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3200" spc="-1" strike="noStrike">
                <a:solidFill>
                  <a:srgbClr val="000000"/>
                </a:solidFill>
                <a:latin typeface="Arial"/>
              </a:rPr>
              <a:t>حتى نفهم هذا المناخ أو الإطار نعرض أسباب النزول ، النص مكي, نزل , في أوائل ما نزل من نصوص القرآن بعد فترة فتور ظن الكافرون أن القطيعة قد وقعت بين محمد وخالقه ، فقالوا في جملة ما قالوا</a:t>
            </a:r>
            <a:r>
              <a:rPr b="1" lang="en-US" sz="3200" spc="-1" strike="noStrike">
                <a:solidFill>
                  <a:srgbClr val="000000"/>
                </a:solidFill>
                <a:latin typeface="Arial"/>
              </a:rPr>
              <a:t> : </a:t>
            </a:r>
            <a:r>
              <a:rPr b="1" lang="ar-SA" sz="3200" spc="-1" strike="noStrike">
                <a:solidFill>
                  <a:srgbClr val="000000"/>
                </a:solidFill>
                <a:latin typeface="Arial"/>
              </a:rPr>
              <a:t>لقد قلى محمدًا ربُّه ، نزل النص ليدحض هذه الادعاء وليقف إلى جانب النبي صلى الله عليه وسلم  وليكون لمسة حنان دافئة من الذات العلية  تأخذ بيده وتؤكد له استمرار الوحي . والنبي الكريم صلى الله عليه وسلم  يحتاج في تلك الفترة إلى لمسة حنان فكان النص هو هذه اللمسة ، وضمن هذا الإطار النفسي سنجد أن كل لفظة .. كل تركيب</a:t>
            </a:r>
            <a:r>
              <a:rPr b="1" lang="en-US" sz="3200" spc="-1" strike="noStrike">
                <a:solidFill>
                  <a:srgbClr val="000000"/>
                </a:solidFill>
                <a:latin typeface="Arial"/>
              </a:rPr>
              <a:t> .. </a:t>
            </a:r>
            <a:r>
              <a:rPr b="1" lang="ar-SA" sz="3200" spc="-1" strike="noStrike">
                <a:solidFill>
                  <a:srgbClr val="000000"/>
                </a:solidFill>
                <a:latin typeface="Arial"/>
              </a:rPr>
              <a:t>كل دلالة إنما نبعت منه وتعود إلي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285840" y="1000080"/>
            <a:ext cx="836928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 القَسَم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ن يستقرئ القسم القرآني يجد أنه على نوع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نوع الأول : </a:t>
            </a:r>
            <a:r>
              <a:rPr b="1" lang="ar-SA" sz="3200" spc="-1" strike="noStrike">
                <a:solidFill>
                  <a:srgbClr val="000000"/>
                </a:solidFill>
                <a:latin typeface="Arial"/>
              </a:rPr>
              <a:t>جاء بصيغة الواو مع المقسَم به من مثل "وَالضُّحَى" هنا ، و "وَالسَّمَاء وَالطَّارِقِ" و "وَالْعَادِيَاتِ</a:t>
            </a:r>
            <a:r>
              <a:rPr b="1" lang="en-US" sz="3200" spc="-1" strike="noStrike">
                <a:solidFill>
                  <a:srgbClr val="000000"/>
                </a:solidFill>
                <a:latin typeface="Arial"/>
              </a:rPr>
              <a:t> .." .. </a:t>
            </a:r>
            <a:r>
              <a:rPr b="1" lang="ar-SA" sz="3200" spc="-1" strike="noStrike">
                <a:solidFill>
                  <a:srgbClr val="000000"/>
                </a:solidFill>
                <a:latin typeface="Arial"/>
              </a:rPr>
              <a:t>  </a:t>
            </a:r>
            <a:r>
              <a:rPr b="1" lang="ar-SA" sz="3200" spc="-1" strike="noStrike">
                <a:solidFill>
                  <a:srgbClr val="ff0000"/>
                </a:solidFill>
                <a:latin typeface="Arial"/>
              </a:rPr>
              <a:t>النوع الثاني : </a:t>
            </a:r>
            <a:r>
              <a:rPr b="1" lang="ar-SA" sz="3200" spc="-1" strike="noStrike">
                <a:solidFill>
                  <a:srgbClr val="000000"/>
                </a:solidFill>
                <a:latin typeface="Arial"/>
              </a:rPr>
              <a:t>جاء بصيغة "لَا أُقْسِمُ" ومثاله كثير منها قوله تعالى</a:t>
            </a:r>
            <a:r>
              <a:rPr b="1" lang="en-US" sz="3200" spc="-1" strike="noStrike">
                <a:solidFill>
                  <a:srgbClr val="000000"/>
                </a:solidFill>
                <a:latin typeface="Arial"/>
              </a:rPr>
              <a:t> "</a:t>
            </a:r>
            <a:r>
              <a:rPr b="1" lang="ar-SA" sz="3200" spc="-1" strike="noStrike">
                <a:solidFill>
                  <a:srgbClr val="000000"/>
                </a:solidFill>
                <a:latin typeface="Arial"/>
              </a:rPr>
              <a:t>لَا أُقْسِمُ بِهَذَا الْبَلَدِ  وَأَنتَ حِلٌّ .."  </a:t>
            </a:r>
            <a:r>
              <a:rPr b="1"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857160" y="-167040"/>
            <a:ext cx="7500960" cy="6476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3200" spc="-1" strike="noStrike">
                <a:solidFill>
                  <a:srgbClr val="000000"/>
                </a:solidFill>
                <a:latin typeface="Calibri"/>
                <a:ea typeface="Times New Roman"/>
              </a:rPr>
              <a:t> </a:t>
            </a:r>
            <a:r>
              <a:rPr b="1" lang="ar-SA" sz="3200" spc="-1" strike="noStrike">
                <a:solidFill>
                  <a:srgbClr val="000000"/>
                </a:solidFill>
                <a:latin typeface="Calibri"/>
                <a:ea typeface="Times New Roman"/>
              </a:rPr>
              <a:t>      ونقف هنا عند القسم بالواو ؛ لأنه مرتبط بسياق النص الذي نحن بصدده ؛ ذهب المفسرون إلى أن هذه الصيغة هي قسم , وقسم بالواو ،     ومن الناحية البلاغية نسمي هذه الواو بالواو البيانية كما نبين  : إن الله تعالى جلت قدرته يلفت نظرنا بهذه الواو إلى حقيقتين إحداهما مادية ، وأخراهما معنوية ، وعلينا أن نثبت ونؤكد ونعتقد بالحقيقة المعنوية من خلال فهمنا للحقيقة المادية .. وهكذا كل من يستقرئ تركيب القسم بالوا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714240" y="-666720"/>
            <a:ext cx="8143920" cy="656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Calibri"/>
                <a:ea typeface="Times New Roman"/>
              </a:rPr>
              <a:t> سينتهي إلى وجود مشهدين بعد الواو ، مشهد مادي يعقبه مشهد معنوي ؛ هنا أين المشهد المادي ؟ تعاقب الضحى الألق بعد الليل الساجي ، وهذا التعاقب المادي الملموس حقيقة مادية مرئية ومشاهدة لا تثير أسئلة ولا تخلق جدلا ، يعقب هذه الحقيقة حقيقة معنوية أخرى هي هنا في النص وداع الله لرسوله وعدم بغضه له ، وأن تعاقب القرب والبعد تعاقب الاتصال والانفصال تعاقب فتور الوحي وزخمه إنما هو أمر عادي وهو أمر معنوي أيضا ، ولتوضيح نشرح  كما يأتي</a:t>
            </a:r>
            <a:r>
              <a:rPr b="0" lang="ar-SA" sz="3200" spc="-1" strike="noStrike">
                <a:solidFill>
                  <a:srgbClr val="000000"/>
                </a:solidFill>
                <a:latin typeface="Calibri"/>
              </a:rPr>
              <a:t> </a:t>
            </a:r>
            <a:r>
              <a:rPr b="1" lang="ar-SA" sz="3200" spc="-1" strike="noStrike">
                <a:solidFill>
                  <a:srgbClr val="000000"/>
                </a:solidFill>
                <a:latin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1"/>
          <p:cNvSpPr/>
          <p:nvPr/>
        </p:nvSpPr>
        <p:spPr>
          <a:xfrm>
            <a:off x="500040" y="500040"/>
            <a:ext cx="814392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صورة الأولى : </a:t>
            </a:r>
            <a:r>
              <a:rPr b="1" lang="ar-SA" sz="3200" spc="-1" strike="noStrike">
                <a:solidFill>
                  <a:srgbClr val="000000"/>
                </a:solidFill>
                <a:latin typeface="Arial"/>
              </a:rPr>
              <a:t>تعاقب الليل بعد النهار أو قبله ؛ هذا التعاقب المادي ، تعاقب عادي حقيقي وبالتالي فإن تعاقب تنجيم الوحي فتورا وزخما إنما هو الآخر تعاقب معنوي عادي في آن</a:t>
            </a:r>
            <a:r>
              <a:rPr b="1" lang="en-US" sz="3200" spc="-1" strike="noStrike">
                <a:solidFill>
                  <a:srgbClr val="000000"/>
                </a:solidFill>
                <a:latin typeface="Arial"/>
              </a:rPr>
              <a:t> .</a:t>
            </a:r>
            <a:br>
              <a:rPr sz="3200"/>
            </a:br>
            <a:r>
              <a:rPr b="1" lang="en-US" sz="3200" spc="-1" strike="noStrike">
                <a:solidFill>
                  <a:srgbClr val="ff0000"/>
                </a:solidFill>
                <a:latin typeface="Arial"/>
              </a:rPr>
              <a:t>- </a:t>
            </a:r>
            <a:r>
              <a:rPr b="1" lang="ar-SA" sz="3200" spc="-1" strike="noStrike">
                <a:solidFill>
                  <a:srgbClr val="ff0000"/>
                </a:solidFill>
                <a:latin typeface="Arial"/>
              </a:rPr>
              <a:t>والأمر الثاني : </a:t>
            </a:r>
            <a:r>
              <a:rPr b="1" lang="ar-SA" sz="3200" spc="-1" strike="noStrike">
                <a:solidFill>
                  <a:srgbClr val="000000"/>
                </a:solidFill>
                <a:latin typeface="Arial"/>
              </a:rPr>
              <a:t>فيما يتعلق بالقسم بالواو لماذا اختار القسم بهذا ولم يختر القسم بذاك ؟ وبكلمات أخرى</a:t>
            </a:r>
            <a:r>
              <a:rPr b="1" lang="en-US" sz="3200" spc="-1" strike="noStrike">
                <a:solidFill>
                  <a:srgbClr val="000000"/>
                </a:solidFill>
                <a:latin typeface="Arial"/>
              </a:rPr>
              <a:t> : </a:t>
            </a:r>
            <a:r>
              <a:rPr b="1" lang="ar-SA" sz="3200" spc="-1" strike="noStrike">
                <a:solidFill>
                  <a:srgbClr val="000000"/>
                </a:solidFill>
                <a:latin typeface="Arial"/>
              </a:rPr>
              <a:t>لماذا اختار هنا القسم بالضحى والقسم بالليل إذا سجى ولم يختر القسم بالصبح أو بالليل إذا يسر ؟ والجواب لدينا بيِّن وواضح : كل قسم يناسب سياقه ؛ فهنا في سورة الضحى مما يتلاءم مع الحنو ولمسة الحنان والإشفاق : الضحى الآن الرقراق الودي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500040" y="500040"/>
            <a:ext cx="81439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ذي لا يوجد فيه وهج ولا برودة ، ومما يتلاءم مع المناخ أن يكون الليل ساجيا بمعنى هادئا لأنه أكثر التصاقا بالطمأنينة وبالحنان بخلاف نص آخر اختار صفة أخرى لليل هي الحركة والفاعلية والنشاط "وَاللَّيْلِ إِذَا يَسْرِ</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r>
              <a:rPr b="1" lang="ar-SA" sz="4400" spc="-1" strike="noStrike">
                <a:solidFill>
                  <a:srgbClr val="ff0000"/>
                </a:solidFill>
                <a:latin typeface="Arial"/>
              </a:rPr>
              <a:t>المحاضرة الأولى</a:t>
            </a:r>
            <a:endParaRPr b="0" lang="en-US" sz="4400" spc="-1" strike="noStrike">
              <a:solidFill>
                <a:srgbClr val="000000"/>
              </a:solidFill>
              <a:latin typeface="Arial"/>
            </a:endParaRPr>
          </a:p>
        </p:txBody>
      </p:sp>
      <p:pic>
        <p:nvPicPr>
          <p:cNvPr id="51" name="صورة 3" descr="http://t2.gstatic.com/images?q=tbn:ANd9GcRZgP9iQA7e2RUXTvPzY1RHXCyZIwd8e_BjgiDQKswOEd9yfhgTE7nuZh8"/>
          <p:cNvPicPr/>
          <p:nvPr/>
        </p:nvPicPr>
        <p:blipFill>
          <a:blip r:embed="rId1"/>
          <a:stretch/>
        </p:blipFill>
        <p:spPr>
          <a:xfrm>
            <a:off x="2928960" y="1857240"/>
            <a:ext cx="3000240" cy="328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ستطيل 1"/>
          <p:cNvSpPr/>
          <p:nvPr/>
        </p:nvSpPr>
        <p:spPr>
          <a:xfrm>
            <a:off x="5284080" y="214200"/>
            <a:ext cx="4105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لثا : الذِّكر والحذْف </a:t>
            </a:r>
            <a:endParaRPr b="0" lang="en-US" sz="3200" spc="-1" strike="noStrike">
              <a:solidFill>
                <a:srgbClr val="000000"/>
              </a:solidFill>
              <a:latin typeface="Arial"/>
            </a:endParaRPr>
          </a:p>
        </p:txBody>
      </p:sp>
      <p:sp>
        <p:nvSpPr>
          <p:cNvPr id="74" name="مستطيل 2"/>
          <p:cNvSpPr/>
          <p:nvPr/>
        </p:nvSpPr>
        <p:spPr>
          <a:xfrm>
            <a:off x="571680" y="785880"/>
            <a:ext cx="814356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سنذهب هنا إلى ما ذهب إليه عبد القاهر في أن الذكر والحذف قضية أو مُسَلَّمَة لها وجهان</a:t>
            </a:r>
            <a:r>
              <a:rPr b="1" lang="en-US" sz="3200" spc="-1" strike="noStrike">
                <a:solidFill>
                  <a:srgbClr val="000000"/>
                </a:solidFill>
                <a:latin typeface="Arial"/>
              </a:rPr>
              <a:t> :</a:t>
            </a:r>
            <a:br>
              <a:rPr sz="3200"/>
            </a:br>
            <a:r>
              <a:rPr b="1" lang="ar-SA" sz="3200" spc="-1" strike="noStrike">
                <a:solidFill>
                  <a:srgbClr val="000000"/>
                </a:solidFill>
                <a:latin typeface="Arial"/>
              </a:rPr>
              <a:t>الأول : شعوري أو نفسي</a:t>
            </a:r>
            <a:r>
              <a:rPr b="1" lang="en-US" sz="3200" spc="-1" strike="noStrike">
                <a:solidFill>
                  <a:srgbClr val="000000"/>
                </a:solidFill>
                <a:latin typeface="Arial"/>
              </a:rPr>
              <a:t> .</a:t>
            </a:r>
            <a:br>
              <a:rPr sz="3200"/>
            </a:br>
            <a:r>
              <a:rPr b="1" lang="ar-SA" sz="3200" spc="-1" strike="noStrike">
                <a:solidFill>
                  <a:srgbClr val="000000"/>
                </a:solidFill>
                <a:latin typeface="Arial"/>
              </a:rPr>
              <a:t>الثاني : فني أو جمالي</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ستطيل 1"/>
          <p:cNvSpPr/>
          <p:nvPr/>
        </p:nvSpPr>
        <p:spPr>
          <a:xfrm>
            <a:off x="285840" y="285840"/>
            <a:ext cx="8501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بكلمات أخرى : إن اختلاف التركيب يتبعه اختلاف في الدلالة ، وسنأخذ مثالين على ذلك </a:t>
            </a:r>
            <a:r>
              <a:rPr b="1" lang="en-US" sz="18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مستطيل 2"/>
          <p:cNvSpPr/>
          <p:nvPr/>
        </p:nvSpPr>
        <p:spPr>
          <a:xfrm>
            <a:off x="357120" y="1571760"/>
            <a:ext cx="835812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مثال الأول : </a:t>
            </a:r>
            <a:r>
              <a:rPr b="1" lang="ar-SA" sz="3200" spc="-1" strike="noStrike">
                <a:solidFill>
                  <a:srgbClr val="000000"/>
                </a:solidFill>
                <a:latin typeface="Arial"/>
              </a:rPr>
              <a:t>في قوله تعالى : "مَا وَدَّعَكَ رَبُّكَ وَمَا قَلَى" لماذا ذكر المفعول به مع الفعل "وَدَّع" وحذف المفعول به مع الفعل "قَلَى" ؟ أصل العبارة أن يقول : ما ودَّعَك ربك وما قَلاك ، معظم الدارسين على أن الحذف هنا جاء لأمر شكلي هو تناسب فواصل الآيات ؛ سَجَى .. قَلَى .. ، والمرجح أن الأمر يتعلق بالتجربة الشعورية وليس بالتعبير الجمالي فحسب ، نشرح ذلك فنقول : في ضوء لمسة الحنان لإطار النص النفسي  لا يمكن  أن تُقطع الصلة بين محمد صلى الله عليه وسلم ورب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2"/>
          <p:cNvSpPr/>
          <p:nvPr/>
        </p:nvSpPr>
        <p:spPr>
          <a:xfrm>
            <a:off x="357120" y="1785960"/>
            <a:ext cx="835812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و قال : لَقَلاك ؛ فمعنى ذلك أن ثمة صلة مقطوعة بين الكاف والفعل وأن التواجه موجود بين محمد صلى الله عليه وسلم  وربه ، بحذف الكاف أي بحذف المفعول به انتفى الانقطاع وبقيت الصلة دائمة بين محمد عليه الصلاة والسلام والإله . وهذه الصورة الشعورية إنما هي عكس الواقع النفسي الذي كان يحياه الرسول الله عليه وسلم ونفي لإمكان التباعد بين الرب والعبد ، بل تحقيق للصلة </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ستطيل 1"/>
          <p:cNvSpPr/>
          <p:nvPr/>
        </p:nvSpPr>
        <p:spPr>
          <a:xfrm>
            <a:off x="571680" y="285840"/>
            <a:ext cx="800100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بكلمات أخرى : إن اختلاف التركيب يتبعه اختلاف في الدلالة ، وسنأخذ مثالين على ذلك </a:t>
            </a:r>
            <a:r>
              <a:rPr b="1" lang="en-US" sz="18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79" name="مستطيل 2"/>
          <p:cNvSpPr/>
          <p:nvPr/>
        </p:nvSpPr>
        <p:spPr>
          <a:xfrm>
            <a:off x="357120" y="1785960"/>
            <a:ext cx="83581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دائمة بينهما ، فإذا ما أضفنا إلى ذلك الناحية الشكلية</a:t>
            </a:r>
            <a:r>
              <a:rPr b="1" lang="en-US" sz="3200" spc="-1" strike="noStrike">
                <a:solidFill>
                  <a:srgbClr val="000000"/>
                </a:solidFill>
                <a:latin typeface="Arial"/>
              </a:rPr>
              <a:t> .. </a:t>
            </a:r>
            <a:r>
              <a:rPr b="1" lang="ar-SA" sz="3200" spc="-1" strike="noStrike">
                <a:solidFill>
                  <a:srgbClr val="000000"/>
                </a:solidFill>
                <a:latin typeface="Arial"/>
              </a:rPr>
              <a:t>الإيقاعية .. الجمالية في تناسب رؤوس الآي أدركنا مبلغ الإعجاز في هذا الذكر والحذف معا ؛ الذكر في : ودَّعك ، والحذف في : قَلَى ، وسيتضح الأمر أكثر حين نشرح معاني المفردات بعدها</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1"/>
          <p:cNvSpPr/>
          <p:nvPr/>
        </p:nvSpPr>
        <p:spPr>
          <a:xfrm>
            <a:off x="428760" y="785880"/>
            <a:ext cx="8429400" cy="740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ar-SA" sz="3200" spc="-1" strike="noStrike">
                <a:solidFill>
                  <a:srgbClr val="ff0000"/>
                </a:solidFill>
                <a:latin typeface="Arial"/>
              </a:rPr>
              <a:t>المثال الثاني : </a:t>
            </a:r>
            <a:r>
              <a:rPr b="1" lang="ar-SA" sz="3200" spc="-1" strike="noStrike">
                <a:solidFill>
                  <a:srgbClr val="000000"/>
                </a:solidFill>
                <a:latin typeface="Arial"/>
              </a:rPr>
              <a:t>آخر السورة "وَأَمَّا بِنِعْمَةِ رَبِّكَ فَحَدِّثْ" لماذا لم يقل : وأما بنعمة ربك فاجهر أو فاصدع ؟ الإجابة مرتبطة بدلالة النعمة التي نريد أن نثبتها ، وبدلالة البِنْيَة الفنية للنص ، النعمة هنا هي الإسلام ، والأمر هنا هو النشر والانتشار والذيوع أو الأمر بنشر هذا الدين وإذاعته ، والتحول الذي طرأ على المفردة تحول جوهري لأن الإسلام هو نهاية الديانات وخاتمتها ، </a:t>
            </a:r>
            <a:r>
              <a:rPr b="1" lang="ar-SA" sz="3200" spc="-1" strike="noStrike">
                <a:solidFill>
                  <a:srgbClr val="ff0000"/>
                </a:solidFill>
                <a:latin typeface="Arial"/>
              </a:rPr>
              <a:t>وبهذه الصورة التحليلية نثبت أمرين أيضا</a:t>
            </a:r>
            <a:r>
              <a:rPr b="1" lang="en-US" sz="3200" spc="-1" strike="noStrike">
                <a:solidFill>
                  <a:srgbClr val="ff0000"/>
                </a:solidFill>
                <a:latin typeface="Arial"/>
              </a:rPr>
              <a:t> .. </a:t>
            </a:r>
            <a:r>
              <a:rPr b="1" lang="ar-SA" sz="3200" spc="-1" strike="noStrike">
                <a:solidFill>
                  <a:srgbClr val="ff0000"/>
                </a:solidFill>
                <a:latin typeface="Arial"/>
              </a:rPr>
              <a:t>أولهما شعوري ، والآخر فني </a:t>
            </a:r>
            <a:r>
              <a:rPr b="1" lang="ar-SA" sz="3200" spc="-1" strike="noStrike">
                <a:solidFill>
                  <a:srgbClr val="000000"/>
                </a:solidFill>
                <a:latin typeface="Arial"/>
              </a:rPr>
              <a:t>؛ </a:t>
            </a:r>
            <a:r>
              <a:rPr b="1" lang="ar-SA" sz="3200" spc="-1" strike="noStrike">
                <a:solidFill>
                  <a:srgbClr val="ff0000"/>
                </a:solidFill>
                <a:latin typeface="Arial"/>
              </a:rPr>
              <a:t>الشعوري</a:t>
            </a:r>
            <a:r>
              <a:rPr b="1" lang="ar-SA" sz="3200" spc="-1" strike="noStrike">
                <a:solidFill>
                  <a:srgbClr val="000000"/>
                </a:solidFill>
                <a:latin typeface="Arial"/>
              </a:rPr>
              <a:t> هو الإسلام بتمامه وكماله وأن النعمة التي قدمها الله للبشرية ، وبأن هذه النعمة هي آخر الديانات فعلينا أن نلتزم بها وأن ننشر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ستطيل 1"/>
          <p:cNvSpPr/>
          <p:nvPr/>
        </p:nvSpPr>
        <p:spPr>
          <a:xfrm>
            <a:off x="3704400" y="285840"/>
            <a:ext cx="5990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رابعا</a:t>
            </a:r>
            <a:r>
              <a:rPr b="1" lang="en-US" sz="3200" spc="-1" strike="noStrike">
                <a:solidFill>
                  <a:srgbClr val="ff0000"/>
                </a:solidFill>
                <a:latin typeface="Arial"/>
              </a:rPr>
              <a:t> : </a:t>
            </a:r>
            <a:r>
              <a:rPr b="1" lang="ar-SA" sz="3200" spc="-1" strike="noStrike">
                <a:solidFill>
                  <a:srgbClr val="ff0000"/>
                </a:solidFill>
                <a:latin typeface="Arial"/>
              </a:rPr>
              <a:t>الألفاظ المناسبة للنص </a:t>
            </a:r>
            <a:endParaRPr b="0" lang="en-US" sz="3200" spc="-1" strike="noStrike">
              <a:solidFill>
                <a:srgbClr val="000000"/>
              </a:solidFill>
              <a:latin typeface="Arial"/>
            </a:endParaRPr>
          </a:p>
        </p:txBody>
      </p:sp>
      <p:sp>
        <p:nvSpPr>
          <p:cNvPr id="82" name="مستطيل 2"/>
          <p:cNvSpPr/>
          <p:nvPr/>
        </p:nvSpPr>
        <p:spPr>
          <a:xfrm>
            <a:off x="357120" y="1071720"/>
            <a:ext cx="842976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النص القرآني لا يستعمل المترادفات البتة ، بل يستعمل المفردة المناسبة في المكان المناسب ، وسنحاول أن نتعرف من خلال وقفة قصيرة عند بعض هذه الألفاظ بربطها أولا بالإطار للنص ، وبربطها ثانيا بتركيبات النص ، ولنأخذ  مثالا</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1"/>
          <p:cNvSpPr/>
          <p:nvPr/>
        </p:nvSpPr>
        <p:spPr>
          <a:xfrm>
            <a:off x="357120" y="474840"/>
            <a:ext cx="8286840" cy="69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a:t>
            </a:r>
            <a:r>
              <a:rPr b="1" lang="ar-SA" sz="3200" spc="-1" strike="noStrike">
                <a:solidFill>
                  <a:srgbClr val="000000"/>
                </a:solidFill>
                <a:latin typeface="Arial"/>
              </a:rPr>
              <a:t>في بداية السورة</a:t>
            </a:r>
            <a:r>
              <a:rPr b="1" lang="en-US" sz="3200" spc="-1" strike="noStrike">
                <a:solidFill>
                  <a:srgbClr val="000000"/>
                </a:solidFill>
                <a:latin typeface="Arial"/>
              </a:rPr>
              <a:t> "</a:t>
            </a:r>
            <a:r>
              <a:rPr b="1" lang="ar-SA" sz="3200" spc="-1" strike="noStrike">
                <a:solidFill>
                  <a:srgbClr val="000000"/>
                </a:solidFill>
                <a:latin typeface="Arial"/>
              </a:rPr>
              <a:t>وَالضُّحَى ، وَاللَّيْلِ إِذَا سَجَى" لم يختر النص آنًا آخر من آنات النهار سوى الضحى ؛ لأنه ملائم للإطار الذي حددناه ووجدناه يقوم على الوداعة والشفافية وأظن أن في لفظه الأنيق وفي وضاءته "الضُّحَى" وفي دلالته أكثر تناسقا مع إطار النص من الظهيرة مثلا أو من الفجر ، وكذلك لم يقل النص : والليل ، ويصمت ، بل اختار من الليل سُجوَهُ أي هدوءَه وهذا الهدوء قريب هو الآخر من إطار النص</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متفق معه مندمج فيه ومتناغم</a:t>
            </a:r>
            <a:r>
              <a:rPr b="1" lang="en-US" sz="3200" spc="-1" strike="noStrike">
                <a:solidFill>
                  <a:srgbClr val="000000"/>
                </a:solidFill>
                <a:latin typeface="Arial"/>
              </a:rPr>
              <a:t> .</a:t>
            </a:r>
            <a:br>
              <a:rPr sz="3200"/>
            </a:br>
            <a:r>
              <a:rPr b="1" lang="en-US" sz="3200" spc="-1" strike="noStrike">
                <a:solidFill>
                  <a:srgbClr val="000000"/>
                </a:solidFill>
                <a:latin typeface="Arial"/>
              </a:rPr>
              <a:t>  </a:t>
            </a:r>
            <a:br>
              <a:rPr sz="3200"/>
            </a:b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ستطيل 1"/>
          <p:cNvSpPr/>
          <p:nvPr/>
        </p:nvSpPr>
        <p:spPr>
          <a:xfrm>
            <a:off x="357120" y="474840"/>
            <a:ext cx="8286840" cy="740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فإذا ما انتقلنا إلى نهاية السورة لوجدنا أن النص قد استخدم مفردة "فَحَدِّثْ</a:t>
            </a:r>
            <a:r>
              <a:rPr b="1" lang="en-US" sz="3200" spc="-1" strike="noStrike">
                <a:solidFill>
                  <a:srgbClr val="000000"/>
                </a:solidFill>
                <a:latin typeface="Arial"/>
              </a:rPr>
              <a:t>" </a:t>
            </a:r>
            <a:r>
              <a:rPr b="1" lang="ar-SA" sz="3200" spc="-1" strike="noStrike">
                <a:solidFill>
                  <a:srgbClr val="000000"/>
                </a:solidFill>
                <a:latin typeface="Arial"/>
              </a:rPr>
              <a:t>وهذه المفردة ملائمة لدلالة النعمة أولا وملائمة لسياق النص ثانيا ، إن الانزياح الذي تم في هذه المفردة من كلمة أخرى مثل : فاجهر يبين المغايرة في طبيعة ختام النص وأنها أفضل ما تكون ، سنفسر النعمة بالإسلام ، والحديث عنه بمعنى نشره وذيوعه أقرب إلى الدلالة من كلمة أخرى من مثل : فاجهر ، الانتشار والذيوع هما أمران طولِبَ بهما النبي صلى الله عليه وسلم طوال النص</a:t>
            </a:r>
            <a:r>
              <a:rPr b="1" lang="en-US" sz="3200" spc="-1" strike="noStrike">
                <a:solidFill>
                  <a:srgbClr val="000000"/>
                </a:solidFill>
                <a:latin typeface="Arial"/>
              </a:rPr>
              <a:t> .</a:t>
            </a:r>
            <a:br>
              <a:rPr sz="3200"/>
            </a:br>
            <a:r>
              <a:rPr b="1" lang="ar-SA" sz="3200" spc="-1" strike="noStrike">
                <a:solidFill>
                  <a:srgbClr val="000000"/>
                </a:solidFill>
                <a:latin typeface="Arial"/>
              </a:rPr>
              <a:t>ومن هنا ونقول أن المفردات القرآنية هي أفضل ما تكون في إمكانياتها المناسبة ؛ لأنها تعبر عن دلالاتها وعن سياق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مستطيل 1"/>
          <p:cNvSpPr/>
          <p:nvPr/>
        </p:nvSpPr>
        <p:spPr>
          <a:xfrm>
            <a:off x="5137200" y="285840"/>
            <a:ext cx="4127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خامسا : سياق النص </a:t>
            </a:r>
            <a:endParaRPr b="0" lang="en-US" sz="3200" spc="-1" strike="noStrike">
              <a:solidFill>
                <a:srgbClr val="000000"/>
              </a:solidFill>
              <a:latin typeface="Arial"/>
            </a:endParaRPr>
          </a:p>
        </p:txBody>
      </p:sp>
      <p:sp>
        <p:nvSpPr>
          <p:cNvPr id="86" name="Rectangle 1"/>
          <p:cNvSpPr/>
          <p:nvPr/>
        </p:nvSpPr>
        <p:spPr>
          <a:xfrm>
            <a:off x="571680" y="217080"/>
            <a:ext cx="7929360" cy="545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ولو حاولنا الآن أن نجمع كل الجزئيات التي تحدثنا عنها " المفردة والصورة والحذف والإطار " لتبين لنا سياق يذكر فيه الله عز وجل فيما مضى ويعرضه على ما هو آت .. يذكره عندما كان يتيما فآواه الله ، وعندما كان عائلا فأغناه الله ، وإن عليه ألا يقهر اليتيم وألا ينهر السائل ؛ وهذا الحض ليس للرسول فحسب ، وإنما هو للمسلم في كل زما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وفي كل مكان</a:t>
            </a:r>
            <a:r>
              <a:rPr b="1" lang="en-US" sz="3200" spc="-1" strike="noStrike">
                <a:solidFill>
                  <a:srgbClr val="000000"/>
                </a:solidFill>
                <a:latin typeface="Calibri"/>
                <a:ea typeface="Times New Roman"/>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ستطيل 1"/>
          <p:cNvSpPr/>
          <p:nvPr/>
        </p:nvSpPr>
        <p:spPr>
          <a:xfrm>
            <a:off x="500040" y="500040"/>
            <a:ext cx="8143920" cy="4480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وإذا ما كانت البلاغة كما رأيناها وحددناها هي مراعاة المقام فإن النص القرآني يحقق شروط هذه البلاغة في أعلى مستوياتها ، ولم لا نقول إن شروط البلاغة التي وصفها البلاغيون العرب كانت للنص الإنساني وأن شروط الإعجاز كانت فقط للنص القرآني وشتان شتان ما بين البشر وخالق البشر ، ما بين بلاغة البشر وإعجاز الخال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حتويات المقر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آيات كريم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أحاديث شريف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نصوص شعرية.</a:t>
            </a: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نصوص نثرية.</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كتب المستحسن اقتناؤها (الأصول القدي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شروح المعلقات( الزوزني- التبريز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واوين الشعراء.</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ختارات الشعرية( الأصمعيات- الحماس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تب الأدب( البيان والتبيين- الكامل- أدب الكاتب- الأم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دراسات الحديث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وت</a:t>
            </a:r>
            <a:r>
              <a:rPr b="1" lang="ar-SA" sz="3200" spc="-1" strike="noStrike">
                <a:solidFill>
                  <a:srgbClr val="ff3300"/>
                </a:solidFill>
                <a:latin typeface="Arial"/>
              </a:rPr>
              <a:t> </a:t>
            </a:r>
            <a:r>
              <a:rPr b="1" lang="ar-SA" sz="3200" spc="-1" strike="noStrike">
                <a:solidFill>
                  <a:srgbClr val="000000"/>
                </a:solidFill>
                <a:latin typeface="Arial"/>
              </a:rPr>
              <a:t>الشاعر القديم : مصطفى ناص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راءة ثانية لشعرنا القديم : مصطفى ناص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ليل نصوص من الأدب العربي الحديث : إيليا حاو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عرفة النص : يمنى العي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الهدف من المادة</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درب الطالبة على قراءة النصوص قراء صحيحة , وأن تحسن إلقاءها.</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مكن من توظيف علوم اللغة العربية في تبين مواطن الجمال في النص.</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ن تتمكن الطالبة من تذوق النصوص الأدبية , ثم الكشف عن مواطن الجمال في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حليل بعض آي القرآن الكريم:</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صورة في القرآن الكريم</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إن التصوير هو قاعدة التعبير في القرآن الكريم في جميع الأغراض فيما عدا غرض التشريع.</a:t>
            </a:r>
            <a:endParaRPr b="0" lang="en-US" sz="4400" spc="-1" strike="noStrike">
              <a:solidFill>
                <a:srgbClr val="000000"/>
              </a:solidFill>
              <a:latin typeface="Arial"/>
            </a:endParaRPr>
          </a:p>
        </p:txBody>
      </p:sp>
      <p:pic>
        <p:nvPicPr>
          <p:cNvPr id="59" name="صورة 2" descr="http://t1.gstatic.com/images?q=tbn:ANd9GcRluxX_Fk_fOvsLFjRG3725WUbj7ZqVmNgRj52z3UAh7ioF8M6pnwp8U2A"/>
          <p:cNvPicPr/>
          <p:nvPr/>
        </p:nvPicPr>
        <p:blipFill>
          <a:blip r:embed="rId1"/>
          <a:stretch/>
        </p:blipFill>
        <p:spPr>
          <a:xfrm>
            <a:off x="1143000" y="1214280"/>
            <a:ext cx="1168560" cy="12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التصوير هو الأداة المفضلة في أسلوب القرآن الكريم , فهو يعبر بالصورة المحسة المتخيلة عن المعنى الذهني والحالة النفسية ؛ وعن الحادث المحسوس والمشهد المنظور وعن النموذج الإنساني والطبيعة البشرية.ثم يرتقي بالصورة التي يرسمها فيمنحها الحياة الشاخصة أو الحركة المتجددة , فإذا المعنى الذهني هيئ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أو حركة , وإذا الحالة النفسية لوحة أو مشهد , وإذا النموذج الإنساني شاخص حي, وإذا الطبيعة البشرية مجسمة مرئية. فأما الحوادث والمشاهد والقصص</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والمناظر , فيردها شاخصة حاضرة ؛ فيها الحياة وفيها الحركة,</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إذا أضاف إليها الحوار فقد استوت لها كل عناصر التخييل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29:40Z</dcterms:created>
  <dc:creator>pc</dc:creator>
  <dc:description/>
  <dc:language>en-US</dc:language>
  <cp:lastModifiedBy>ACER</cp:lastModifiedBy>
  <dcterms:modified xsi:type="dcterms:W3CDTF">2012-09-07T14:41:02Z</dcterms:modified>
  <cp:revision>38</cp:revision>
  <dc:subject/>
  <dc:title>نصوص أدبية</dc:title>
</cp:coreProperties>
</file>