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E603-74B9-4A89-85D2-64473BDC7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B194-398F-49BC-8A23-58A46848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26AC-FCC4-4257-BCBE-D7AF93DB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3DE8-26BA-42AA-BF2F-A5CB84A3B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67F8-85AD-4333-A5CE-E6907583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036B-BA16-472C-8143-60ADFBAD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5E10-A703-4A50-8E47-C026AB16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B0A4-D58D-446A-8572-A32B4BEA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06C3-B25F-4953-A651-244FEF1E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D758-21F6-4699-A126-D33239AB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D4F0-0C76-48A5-B71D-48A18501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F8ED-41CF-43B6-9968-F901426F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38F3-42BD-48FF-957B-77EA4DAD9B5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.sa/imgres?imgurl=http://www.3sl3.com/up/upfiles/cM263874.jpg&amp;imgrefurl=http://www.mzayan.com/vb/showthread.php%3Ft%3D18694&amp;usg=__BZcE6cAqqKFycdpG5qM0n-la5q4=&amp;h=480&amp;w=602&amp;sz=35&amp;hl=ar&amp;start=15&amp;zoom=1&amp;tbnid=y6GI7z7H2cilQM:&amp;tbnh=108&amp;tbnw=135&amp;ei=dIGUTrzIOIbrOaLs-NgH&amp;prev=/search%3Fq%3D%25D8%25AD%25D8%25B5%25D8%25A7%25D9%2586%2B%25D8%25B9%25D8%25B1%25D8%25A8%25D9%258A%2B%25D8%25A7%25D8%25B5%25D9%258A%25D9%2584%26hl%3Dar%26safe%3Dactive%26gbv%3D2%26tbm%3Disch&amp;itbs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.sa/imgres?imgurl=http://www.jamaa.net/cach_images/www.jamaa.cc_267f0dbd429ce622f238e4c8335c3d8c.cach&amp;imgrefurl=http://sci.jamaa.net/art23152.html%3F%26highlight%3Ddody06&amp;usg=__vSlWHxkyUy99BQwlJ5flNhz8qIQ=&amp;h=600&amp;w=800&amp;sz=110&amp;hl=ar&amp;start=11&amp;zoom=1&amp;tbnid=TlxO6NHRCSLZRM:&amp;tbnh=107&amp;tbnw=143&amp;ei=dIGUTrzIOIbrOaLs-NgH&amp;prev=/search%3Fq%3D%25D8%25AD%25D8%25B5%25D8%25A7%25D9%2586%2B%25D8%25B9%25D8%25B1%25D8%25A8%25D9%258A%2B%25D8%25A7%25D8%25B5%25D9%258A%25D9%2584%26hl%3Dar%26safe%3Dactive%26gbv%3D2%26tbm%3Disch&amp;itbs=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.sa/imgres?imgurl=http://www.noaim.net/news/photo/11163509538.jpg&amp;imgrefurl=http://forum.sedty.com/t264549.html&amp;usg=__LQRedOJg2OY9VVHGJShRrwwjTRE=&amp;h=564&amp;w=750&amp;sz=516&amp;hl=ar&amp;start=3&amp;zoom=1&amp;tbnid=0NstWxjnSZ6t-M:&amp;tbnh=106&amp;tbnw=141&amp;ei=mYeUTv2JE67T4QSurczkBw&amp;prev=/search%3Fq%3D%25D8%25A3%25D8%25B9%25D8%25B4%25D8%25A7%25D8%25B4%2B%25D8%25A7%25D9%2584%25D8%25B7%25D9%258A%25D9%2588%25D8%25B1%26hl%3Dar%26safe%3Dactive%26sa%3DG%26gbv%3D2%26tbm%3Disch&amp;itbs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.sa/imgres?imgurl=http://www.iraqup.com/uploads/20090518/6KiqW-30aU_354347049.jpg&amp;imgrefurl=http://www.arabfighters.com/showthread.php/929-%25D8%25AE%25D9%258A%25D9%2584-%25D8%25B9%25D8%25B1%25D8%25A8%25D9%2589-%25D8%25A7%25D8%25B5%25D9%258A%25D9%2584&amp;usg=__flXtjPgx1YUFyT6wvPK-ujAvZpE=&amp;h=1024&amp;w=683&amp;sz=297&amp;hl=ar&amp;start=9&amp;zoom=1&amp;tbnid=ZWHZoWyPIdbwmM:&amp;tbnh=150&amp;tbnw=100&amp;ei=dIGUTrzIOIbrOaLs-NgH&amp;prev=/search%3Fq%3D%25D8%25AD%25D8%25B5%25D8%25A7%25D9%2586%2B%25D8%25B9%25D8%25B1%25D8%25A8%25D9%258A%2B%25D8%25A7%25D8%25B5%25D9%258A%25D9%2584%26hl%3Dar%26safe%3Dactive%26gbv%3D2%26tbm%3Disch&amp;itbs=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.sa/imgres?imgurl=http://www.alfisal.com/vb/imgcache/26433.imgcache.jpg&amp;imgrefurl=http://www.alfisal.com/vb/showthread.php%3Ft%3D31447&amp;usg=__S4Mepzsk6M_Dck6FTzETq0Y1jKo=&amp;h=986&amp;w=1024&amp;sz=363&amp;hl=ar&amp;start=3&amp;zoom=1&amp;tbnid=MwjAMSifVSOPhM:&amp;tbnh=144&amp;tbnw=150&amp;ei=dIGUTrzIOIbrOaLs-NgH&amp;prev=/search%3Fq%3D%25D8%25AD%25D8%25B5%25D8%25A7%25D9%2586%2B%25D8%25B9%25D8%25B1%25D8%25A8%25D9%258A%2B%25D8%25A7%25D8%25B5%25D9%258A%25D9%2584%26hl%3Dar%26safe%3Dactive%26gbv%3D2%26tbm%3Disch&amp;itbs=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ANd9GcS8z1S8vDnjEMlfdWpwjjczTmJrJjXVPxDJQPoUIJ4p4zjnqXhyD_075m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رموز الفر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أهم حيوان بعد الناقة في الشعر الجاهلي هو الفرس وهو رمزلأشياء كثيرة منها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ANd9GcT2r1TauO-vm4i_qSuh8WhwK18nBTKyN_OsVtiKGDh06_Ulm4PjnxKzEa4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الصبا ودواعيه على نحو قول زهير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صحا القلب عن سلمى وأقصر باطله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                 وعُرِّيَ أفراسُ الصِّبا ورواحله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الفرس كالناقة , غدا يشارك في التعبير عن الشيب ودنو الأجل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 الفرس هو الشباب الذي يتهاوى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Nd9GcTyDfViDFT0FkgT8JRBxNyLF7TReZzoDpYGjxlKCVr2F_Fo_Pr5DKf9P0T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وقد أغتدي والطير في وكناته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                 بمنجرد قيد الأوابد هيك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ANd9GcSEh4l9nv-3C0xlbYBQJGhhpOuQaIp7zHKNz9703iit9byv_ZQMFTkYfr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819000"/>
            <a:ext cx="9144000" cy="7677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وقد أغتدي والطير في وكناته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                      بمنجرد قيد الأوابد هيك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ANd9GcS-H6ZE0gJV9DNFvpkRfRIqKuTdPu_4JTrDeFoztCOH4MJgBMGNpUScyMazZ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  مكر مفر مقبل مدبر معا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           كجلمود صخر حطه السيل من عل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ANd9GcRlBE46Ld1cgRpmBXLLoohSjW0upDPBMVFW7KbkEfA9aIqA3o12DcXws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فرس جماع قوى كثي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حاول امرؤ القيس أن يهرب من ليله على صهوة هذا الفرس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له أيطلا ظبي وساقا نعام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             وإرخاء سرحاء وتقريب تتف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7:50:35Z</dcterms:created>
  <dc:creator>pc</dc:creator>
  <dc:description/>
  <dc:language>en-US</dc:language>
  <cp:lastModifiedBy>user</cp:lastModifiedBy>
  <dcterms:modified xsi:type="dcterms:W3CDTF">2012-10-02T06:11:25Z</dcterms:modified>
  <cp:revision>13</cp:revision>
  <dc:subject/>
  <dc:title>رموز الفرس</dc:title>
</cp:coreProperties>
</file>