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C0A52-F0CD-429D-ABC9-E3F6AB3E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14497-7A72-4E03-9DAB-CFE418C7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069A3-D50D-46C2-8CB9-C50DC53E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EAD4B-4FE4-4884-BF95-9C6C032C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D429-F462-496A-B9FB-EF6DED7D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1A4C-9BFE-4E86-8AB3-99192C5D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4102-50D9-458F-BBF7-D5E12047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0D0A-C6D6-4596-8E48-A9FD42BE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E816-73DA-46C4-9BEF-C6E6FE65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850A-A0F0-43C5-8EDF-DC3D2991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934E-1B50-4AD2-97F3-F011AFD3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84E78-A198-4ACD-8CA6-898F4463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25CF-DCA3-4C0C-AA1F-2C86E0F0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4833-85E7-4BEF-AD78-A477F068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25DC-8CDF-4B6C-B204-4F6291F7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079E-C7B9-4B5B-8B71-55D0E579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CAA8-EE0E-4478-A10C-B9C21376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C6D59-C9E5-4399-B1B3-03248D3D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C4FB8-5A26-481F-A131-088C6061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39B83-2B14-4821-895D-C028012B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A44F1-CE10-4AFE-A21E-DD002F93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D29F8-940B-4CA1-951A-77602466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A180E-3AA7-4776-A484-EB5E5DB3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F8293-63E1-4F69-9BD1-BDF9C491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AD90-704D-44E4-B613-4C7935E30CF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5A91-FB98-46B6-A5BE-32858B3A5CC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img.alibaba.com/photo/11772390/Cremation_Coffin.jpg&amp;imgrefurl=http://arabic.alibaba.com/product-free/11772390/Cremation_Coffin.html&amp;usg=__Wm2Bs6NxFkSKRmRGcK_3Scnq6Is=&amp;h=328&amp;w=487&amp;sz=18&amp;hl=ar&amp;start=20&amp;zoom=1&amp;tbnid=2ZVo6sYn6mWcPM:&amp;tbnh=87&amp;tbnw=129&amp;ei=pxWTTtCCLIOgOqfYhcoN&amp;prev=/search%3Fq%3D%25D8%25AA%25D8%25A7%25D8%25A8%25D9%2588%25D8%25AA%2B%25D8%25A7%25D9%2584%25D9%2585%25D9%2588%25D8%25AA%25D9%2589%26hl%3Dar%26safe%3Dactive%26sa%3DG%26gbv%3D2%26tbm%3Disch&amp;itbs=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www.alqabas.com.kw/Temp/Pictures%255C2008%255C09%255C24%255C8fe0a730-e407-48c9-8416-1b7b88ab8184.jpg&amp;imgrefurl=http://www.qattal.com/forums/viewtopic.php%3Fp%3D16246%26sid%3D19ea03269173b66112b38249166126b0&amp;usg=__iLVbATV0vR1G2YbCidLOjtqprVY=&amp;h=362&amp;w=546&amp;sz=56&amp;hl=ar&amp;start=2&amp;zoom=1&amp;tbnid=aLWXn_IaAdkN6M:&amp;tbnh=88&amp;tbnw=133&amp;ei=Nh-TTuH6G-z34QS2urnPAQ&amp;prev=/search%3Fq%3D%25D8%25B5%25D9%2586%25D9%2585%2B%25D8%25A7%25D9%2584%25D9%2584%25D8%25A7%25D8%25AA%26hl%3Dar%26safe%3Dactive%26gbv%3D2%26tbm%3Disch&amp;itbs=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sabq.org/sabq/misc/get%3Fop%3DGET_NEWS_IMAGE%26name%3Dnews74285704.jpg%26width%3D256%26height%3D176&amp;imgrefurl=http://www.a7tajk.com/vb/a7t-t118979.html&amp;usg=__7qBvbXEjjddUsAfC2JGxF3lrWzE=&amp;h=176&amp;w=256&amp;sz=9&amp;hl=ar&amp;start=10&amp;zoom=1&amp;tbnid=Hp2N6ZP03pXfFM:&amp;tbnh=76&amp;tbnw=111&amp;ei=NiOTTvpoyOw54cadyw0&amp;prev=/search%3Fq%3D%25D9%2586%25D8%25A7%25D8%25B1%2B%25D9%2585%25D8%25B6%25D8%25B1%25D9%2585%25D8%25A9%26hl%3Dar%26safe%3Dactive%26sa%3DG%26gbv%3D2%26tbm%3Disch&amp;itbs=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www.spana-syria.org/Atlas/Camel/WebPage1/images/1/image010.jpg&amp;imgrefurl=http://www.spana-syria.org/Atlas/Camel/WebPage1/1.htm&amp;usg=__Xxlg6mkbIjIEEpU3NcdhHgqnbpU=&amp;h=226&amp;w=380&amp;sz=12&amp;hl=ar&amp;start=8&amp;zoom=1&amp;tbnid=0n5Y2XZJvddAOM:&amp;tbnh=73&amp;tbnw=123&amp;ei=2hCTTtypIKKk4gSyzo33Dw&amp;prev=/search%3Fq%3D%25D8%25B5%25D9%2588%25D8%25B1%25D8%25A9%2B%25D8%25A7%25D9%2584%25D9%2586%25D8%25A7%25D9%2582%25D8%25A9%26um%3D1%26hl%3Dar%26safe%3Dactive%26sa%3DN%26tbm%3Disch&amp;um=1&amp;itb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upload.wikimedia.org/wikipedia/commons/thumb/0/00/GD-EG-Alex-Mus&#233;eNat074.JPG/180px-GD-EG-Alex-Mus&#233;eNat074.JPG&amp;imgrefurl=http://gideda.ahlamontada.com/t2195-topic&amp;usg=__wnlWlmlyJDsxpkhp-48uamwgKIE=&amp;h=240&amp;w=180&amp;sz=12&amp;hl=ar&amp;start=18&amp;zoom=1&amp;tbnid=3bZqFow8l0-t0M:&amp;tbnh=110&amp;tbnw=83&amp;ei=1SaTTtWgNoOhOuORtM0N&amp;prev=/search%3Fq%3D%25D8%25AD%25D9%258A%25D9%2588%25D8%25A7%25D9%2586%2B%25D8%25A3%25D8%25B3%25D8%25B7%25D9%2588%25D8%25B1%25D9%258A%26hl%3Dar%26safe%3Dactive%26sa%3DG%26gbv%3D2%26tbm%3Disch&amp;itbs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www.aerotourisme.info/IMG/rubon6.jpg&amp;imgrefurl=http://malekat.com/vb/showthread.php%3Ft%3D14999&amp;usg=__YDZW-HQuHhdBazPx0IUf3XLxJIQ=&amp;h=468&amp;w=600&amp;sz=49&amp;hl=ar&amp;start=6&amp;zoom=1&amp;tbnid=HuIrK-5Io9x5XM:&amp;tbnh=105&amp;tbnw=135&amp;ei=HxeTTry1LMSCOo7o2d8F&amp;prev=/search%3Fq%3D%25D9%2582%25D8%25B5%25D8%25B1%2B%25D9%2585%25D9%2586%2B%25D8%25A7%25D9%2584%25D8%25AE%25D8%25A7%25D8%25B1%25D8%25AC%26hl%3Dar%26safe%3Dactive%26sa%3DG%26gbv%3D2%26tbm%3Disch&amp;itbs=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com.sa/imgres?imgurl=http://www.aerotourisme.info/IMG/rubon6.jpg&amp;imgrefurl=http://malekat.com/vb/showthread.php%3Ft%3D14999&amp;usg=__YDZW-HQuHhdBazPx0IUf3XLxJIQ=&amp;h=468&amp;w=600&amp;sz=49&amp;hl=ar&amp;start=6&amp;zoom=1&amp;tbnid=HuIrK-5Io9x5XM:&amp;tbnh=105&amp;tbnw=135&amp;ei=HxeTTry1LMSCOo7o2d8F&amp;prev=/search%3Fq%3D%25D9%2582%25D8%25B5%25D8%25B1%2B%25D9%2585%25D9%2586%2B%25D8%25A7%25D9%2584%25D8%25AE%25D8%25A7%25D8%25B1%25D8%25AC%26hl%3Dar%26safe%3Dactive%26sa%3DG%26gbv%3D2%26tbm%3Disch&amp;itbs=1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photos-c.ak.fbcdn.net/photos-ak-snc1/v452/92/75/1052958925/n1052958925_30214962_2802.jpg&amp;imgrefurl=http://www.startimes.com/f.aspx%3Ft%3D13482780&amp;usg=__wHEoId4icnnz8i6QIBgx_DYwHgo=&amp;h=339&amp;w=604&amp;sz=54&amp;hl=ar&amp;start=10&amp;zoom=1&amp;tbnid=outomz2NESTn2M:&amp;tbnh=76&amp;tbnw=135&amp;ei=_BmTTveRGKag4gSgpKSnAQ&amp;prev=/search%3Fq%3D%25D8%25A7%25D8%25B9%25D9%2585%25D8%25AF%25D8%25A9%2B%25D8%25B1%25D9%2588%25D9%2585%25D8%25A7%25D9%2586%25D9%258A%25D8%25A9%26hl%3Dar%26safe%3Dactive%26gbv%3D2%26tbm%3Disch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2.bp.blogspot.com/_6jAtv4tCsxI/TUmbNW7UMiI/AAAAAAAAAQ0/uFZpjGsiImI/s1600/shep.jpg&amp;imgrefurl=http://mrragabzayed.blogspot.com/2011/02/blog-post.html&amp;usg=__UXkHeiHE99x2ZJeBKz-2wIjZ0Og=&amp;h=326&amp;w=386&amp;sz=20&amp;hl=ar&amp;start=2&amp;zoom=1&amp;tbnid=LOTcqpvHOIxSBM:&amp;tbnh=104&amp;tbnw=123&amp;ei=xBqTTpSlG6TE4gTRp-yZDw&amp;prev=/search%3Fq%3D%25D8%25B3%25D9%2581%25D9%258A%25D9%2586%25D8%25A9%26hl%3Dar%26safe%3Dactive%26sa%3DG%26gbv%3D2%26tbm%3Disch&amp;itbs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www.alrahalat.com/uploads/2010/6160/51274822636.jpg&amp;imgrefurl=http://alrahalat.com/vb/showthread.php%3Ft%3D15012&amp;usg=__bJK6XklSDKeozYJB2petpl6EBdI=&amp;h=520&amp;w=766&amp;sz=142&amp;hl=ar&amp;start=20&amp;zoom=1&amp;tbnid=mfPtyXUU-8X76M:&amp;tbnh=96&amp;tbnw=142&amp;ei=OByTTqicOsKI4gSK-IWoAQ&amp;prev=/search%3Fq%3D%25D8%25AC%25D8%25B0%25D9%2588%25D8%25B9%2B%25D8%25A7%25D9%2584%25D8%25B7%25D9%2584%25D8%25AD%26hl%3Dar%26safe%3Dactive%26sa%3DG%26gbv%3D2%26tbm%3Disch&amp;itbs=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forums.graaam.com/up/uploaded8/234909_01207670274.jpg&amp;imgrefurl=http://forums.graaam.com/110040.html&amp;usg=__08KZ0BHWnzTVf2Y0p-4gy65xvjQ=&amp;h=375&amp;w=500&amp;sz=40&amp;hl=ar&amp;start=5&amp;zoom=1&amp;tbnid=asSZWkcVVSTgrM:&amp;tbnh=98&amp;tbnw=130&amp;ei=SB2TTr-eOs3E4gSa0d2vAQ&amp;prev=/search%3Fq%3D%25D8%25B5%25D8%25AE%25D9%2588%25D8%25B1%26hl%3Dar%26safe%3Dactive%26sa%3DG%26gbv%3D2%26tbm%3Disch&amp;itbs=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img.alibaba.com/photo/11772390/Cremation_Coffin.jpg&amp;imgrefurl=http://arabic.alibaba.com/product-free/11772390/Cremation_Coffin.html&amp;usg=__Wm2Bs6NxFkSKRmRGcK_3Scnq6Is=&amp;h=328&amp;w=487&amp;sz=18&amp;hl=ar&amp;start=20&amp;zoom=1&amp;tbnid=2ZVo6sYn6mWcPM:&amp;tbnh=87&amp;tbnw=129&amp;ei=pxWTTtCCLIOgOqfYhcoN&amp;prev=/search%3Fq%3D%25D8%25AA%25D8%25A7%25D8%25A8%25D9%2588%25D8%25AA%2B%25D8%25A7%25D9%2584%25D9%2585%25D9%2588%25D8%25AA%25D9%2589%26hl%3Dar%26safe%3Dactive%26sa%3DG%26gbv%3D2%26tbm%3Disch&amp;itbs=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رمز الناقة في الشعر الجاه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ناقة تتردد في كل مكان في الشعر الجاهلي ؛ فهي رمز الحياة التي يعبث فيها الموت, كما أنها رمز القوة إنها رمز القداسة  , ولو لم تحمل القداسة بكل معانيها لما وقف الشاعر طرفة بن العبد أمامها وقوفاً مسهباً في معلقته الشهيرة وقوفاً متأنياً عند كل عضو فيها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ANd9GcT2oyi-nZsA7exW5lM6HmVsNZE7dFS_TJ-ekoE7rnZzJu8gQ9F0fF5FF8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إنها ناقة تشبه ألواح تابوت الموتى , إنها تحمل صاحبها كما يستوعب التابوت الميت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ANd9GcRTKBHFwiRAldtUEQ2Sl7S-212fLsGPB_YVpFqe3ysHM7mocXVc0JBox0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400" spc="-1" strike="noStrike">
                <a:solidFill>
                  <a:srgbClr val="9999cc"/>
                </a:solidFill>
                <a:latin typeface="Arial"/>
              </a:rPr>
              <a:t>إنها الصنم الذي يتأمله الشاعر الجاهلي ويتعبد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ناقة رمز الإنسان الفاني ورمز الدهر الباقي معا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 الناقة رمز الدهر الذي يحيي ويميت , ولولا ذلك لما استطعنا أن نفهم كثيراً عن امرئ القيس إذ يقول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-2268360" y="-333360"/>
            <a:ext cx="11412360" cy="7191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  وليل كموج البحر أرخى سدول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                    علي بأنواع الهموم ليبت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3968---77226183"/>
          <p:cNvPicPr/>
          <p:nvPr/>
        </p:nvPicPr>
        <p:blipFill>
          <a:blip r:embed="rId1"/>
          <a:stretch/>
        </p:blipFill>
        <p:spPr>
          <a:xfrm>
            <a:off x="0" y="2928960"/>
            <a:ext cx="9144000" cy="39290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فقلت له لما تمطى بصلبه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                       وأردف أعجازاً وناء بكل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        الليل هنا يقرن بالبعير, الليل الطويل فاتربطئ كالبعير الجاثم الذي لايري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وعندما أراد الشعراء في العصر الجاهلي أن يحدثونا عن قوة الموت لجأوا إلى الناقة على نحو ما نجده في كلام زهير في حديثه عن الحرب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ANd9GcSIPBWnc29uciYvzK6_bL4CN9BDrjOEwvEC4fbC33dq72YmeBwlCDlRah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53928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9999cc"/>
                </a:solidFill>
                <a:latin typeface="Arial"/>
              </a:rPr>
              <a:t>متى تبعثوها تبعثوها ذميم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999cc"/>
                </a:solidFill>
                <a:latin typeface="Arial"/>
              </a:rPr>
              <a:t>                   وتضر إذا ضريتموها فتضر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فتعرككم عرك الرحى بثفالها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وتلقح كشافا ثم تنتج فتتئ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3071520"/>
            <a:ext cx="8229600" cy="27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فتنتج لكم غلمان أشأم كل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                   كأحمر عاد ثم ترضع فتفط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ANd9GcTSWP99flc3M5OlXF67E9SOPMwklzYV5zOi_pAPNHbDiirn-l8ddLsVEh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الشاعر مشغوف بالتأمل في أجزاء الناقة لأن كل عضو فيها ينبض بأهمية الحي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ANd9GcQczDXWxiAp_CdWIwNsWtxTloTsRqIXGgz3J_9Wr2Am2c3PCmTg-Ndeq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أصبحت الناقة حيواناً أسطورياً يلجأ إليه الشعراء في التعبير عن قوى الشر الغامضة المسلطة على الإنسان أو قوى الموت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ANd9GcQ_d7fhQ6H1jjcnUY4HuoQylTKoUO38FYf9uTjyGu-UAI4LCL3ODJnWuHQ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وعلى هذا النحو أيضاً وجدنا فكرة الرعي تعبر عن هذا الموت كمثل قول زهير في المعلق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رعوا مارعوا من ظمئهم ثم أوردو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                   غماراً تفرى بالسلاح وبال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فقضوا منايا بينهم ثم أصدرو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                   إلى كلأ مستوبل متوخ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ANd9GcQ70EWry4_Xu_RHwO2sXQeS3o9OjI_oohZaAHUqc8GBPfx3U_-viKHFNxP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ANd9GcQ70EWry4_Xu_RHwO2sXQeS3o9OjI_oohZaAHUqc8GBPfx3U_-viKHFNxP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هذه الناقة التي تُشبّه بالقصو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ANd9GcQCJ_6q0JSAhrxEadgVRBpRkNOzPehh8Qs8AEyekEfNTbB3sWfSObsgymp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والأعمد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ANd9GcStlw-VpufEYJWAs84DQPHKit3K_8u4nDz3N8u_lW0z50MQep0U_6GjjS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والسف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-828720" y="125280"/>
            <a:ext cx="11953800" cy="6732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والقناط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ANd9GcTIhhumesCXsQnQFJAKPKcE_GadAhJbt8fm_JQrwDFiq56VvYSUZnJVxhO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وجذوع الطل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ANd9GcTdtZwA4JmKUive0iUG76IwC0jWjowqXcoy945wqBHJc-X179z4mlQ46WE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والصخر الغلي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ANd9GcT2oyi-nZsA7exW5lM6HmVsNZE7dFS_TJ-ekoE7rnZzJu8gQ9F0fF5FF8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وتابوت الموتى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يقول طرف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أمون كألواح الأران نسأته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                    على لاحب كأنه ظهر برج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5:24:18Z</dcterms:created>
  <dc:creator>pc</dc:creator>
  <dc:description/>
  <dc:language>en-US</dc:language>
  <cp:lastModifiedBy>ACER</cp:lastModifiedBy>
  <dcterms:modified xsi:type="dcterms:W3CDTF">2012-10-02T18:59:07Z</dcterms:modified>
  <cp:revision>40</cp:revision>
  <dc:subject/>
  <dc:title>الشريحة 1</dc:title>
</cp:coreProperties>
</file>