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8374-3A1D-456E-B490-2328998D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35EE-B6E1-47DD-90EE-0E0B4EFE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4439-084A-4609-9FD1-0422ACDC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9335-CB2F-4E7E-97D9-1DF2C35A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C923-05F0-4FA9-A9B4-1C84CF6C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FF65-775C-490E-B3F3-825EEEA4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7246-1A34-4612-AE82-F18CA779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D598-DD7D-40C2-8BC4-55D09FFD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7ACC-775E-4995-8191-9E4B898F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0DD6-9E2B-4262-BD69-F1C6668C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ED57-3579-4ED9-88F8-0A49F8BB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551D-57E8-4B24-83B3-540DEEDF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71CA-D430-4DAF-A3BE-9316173A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4C4C-1C5A-4FB1-84E1-226D45EA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0372-08C3-4CD9-B866-E2C2899E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DB4C-0645-47B3-9F30-4E5E864A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46A7-5E53-456F-90D3-E05C220D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077F-B809-42DF-9962-BABD6FF6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261F-3B0A-4792-94AC-FC3604DA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B687-7074-4103-955E-23EF6E11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8038-6A54-4BE5-A309-7C14F543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896E-EB1F-4DD5-B273-2BC2BCA4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984-8BEF-46F4-ABA3-B368292B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3C59-1E0A-4AFC-BF70-F54F13C2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DCF0-0A42-4959-967C-C02A653AF30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9BE3-A01E-474B-AFAA-15E15F59939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-152280" y="0"/>
            <a:ext cx="769608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بسم الله الرحمن الرحيم 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3520" y="1038240"/>
            <a:ext cx="71434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ndalus"/>
              </a:rPr>
              <a:t>مدرسة ذكور اسكندر الثانوية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5203800"/>
            <a:ext cx="450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signed by : </a:t>
            </a:r>
            <a:endParaRPr b="0" lang="en-US" sz="96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79640" y="5707080"/>
            <a:ext cx="57913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Khalil Abu Rizik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2280" y="1752480"/>
            <a:ext cx="7848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DilleniaUPC"/>
              </a:rPr>
              <a:t>Iskandar Secondary School for Boys.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DilleniaUPC"/>
              <a:ea typeface="DilleniaUPC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6019920"/>
            <a:ext cx="2362320" cy="609480"/>
          </a:xfrm>
          <a:prstGeom prst="cloudCallout">
            <a:avLst>
              <a:gd name="adj1" fmla="val -46574"/>
              <a:gd name="adj2" fmla="val 7994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ress F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o 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5280" y="4078440"/>
            <a:ext cx="8305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parative and  Superlative </a:t>
            </a:r>
            <a:r>
              <a:rPr b="0" lang="hi-IN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قارنة والتفضيل</a:t>
            </a: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00000" y="2708280"/>
            <a:ext cx="770436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glish for Palestine</a:t>
            </a:r>
            <a:endParaRPr b="0" lang="en-US" sz="44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th, 11th and 12th Grades</a:t>
            </a:r>
            <a:endParaRPr b="0" lang="en-US" sz="44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animClr clrSpc="rgb">
                                      <p:cBhvr>
                                        <p:cTn id="65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66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85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animClr clrSpc="rgb">
                                      <p:cBhvr>
                                        <p:cTn id="87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88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b7"/>
                </a:solidFill>
                <a:latin typeface="Arial Black"/>
              </a:rPr>
              <a:t>الصفات الشاذة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[ب] الصفات الشاذة ( لا تأخ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ولا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) 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0" y="6138720"/>
            <a:ext cx="2016000" cy="719280"/>
          </a:xfrm>
          <a:prstGeom prst="leftArrow">
            <a:avLst>
              <a:gd name="adj1" fmla="val 50000"/>
              <a:gd name="adj2" fmla="val 700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ب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59680" y="2309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4000" y="2205000"/>
          <a:ext cx="8820000" cy="4291200"/>
        </p:xfrm>
        <a:graphic>
          <a:graphicData uri="http://schemas.openxmlformats.org/drawingml/2006/table">
            <a:tbl>
              <a:tblPr/>
              <a:tblGrid>
                <a:gridCol w="2939760"/>
                <a:gridCol w="2940120"/>
                <a:gridCol w="2940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1666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جي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tter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than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فضل من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best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فضل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ad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سيء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or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wor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r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بعيد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rt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farth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ttle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قليل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lea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me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قليل/بعض( مع المعدود )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m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me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قليل/بعض ( مع غير المعدود )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lea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uch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كثير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m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ny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كثير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m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ut 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خارج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u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outset / outerm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داخل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inmost / innerm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p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على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pp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upperm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b7"/>
                </a:solidFill>
                <a:latin typeface="Arial Black"/>
              </a:rPr>
              <a:t>[ج] صفات ذات مقطعين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Two Syllable Adjectives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ar-SA" sz="3200" spc="-1" strike="noStrike">
                <a:solidFill>
                  <a:srgbClr val="ffffb7"/>
                </a:solidFill>
                <a:latin typeface="Arial Black"/>
              </a:rPr>
              <a:t> :</a:t>
            </a: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الصفة المنتهية بـ (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)  حيث تقلب (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) إلى (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) ونضيف (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0" y="6138720"/>
            <a:ext cx="2016000" cy="719280"/>
          </a:xfrm>
          <a:prstGeom prst="leftArrow">
            <a:avLst>
              <a:gd name="adj1" fmla="val 50000"/>
              <a:gd name="adj2" fmla="val 700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ب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959680" y="2309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2133720"/>
          <a:ext cx="9143640" cy="1641240"/>
        </p:xfrm>
        <a:graphic>
          <a:graphicData uri="http://schemas.openxmlformats.org/drawingml/2006/table">
            <a:tbl>
              <a:tblPr/>
              <a:tblGrid>
                <a:gridCol w="3047400"/>
                <a:gridCol w="3048840"/>
                <a:gridCol w="3047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ودود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riendly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كثر وداً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riendlier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كثر وداً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friendliest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مضحك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unny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كثر إضحاكاً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unnier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كثر إضحاكاً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funniest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0" y="388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93372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الصفات الأخرى حيث نحضر كلمة (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re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)عند المقارنة بين شيئين أو شخصين  و (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) عند المقارنة بين أكثر من شيئين أو شخصين  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95280" y="4941720"/>
          <a:ext cx="8748720" cy="760680"/>
        </p:xfrm>
        <a:graphic>
          <a:graphicData uri="http://schemas.openxmlformats.org/drawingml/2006/table">
            <a:tbl>
              <a:tblPr/>
              <a:tblGrid>
                <a:gridCol w="2916360"/>
                <a:gridCol w="2916000"/>
                <a:gridCol w="2916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حريص  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refu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كثر حرصا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re careful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كثر حرصاً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reful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the m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مهذب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lite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كثر تهذيباً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re polite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كثر تهذيباُ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most polit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500"/>
                            </p:stCondLst>
                            <p:childTnLst>
                              <p:par>
                                <p:cTn id="5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500"/>
                            </p:stCondLst>
                            <p:childTnLst>
                              <p:par>
                                <p:cTn id="5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صفات ذات ثلاث مقاطع أو أكثر ( نفس القاعدة رقم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) حيث نضيف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re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) عند المقارنة بين شيئين أو شخصين و(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t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)عند المقارنة بين أكثر من شيئين أو شخصين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e or More Syllable Adjectiv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كما في المثال التالي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0" y="6138720"/>
            <a:ext cx="2016000" cy="719280"/>
          </a:xfrm>
          <a:prstGeom prst="leftArrow">
            <a:avLst>
              <a:gd name="adj1" fmla="val 50000"/>
              <a:gd name="adj2" fmla="val 700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ب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959680" y="2309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88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2492280"/>
          <a:ext cx="9143640" cy="2376000"/>
        </p:xfrm>
        <a:graphic>
          <a:graphicData uri="http://schemas.openxmlformats.org/drawingml/2006/table">
            <a:tbl>
              <a:tblPr/>
              <a:tblGrid>
                <a:gridCol w="3047400"/>
                <a:gridCol w="3048480"/>
                <a:gridCol w="3047760"/>
              </a:tblGrid>
              <a:tr h="11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جميل            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autifu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كثر جمالاً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re beautifu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كثر جمالاً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most beautifu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ممتع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teresti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كثر إمتاعاً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re interesti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كثر إمتاعاً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most interes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000"/>
                            </p:stCondLst>
                            <p:childTnLst>
                              <p:par>
                                <p:cTn id="5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6000"/>
                            </p:stCondLst>
                            <p:childTnLst>
                              <p:par>
                                <p:cTn id="59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b7"/>
                </a:solidFill>
                <a:latin typeface="Arial Black"/>
              </a:rPr>
              <a:t>أمثلة توضيحية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تم المقارنة بين الصفات بوجود طرفين ( شيئين  أو شخصين ) بينهما كلمة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بعد صفة المقارنة كما يل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فضة أرخص من الذه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lver is cheaper than gol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200" spc="-1" strike="noStrike">
                <a:solidFill>
                  <a:srgbClr val="ffffff"/>
                </a:solidFill>
                <a:latin typeface="Arial"/>
              </a:rPr>
              <a:t>الذهب أغلى من الفضة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ld is more expensive than silve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042920" y="5805360"/>
            <a:ext cx="1225440" cy="648000"/>
          </a:xfrm>
          <a:prstGeom prst="leftArrow">
            <a:avLst>
              <a:gd name="adj1" fmla="val 50000"/>
              <a:gd name="adj2" fmla="val 4727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ب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3000"/>
                            </p:stCondLst>
                            <p:childTnLst>
                              <p:par>
                                <p:cTn id="6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0"/>
                            </p:stCondLst>
                            <p:childTnLst>
                              <p:par>
                                <p:cTn id="6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7000"/>
                            </p:stCondLst>
                            <p:childTnLst>
                              <p:par>
                                <p:cTn id="6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b7"/>
                </a:solidFill>
                <a:latin typeface="Arial Black"/>
              </a:rPr>
              <a:t>التفضيل بإستخدام صيغة التفضيل في الصفة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تم التفضيل بإستخدام صيغة التفضيل في الصفة حسب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(أ)  ذات المقطع الواحد كما يل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مكة أقدس مدينة في العال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kah is the holiest city in the wor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           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(ب) ذات المقطعين كما يل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حاتم أكرم شخص عرفته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tim is the most generous person I have know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1187280" y="5805360"/>
            <a:ext cx="1008360" cy="503280"/>
          </a:xfrm>
          <a:prstGeom prst="leftArrow">
            <a:avLst>
              <a:gd name="adj1" fmla="val 50000"/>
              <a:gd name="adj2" fmla="val 5008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ب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000"/>
                            </p:stCondLst>
                            <p:childTnLst>
                              <p:par>
                                <p:cTn id="6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000"/>
                            </p:stCondLst>
                            <p:childTnLst>
                              <p:par>
                                <p:cTn id="69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0"/>
                            </p:stCondLst>
                            <p:childTnLst>
                              <p:par>
                                <p:cTn id="7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6000"/>
                            </p:stCondLst>
                            <p:childTnLst>
                              <p:par>
                                <p:cTn id="7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100" spc="-1" strike="noStrike">
                <a:solidFill>
                  <a:srgbClr val="ffffb7"/>
                </a:solidFill>
                <a:latin typeface="Arial Black"/>
              </a:rPr>
              <a:t>تذَكر (</a:t>
            </a:r>
            <a:r>
              <a:rPr b="1" lang="en-US" sz="8100" spc="-1" strike="noStrike">
                <a:solidFill>
                  <a:srgbClr val="ffffb7"/>
                </a:solidFill>
                <a:latin typeface="Arial Black"/>
              </a:rPr>
              <a:t>1</a:t>
            </a:r>
            <a:r>
              <a:rPr b="1" lang="en-US" sz="8100" spc="-1" strike="noStrike">
                <a:solidFill>
                  <a:srgbClr val="ffffb7"/>
                </a:solidFill>
                <a:latin typeface="Arial Black"/>
              </a:rPr>
              <a:t>) </a:t>
            </a:r>
            <a:endParaRPr b="1" lang="en-US" sz="81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6868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ذكر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*أ* نستدل على المقارنة بين طرفين ( شيئين  أو شخصين ) بينهما كلم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بعد صفة المقارن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ذا لم تكن موجودة كلمة 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فإننا نميز جمل المقارنة عن التفضيل عن طريق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*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* إذا كان هناك مقارنة بين إسم و إسم مثال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a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atter th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Sami .(fat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 تنسى أن تضع كلمة 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بعد الضفة التي أضيفت عليها 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* إذا كان هناك مقارنة بين إسم وضمير مثال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ir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ronger th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friends . (stron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 تنسى أن تضع كلمة 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بعد الضفة التي أضيفت عليها 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* عند تشابه الإسمين ( الأول والإسم الذي بعد الصفة إذا كان هذا الإسم معرفا بـ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أو جاءت كلمتي 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, the 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بعد الصفة مكان الإسم تعتبر مقارنة مثال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jacket is cheaper than the one in the shop (chea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ذا بدأت الجملة بـ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تعتبر مقارنة مثال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’s easier for me to start with this exercise ( easy 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0" y="5445000"/>
            <a:ext cx="1476360" cy="692280"/>
          </a:xfrm>
          <a:prstGeom prst="leftArrow">
            <a:avLst>
              <a:gd name="adj1" fmla="val 50000"/>
              <a:gd name="adj2" fmla="val 5331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تذكر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2500"/>
                            </p:stCondLst>
                            <p:childTnLst>
                              <p:par>
                                <p:cTn id="7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3000"/>
                            </p:stCondLst>
                            <p:childTnLst>
                              <p:par>
                                <p:cTn id="7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3500"/>
                            </p:stCondLst>
                            <p:childTnLst>
                              <p:par>
                                <p:cTn id="7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000"/>
                            </p:stCondLst>
                            <p:childTnLst>
                              <p:par>
                                <p:cTn id="7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4500"/>
                            </p:stCondLst>
                            <p:childTnLst>
                              <p:par>
                                <p:cTn id="7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0"/>
                            </p:stCondLst>
                            <p:childTnLst>
                              <p:par>
                                <p:cTn id="7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500"/>
                            </p:stCondLst>
                            <p:childTnLst>
                              <p:par>
                                <p:cTn id="7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6000"/>
                            </p:stCondLst>
                            <p:childTnLst>
                              <p:par>
                                <p:cTn id="7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500"/>
                            </p:stCondLst>
                            <p:childTnLst>
                              <p:par>
                                <p:cTn id="7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7000"/>
                            </p:stCondLst>
                            <p:childTnLst>
                              <p:par>
                                <p:cTn id="7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7500"/>
                            </p:stCondLst>
                            <p:childTnLst>
                              <p:par>
                                <p:cTn id="7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8500"/>
                            </p:stCondLst>
                            <p:childTnLst>
                              <p:par>
                                <p:cTn id="7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100" spc="-1" strike="noStrike">
                <a:solidFill>
                  <a:srgbClr val="ffffb7"/>
                </a:solidFill>
                <a:latin typeface="Arial Black"/>
              </a:rPr>
              <a:t>تذَكر (</a:t>
            </a:r>
            <a:r>
              <a:rPr b="1" lang="en-US" sz="8100" spc="-1" strike="noStrike">
                <a:solidFill>
                  <a:srgbClr val="ffffb7"/>
                </a:solidFill>
                <a:latin typeface="Arial Black"/>
              </a:rPr>
              <a:t>2</a:t>
            </a:r>
            <a:r>
              <a:rPr b="1" lang="en-US" sz="8100" spc="-1" strike="noStrike">
                <a:solidFill>
                  <a:srgbClr val="ffffb7"/>
                </a:solidFill>
                <a:latin typeface="Arial Black"/>
              </a:rPr>
              <a:t>) </a:t>
            </a:r>
            <a:endParaRPr b="1" lang="en-US" sz="81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ستدل على أن الجملة تفضيل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) إذا سبق الإسم الذي يتبع الصفة حرف ج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, of the , of 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ثال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i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clevere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his friends. (clever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 تنسى أن تضع 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قبل الصفة التي أضيف عليها 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إذا وجدت أحد هذه الكلمات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known , I have heard , I have m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ثال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yla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most beautifu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irl I have known ( beautifu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عند تشابه الإسمين الأول والإسم الذي بعد الصفة إذا كان الإسم غير معرفاً بـ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يعتبر تفضيل  مثال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ha was the most polite girl we met ( polite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عندما يتبع الصفة 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-infinitiv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والتي تعني ( فعل مجرد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تكون تفضيل مثال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e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earlie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arrive at the stadium ( early 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250920" y="6165720"/>
            <a:ext cx="1081080" cy="692280"/>
          </a:xfrm>
          <a:prstGeom prst="leftArrow">
            <a:avLst>
              <a:gd name="adj1" fmla="val 50000"/>
              <a:gd name="adj2" fmla="val 3904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إختبر نفس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0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500"/>
                            </p:stCondLst>
                            <p:childTnLst>
                              <p:par>
                                <p:cTn id="7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00"/>
                            </p:stCondLst>
                            <p:childTnLst>
                              <p:par>
                                <p:cTn id="7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500"/>
                            </p:stCondLst>
                            <p:childTnLst>
                              <p:par>
                                <p:cTn id="7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4000"/>
                            </p:stCondLst>
                            <p:childTnLst>
                              <p:par>
                                <p:cTn id="8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4500"/>
                            </p:stCondLst>
                            <p:childTnLst>
                              <p:par>
                                <p:cTn id="8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0"/>
                            </p:stCondLst>
                            <p:childTnLst>
                              <p:par>
                                <p:cTn id="8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500"/>
                            </p:stCondLst>
                            <p:childTnLst>
                              <p:par>
                                <p:cTn id="8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6000"/>
                            </p:stCondLst>
                            <p:childTnLst>
                              <p:par>
                                <p:cTn id="8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6500"/>
                            </p:stCondLst>
                            <p:childTnLst>
                              <p:par>
                                <p:cTn id="8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7000"/>
                            </p:stCondLst>
                            <p:childTnLst>
                              <p:par>
                                <p:cTn id="8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7500"/>
                            </p:stCondLst>
                            <p:childTnLst>
                              <p:par>
                                <p:cTn id="8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835280" y="189000"/>
            <a:ext cx="446544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إختبر نفسك الآن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195640" y="6149880"/>
            <a:ext cx="44766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مع تمنياتنا لكم بالنجاح والتوفيق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40720" y="6093000"/>
            <a:ext cx="1008000" cy="76500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الإجابا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endshow"/>
          </p:cNvPr>
          <p:cNvSpPr/>
          <p:nvPr/>
        </p:nvSpPr>
        <p:spPr>
          <a:xfrm>
            <a:off x="468360" y="6093000"/>
            <a:ext cx="863640" cy="765000"/>
          </a:xfrm>
          <a:prstGeom prst="star5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إنه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 is ----------------- of all . ( tall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earth looks -------------------- the moon (beautiful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hotel is ------------------ hotel in town .(comfor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meer is ------------------------ at languages .(goo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ituation became ------------------ before ( ba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’s --------------story I ever read . ( interesting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pen is --------------- pen you ever used . (pretty 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ly in Palestine is --------------- June . (ho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were --------------- to arrive at the stadium . ( lat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pen is ------------------ the one you saw yesterday . (expensive 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ocket is much ------------------ a plane . (fa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8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500"/>
                            </p:stCondLst>
                            <p:childTnLst>
                              <p:par>
                                <p:cTn id="8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8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8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8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2500"/>
                            </p:stCondLst>
                            <p:childTnLst>
                              <p:par>
                                <p:cTn id="8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8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8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8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8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3500"/>
                            </p:stCondLst>
                            <p:childTnLst>
                              <p:par>
                                <p:cTn id="8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8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8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4500"/>
                            </p:stCondLst>
                            <p:childTnLst>
                              <p:par>
                                <p:cTn id="8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8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8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8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8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500"/>
                            </p:stCondLst>
                            <p:childTnLst>
                              <p:par>
                                <p:cTn id="8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8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8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8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8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6500"/>
                            </p:stCondLst>
                            <p:childTnLst>
                              <p:par>
                                <p:cTn id="8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8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8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8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8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7500"/>
                            </p:stCondLst>
                            <p:childTnLst>
                              <p:par>
                                <p:cTn id="9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8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8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8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8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8500"/>
                            </p:stCondLst>
                            <p:childTnLst>
                              <p:par>
                                <p:cTn id="9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8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8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8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8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9500"/>
                            </p:stCondLst>
                            <p:childTnLst>
                              <p:par>
                                <p:cTn id="9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8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8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8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8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8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800" fill="hold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800" fill="hold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800" fill="hold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1500"/>
                            </p:stCondLst>
                            <p:childTnLst>
                              <p:par>
                                <p:cTn id="9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4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95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835280" y="189000"/>
            <a:ext cx="446544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إختبر نفسك الآن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24000" y="5950080"/>
            <a:ext cx="447696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مع تمنياتنا لكم بالنجاح والتوفيق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40720" y="6093000"/>
            <a:ext cx="1008000" cy="76500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الإجابا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endshow"/>
          </p:cNvPr>
          <p:cNvSpPr/>
          <p:nvPr/>
        </p:nvSpPr>
        <p:spPr>
          <a:xfrm>
            <a:off x="468360" y="6093000"/>
            <a:ext cx="863640" cy="765000"/>
          </a:xfrm>
          <a:prstGeom prst="star5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إنه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893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ocket is muc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ster tha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lane . (fa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arth look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re beautiful th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moon (beautiful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ituation becam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orse th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fore ( ba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in Palestine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t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June . (ho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talle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ll . ( tall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er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bes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 languages .(goo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otel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most comfor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tel in town .(comfor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pen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re expensive th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one you saw yesterday . (expensiv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pen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prettie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en you ever used . (pretty 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’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most interest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ry I ever read . ( interesting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we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late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arrive at the stadium . ( late 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500"/>
                            </p:stCondLst>
                            <p:childTnLst>
                              <p:par>
                                <p:cTn id="9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500"/>
                            </p:stCondLst>
                            <p:childTnLst>
                              <p:par>
                                <p:cTn id="9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3500"/>
                            </p:stCondLst>
                            <p:childTnLst>
                              <p:par>
                                <p:cTn id="9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9500"/>
                            </p:stCondLst>
                            <p:childTnLst>
                              <p:par>
                                <p:cTn id="10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4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1979640" y="476280"/>
            <a:ext cx="4824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French Script MT"/>
              </a:rPr>
              <a:t>Good bye .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French Script MT"/>
              <a:ea typeface="French Script MT"/>
            </a:endParaRPr>
          </a:p>
        </p:txBody>
      </p:sp>
      <p:pic>
        <p:nvPicPr>
          <p:cNvPr id="185" name="Picture 3" descr="constr30"/>
          <p:cNvPicPr/>
          <p:nvPr/>
        </p:nvPicPr>
        <p:blipFill>
          <a:blip r:embed="rId1"/>
          <a:stretch/>
        </p:blipFill>
        <p:spPr>
          <a:xfrm>
            <a:off x="6564240" y="2316240"/>
            <a:ext cx="1970280" cy="1833480"/>
          </a:xfrm>
          <a:prstGeom prst="rect">
            <a:avLst/>
          </a:prstGeom>
          <a:ln w="0">
            <a:noFill/>
          </a:ln>
        </p:spPr>
      </p:pic>
      <p:sp>
        <p:nvSpPr>
          <p:cNvPr id="186" name="WordArt 4"/>
          <p:cNvSpPr txBox="1"/>
          <p:nvPr/>
        </p:nvSpPr>
        <p:spPr>
          <a:xfrm>
            <a:off x="468360" y="5445000"/>
            <a:ext cx="6477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French Script MT"/>
              </a:rPr>
              <a:t>With my best wish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French Script MT"/>
              <a:ea typeface="French Script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French Script MT"/>
              </a:rPr>
              <a:t>khalil Abu Rizik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French Script MT"/>
              <a:ea typeface="French Script MT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2492280"/>
            <a:ext cx="88930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ences:  English For Palestin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lish For all levels by Ahmad Mamdou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r more information, please contact me at:    aburizik.k@gmail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0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1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10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7500"/>
                            </p:stCondLst>
                            <p:childTnLst>
                              <p:par>
                                <p:cTn id="1079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10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mparative and Superlative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5400"/>
            </a:br>
            <a:r>
              <a:rPr b="1" lang="ar-SA" sz="5400" spc="-1" strike="noStrike">
                <a:solidFill>
                  <a:srgbClr val="ffffb7"/>
                </a:solidFill>
                <a:latin typeface="Arial Black"/>
              </a:rPr>
              <a:t>المقارنة والتفضيل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758600" y="3998520"/>
            <a:ext cx="622764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معناه ، تركيبته (شروطه) ، أمثلة عليه ، تذَكر ،  دلائله ، الصفات الشاذة ، أمثلة توضيحية ،  إختبر نفسك ، إجابات نموذجية 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6165720"/>
            <a:ext cx="1655640" cy="692280"/>
          </a:xfrm>
          <a:prstGeom prst="leftArrow">
            <a:avLst>
              <a:gd name="adj1" fmla="val 50000"/>
              <a:gd name="adj2" fmla="val 5978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 Black"/>
              </a:rPr>
              <a:t>التال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28 0.011 0.08657 0.028 0.1132 C 0.028 0.11453 0.055 0.15049 0.055 0.14916 C 0.07 0.16914 0.079 0.19711 0.079 0.2264 C 0.079 0.285 0.044 0.33162 0 0.33295 C -0.044 0.33162 -0.079 0.285 -0.079 0.2264 C -0.079 0.19711 -0.07 0.16914 -0.055 0.14916 C -0.055 0.15049 -0.028 0.11453 -0.028 0.1132 C -0.011 0.08657 -0.001 0.04528 0 0 Z">
                                      <p:cBhvr>
                                        <p:cTn id="94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0439 C 0.03644 0.00439 0.06744 0.04568 0.06744 0.09628 C 0.06744 0.12958 0.05444 0.15888 0.03544 0.17619 L 0.03444 0.17619 C 0.02744 0.18285 0.02344 0.1935 0.02344 0.20549 C 0.02344 0.21614 0.02744 0.22547 0.03244 0.23213 C 0.04044 0.24278 0.04544 0.25876 0.04544 0.27474 C 0.04544 0.30937 0.02444 0.33734 -0.00156 0.33734 C -0.02756 0.33734 -0.04856 0.30937 -0.04856 0.27474 C -0.04856 0.25876 -0.04356 0.24278 -0.03556 0.23213 C -0.03056 0.22547 -0.02756 0.21614 -0.02756 0.20549 C -0.02756 0.1935 -0.03156 0.18285 -0.03756 0.17619 L -0.03856 0.17619 C -0.05856 0.15888 -0.07156 0.12958 -0.07156 0.09628 C -0.07156 0.04568 -0.04056 0.00439 -0.00156 0.00439 Z">
                                      <p:cBhvr>
                                        <p:cTn id="97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معنى المقارنة والتفضيل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mparative and Superlative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مقارنة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ativ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) 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ي مقارنة بين طرفين ( شيئين أو شخصين ) بإستخدام الصفات القصيرة ذات المقطع الواحد أو المقطعين أو أكثر من ثلاث مقاطع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تفضيل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erlativ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)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و مقارنة بين أكثر من طرفين ( شيئين أو شخصين ) بإستخدام الصفات القصيرة ذات المقطع الواحد أو المقطعين أو أكثر من ثلاث مقاطع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324000" y="6165720"/>
            <a:ext cx="1584000" cy="692280"/>
          </a:xfrm>
          <a:prstGeom prst="leftArrow">
            <a:avLst>
              <a:gd name="adj1" fmla="val 50000"/>
              <a:gd name="adj2" fmla="val 5720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التال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04661 0.028 0.08257 0.062 0.08257 C 0.097 0.08257 0.125 0.04661 0.125 0 C 0.125 -0.04661 0.153 -0.08257 0.188 -0.08257 C 0.222 -0.08257 0.25 -0.04661 0.25 0 E">
                                      <p:cBhvr>
                                        <p:cTn id="10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تركيبة (شروط) صيغة المقارنة (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mparative</a:t>
            </a: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)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إتمام هذه الصيغة يوجد ثلاث شروط 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أول : وجود طرفين ( شيئين أو شخصين ) لتتم مقارنتهما ببعضهما البعض 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ثاني : إضافة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على الصفة ذات المقطع الواحد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ثالث : إضافة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على الصفة المكونة من مقطعين أو ثلاث مقاطع أو أكثر 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324000" y="6165720"/>
            <a:ext cx="1726920" cy="692280"/>
          </a:xfrm>
          <a:prstGeom prst="leftArrow">
            <a:avLst>
              <a:gd name="adj1" fmla="val 50000"/>
              <a:gd name="adj2" fmla="val 62363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التال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7500"/>
                            </p:stCondLst>
                            <p:childTnLst>
                              <p:par>
                                <p:cTn id="2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تركيبة (شروط) صيغة التفضيل</a:t>
            </a:r>
            <a:br>
              <a:rPr sz="4000"/>
            </a:b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(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uperlative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)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إتمام هذه الصيغة يوجد ثلاث شروط 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أول : وجود أكثر من  طرفين أو أكثر  شيئين أو أكثر  شخصين لتتم مقارنتهما ببعضهما البعض 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ثاني : إضافة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على الصفة ذات المقطع الواحد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ثالث : إضافة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على الصفة المكونة من مقطعين أو ثلاث مقاطع أو أكثر 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324000" y="6165720"/>
            <a:ext cx="1726920" cy="692280"/>
          </a:xfrm>
          <a:prstGeom prst="leftArrow">
            <a:avLst>
              <a:gd name="adj1" fmla="val 50000"/>
              <a:gd name="adj2" fmla="val 62363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التال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8500"/>
                            </p:stCondLst>
                            <p:childTnLst>
                              <p:par>
                                <p:cTn id="2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95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mparative and Superlative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المقارنة والتفضيل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915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قسم الصفات في اللغة الإنجليزية إلى نوعين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صفات قصيرة تتكون من مقطع واحد وتخرج عند اللفظ دفعة واحدة مثل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, low , high , 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صفات طويلة تتكون من أكثر من مقطع وتخرج عند اللفظ على دفعات  مثل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nsive , beautiful , comfortable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تتكون كل صفة من الصفات المذكورة أعلاه  من ثلاث حالات هي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حالة العادية للصفة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حالة المقارن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حالة التفضي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468360" y="5805360"/>
            <a:ext cx="2016000" cy="719280"/>
          </a:xfrm>
          <a:prstGeom prst="leftArrow">
            <a:avLst>
              <a:gd name="adj1" fmla="val 50000"/>
              <a:gd name="adj2" fmla="val 700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ب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000"/>
                            </p:stCondLst>
                            <p:childTnLst>
                              <p:par>
                                <p:cTn id="3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0" dur="2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mparative and Superlative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المقارنة والتفضيل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07760" y="1557360"/>
            <a:ext cx="84358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فيما يلي تفصيل الثلاث حالات لكل نوع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[أ] الصفات ذات المقطع الواحد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ne Syllable Adjecti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إذا سبق الحرف الأخير من الصفة حرف متحرك من الأحرف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 i o u 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فإننا نضاعف الحرف الأخير عند المقارنة والتفضيل كما يل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324000" y="6138720"/>
            <a:ext cx="2016000" cy="719280"/>
          </a:xfrm>
          <a:prstGeom prst="leftArrow">
            <a:avLst>
              <a:gd name="adj1" fmla="val 50000"/>
              <a:gd name="adj2" fmla="val 700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ب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8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95280" y="4581360"/>
          <a:ext cx="8209080" cy="167004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7080"/>
              </a:tblGrid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صفة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مقارنة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تفضي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كبير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ig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كبر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an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igg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كبر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bigge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حار         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كثر حرارة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an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ot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كثر حرارة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hott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mparative and Superlative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المقارنة والتفضيل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إذا إنتهت الصفة بالحرف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فإننا نحول هذا الحرف إلى الحرف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ثم نضيف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 وهكذا في حالة التفضيل فإننا نحول الحرف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إلى 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ثم نضيف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كما يل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لأكثر إضحاكاً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funniest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   أكثر إضحاكاً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ni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    مضحك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n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لأثقل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heavie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             أثقل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vi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               ثقيل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v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468360" y="5805360"/>
            <a:ext cx="2016000" cy="719280"/>
          </a:xfrm>
          <a:prstGeom prst="leftArrow">
            <a:avLst>
              <a:gd name="adj1" fmla="val 50000"/>
              <a:gd name="adj2" fmla="val 700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ب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8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0"/>
                            </p:stCondLst>
                            <p:childTnLst>
                              <p:par>
                                <p:cTn id="3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000"/>
                            </p:stCondLst>
                            <p:childTnLst>
                              <p:par>
                                <p:cTn id="3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mparative and Superlative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المقارنة والتفضيل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0" y="6138720"/>
            <a:ext cx="2016000" cy="719280"/>
          </a:xfrm>
          <a:prstGeom prst="leftArrow">
            <a:avLst>
              <a:gd name="adj1" fmla="val 50000"/>
              <a:gd name="adj2" fmla="val 700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ب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8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1370520"/>
            <a:ext cx="824544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إذا إنتهت الصفة بحرف (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) نضيف (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) فقط كما في الأمثلة التا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آخر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lates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               فيما بعد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             متأخر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e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الأكبر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largest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             أكبر من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er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           كبير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e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الصفات الأخرى ( وهي كثيرة في اللغة الإنجليزية )  ما عليك إلا إضافة (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) عند المقارنة بين شيئين أو شخصين  و (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) عند المقارنة بين أكثر من شيئين أو شخصين كما يلي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4653000"/>
          <a:ext cx="8675280" cy="1641600"/>
        </p:xfrm>
        <a:graphic>
          <a:graphicData uri="http://schemas.openxmlformats.org/drawingml/2006/table">
            <a:tbl>
              <a:tblPr/>
              <a:tblGrid>
                <a:gridCol w="2890800"/>
                <a:gridCol w="2893320"/>
                <a:gridCol w="2891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قصير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hort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قصر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horter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قصر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e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صغير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mall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صغر من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maller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صغر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small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8T06:17:34Z</dcterms:created>
  <dc:creator>bigboss</dc:creator>
  <dc:description/>
  <dc:language>en-US</dc:language>
  <cp:lastModifiedBy>Wael</cp:lastModifiedBy>
  <dcterms:modified xsi:type="dcterms:W3CDTF">2011-04-28T18:34:53Z</dcterms:modified>
  <cp:revision>23</cp:revision>
  <dc:subject/>
  <dc:title>الشريحة 1</dc:title>
</cp:coreProperties>
</file>