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202-9215-4344-807B-B068DCCC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DD0-F859-4801-8BEF-D9810EA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F25-A8EC-4368-B9E9-136F7C8B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834-2641-44D4-B9C0-78E26B0C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11F-D3A2-4163-9F8F-B7A21E8A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905-7679-446D-ABE5-73CB5710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440-F92F-484F-A1EC-0DDE539B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F99-0657-406D-88E2-9D2E9577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166-D6CF-42AA-8336-F85E7E17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E0E-F349-43DB-AFEA-94EC27F9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46B-D51C-4698-ABBA-23852C84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507-06D9-418F-9271-488DF33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0D39-A983-415B-B713-1C08FA41A6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ثالث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0"/>
            <a:ext cx="914400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Calibri"/>
              </a:rPr>
              <a:t>باب الخي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خيار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سم مصدر اختار أي طلب خير الأمرين من الإمضاء والفس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ثمانية أقسام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أول: (خيار المجلس)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كسر اللام موضع الجلوس وهو هنا مكان التبايع (يثبت) خيار المجلس (في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لحديث ابن عمر يرفع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 إذا تبايع الرجلان فكل واحد منهما بالخيار مالم يتفرقا وكانا جميعا أو يُخيِّر أحدهما الآخر فتبايعا على ذلك فقد وجب البيع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البيع (الصلح بمعناه) و (الإجارة) و(الصرف والسلم) لتناول البيع لهما (دون سائر العقو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(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كل من المتبايعين الخيار مالم يتفرقا عرفا بأبدانهم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إن نفي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 الخيار بأن تبايعا على أن لا خيار بينهما لزم بمجرد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و أسقط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الخيار بعد العقد (سقط)، لأن الخيار حق للعاقد فسقط بإسقا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وإن أسقطه أحدهم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أحد المتبايعين أو قال لصاحبه : اختر،سقط خياره و (بقي خيار الآخ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4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قسم 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خيار الشرط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بـ(ـأن يشترطاه) أ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شترط المتعاقدان الخيار (في) صلب (العقد) أو بعده في مدة خيار المجلس أو الشرط (مدة معلومة ولو طويل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عليه السلام ((المسلمون على شروطهم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ثبت) خيار الشرط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 البيع والصلح) والقسمة والهبة وبما معن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إجارة في الذم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يجو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لمن له الخيار الفسخ ولو مع غيب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صاحبه (الآخر و) مع (سخط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الملك) في البيع (مدة الخيارين) أي : خيار الشرط وخيار المجلس (للمشت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    :((من باع عبدا وله مال فماله للبائع إلا أن يشترطه المبتاع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(له) أي للمشتري(نماؤه) أ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نماء البيع (المنفصل) كالثمرة (وكسبه) في مدة الخيارين ولو فسخاه بع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حرم ولا يصح تصرف أحدهما في المبيع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في (عوضه المعين فيها) (بغير إذن الآخر) (بغير تجربة المبي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5" descr="429PX-~1.PNG"/>
          <p:cNvPicPr/>
          <p:nvPr/>
        </p:nvPicPr>
        <p:blipFill>
          <a:blip r:embed="rId1"/>
          <a:stretch/>
        </p:blipFill>
        <p:spPr>
          <a:xfrm>
            <a:off x="7929720" y="4000680"/>
            <a:ext cx="433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7142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من مات منهما) أي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من البائع أو المشتري بشرط الخيار(بطل خياره) فلا يورث إن لم يكن طالب به قبل مو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لث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: خيار الغبن (إذا غبن في المبيع غبنا يخرج عن العادة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له ثلاثة صور:إحداه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لقي الركبان لقوله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لا تلقَّوا الجلب فمن تلقَّاه فاشترى منه فإذا أتى السوق فهو بالخيا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نية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شار إليها بقوله (بزيادة الناجش) الذي لا يريد الشر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لث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ذكرها بقوله (والمسترسل) وهو من جهل القيمة ولا يحسن يم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غبن ثبت له الخيار ولا أرش مع إمس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غبن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محرم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ه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3786120" y="285768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رابع: (خيار التدليس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تسويد شعر الجارية وتجعيد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تبين له التدليس ثبت له الخيار وكذا تصرية اللبن في ضرع بهيمة الأنعام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حديث أبي هريرة يرفعه ((لا تصرُّوا الإبل والغنم ، فمن ابتاعها فهو بخير النَّظرين بعد أن يحلبها ، إن شاء أمسك وإن شاء ردَّها وصاعا من تم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 التدليس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خامس: (خيار العيب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بمعناه، وهو أي: العيب(ما ينقص من قيمة المبيع)عادة فما عده التجار في عرفهم منقصا،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فإذا علم المشتري العيب بعد) العق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أمسكه بأرشه إن ش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أرش :(قسط ما بين قيمة الصحة والع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و رده وأخذ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خيار عيب متراخ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ه لدفع ضرر متحقق فلم يبطل التأخير (ما لم يوجد دليل الرضى) كتصرف فيه بإجارة أو إعارة أو نحوهما عالماً بعيبه واستعماله لغير تجربة ، (ولا يفتقر )الفسخ للعيب (إلى حكم ولا رضى ولا حضور صاحبه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0" y="0"/>
            <a:ext cx="91440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دس: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(خيار البيع بتخبير الثمن متى با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ثمن (أقل أو أكثر) مما أخبره ب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ثبت في أنواعه الأرب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تولية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رأس ال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شرك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عضه بقسطه من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رابح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ثمنه وربح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واضع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بيعه برأس ماله وخسران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بد في جميعها) أي: الصور الأربع من معرفة المشتري والبائع (رأس الما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 ذلك شرط لصحة البيع فإن فات لم يص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بع:( خيار يثبت لاختلاف المتبايعين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ي الجملة (فإذا اختلفا في قدر الثمن تحالف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حلف بائع أولا ما بعته بكذا وإنما بعته بكذا ثم يحلف المشتري ما اشتريته بكذا وإنما اشتريته بكذا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كل من المتبايعين بعد التحالف (الفسخ إذا لم يرض أحدهما بقول الآخ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اختلفا في عين المبيع تحالفا وبطل أي : فسخ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0" y="5904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من:(ويثبت الخيار للخلف في الصف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ذا باعه شيئا موصوف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تغير ما تقدمت رؤ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6:30Z</dcterms:created>
  <dc:creator>Vista</dc:creator>
  <dc:description/>
  <dc:language>en-US</dc:language>
  <cp:lastModifiedBy>Vista</cp:lastModifiedBy>
  <dcterms:modified xsi:type="dcterms:W3CDTF">2012-11-19T16:01:39Z</dcterms:modified>
  <cp:revision>3</cp:revision>
  <dc:subject/>
  <dc:title>المحاضرة الثالثة</dc:title>
</cp:coreProperties>
</file>