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F61F-6447-46AB-8477-6D308D10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C6F-F528-44AE-9EF6-049C2A28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6ECA-AF10-47AD-A1B2-4D5E427D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F48-190D-4821-9E1C-BDB06D59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BB8-0B48-4B9F-9E67-1D12A70D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AAE-ED93-4411-91F1-0B176C6B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C2F6-FD34-4565-BCC1-AF56F146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0CA-662A-45F6-A180-A93E1456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67CA-494A-46F5-9DC2-8D7336E6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A961-26CC-41FC-818A-A1117B58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BFC-8596-4D69-B80D-9FA2B8B4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D81C-C771-48A1-B43E-87444D4C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928F-FBB2-4CD5-B8A0-DA9678496C3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سابع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مربع نص 3"/>
          <p:cNvSpPr/>
          <p:nvPr/>
        </p:nvSpPr>
        <p:spPr>
          <a:xfrm>
            <a:off x="0" y="55440"/>
            <a:ext cx="9144000" cy="84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باب السَّلَ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شرعا: (عقد على موصوف) ينضبط بالصفة (في الذمة) في عين كهذه الدار (مؤجل) بأجل معلوم (بثمن مقبوض بمجلس العقد) وهو جائز بالإجما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قوله عليه السلام:(( من أسلف في شيء فليسلف في كيل معلوم ووزن معلوم إلى أجل معلوم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صح) السلم (بألفاظ البيع)؛ لأنه بيع حقيقة ، وبلفظ (السلم والسلف) بشروط سبع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انضباط صفاته) بمكيل وموزون ومذرو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الجنس والنوع) أي جنس المسلِّم فيه ونوعه (وكل وصف يختلف ب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:بسببه (الثمن) اختلافا (ظاهراً) كلونه وقدره وبلده (وحداثته وقدم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قدره) أي: قدر المسلم فيه (بكيل) معهود فيما يكال أو (بوزن) معهود فيما يوزن؛ لحديث : ((من أسلف في شيء فليسلف في كيل معلوم ووزن معلوم إلى أجل معلوم))متفق عليه (أو ذرع يعلم) عند العام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3"/>
          <p:cNvSpPr/>
          <p:nvPr/>
        </p:nvSpPr>
        <p:spPr>
          <a:xfrm>
            <a:off x="0" y="0"/>
            <a:ext cx="9144000" cy="1033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أجل معلوم) ويعتبر أن يكون الأجل (له وقع في الثمن) عادة كشه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لا يصح) السلم إن أسلم (حالا)-لما سبق- (ولا) إن أسلم إلى أجل مجهول كـ(إلى الحصاد والجذاذ) وقدوم الحاج؛ لأنه يختلف فلم يكن معلوم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وجد) المسلِّم فيه (غالباً في محِلِّه) أي: وقت حلوله، لوجوب تسليم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ن كان لا يوجد فيه أو يوجد نادرا كالسلم في الرطب إلى الشتاء(لم يص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عتبر أيضا وجود المسلم فيه في (مكان الوفاء) غالبا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فإن أسلم إلى محل يوجد فيه غالبا فـ(تعذر) المسلم فيه بأن لم تحمل الثمار تلك السنة (أو) تعذر (بعضه)(فله) أي: لرب السلم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الصبر)إلى أن يوجد فيطالب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ب-(أو فسخ) العقد في (الكل) إن تعذر الكل أو في (البعض) المتعذر (ويأخذ الثمن الموجود أو عوضه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قبض الثمن تاما) لقوله     ((من أسلف في شيء فليسلف....))الحدي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معلوما قدره ووصفه) كالمسلّم فيه, فلا يصح بُصبره لا يعلمان قدرها, ولا بجوهر ونحوه مما لا ينضبط بالصفة ويكون القبض (قبل التفر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صورة 4" descr="429PX-~1.PNG"/>
          <p:cNvPicPr/>
          <p:nvPr/>
        </p:nvPicPr>
        <p:blipFill>
          <a:blip r:embed="rId2"/>
          <a:stretch/>
        </p:blipFill>
        <p:spPr>
          <a:xfrm>
            <a:off x="5214960" y="5572080"/>
            <a:ext cx="4334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10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ربع نص 3"/>
          <p:cNvSpPr/>
          <p:nvPr/>
        </p:nvSpPr>
        <p:spPr>
          <a:xfrm>
            <a:off x="0" y="10717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سلم في الذمة فلا يصح) السَّلَم (في عين) كدار وشجرة لأنها ربما تلفت قبل أوان تسليم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ا يصح بيع المسلَّم فيه) لمن هو عليه أو غيره (قبل قبضه)؛ لنهيه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عليه السلام-عن (بيع) الطعام قبل قبض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ولا)تصح أيضا (هبته) لغير من هو عليه؛ لعدم القدرة على تسليمه (ولا الحوالة به)؛ لأنها لا تصح إلا على دين مستقر والسَّلَم عُرضَةً للفس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ولا)الحوالة (عليه)(ولا أخذ عِوَضِه) لقوله -عليه السلام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(من أسلَمَ فِي شَيءٍ فلا يَصرِفهُ إلى غَيرِهِ)) (ولا يصح أخذ الرهن والكفيل ب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مربع نص 5"/>
          <p:cNvSpPr/>
          <p:nvPr/>
        </p:nvSpPr>
        <p:spPr>
          <a:xfrm>
            <a:off x="0" y="0"/>
            <a:ext cx="9144000" cy="807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Calibri"/>
              </a:rPr>
              <a:t>باب القر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عناه لغة : القطع , واصطلاحا: دفع مال لمن ينتفع به ويرد بدله, وهو جائز بالإجما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هو مندوب)؛ لقوله -عليه السلام- في حديث ابن مسعود:  ((مَا مِن مُسلِمٍ يُقرٍضُ مُسلِمَاً قَرضاً مَرّتَينٍ إلَّا كَانَ كَصَدَقَةٍ مَرَّةً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مباح للمقترض، وليس من المسألة المكروهة لفعله -عليه السلام-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ما يصح بيعه) من نقد أو عوض (صح قرضه) مكيلا كان أو موزوناً أو غيرهما؛ لأنه -عليه السلام- استسلف بكر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لا (بني آدم) فلا يصح قرضه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شترط للقرض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معرفة قدر القرض ووصف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أن يكون المقرض ممن يصح تبرع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ملك) القرض (بقبضه) (فلا يلزم رد عينه) للزومه بالقبض (بل يثبت بدله في ذمته) (فإن رده المقترض)أي: رد القرض بعينه (لزم) المقرض (قبول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ربع نص 3"/>
          <p:cNvSpPr/>
          <p:nvPr/>
        </p:nvSpPr>
        <p:spPr>
          <a:xfrm>
            <a:off x="0" y="0"/>
            <a:ext cx="9144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رد) المقترض(المثل) أي: مثل ما اقترضه (في المثليات) لأن المثل أقرب شبهاً من القيمة (و) يرد (القيمة في غيرها) (فإن أعوز) أي: تعذَّر (المثل فالقيمة إذا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حرم) اشتراط (كل شرط جر نفعا) كأن يسكنه داره أو يقضيه خيرا منه لأنه عقد إرفاق وقربة، فإذا شرط فيه الزيادة, أخرجه عن موضوع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بدأ به) أي: بما نفع كسكنى داره(بلا شرط) ولا مواطأة بعد الوفاء جاز لا قبله (أو أعطاه أجود) بلا شرط (جاز) لأنه     استسلف بكراً فرَدَّ خيراً منه، وقال: ((خَيرُكُم أَحسَنُكُم قَضَاءً)) أو أعطاه (هدية بعد الوفاء، جا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تبرع) المقترض (لمقرضه قبل وفاته بشيء لم تجر عادته به) قبل القرض (لم تجز إلا أن ينوي) المقرض (مكافأته على ذلك)(أو احتسابه من دينه) لحديث أنس مرفوعا قال: ((إذا أقرض أحدكم فأُهدي إليه أو حمله على الدابة فلا يركبها ولا يقبله إلا أن يكون جرى بينه وبينه قبل ذلك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صورة 5" descr="429PX-~1.PNG"/>
          <p:cNvPicPr/>
          <p:nvPr/>
        </p:nvPicPr>
        <p:blipFill>
          <a:blip r:embed="rId1"/>
          <a:stretch/>
        </p:blipFill>
        <p:spPr>
          <a:xfrm>
            <a:off x="3857760" y="3429000"/>
            <a:ext cx="4330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52:14Z</dcterms:created>
  <dc:creator>Vista</dc:creator>
  <dc:description/>
  <dc:language>en-US</dc:language>
  <cp:lastModifiedBy>Vista</cp:lastModifiedBy>
  <dcterms:modified xsi:type="dcterms:W3CDTF">2012-11-19T15:51:08Z</dcterms:modified>
  <cp:revision>3</cp:revision>
  <dc:subject/>
  <dc:title>المحاضرة السابعة</dc:title>
</cp:coreProperties>
</file>