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14EE8-7C3B-453C-99F2-FE8B54F5C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E1346-6873-4D31-9416-239255163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2CDE6-7DC7-416D-8A3D-ACC58647F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9E7BD-F23C-43EA-BA90-69B3197B0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53777-3D2C-4242-8391-061314AB9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EC931-1154-4A03-B467-825339458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3A591-0EAE-43F0-8200-F78985E32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C56DB-FA1B-4818-86FD-B0F6EE37E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8646F-8045-421E-9467-623F550B3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DB2E0-2D08-4C11-8D35-BAD763648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501F3-D432-4681-8151-FD6446E9D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D98B4-8560-4DFD-9A41-9C6316A9C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02217-F22C-4024-8126-00470F787D0F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404280"/>
            <a:ext cx="8229600" cy="597708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Calibri"/>
                <a:cs typeface="Arial"/>
              </a:rPr>
              <a:t>المحاضرة الرابعة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مربع نص 3" descr=""/>
          <p:cNvPicPr/>
          <p:nvPr/>
        </p:nvPicPr>
        <p:blipFill>
          <a:blip r:embed="rId1"/>
          <a:stretch/>
        </p:blipFill>
        <p:spPr>
          <a:xfrm>
            <a:off x="-6480" y="536400"/>
            <a:ext cx="9309240" cy="415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مربع نص 3"/>
          <p:cNvSpPr/>
          <p:nvPr/>
        </p:nvSpPr>
        <p:spPr>
          <a:xfrm>
            <a:off x="0" y="0"/>
            <a:ext cx="9144000" cy="819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b1615"/>
                </a:solidFill>
                <a:latin typeface="Calibri"/>
              </a:rPr>
              <a:t>ضمان المبيع قبل القبض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00000"/>
                </a:solidFill>
                <a:latin typeface="Calibri"/>
              </a:rPr>
              <a:t>(إن تلف )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المبيع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00000"/>
                </a:solidFill>
                <a:latin typeface="Calibri"/>
              </a:rPr>
              <a:t>1</a:t>
            </a:r>
            <a:r>
              <a:rPr b="0" lang="ar-SA" sz="2800" spc="-1" strike="noStrike">
                <a:solidFill>
                  <a:srgbClr val="c00000"/>
                </a:solidFill>
                <a:latin typeface="Calibri"/>
              </a:rPr>
              <a:t>-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 بكيل ونحوه أو بعضه قبل قبضه (فمن ضمان البائع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c00000"/>
                </a:solidFill>
                <a:latin typeface="Calibri"/>
              </a:rPr>
              <a:t>2</a:t>
            </a:r>
            <a:r>
              <a:rPr b="0" lang="ar-SA" sz="2600" spc="-1" strike="noStrike">
                <a:solidFill>
                  <a:srgbClr val="c00000"/>
                </a:solidFill>
                <a:latin typeface="Calibri"/>
              </a:rPr>
              <a:t>-</a:t>
            </a:r>
            <a:r>
              <a:rPr b="0" lang="ar-SA" sz="2600" spc="-1" strike="noStrike">
                <a:solidFill>
                  <a:srgbClr val="000000"/>
                </a:solidFill>
                <a:latin typeface="Calibri"/>
              </a:rPr>
              <a:t> وإن تلف البيع المذكور (بآفة سماوية) لا صنع لآدمي فيها (بطل) أي: انفسخ البيع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00000"/>
                </a:solidFill>
                <a:latin typeface="Calibri"/>
              </a:rPr>
              <a:t>3</a:t>
            </a:r>
            <a:r>
              <a:rPr b="0" lang="ar-SA" sz="2800" spc="-1" strike="noStrike">
                <a:solidFill>
                  <a:srgbClr val="c00000"/>
                </a:solidFill>
                <a:latin typeface="Calibri"/>
              </a:rPr>
              <a:t>-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 وإن أتلفه أي: البيع آدمي (خير المشتري بين الفسخ)وبين (إمضاء ومطالبة متلفه ببدله) أي: بمثله إن كان مثليا أو قيمته إن كان متقوما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وما عداه أي: عدا ما اشتري بكيل أو وزن أو عد أو ذرع كالعبد والدار ( يجوز تصرف المشترى فيه قبل قبضه 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( وإن تلف ما عدا المبيع بكيل و نحوه فمن ضمانه ) أي: ضمان المشترى لقوله صلى الله عليه وسلم: ( الخراج بالضمان ). وهذا المبيع للمشترى فضمانه عليه وهذا ( ما لم يمنعه بائع من قبضه ) فإن منعه حتى تلف ضمنه.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8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8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8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" dur="500"/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0" y="357120"/>
            <a:ext cx="9144000" cy="59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 rtl="1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c00000"/>
                </a:solidFill>
                <a:latin typeface="Calibri"/>
              </a:rPr>
              <a:t>بما يحصل القبض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( ويحصل قبض ما بيع بكيل ) بالكيل ( أو ) بيع بـ ( وزن ) بالوزن ( أو) بيع بـ (ـعد ) بالعد (أو) بيع بـ (ذرع بذلك ) الذرع لحديث عثمان يرفعه ( إذا بعت فكل و إذا ابتعت فاكتل ) رواه الإمام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(و) يحصل ( القبض في صبرة وما ينقل ) كثياب و حيوان ( ينقله 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(و) يحصل القبض في ( ما يتناول ) كالجواهر والأثمان ( يتناوله ) إذا العرف فيه ذلك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(وغيره) أي: غير ما ذكر كالعقار والثمرة على الشجر قبضه ( بتخليته ) بلا حائل بأن يفتح له باب الدار أو يسلمه مفتاحها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9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8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8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8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8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0" y="142560"/>
            <a:ext cx="9144000" cy="58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000000"/>
                </a:solidFill>
                <a:latin typeface="Calibri"/>
              </a:rPr>
              <a:t>فصل في الإقالة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ct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Calibri"/>
              </a:rPr>
              <a:t>(والإقالة) مستحبة لما روى ابن ماجة عن أبي هريرة مرفوعاً (من أَقال مُسلماً أَقال اللهُ عثرتَهُ يوم القيامة 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ct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Calibri"/>
              </a:rPr>
              <a:t>وهي: ( فسخ ) لأنها عبارة عن الرقع والإزالة ( فتجوز قبل قبض المبيع ) ولا تجوز إلا ( بمثل الثمن ) الأول قدراً ونوعاً لأن العقد إذا ارتفع رجع كل منهما بما كان له.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ct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8T19:41:16Z</dcterms:created>
  <dc:creator>Vista</dc:creator>
  <dc:description/>
  <dc:language>en-US</dc:language>
  <cp:lastModifiedBy>Vista</cp:lastModifiedBy>
  <dcterms:modified xsi:type="dcterms:W3CDTF">2012-11-18T19:43:40Z</dcterms:modified>
  <cp:revision>1</cp:revision>
  <dc:subject/>
  <dc:title>المحاضرة الرابعة</dc:title>
</cp:coreProperties>
</file>