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688F-17D9-4CDE-9565-DC808FCF0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8E2B-2A7E-454D-89CC-8879B94A3DF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B37-AF66-4133-B10B-B9F7B0AA337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CEB-DF8D-4551-A51E-D5EDB992C48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7F5-5BBB-497F-ADB3-89E0C40B19B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2EF-49DC-46EC-AEB2-5D6619CEAE5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35A-4FFE-4C78-9B14-9E4D6416866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517-7065-48C7-8D77-6357CABBCF3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06E-3600-4D09-A3CC-41895B7DB26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E26-F1C0-4FCF-B89A-5694FFB1A15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404-291B-43AE-B412-76ABADBBBBD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6FA61-BEFD-47C2-A0A0-C12694E91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E8AB-5482-49B3-87B9-BF35DFC6853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032C5-EA9C-4E7A-82D5-8CA692F2A34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2533F-D843-4132-B353-F8FD164D6E7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B99D7-AF18-41A2-A1B7-81C4390B39F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9441B-A6F4-4911-AE9E-C29B5301FC8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EAD8C-9C84-40A6-ABBD-F1C5CF235E2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D44EE-9B9E-4E22-93FF-1DDFBFDA35C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1EF77-2267-4674-8E63-70A516FFBF6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366B0-79D1-4F6E-A86B-1A3CBFA1D83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381A7-3645-48D6-BD0C-7E3B228B1A2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D3F55-6AEC-494E-8DEA-95B7EABB7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3819-0355-4F12-9B8A-D5DA9481DB4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107F7-B27D-441A-8144-475641DF15B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FEAC0-0597-4100-BA57-26EBA553DB2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CBE00-C301-4830-98C8-06BB0ADFA32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ECD13-7ADC-4BDA-9C2B-41CD4B42B75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59DF6-640F-4610-9186-7BF27DF00FD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50C15-92BC-4767-B78D-17768F6D018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CBBC9-734D-42F1-A780-3C7579918EE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3ABEA-D3DB-4BB4-AD62-3CFAE28B382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AF384-C945-41B1-93D0-45C9207343D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13ADD-06A9-47FC-AF3D-A072914FE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031A-7616-4B9C-9DF5-254D395564C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85FC1-9E9E-404B-AB39-B0069902A4D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EC032-1068-4250-B840-87EFE2DFF70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DB9A8-C9F0-4FE9-8189-59E5CF09685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117A-C14A-4532-904A-2673932BB1B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632C-3B51-4E33-92F1-CE2F427B402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A4D0-493C-4FD8-91B0-950FB87A742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1647-5B7E-4FD2-BE42-89BB48B5571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2EB4-FAB6-4664-9464-45F9292CA41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4FAA-27EE-456F-A48D-C3D0DDDFBA8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A563-2A63-4882-9E68-5164035B1D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1C5C-8863-41C3-B53E-86187E70435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4C9A-FB9A-48FA-A3E3-F5CA0361FEB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DAFB-424C-453F-BB94-4B80A3094B2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0583-22B0-4CEC-9848-2C4FE4CEE99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14F5-E8DA-4302-93AB-8D8844841C1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DD38-F2DB-4F2E-856D-9C097BFD0C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BD0F-AEBB-4CC7-A396-7E09B4C594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5FF5-AD90-4615-B627-E6D947CE74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546C-8995-432C-B58D-B3E4102470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06AC8-4FDB-4CB4-B194-C8A76FFFFA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F100-3323-4043-8E94-6C35E1AFA6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881D-2509-46DC-9400-5D5081BA5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D7976-715D-4BB3-A122-0CA6962F6E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D2DEB-0BB4-4FA4-A317-139BECBD57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EEAF9-2983-455A-878E-6019AE776B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434F0-FBDC-4978-AA95-87BEF773ED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38A85-4575-4F37-9516-CA73776156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F572-BE91-4EF3-A092-811628555D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112E-4723-4F6E-8A1C-C78D4A1CD5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4A7B-DC63-45E5-935D-1BF595E53BD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3B97-8EAE-4DF5-A8ED-3FCF6006809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CE05-E180-4237-B522-BF4593CB644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29BF-6936-45BA-9F34-11DFB9943DA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372E-9B6F-4AAF-8716-545C99561E9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D92-6936-4AB3-A7A8-DC7CE745BC9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EC6-FEC8-43AB-BC88-08FA6470D9F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92E-9FA9-40CC-8B79-6DF5D85BE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1F90-FF6E-45D2-9822-24EB0422A5F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4281-BC18-4B5E-A6C5-ACA5E6A65D8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62F5-F09E-4811-935D-B6BB78C84BF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B722-0F9E-4555-BC1A-6990102E0D0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20EB-627B-4C3C-8E3B-CBE2C6CE435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B320-9EDA-47B5-A0EE-DD7DA681B42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092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5040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5040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d504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2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3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4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itle 1"/>
          <p:cNvSpPr/>
          <p:nvPr/>
        </p:nvSpPr>
        <p:spPr>
          <a:xfrm>
            <a:off x="457200" y="2819520"/>
            <a:ext cx="50990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5439"/>
                </a:solidFill>
                <a:latin typeface="AYM Wadiy S_U normal."/>
                <a:cs typeface="Times New Roman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Times New Roman"/>
              </a:rPr>
              <a:t>برامج الحاسب المكت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د</a:t>
            </a:r>
            <a:r>
              <a:rPr b="1" lang="en-US" sz="2600" spc="-1" strike="noStrike">
                <a:solidFill>
                  <a:srgbClr val="45472b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7f7f7f"/>
                </a:solidFill>
                <a:latin typeface="Calibri"/>
                <a:ea typeface="Times New Roman"/>
              </a:rPr>
              <a:t> .</a:t>
            </a: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مصلح العضايل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73E3-6ED1-4149-92F0-EEED437625B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Title 1"/>
          <p:cNvGrpSpPr/>
          <p:nvPr/>
        </p:nvGrpSpPr>
        <p:grpSpPr>
          <a:xfrm>
            <a:off x="407880" y="189000"/>
            <a:ext cx="9272520" cy="1395360"/>
            <a:chOff x="407880" y="189000"/>
            <a:chExt cx="9272520" cy="1395360"/>
          </a:xfrm>
        </p:grpSpPr>
        <p:pic>
          <p:nvPicPr>
            <p:cNvPr id="635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2725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00000"/>
                  </a:solidFill>
                  <a:latin typeface="Calibri"/>
                </a:rPr>
                <a:t>Microsoft Office Excel </a:t>
              </a:r>
              <a:r>
                <a:rPr b="1" lang="ar-SA" sz="2800" spc="-1" strike="noStrike">
                  <a:solidFill>
                    <a:srgbClr val="ff0000"/>
                  </a:solidFill>
                  <a:latin typeface="Calibri"/>
                </a:rPr>
                <a:t>الجداول الالكترون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2850-C784-48EE-A456-9349A3B73A0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7467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Title 1"/>
          <p:cNvGrpSpPr/>
          <p:nvPr/>
        </p:nvGrpSpPr>
        <p:grpSpPr>
          <a:xfrm>
            <a:off x="407880" y="189000"/>
            <a:ext cx="9333000" cy="1395360"/>
            <a:chOff x="407880" y="189000"/>
            <a:chExt cx="9333000" cy="1395360"/>
          </a:xfrm>
        </p:grpSpPr>
        <p:pic>
          <p:nvPicPr>
            <p:cNvPr id="640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3330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f0000"/>
                  </a:solidFill>
                  <a:latin typeface="Calibri"/>
                </a:rPr>
                <a:t>المراجع والمصادر التعليم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CFE2-47E7-4E87-8054-70AD467AE6D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1143000" y="16002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رجع الرئيس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عبدالله بن عبدالعزيز الموسى : ( مقدمة في الحاسوب والانترنت) ، مؤسسة شبكة البيانات، الرياض،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طبعة السادسة ،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2010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3581280" y="312408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متوفر ف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مكتبة جرير – جميع الفر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مكتبة العبيكان – جميع الفر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5" descr="cover-abd allah almosa.jpg"/>
          <p:cNvPicPr/>
          <p:nvPr/>
        </p:nvPicPr>
        <p:blipFill>
          <a:blip r:embed="rId2"/>
          <a:stretch/>
        </p:blipFill>
        <p:spPr>
          <a:xfrm>
            <a:off x="1676520" y="2286000"/>
            <a:ext cx="2666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المراجع والمصادر المساعدة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B735-D1AB-47FB-879E-23937A18C87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6"/>
          <p:cNvSpPr/>
          <p:nvPr/>
        </p:nvSpPr>
        <p:spPr>
          <a:xfrm>
            <a:off x="457200" y="16002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خطوة خطوة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by Step  Microsoft Office Word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الدار العربية للعلوم ، الطبعة الاولى ،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طوة خطوة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by Step  Microsoft Office PowerPoint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الدار العربية للعلوم ، الطبعة الاولى ،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خطوة خطوة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by Step  Microsoft Office Excel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الدار العربية للعلوم ، الطبعة الاولى ،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Title 1"/>
          <p:cNvGrpSpPr/>
          <p:nvPr/>
        </p:nvGrpSpPr>
        <p:grpSpPr>
          <a:xfrm>
            <a:off x="407880" y="189000"/>
            <a:ext cx="9394920" cy="1395360"/>
            <a:chOff x="407880" y="189000"/>
            <a:chExt cx="9394920" cy="1395360"/>
          </a:xfrm>
        </p:grpSpPr>
        <p:pic>
          <p:nvPicPr>
            <p:cNvPr id="650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39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c00000"/>
                  </a:solidFill>
                  <a:latin typeface="Calibri"/>
                </a:rPr>
                <a:t>توزيع الدرجات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DAF5-C269-403B-A8A5-C236D3E9598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371600" y="2362320"/>
          <a:ext cx="7086600" cy="2225520"/>
        </p:xfrm>
        <a:graphic>
          <a:graphicData uri="http://schemas.openxmlformats.org/drawingml/2006/table">
            <a:tbl>
              <a:tblPr/>
              <a:tblGrid>
                <a:gridCol w="2386080"/>
                <a:gridCol w="47005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شا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شاركة في منتديات الحوار على البلاك بور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حضور المحاضرات المسجلة والمحاضرات المباش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واجبات المنزل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اختبار النهائ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جموع النهائ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1A68-B94B-43D8-9156-ACEEB566E79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ae_AlMateen"/>
              </a:rPr>
              <a:t>المحاضرة التمهيد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Title 6"/>
          <p:cNvGrpSpPr/>
          <p:nvPr/>
        </p:nvGrpSpPr>
        <p:grpSpPr>
          <a:xfrm>
            <a:off x="365040" y="158760"/>
            <a:ext cx="9401400" cy="1395360"/>
            <a:chOff x="365040" y="158760"/>
            <a:chExt cx="9401400" cy="1395360"/>
          </a:xfrm>
        </p:grpSpPr>
        <p:pic>
          <p:nvPicPr>
            <p:cNvPr id="600" name="Title 6" descr=""/>
            <p:cNvPicPr/>
            <p:nvPr/>
          </p:nvPicPr>
          <p:blipFill>
            <a:blip r:embed="rId1"/>
            <a:stretch/>
          </p:blipFill>
          <p:spPr>
            <a:xfrm>
              <a:off x="365040" y="158760"/>
              <a:ext cx="94014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95360" y="27468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c00000"/>
                  </a:solidFill>
                  <a:latin typeface="Calibri"/>
                </a:rPr>
                <a:t>عناصر المحاضر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 txBox="1"/>
          <p:nvPr/>
        </p:nvSpPr>
        <p:spPr>
          <a:xfrm>
            <a:off x="495000" y="1599840"/>
            <a:ext cx="8915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مقدم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وصف القر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تمهي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نصائح وارشادا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C246-9383-4B0D-B926-8F3F6D4DB5D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Title 1"/>
          <p:cNvGrpSpPr/>
          <p:nvPr/>
        </p:nvGrpSpPr>
        <p:grpSpPr>
          <a:xfrm>
            <a:off x="365040" y="158760"/>
            <a:ext cx="9401400" cy="1395360"/>
            <a:chOff x="365040" y="158760"/>
            <a:chExt cx="9401400" cy="1395360"/>
          </a:xfrm>
        </p:grpSpPr>
        <p:pic>
          <p:nvPicPr>
            <p:cNvPr id="605" name="Title 1" descr=""/>
            <p:cNvPicPr/>
            <p:nvPr/>
          </p:nvPicPr>
          <p:blipFill>
            <a:blip r:embed="rId1"/>
            <a:stretch/>
          </p:blipFill>
          <p:spPr>
            <a:xfrm>
              <a:off x="365040" y="158760"/>
              <a:ext cx="94014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495360" y="27468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c00000"/>
                  </a:solidFill>
                  <a:latin typeface="Calibri"/>
                </a:rPr>
                <a:t>وصف المقرر</a:t>
              </a:r>
              <a:r>
                <a:rPr b="0" lang="ar-SA" sz="4400" spc="-1" strike="noStrike">
                  <a:solidFill>
                    <a:srgbClr val="c00000"/>
                  </a:solidFill>
                  <a:latin typeface="Calibri"/>
                </a:rPr>
                <a:t>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E1B1-9796-412D-B2AF-8522C43675A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6"/>
          <p:cNvSpPr/>
          <p:nvPr/>
        </p:nvSpPr>
        <p:spPr>
          <a:xfrm>
            <a:off x="609480" y="1752480"/>
            <a:ext cx="853452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اهمية الحاسوب وبرمجياته في حياتنا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للحاسوب دور كبير في محتلف مجالات حياتنا اليو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علم كيفية استخدام الحاسوب وبرمجياته ضرورة ملحة في العصر الحالي (عصر المعرفة والمعلوماتي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</a:rPr>
              <a:t>سوف نتعلم في هذا المقرر استخدام برامج الحاسب المكتبية (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OFFICE</a:t>
            </a:r>
            <a:r>
              <a:rPr b="1" lang="ar-SA" sz="3600" spc="-1" strike="noStrike">
                <a:solidFill>
                  <a:srgbClr val="c00000"/>
                </a:solidFill>
                <a:latin typeface="Arial"/>
              </a:rPr>
              <a:t>) وهي من البرامج التي يتعامل معها الكثير منا يومي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Title 1"/>
          <p:cNvGrpSpPr/>
          <p:nvPr/>
        </p:nvGrpSpPr>
        <p:grpSpPr>
          <a:xfrm>
            <a:off x="407880" y="189000"/>
            <a:ext cx="9394920" cy="1395360"/>
            <a:chOff x="407880" y="189000"/>
            <a:chExt cx="9394920" cy="1395360"/>
          </a:xfrm>
        </p:grpSpPr>
        <p:pic>
          <p:nvPicPr>
            <p:cNvPr id="610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39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c00000"/>
                  </a:solidFill>
                  <a:latin typeface="Calibri"/>
                </a:rPr>
                <a:t>اهداف المقر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 txBox="1"/>
          <p:nvPr/>
        </p:nvSpPr>
        <p:spPr>
          <a:xfrm>
            <a:off x="380880" y="1523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 rtl="1"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متلاك الطالب مهارات التعامل مع برنامج معالج النصو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Office Word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 من خلال انشاء المستندات وتحريرها وطباعت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متلاك الطالب مهارات التعامل مع برنامج العروض التقديم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Office PowerPoint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 من خلال انشاء العروض التقديمية وتحريرها وعرضها باستخدام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Show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متلاك الطالب مهارات  التعامل مع برنامج الجداول الالكترون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(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Office Excel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 من خلال اعداد الجداول الالكترونية وتنفيذ بعض العمليات الحسابية عليها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5D0A-A444-4548-B555-E594803C290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Title 1"/>
          <p:cNvGrpSpPr/>
          <p:nvPr/>
        </p:nvGrpSpPr>
        <p:grpSpPr>
          <a:xfrm>
            <a:off x="407880" y="189000"/>
            <a:ext cx="9394920" cy="1395360"/>
            <a:chOff x="407880" y="189000"/>
            <a:chExt cx="9394920" cy="1395360"/>
          </a:xfrm>
        </p:grpSpPr>
        <p:pic>
          <p:nvPicPr>
            <p:cNvPr id="615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39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ff0000"/>
                  </a:solidFill>
                  <a:latin typeface="Calibri"/>
                </a:rPr>
                <a:t>لماذا ؟؟</a:t>
              </a:r>
              <a:r>
                <a:rPr b="0" lang="ar-SA" sz="4400" spc="-1" strike="noStrike">
                  <a:solidFill>
                    <a:srgbClr val="ff0000"/>
                  </a:solidFill>
                  <a:latin typeface="Calibri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 txBox="1"/>
          <p:nvPr/>
        </p:nvSpPr>
        <p:spPr>
          <a:xfrm>
            <a:off x="380880" y="1676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صبحت برامج المايكروسوفت اوفيس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 من اهم البرامج التي يتعامل معها المستخدمين ( المكاتب ، الدوائر الحكومية ، الجامعات) من خلال انشاء المستندات او العروض التقديمية  او الجداول الالكترونية او قواعد البيانات.....الخ ، لذلك فمن الواجب على طلبة الجامعات وغيرهم امتلاك المهارات المعرفية الكافية في كيفية التعامل مع هذه البرامج ليتسنى لهم الاستفادة منها في خدمة اعماله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072D-0248-49DF-8500-4FA05F239E2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Title 1"/>
          <p:cNvGrpSpPr/>
          <p:nvPr/>
        </p:nvGrpSpPr>
        <p:grpSpPr>
          <a:xfrm>
            <a:off x="407880" y="189000"/>
            <a:ext cx="9394920" cy="1395360"/>
            <a:chOff x="407880" y="189000"/>
            <a:chExt cx="9394920" cy="1395360"/>
          </a:xfrm>
        </p:grpSpPr>
        <p:pic>
          <p:nvPicPr>
            <p:cNvPr id="620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39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ff0000"/>
                  </a:solidFill>
                  <a:latin typeface="Calibri"/>
                </a:rPr>
                <a:t>محتوى المقر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 txBox="1"/>
          <p:nvPr/>
        </p:nvSpPr>
        <p:spPr>
          <a:xfrm>
            <a:off x="380880" y="15238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وحدة الثالثة: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عالج النصو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icrosoft Office 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وحدة السادسة: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عروض التقدي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icrosoft Office PowerPoint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وحدة الرابعة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: الجداول الالكترون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icrosoft Office Exc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A80F-98A4-4889-B51C-D75624E2A59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Title 1"/>
          <p:cNvGrpSpPr/>
          <p:nvPr/>
        </p:nvGrpSpPr>
        <p:grpSpPr>
          <a:xfrm>
            <a:off x="407880" y="189000"/>
            <a:ext cx="9401400" cy="1395360"/>
            <a:chOff x="407880" y="189000"/>
            <a:chExt cx="9401400" cy="1395360"/>
          </a:xfrm>
        </p:grpSpPr>
        <p:pic>
          <p:nvPicPr>
            <p:cNvPr id="625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4014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ff0000"/>
                  </a:solidFill>
                  <a:latin typeface="Calibri"/>
                </a:rPr>
                <a:t>معالج النصوص </a:t>
              </a:r>
              <a:r>
                <a:rPr b="1" lang="en-US" sz="4400" spc="-1" strike="noStrike">
                  <a:solidFill>
                    <a:srgbClr val="c00000"/>
                  </a:solidFill>
                  <a:latin typeface="Calibri"/>
                </a:rPr>
                <a:t>Microsoft Office Word</a:t>
              </a:r>
              <a:r>
                <a:rPr b="0" lang="ar-SA" sz="4400" spc="-1" strike="noStrike">
                  <a:solidFill>
                    <a:srgbClr val="4d5040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4F9D-E073-4FDA-9EFB-42EAEB4B9AE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8381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Title 1"/>
          <p:cNvGrpSpPr/>
          <p:nvPr/>
        </p:nvGrpSpPr>
        <p:grpSpPr>
          <a:xfrm>
            <a:off x="165240" y="189000"/>
            <a:ext cx="9515160" cy="1395360"/>
            <a:chOff x="165240" y="189000"/>
            <a:chExt cx="9515160" cy="1395360"/>
          </a:xfrm>
        </p:grpSpPr>
        <p:pic>
          <p:nvPicPr>
            <p:cNvPr id="630" name="Title 1" descr=""/>
            <p:cNvPicPr/>
            <p:nvPr/>
          </p:nvPicPr>
          <p:blipFill>
            <a:blip r:embed="rId1"/>
            <a:stretch/>
          </p:blipFill>
          <p:spPr>
            <a:xfrm>
              <a:off x="165240" y="189000"/>
              <a:ext cx="9515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00000"/>
                  </a:solidFill>
                  <a:latin typeface="Calibri"/>
                </a:rPr>
                <a:t>Microsoft Office PowerPoint</a:t>
              </a:r>
              <a:r>
                <a:rPr b="1" lang="ar-SA" sz="2800" spc="-1" strike="noStrike">
                  <a:solidFill>
                    <a:srgbClr val="ff0000"/>
                  </a:solidFill>
                  <a:latin typeface="Calibri"/>
                </a:rPr>
                <a:t>العروض التقديمية</a:t>
              </a:r>
              <a:r>
                <a:rPr b="1" lang="ar-SA" sz="2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0891-5AC1-4E5A-8BE9-271E2476F38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8610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madaileh</cp:lastModifiedBy>
  <dcterms:modified xsi:type="dcterms:W3CDTF">2011-02-15T13:08:48Z</dcterms:modified>
  <cp:revision>100</cp:revision>
  <dc:subject/>
  <dc:title>Slide 1</dc:title>
</cp:coreProperties>
</file>