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EB6E-B357-45BC-9B10-D8D38EFD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FC20-1175-4A44-8AE2-27E04A2D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44FA-A614-4738-A32D-1E067AE6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4C73-97F3-4DC2-B48F-154C4987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252A-6777-4931-8A50-5EEF8EA7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CF6C-369D-4697-9CF2-9E867016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6642-144B-433F-AD88-192F7ED7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6CF6-536E-44FD-B689-59475EE0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3E97-81DA-4C74-8437-10833220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ECB0-8444-4BB3-9114-86131E55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5FDD-56FC-440D-91B6-9D60A1B9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4885-9400-42A9-A4E0-30E90F37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DB48-261E-4FEA-B458-8AD387B6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4DFE-FD2B-4E5F-AA77-134FC5B6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A34F-ECF5-4355-B77D-4EE98A9D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1379-25D9-4075-A27E-AE25B610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4EDA-8EE2-4FC0-979E-F5419DA8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04BA-2C9E-45E4-B7C4-333FEF70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ED2C-A7FE-4289-BA45-B2741C6D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7958-9713-43C4-B257-1D37EAC6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01F7-B608-4B5D-A294-D93B53E4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6F29-2E93-416F-9360-84785BDF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B69E-2417-449B-A288-6BCB6177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E365-67FB-4301-A0C7-1F52CCE2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5BB7-6B6F-4D01-9608-F1A2397DD696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F51D-D4D5-4D54-ADA2-D2A2E2551AF2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rs and Socie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F17C-EE65-4523-988D-6241B37692D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6960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unic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re recently, the Internet has popularized the use of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nstant messag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ables users to type text messages and view responses immediately in the same wind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effect, they can conduct personal conversations onl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3 million users sent instant messages during February 200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f those, 24% claimed to use IM more frequently than emai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14600" y="3589200"/>
            <a:ext cx="4178160" cy="293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71A1-8CCE-4340-B711-952BA15416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er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other popular function of the Web is to facilitat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lectronic commer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-commer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sinesses have recognized the Web’s potential as an advertising medium, and as a tool for reaching new custom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business sites are information-based (providing background on the company or product description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ther business sites are transaction-based (allowing customers to purchase products or services directly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line shopping has numerous advantages for the consum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ou can make purchases from your home at any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 is easy to comparison sh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online retailers, such as Amazon.com, allow consumers to research products as well as purchase th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FA26-4AE4-40E1-AF75-461D55C5F5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er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144792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tal online sales in 2006: $108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of the most successful sites are online offshoots of traditional retail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5560" indent="-274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rnes &amp; Noble, Sears, Circuit 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anies that are strictly Internet ventures have added risks due to their lack of other revenue streams for startup and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5560" indent="-274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ny of these companies fail early on, however, some are very successfu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85560" indent="-274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mazon.com: $10.7 billion in sales in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90920" y="4164120"/>
            <a:ext cx="3733560" cy="246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19A2-5034-4560-85C7-4781B57A16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er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Web has provided a new advertising channel for businesses and organiz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-commerce sites charge fees for hosting advertising banners on web p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anner ad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re clickable images that promote a particular company’s product or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s who click on a banner ad are typically directed to the company’s Web site, where they can make purchases or review product-related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Web’s structure allows for a direct connection between ads and related purchasing interfa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addition, the Internet is extensively used for communication and information exchanges within and among busine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siness-to-business (B2B) transactions allow companies to manage inventory more dynamical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improve efficiency by linking various data channels (e.g., sales &amp; market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sinesses may form partnerships based on sharing resources and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F76F-23B5-41D8-BBD4-B111714BF7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otential Dang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conjunction with the benefits we have mentioned, the widespread adoption of technology also introduces the potential for abuses and undesirable conseque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tential dangers to individuals, businesses, and society at large inclu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over-reliance on complex, perhaps poorly-understood, syst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overlo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ivacy and security viol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igital Divi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8983-9E66-4C6D-A3CE-2F82D770D0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liance on Complex System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society becomes dependent on complex, computer-based products and services, the effects of errors or system failures become far-reach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-system bugs can produce dire conseque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tween 1985 and 1987, six cancer patients received massive radiation overdoses due to equipment malfunction, resulting in four deaths (the malfunction was traced to a single coding error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90, AT&amp;T’s long-distance telephone network was down for nine hours due to a misplaced statement in the electronic switching software (60,000 customers were without service, resulting in $60 million of lost revenu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91, 28 soldiers were killed by a Scud missile because a software error caused the Patriot missile to miss its targ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99, NASA’s Mars Climate Orbiter went off course and was destroyed in the Martian atmosphere (the problem was due to software inconsistencies which used different measurement conversions, e.g., English vs. Metric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avoid errors, various software design and testing methodologies are u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as the size and complexity of the software grows, design and testing become exponentially more diffic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ndows 2000 – 35 million lines of code, 63,000 known bu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CB64-8DDA-4891-8BBC-260EA96946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formation Overloa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mpressive range of information available online can be viewed as a strength, but it is also one of the greatest weakne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ten, data is not well organiz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ding a single piece of specific information can be very diffic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of April 2005, Google claimed to have cataloged more than 8 billion p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engines are helpful in narrowing down Internet searches, but users must be careful in selecting search criter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Google search for “JavaScript” produced 425 million match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ore refined search for “JavaScript prompt function” produced 924,000 match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en after a user locates a Web page related to the desired topic, judging reliability is not always eas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Web is neither monitored or censo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hors may provide incomplete, uninformed, or biased answ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29F4-8E89-4B9F-8510-7C1F024BBE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formation Overloa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most Internet/Web content lacks editorial review, it is up to the user to evaluate its credibi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on criteria for evaluating credibility include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7543800" cy="311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3F56-C644-4779-BC6A-242240E537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ivacy and Securit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419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using credit cards or shopping online, consumers sacrifice privacy for the sake of conven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anies maintain records of consumer purcha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ivate details can be inferred from shopp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anies often sell customer profiles to marketing fir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 users can limit exploitation by interacting only with reputable online businesses with privacy poli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ch policies will explain what information is collected by the business and how that information is to be used (and share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029200" y="2411280"/>
            <a:ext cx="384804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B725-A7A1-4E96-A55D-54C6DDB694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ivacy and Securit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ail also raises privacy concer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 message is received it is commonly stored in a file on the recipient’s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re is a danger that unauthorized users might get access to that f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w laws apply directly to electronic privac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urts overwhelmingly favor employers over employees in privacy su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less explicitly stated, it is generally accepted that employers may access any content on company-owned mach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vacy is closely linked with secur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ail messages travel through numerous routers, and each router represents a security risk, because someone could gain access to a router and eavesdrop on a relayed mess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th online transactions, credit card numbers or other personal information can be intercepted and subsequently result in identity thef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cryption methods are commonly used to secure information transmissions, but online fraud is still a continuing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A72D-518E-4594-9A15-20D5C20389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ositive Impact of Technolog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storian Larry Gormley ranked technological developments according to their impact on modern lif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 you agree with his list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7315200" cy="3262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43000" y="5867280"/>
            <a:ext cx="7315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Gormley, Larry. “The Greatest Inventions in the Past 1000 Years.” eHistory.com, 2003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8ADB-1335-4E4C-971C-050A715667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he Digital Divid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especially troubling aspect of recent technological developments is that the benefits associated with computers are not shared by a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mericans with minority ancestry, lower incomes, and less education are far less likely to be on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19320" y="2666880"/>
            <a:ext cx="6933960" cy="356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219320" y="6248520"/>
            <a:ext cx="6933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Pew Internet and American Life Project: Latest Trends. Pew Research Center, December 2006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1434-DA09-4A9A-9FEF-B69358D653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he Digital Divid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ressing the digital divi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uring the Clinton administration, public schools received government funding for computer technology and Internet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2003, nearly all public schools were connected to the Internet, as compared to 35% in 199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public libraries and community centers provide Internet-enabled comput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rganizations such as CompuMentor supply Internet access and technical assistance to minority groups and low income individua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igital divide is still a problem for Americans, but there is no doubt that conditions have improv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igital divide also exists on a global sca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merica, Western Europe, and certain Asian countries have much greater Internet connectivity than other parts of the worl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ck of Internet access places less developed nations at a significant disadvantage, and compounds other economic probl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nited Nations, World Economic Forum, and other organizations are working to address the global digital divi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C103-02ED-45B9-B875-698F9CA26E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ositive Impact of Technolog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re than any other invention, computer technology is still evolving, which means that it continues to impact society in new w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first electronic computers made significant contributions in the 1940’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OSSUS – used for code breaking in World War I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IAC – performed calculations and simulations that led to the development of nuclear technology and Cold War scie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urrently, we live in an "information economy", with computers central to business and innov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657600"/>
            <a:ext cx="5638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chnology has become so pervasive in daily life, it is difficult to imagine life withou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.g., monetary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sh is frequently being replaced with credit or debit c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ized banking networks enable the immediate electronic transfer of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M machines allow people to access their money around the clock from any 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this has discouraged traditional theft, but has inspired new forms of illegal 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201924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9386-E9FA-4165-BFFB-66ECF6CA18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uters in Everyday Task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rn life also depends on thousands of less obvious, hidden computer applic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mbedded processors are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 chips that are built into appliances and machinery to control their work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y account for more than 90% of all computer process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verage U.S. home contains 50 to 100 embedded processors (2001 est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ovens, television remote controls, cordless phones, automatic thermostats, 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omobiles employ embedded processors to control a wide variety of compon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95280" y="4038480"/>
            <a:ext cx="6629400" cy="2452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295280" y="6477120"/>
            <a:ext cx="662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Webb,Warren.“Embedded Technology Transforms the Automobile.” EDN Magazine, 1999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CFF8-8BAC-4244-9DD6-4C90939467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uters in Everyday Task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ciety has also been affected by the availability of personal computers and easy-to-use softwar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ftware can enable people to accomplish tasks previously reserved for highly trained professionals, e.g.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ord processing and desktop publishing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ideo editing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 preparation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90920" y="3276720"/>
            <a:ext cx="4419360" cy="33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0AC8-C9B8-4A9E-85A3-E7B7850A48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Inform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users utilize the Internet/Web as an information sour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line resources are quickly replacing (or complementing) traditional sources of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b sites can be updated 24 hours a day allowing publishers to report stories as soon as they brea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xt can be integrated with other types of med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mmediacy of online delivery system is especially appeal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order to compete, many newspapers and magazines have expanded their offerings to include online ver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ww.nytimes.com, www.washingtonpost.com, www.tim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FA7B-FFF5-4719-9708-764953CB2D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Inform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ditional media have approached the Internet in a variety of w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provide limited services online for fre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nn.com, weather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s provide full services with a fe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Encyclopedia Britannica sells access over the Web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dependent media organizations have utilized the Web to present stories and opinions that might not otherwise reach a mainstream aud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3662280" cy="3095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3662280" cy="30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546B-1150-4A4A-8A95-579CCC8211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Inform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majority of Web pages are unique resources created by individuals and private organiz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can find Web content on virtually any top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help navigate the vast sea of information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earch engin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utomatically catalog Web pages and allow users to search for data by topic or keyw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5120" y="2825640"/>
            <a:ext cx="5715000" cy="380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9F80-9D5C-4A25-B7DC-6C8AF7047B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unic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users were originally drawn to the Internet by the availability of electronic mail and news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2006, 91% of all Internet users communicated via em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71 billion email messages were sent and received each d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0% of those emails wer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pa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124080"/>
            <a:ext cx="3733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rnet Service Providers (ISPs) manage email accounts with other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OL, msn, Microsoft Hotmail, Yahoo! 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s such as Microsoft Outlook provide an intuitive user interface for sending and receiving email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114800" y="2773440"/>
            <a:ext cx="4648320" cy="32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CA9A-9E1B-4402-B2C7-98C665952C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10:5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