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EF9-6B35-4B6D-BF87-58F306B3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C4D-533A-4F45-9D2A-DBAFA0E1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811-2BEC-4665-A4A7-781E8100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60B-4C92-4A08-9CB3-92FCB505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E09D-190C-4F8F-A691-E16053C9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3566-DB36-4000-9CFB-599E5CC5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AC34-752B-45C1-ACA9-8D62E476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1904-8BDE-4E79-AF02-022EF13C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A460-EDD4-43F5-9345-E089E9D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00BE-ED08-4A51-A0D4-A3596C9A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3AD-1E04-42F9-ADE0-25497BF8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2F0-5610-4D72-9CBF-F99CDE1C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B076-FD11-4167-AC51-DB4B130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2553-E9D0-48E4-BCCD-8CB07A2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39A9-2D7D-4150-9112-21F1EF47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8E7A-ED6A-45B1-B7F4-957E5FD3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17CB-1807-43DB-BFEE-16F5177B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FA2-0FCF-4340-A51D-8065EA92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875-5083-48E8-BD64-7A9BC15A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A80-24CB-4514-B88D-B0285AD9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6ED-BA4F-4AA4-B57E-2CF6B0A8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56C-50A5-4C5B-B1D8-77ECDD87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DFB-BF97-48CA-BA67-6B84FADC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ACE-F434-46F8-8F2A-49A7DD57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815B-11F0-47B9-800E-7019ECB0AD3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90F3-A057-4D4B-80B3-C636CD970E7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2289-D96D-4B9D-A2F1-6C4ECE233E5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09720" y="1371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Counter-Driven Loops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53708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4120" y="2743200"/>
            <a:ext cx="365760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A15-91DE-4A64-B17C-96CA80F76C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init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rowser will repeatedly execute statements in the body of a whil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long as the loop test succeeds (evaluates to tr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ossible that the test will always succeed and the loop will run fore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op that runs forever is known as 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init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lack hol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guard against infinite loops, make sure that some part of the loop test changes inside the loo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above exampl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Cou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not updated in the loop so there is no chance of terminating once the loop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nfinite loop may freeze up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times, clicking the Stop button will suffice to interrup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imes, you may need to restar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35812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DEA-39AC-4A45-9C01-412EF30C5C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can be employed to control the number of loop repetitions and the variable can be updated in various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count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2889360"/>
            <a:ext cx="761976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DA3-52C8-4C96-8975-F6B440F62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24480" y="114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dow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4892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38720" y="2362320"/>
            <a:ext cx="2853000" cy="23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0FB-79AE-400A-B742-1F819577AA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: Hailstone Sequenc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resting unsolved problem in mathematics: hailston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y positive integ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number is odd, then multiply the number by three and add one; otherwise, divide it by tw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eat as many times as des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:  5, 16, 8, 4, 2, 1, 4, 2, 1, 4, 2, 1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conjectured that, no matter what positive integer you start with, you will always end up in the 4-2-1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has been verified for all starting number up to 1,200,0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still has not been proven to hold for ALL starting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define a JavaScript function for experimenting with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ailsto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ll generate the sequence given a starting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42E-5D25-4CEB-B8AE-5140ED663E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used to control the execution of other JavaScript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for conditional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ful for solving problems that involve cho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n'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 tha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-e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33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ly related to the concept of conditional execution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problems involve repeating some task over and over until a specific condition is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olling dice until a 7 is obta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peatedly prompting the user for a valid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hile loop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vide for conditional re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C68-4D78-4569-B79D-BAD90F704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rowser encounters a while loop, it first evaluates the boolea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statements inside the loop are executed in order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ust like an if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ll the statements have been executed, program control returns to the beginning of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p test is evaluated again, and if it succeeds, the loop body statements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process repeats until the boolean test f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hile loo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sembles an if statement in that its behavior is dependent on a boolean condition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e statements inside a while loop’s curly braces (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op bod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peated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s long as the condition remain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41911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17E-992A-480C-8C56-AC6551D362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oll two dice repeatedly until doubles are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8006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267080"/>
            <a:ext cx="419076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ote: even though while loops and if statements look similar, they are very different contro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if statement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1 time or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while loop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an arbitrary number of times (including not at 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0" y="4267080"/>
            <a:ext cx="1547640" cy="21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462-D3FE-4A82-8FB3-3022ED942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48520" y="1295280"/>
            <a:ext cx="259056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440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53000" cy="25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124-A8A1-476F-A765-1F5678E0CC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oiding redundanc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e redundancy in th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perform the initial dice roll before the loop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have to repeatedly re-roll inside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avoid this by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priming the loop" with default values that allow the loop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fining a Boolean "flag" to determine when the loop should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56272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48C-64CF-4BCB-82B6-AE54188B5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op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loop test defines the condition under which the loop contin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often backwards from the way we think about lo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ad input until you get a positive number (i.e., until input &gt; 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input &lt;= 0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s (i.e., until roll1 == roll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roll2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 fours (i.e., until roll1 == 4 &amp;&amp; roll2 = 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4 || roll2 != 4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334120"/>
            <a:ext cx="5257800" cy="76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Morgan's Law: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&amp;&amp; Y) == (!X ||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|| Y) == (!X &amp;&amp;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93B-9C2C-4167-8583-B1060B315E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while loop is controlled by a condition, it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suall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mpossible to predict the number of repetitions that will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many dice rolls will it take to get double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hile loop can also be used to repeat a task some fixed number of ti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ed by using a while loop whose test is based on a cou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 of counter-driven while loop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unter is initially set to 0 before the loop begins, and is incremented at the end of the loop bod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unter keeps track of how many times the statements in the loop body have execu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the number of repetitions reaches the desired number, the loop test fails and the loop termin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4953240" cy="12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40D-C2A4-4A1C-9C57-E7F7255DB7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61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162160"/>
            <a:ext cx="769644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7C5-C43C-4B52-88A7-21FC4B5298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