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9CC-65F9-4474-958A-2D1AEF1D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C4B-BD26-44EB-8A80-4E765098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8A4-455F-4129-A363-7288C163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75F-CD03-4159-ACD6-C77ACE4A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C963-54EB-4136-B8DD-040CC50B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7782-7C5B-43B9-BBB9-267178F1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562D-FC4C-4E93-9324-AD6B4595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D8C5-E55A-42E0-BC5B-2FF0BE3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510-C638-49C9-898B-5E232934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F52-9213-484E-89D4-03F6F74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9177-B634-4D17-A49A-8662B87B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174-F2DE-4A57-9FCA-DE18FD36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CC93-9A15-4C4A-86BF-44DC8764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3BB-AF00-4C66-88D7-D85FC3F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EB78-2BDD-4296-B760-440AD81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8C85-049A-4B50-AB65-03A100C1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88DB-C798-4AAF-8619-09D2D012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ED1-F60F-420D-A1BA-AF59AAC9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EC1-3926-44ED-9503-C2E64C7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2A8-3C23-43AC-A8DA-F0F62E5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282-D253-4D80-B3EC-0BDAE70D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57B-144D-4CDB-A0DD-43245427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2E3-4D7E-4E56-8F18-CD3616D7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B51-AF17-448C-8B18-4B0B0D2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589B-A70E-4F0A-8CB2-50EA584FA1F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8954-7B03-4295-B555-807CD99DF38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straction and User-Define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C6F8-BDFB-4ED8-849F-7F53CD4B0C1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claring Local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have seen that variables are useful for storing intermediate steps in a complex compu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in a user-defined function, the programmer is free to create new variables and use them in specifying the function’s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by default, new variables used in a function are glob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ut what if the same variable name is already used elsewhe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95680"/>
            <a:ext cx="54864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owe $" + totalT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name conflicts, the programmer shoul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emporary variables to b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 declaration is a statement that lists all local variables to be used in a function (usually the first statement in a fun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var LOCAL_1, LOCAL_2, . . ., LOCAL_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457200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ese variables are declared as local, they will not affect (or be affected by) any variables with the same names elsewhere in th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0F6-0E02-4088-9656-682A4D9C07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Retu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ing results us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OK for some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full generality, we need to be able to return an output value, which can then be used in other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number = Math.sqrt(9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mountOwed = IncomeTax(38000, 6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43400"/>
            <a:ext cx="510552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turns: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return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turn statement can be added to a function to specify its output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return statement is reached, the variable or expression is evaluated and its value is returned as the function'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return OUTPUT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4443480"/>
            <a:ext cx="2743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is function returns the value, it can be used in other computations, e.g., calculate amount owed in 4 pay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payme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comeTax(38000, 6500)/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920-0E6B-4832-A118-A9ECC70915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7440" y="1143000"/>
            <a:ext cx="3505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Newconvert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18288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ame computation must be done repeatedly, a function can greatly simplify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7640" indent="-2656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ToCelsiu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called twice to convert two different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593960" cy="62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29200" y="3394080"/>
            <a:ext cx="3933720" cy="23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33E-CA57-4B01-AA4F-72505EC15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ing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do not add any computational power to the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simply encapsulates other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ill, the capacity to define and use functions is key to solving complex problems, as well as to developing reusabl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apsulating repetitive tasks can shorten and simplify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provide units of computational abstraction – user can ignore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are self-contained, so can easily be reused in different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03848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s it worthwhile to define a fun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particular computation is complex—meaning that it requires extra variables and/or multiple lines to 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have to perform a particular computation repeatedly within a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defining a function, you must iden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ation to be performed using those inp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CA4-018D-4291-AC84-9D59DDFD7D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task of designing an online Magic 8-bal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ttell, Inc.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be able to ask a yes/no type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eive an answer (presumably, at rando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648320" cy="332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57800" y="2819520"/>
            <a:ext cx="335268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area for entering the question (which could be several lines lo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box for displaying the answer (which should be sh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for initiating the action – which involves calling a function to process the question, select an answer, and display it in th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229-3667-424C-A985-77956EAD7A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-purpose functions can be grouped together in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ibrary is a text file that contains one or more function defin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the functions are defined in the library, that library can be loaded into pages as nee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contains useful functions for generating random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load a library of functions in a page, use a special pair of SCRIPT t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ype="text/javascript" src="URL_OR_LOCAL_FILENAM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296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386-FBAB-4E81-B310-9890C803B5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Using 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page below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is accessed via the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download the file and store it on your own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simply specify the file name in the SRC attribute (the default is that the file is in the same folder as the Web page that includes i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40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4167360" cy="162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38680" y="5029200"/>
            <a:ext cx="320040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note: th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OneOf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function from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.js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would similarly be useful for the Magic 8-ball  page (in selecting possible answers at rand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F6C-8F9F-4359-B718-DED290D953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to Avoi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beginning programmers attempt to load a JavaScript code library, errors of two types commonly occur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CRIPT tags are malformed or the name/address of the library is incorrect, the library will fail to 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ill not cause an error in itself, but any subsequent attempt to call a function from the library will produ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Object Expected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Internet Explorer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XXX is not a function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Firefox), where XXX is the entered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you use the SRC attribute in a pair of SCRIPT tags to load a code library, you cannot place additional JavaScript code between the ta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k of the SRC attribute as causing the contents of the library to be inserted between the tags, overwriting any other code that was erroneously placed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 src="FILENAM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NYTHING PLACED IN HERE WILL BE IGN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additional JavaScript code or another library, you must use another pair of SCRIPT 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A29-A3FF-44C5-B70E-A789669FA7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bstrac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the process of ignoring minutiae and focusing on the big pi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modern life, we are constantly confronted with complex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don't necessarily know how it works, but we know how to use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does a TV work?  a car?  a computer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survive in the face of complexity by abstracting away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use a TV/car/computer, it's not important to understand the inner work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ignore unimportant details and focus on those features relevant to using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V has power switch, volume control, channel changer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functions (lik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provide computational 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encapsulates some computation &amp; hides the details from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only needs to know how to call the function, not how it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pter 7 introduced simple user-defin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ld encapsulate the statements associated with a button, call the function a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527-D995-4EB1-BA28-571DC0D5E9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Function Form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write general-purpose functions, we can extend definitions to includ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) parameters, 2) local variables, and 3) return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variables that correspond to the function’s inputs (if an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meters appear in the parentheses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cal variabl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temporary variables that are limited to that function on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require some temporary storage in performing calculations, then declare local variables using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ocal variable exists only while the function executes, so no potential conflicts with other fun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stat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statement that specifies an output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ists of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ollowed by a variable or expre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076480"/>
            <a:ext cx="541980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17D-C4EB-411D-B175-5B384DAFB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of the predefined function we have considered expect at least on 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a number as input, and returns its square root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two numbers as inputs, and returns the maximum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(7, 3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nglish, the wor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met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some aspect of a system that can be varied in order to control its behavi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a parameter is a variable (declared inside the function's parentheses) whose value is automatically initialized to the corresponding input value when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allow the same function to perform different (but related) tasks when called with different input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5052960"/>
            <a:ext cx="437220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105520" y="4748040"/>
            <a:ext cx="35812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happy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happy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sad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sad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873-2595-4C1C-A0C1-501873A2A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pic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newpics.html, each button performs a similar task - changing the imag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743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ng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ngeIm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suffices for each (using different inpu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6562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14920" y="3014640"/>
            <a:ext cx="3300480" cy="20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A8A-225B-446B-A6A0-0BA5686DA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ma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1523880"/>
            <a:ext cx="1828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we could redefine oldmac.html from Chapter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as 2 inputs: the animal and sound for that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467000"/>
            <a:ext cx="601956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2919600" cy="1776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533412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function can be used to display any verse, given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B3E-97B7-4671-82C9-B65A46DEC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ultiple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function has more than one inpu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in the function definition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values in the function call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s are matched to parameters by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815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809880"/>
            <a:ext cx="656748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OldMacVerse(animal, s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animal and sound ar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corresponding Old MacDonald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cow", "moo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moo", "cow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411444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05320" y="403812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32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DE7-654C-4F93-AB52-E91900328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ameters and Loca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ameters play an important role in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facilitate the creation of generalized computatio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.e., the function defines a formula, but certain values within the formula can differ each time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a parameter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 variable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exists only inside its particular 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is called, memory cells are allocated for the parameters and each input from the call is assigned to its corresponding parame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 parameter has been assigned a value, you can refer to that parameter within the function just as you would any other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terminates, the parameters “go away,” and their associated memory cells are fr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9528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variables other than parameters are consider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global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 they exist and can be accessed by JavaScript code anywher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it is possible to use the same name to refer to a local variable and a glob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the function, the loc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side that function, the glob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C09-2AC9-450E-AD71-9DC2B4FED3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 vs. Glob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2200" y="1371600"/>
            <a:ext cx="2666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names animal and sound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parameters in the function defini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loc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variables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glob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think of these as completely separate variables, identifiable via a subscrip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5148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2BB-EA1A-41D0-B3A1-FDF13E98F5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6:1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