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5D8-AE48-4336-983D-98ABF693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BBC-6012-49FB-8583-297A1997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8B9-EB94-435B-916A-7140A111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497-CFB1-4B62-939F-6259017C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E14C-19F9-4AE4-97B8-BA1DE9ED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2321-C1F4-4635-83D7-026656DA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BA33-4DD9-4980-8ADC-A42AA0CB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7500-BD7D-48A0-87AE-FA99013E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E376-1695-4924-BC5D-C9F1678E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556B-0024-4F1A-82F9-C069EFF1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B001-94C2-4F75-BAE4-68CAF547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D1A-940A-4A1F-B493-EFFC58D5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E59E-C518-4508-B1B3-3368F973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E53E-D99F-4C33-B680-1823A63D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33D5-26B0-4C75-91F0-47EBC94D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1B25-FE19-41A0-B7A3-4C1E4A23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66CB-7B05-49B7-8208-EB3AAEEC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5E2-FB44-48E5-B214-4B95FB97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012-48FB-4F4B-940A-1111AD0E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BD6-6F90-412E-8864-C45B9DE4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D8B-1C95-49DB-BB68-5437D7AB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AB0-654C-4144-A0B5-741F8B0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1C2-C930-41FB-9C1F-EB2C46C7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325-E067-4D04-ADFA-C490D1C1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10D3-D72D-40BC-AA5D-A24D205B021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B715-9A26-4364-8E37-B609E47AAE4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orithms and Programming Langu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30FB-612A-4F04-9DAD-E57CC3B5CC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Algorith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ING: a common problem in computer science involves storing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intaining large amounts of data, and then searching the data f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ular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storage and retrieval are key to many industry appl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algorithms are necessary to storing and retrieving data efficien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nsider searching a large payroll database for a particular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computer selected entries at random, there is no assurance that the particular record will be f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if the record is found, it is likely to take a large amount of ti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ystematic approach assures that a given record will be found, and that it will be found more efficien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commonly used algorithms for searching a list of i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– general purpose, but relatively s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– restricted use, but fa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0B9-B657-4399-9E46-D58BCE74DC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quential Searc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quential 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algorithm that involves examining each list item in sequential order until the desired item is f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sequential search for finding an item in a li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at the beginning of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ach item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the item - if that item is the one you are seeking, then you are d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it is not the item you are seeking, then go on to the next item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reach the end of the list and have not found the item, then it was not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quential search guarantees that you will find the item if it is in the lis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it is not very practical for very large databas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orst cas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you may have to look at every entry in the li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825-704B-43D8-AB11-D36A67904E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Searc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nary 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volves continually cutting the desired search list in half until the item is fou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lgorithm is only applicable if the list is order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list of numbers in increasing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list of words in alphabetic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binary search for finding an item in an ordered li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, the potential range in which the item could occur is the entir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items remain in the potential range and the desired item has not been found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at the middle entry in the potential r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the item you are looking for, then you are d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greater than the desired item, then reduce the potential range to those entries left of the midd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less than the desired item, then reduce the potential range to those entries right of the midd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repeatedly cutting the potential range in half, binary search can hone in on the value very quick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07F-EB19-4630-9763-DE30F19E96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Search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6753240" cy="2960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121932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se you have a sorted list of state names, and want to fin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llin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by examining the middle entry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ssour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issour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omes afte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lphabetically, can eliminate it and all entries that appear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examine the middle of the remaining entries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lorid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Florid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omes befor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lphabetically, can eliminate it and all entries that appear to the lef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examine the middle of the remaining entries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sired entry i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534-C439-45CC-9DA7-108A76C4FA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 Analysi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quential 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worst case, the item you are looking for is in the last spot in the list (or not in the list at al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result, you will have to inspect and compare every entry in the li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work required is proportional to the list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is an O(N)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nary 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worst case, you will have to keep halving the list until it gets down to a single en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ch time you inspect/compare an entry, you rule out roughly half the remaining e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work required is proportional to the logarithm of the list siz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is an O(log N)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7242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ine searching a phone book of the United States (300 million peo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requires at most 300 million inspections/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requires at mos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300,000,000)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29 inspections/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249-555D-4AA5-9AE9-E2337C8551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Algorith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ewton’s Algorithm for finding the square root of 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 initial approximation of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the approximation isn’t close enough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00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e the approximation using the formula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wApproximation = (oldApproximation + N/oldApproximation)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finding the square root of 102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57800" y="2695680"/>
            <a:ext cx="2666880" cy="1800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4495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analys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ton's Algorithm does converge on the square root because each successive approximation is closer than the previous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since the square root might be a non-terminating fraction it is difficult to define the exact number of steps for 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general, the difference between the given approximation and the actual square root is roughly cut in half by each successive refi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monstrates O(log N)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E23-750A-4431-9725-7729EBC706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an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s all about designing and coding algorithms for solving probl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nded executor is the computer or a program executing on that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re written in programming languages which are more constrained and exact than human langu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evel of precision necessary to write programs can be frustrating to beginn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it is much easier than it was 50 years ag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rly computers (ENIAC) needed to be wired to perform comput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the advent of the von Neumann architecture, computers could be programmed instead of rew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lgorithm could be coded as instructions, loaded into the memory of the computer, and exec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791-D9DF-4E70-AF02-73DFC15A62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ing languages were known a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machine langu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machine langu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nsists of instructions that correspond directly to the hardware operations of a particular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.e., instructions deal directly with the computer’s physical components including main memory, registers, memory cells in CP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low level of abstra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written in bina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ming in machine language is tedious and error pron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de is nearly impossible to understand and debu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rpt from a machine language program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7619760" cy="18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426-3B22-4D53-832A-07C608C6A4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gh-Level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early 1950’s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embly languag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volved from machine languag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ssembly language substitutes words for binary co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ch easier to remember and use words, but still a low level of abstraction (instructions correspond to hardware oper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late 1950's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igh-level languag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ere introduc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-level languages allow the programmer to write code closer to the way humans think (as opposed to mimicking hardware oper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uch more natural way to solve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s, programs are machine independ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wo high level languages that perform the same task (in JavaScript and C++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4121280"/>
            <a:ext cx="6934320" cy="25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2A0-6DDB-4CF3-BDC0-CF65250AA2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Transl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a high-level language, the programmer is able to reason at a high-level of abs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programs must still be translated into machine language that the     computer hardware can understand/execu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standard approaches to program transl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-world analogy: translating a speech from one language to ano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pret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provide a real-time trans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rpreter hears a phrase, translates, and immediately speaks the trans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ANTAGE: the translation is immedi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ADVANTAGE: if you want to hear the speech again, must interpret all over ag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ranslat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mpil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translates the entire speech off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ranslator takes a copy of the speech, returns when the entire speech is transl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ANTAGE: once translated, it can be read over and over very quick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ADVANTAGE: must wait for the entire speech to be transl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75F-0CB7-4232-A98B-60977CE9C4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entral concept underlying all computation is that of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lgorith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lgorithm is a step-by-step sequence of instructions for carrying out some ta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can be viewed as the process of designing and implementing algorithms that a computer can carry o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grammer’s job is to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te an algorithm for accomplishing a given objective, the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late the individual steps of the algorithm into a programming language that the computer can 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724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programming in Java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have written programs that instruct the browser to carry out a particular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the proper instructions, the browser is able to understand and produce the desired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1F8-E507-458E-84F8-AC06A9A31A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peech Transl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pre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8098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lator (compiler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09680" y="1515960"/>
            <a:ext cx="6096240" cy="183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0" y="4175280"/>
            <a:ext cx="533412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1E4-34C6-42CD-879B-C5446FC221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pre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program translation, the interpretation approach relies on a program known as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terpret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translate and execute high-level statem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preter reads one high-level statement at a time, immediately translating and executing the statement before processing the next 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is an interpreted langu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467480" cy="28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9B3-A6D6-4C79-BDC2-782BE762F5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il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mpilation approach relies on a program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il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translate the entire high-level language program into its equivalent machine-language instr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machine-language program can be executed directly on th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languages used for the development of commercial software employ the compilation technique (C, C++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7010280" cy="26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203-3ED2-4C60-9146-2D62336E7B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preters and Compil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eoffs between interpretation and compi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es results almost immediat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cularly useful for dynamic, interactive features of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executes more slowly (slight delay between the execution of statement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es machine-language program that can run directly on the underlying hard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runs very fast after compi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compile the entire program before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in large software applications when speed is of the utmost impor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B9C-8BC6-4865-A80E-5705EEA106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in the Real Worl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5791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 of algorithms is not limited to the domain of compu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cipes for baking cook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irections to your ho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many unfamiliar tasks in life that we could not complete without the aid of instr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for an algorithm to be effective, it must be stated in a manner that its intended executor can 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recipe written for a master chef will look different than a recipe written for a college stud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you have already experienced, computers are more demanding with regard to algorithm specifics than any human could b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26360" y="1371600"/>
            <a:ext cx="245556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3EC-EBBC-4654-91F9-F8F527A7D4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Designing &amp; Analyzing Algorithm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steps to solving problems (George Poly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derstand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ise a pl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rry out your pl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the sol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20040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finding the oldest person in a room full of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derstanding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 condition – room full 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al – identify the oldes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erson will give their real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wo people are born on the same day, they a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re is more than one oldest person, finding any one of them is ok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will consider 2 different designs for solving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2D2-8680-4DB6-89D6-3AB6BAB9E4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Algorithm 1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nding the oldest person (algorithm 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 up all the people along one w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the first person to state his or her name and birthday, then write this information down on a piece of pap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ach successive person in lin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the person for his or her name and birth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ated birthday is earlier than the birthday on the paper, cross out old information and write down the name and birthday of this pers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you reach the end of the line, the name and birthday of the oldest person will be written on the pap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28800" y="3998880"/>
            <a:ext cx="5334120" cy="25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00B-1709-4A92-9915-9558D80FDA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Algorithm 2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nding the oldest person (algorithm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 up all the people along one w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there is more than one person in the line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ve the people pair up (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etc) – if there is an odd number of people, the last person will be without a part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each pair of people to compare their birth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est that the younger of the two leave the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re is only one person left in line, that person is the old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3456000"/>
            <a:ext cx="4800600" cy="323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710-C665-4D22-BF33-83926A58D8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 Analysi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ermining which algorithm is "better" is not always clear cu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depends upon what features are most important to y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want to be sure it works, choose the clearer algorith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care about the time or effort required, need to analyz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1 involves asking each person’s birthday and then comparing it to the birthday written o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time to find the oldest person i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ortional to the number of peo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uble the amount of people, the time needed to find the oldest person will als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2 allows you to perform multiple comparisons simultaneous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ime needed to find the oldest person i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ortional to the number of rounds it takes to shrink the line down to one pers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ch turns out to be the logarithm (base 2) of the number of peo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uble the amount of people, the time needed to find the oldest person increases by the cost of one more comparis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962520"/>
            <a:ext cx="853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676840"/>
            <a:ext cx="7086600" cy="975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the words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algorithm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logarithm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re similar – do not be confused b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6520"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algorithm: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 step-by-step sequence of instructions for carrying out a task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logarithm: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the exponent to which a base is raised to produce a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6520"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e.g., 2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10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= 1024, so log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(1024) 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9C0-0D16-413C-B40C-04CB199BC9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 Analysi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problem size is large, performance differenc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drama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assume it takes 5 seconds to compare birthd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algorithm 1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100 = 5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200 = 1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400 = 2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,000,0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1,000,000 = 5,000,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algorithm 2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35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2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4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45 second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,000,0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,000,0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1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2205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126-ED9D-440B-8987-6F5C523741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g-Oh No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represent an algorithm’s performance in relation to the size of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, computer scientists use what is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g-O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ng an O(N) algorithm requires time proportional to the size of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an O(N) algorithm, doubling the problem size doubles the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ng an O(log N) algorithm requires time proportional to the logarithm of the problem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an O(log N) algorithm, doubling the problem size adds a constant amount of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ed on our previous analys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gorithm 1 is classified as O(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gorithm 2 is O(log 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878-0389-4C28-81AA-C18C76C36F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3:3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