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960-A490-41B8-952D-31E41AC9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C12-00AF-4B85-AC27-801686F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B25-7D21-41FF-83B4-69C6DF2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C43-998D-440D-B44D-5C96F11C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E8B9-F740-4C95-B7DE-926DA1A5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FB2E-A9B1-4206-AB09-CE5DB1F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3E04-46F9-4C12-93F7-2B2E1A5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8C1-0769-48CD-B462-5A4AF26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6871-F106-49E3-B523-36AD0148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1542-93C7-4C66-AA79-1E16CB5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598D-70E9-460E-B14D-C70EA2B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5AD-A0EE-4547-AC71-1827C720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43C-3176-45AB-BB45-74CA10D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2B44-069E-494C-8DD1-36C0365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956-D16D-40CE-99AE-21665D7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896-4373-4005-8E21-9FC73B3C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104E-ECF0-4434-ACC6-8A17872C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D1B-009B-4108-A1CB-DDD41D76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55B-C781-4439-A2EE-52D22154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83B-098A-4E15-A6D5-FBB99F0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4B1-3A13-4ABE-AA9C-F3AACF3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F3E-F5C7-4923-ABC0-5AE8DA9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0CD-950A-47DB-9166-C0A6D64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D5C-D95A-462C-BC5E-1D651A4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308-BB60-46B0-B523-7CD460338CD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55C8-F6EB-497E-84EC-33A86F1B311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E93E-A84B-49F8-A780-D6D33B0E71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ascading If-else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sted if-else structur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scading if-else stat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ecause control cascades down the bran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opmost level is evaluated firs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corresponding statements are executed and control moves to the next statement following the cascading 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fails, then control cascades down to the next if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control cascades down the statement from one test to another until one succeeds or the end of the statement is reach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nested if-else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4281480"/>
            <a:ext cx="66294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7B9-3487-4F84-B656-B9D4BA421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 Cleaner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t is necessary to handle a large number of alternatives, nested if-else statements can become cumbersome and unwiel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ple levels of indentation and curly braces cause the code to look cluttered make it harder to read/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         nested if statements       vs.   a more readable else-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C95-04A6-477A-BA66-015D6D653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a Web page that simulates the roll of a single d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n image to display the d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 button to initiate the die ro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the button, a random die roll is selected and the corresponding image is display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6095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6DB-E3AE-42D2-AEE9-87F19EE3D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12949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used to select the random 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on the roll value, the correct image is display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re than two possibilities, a cascading if-else is nee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084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2CE-7C80-427A-B20A-346A09620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izing Co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each case in the cascading if-else follows the same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828800"/>
            <a:ext cx="7925040" cy="304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5628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ntire cascading if-else structure could be replaced by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613480"/>
            <a:ext cx="8077320" cy="6048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"http://dave-reed.com/book/Images/die" +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+ "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779-1E00-4106-A253-3FBB92D0D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ftware applications, if statements are often used to count occurrences of conditional or user-initiated ev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dice rolls come up dou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the user guesses a number corre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that is used to record occurrences of an ev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u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counter is set to zer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specified action occurs, the counter is increment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fter a given time period, the value stored in the counter will tell you the number of times the desired event took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74674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AEF-FD7A-40E4-810B-89DB3A311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gical Connectiv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, simple comparisons between two values may not be adequate to express the conditions under which code should exec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operators for expressing multipart t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A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&amp;&amp;): represents the con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&amp;&amp; TEST2) is true if both TEST1 and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&amp;&amp;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double fours are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||): represents the dis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|| TEST2) is true if either TEST1 or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||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at least one four is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N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!): represents ne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!TEST1) is true only if TEST1 is 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!(roll1 == 4 || roll2 == 4)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neither roll is a fo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B09-D24C-438E-B10F-A8B8C1346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of the code you have written has be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nconditionally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carried out statements in the same set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trast, many programming tasks require code that reacts differently under varying circumstances or cond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udent's course grade depends upon his/her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n ESP test requires recognizing when a subject guessed righ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outcome of a game depends upon die rolls or player mo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a program’s ability to execute a statement or sequence of statements only if some condition holds tr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491-D655-42D3-AB1E-D9A732CB0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simplest form of conditional statement i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e action is taken if some condition is true, but a different action is taken if the condition is not true (called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lse 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lse case is op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the if statemen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388620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7B9-0C1A-4C00-977C-44813F07A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races in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prefer braces on separate lines formatted like th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if (BOOLEAN_TES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ither style is acceptable, but be consist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erly aligning the code (with if-else lining up and statements indented) is central in producing code that is easy to read and mod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you can omit the braces if there is only one 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IS STRONGLY DISCOURAGED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lead to tricky errors if the code is ever mod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002-FDA0-4663-AEB6-78133B65E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oolean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st that controls an if statement can be an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oolean expr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i.e., an expression that evaluates to eith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lean tests are formed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cause they test the relationships between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4956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oolean test in an if statement determines the code that will be exec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true, then the code inside the subsequent curly braces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false, then the code inside the curly braces following the else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if the test is false and there is no else case, the program moves on to the statement directly after the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857680"/>
            <a:ext cx="2209680" cy="95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NO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= is for comparis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 is for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240984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417-D80B-4225-BA9C-0F6739D3F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 Examp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63868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ince its purpose is to control the execution of other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43160"/>
            <a:ext cx="6781680" cy="41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E3B-4D4A-4A7E-88AD-62D73DB68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 within a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4771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20920"/>
            <a:ext cx="33051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DF8-2E10-49CB-B746-2E7CB273B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Text Fiel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at values entered via text boxes/areas are always returned as str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4724280" cy="118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document.getElementById('age').valu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149560"/>
            <a:ext cx="3124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say that a 2-year old can vote, but a 102-year old can'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564080"/>
            <a:ext cx="5257800" cy="1371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ge = parseFloat(document.getElementById('age').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ag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732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behave as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you wish to treat a value obtained from a text box or text area as a number, you must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to conve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FEE-D0C4-46F1-9DD2-088FDB0BE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sted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tasks often require code that responds to more than one cond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nesting one if statement inside of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determining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-chill is only defined for temperatures less than or equal to 50 degr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if test is to determine if it is a valid temperature to calculate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sted if statement only executes if the outer test i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65530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F98-D44B-4532-9456-1F696FE54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0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