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45E9-3D94-4C55-B5A5-1C223A4BA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EB6D-DB30-4D62-87F3-3A24A9953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B1EA-F4A7-4BC0-BAA3-9C46968B9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C8EB-AD65-48E0-AB86-B453C825C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D8FC5-4FB4-47A3-BB01-46217416C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36A49-AF69-46F5-B242-830C61E27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C1ABC-B083-4ED6-BE6A-546ED9609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60F75-2575-4B57-ABFD-B26875E7E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BAA50-49AB-4A5D-AA37-FAFB9BB3C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CA7A7-135E-4297-A192-90717067B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57792-7979-4E27-B1AC-91AECA6F3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56A9-4A25-40D1-B520-114CA47E6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D4A88-7DDB-4B04-922B-90D6D03F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260C3-BC86-4A98-AEDE-01CB6093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4C42F-F0A7-4F33-A7C1-0E0E5F448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D5769-4758-4A48-B915-6796A0A04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E1FB5-9008-49A3-BFBC-874FD6CFD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2D08-1C41-4183-8BEE-12517D090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24B0-DD5C-4CB8-A049-C20245309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2183-CB79-468E-865B-72BAC08DB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15C9-B49F-4C34-95AC-E80B982C1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11AB-58F4-4E70-957B-08946EB1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A1BF-CAA8-4C8F-B558-19CAD4A9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F542-71B5-49A3-B7EA-41FDDDD5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C251D-4314-45D6-A674-2E6C2635CA90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066680"/>
            <a:ext cx="8381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8077320" y="152280"/>
            <a:ext cx="610920" cy="83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563868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w Cen MT Condensed Extra Bold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FC047-A2D4-4937-8FBF-CFEE46A3E26F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3886200"/>
            <a:ext cx="2870280" cy="119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98880" y="3886200"/>
            <a:ext cx="2870280" cy="11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69160" y="3886200"/>
            <a:ext cx="2869920" cy="119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264360" y="609480"/>
            <a:ext cx="2435040" cy="30481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49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5943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9900"/>
                </a:solidFill>
                <a:latin typeface="Tw Cen MT Condensed Extra Bold"/>
              </a:rPr>
              <a:t>A Balanced Introduction to Computer Science, 2/E</a:t>
            </a:r>
            <a:br>
              <a:rPr sz="3800"/>
            </a:br>
            <a:br>
              <a:rPr sz="1500"/>
            </a:br>
            <a:r>
              <a:rPr b="0" lang="en-US" sz="2400" spc="-1" strike="noStrike">
                <a:solidFill>
                  <a:srgbClr val="ff9900"/>
                </a:solidFill>
                <a:latin typeface="Tw Cen MT Condensed Extra Bold"/>
              </a:rPr>
              <a:t>David Reed, Creighton University</a:t>
            </a:r>
            <a:br>
              <a:rPr sz="3400"/>
            </a:br>
            <a:br>
              <a:rPr sz="12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©2008 Pearson Prentice Hall</a:t>
            </a:r>
            <a:br>
              <a:rPr sz="21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ISBN 978-0-13-601722-6</a:t>
            </a:r>
            <a:endParaRPr b="0" lang="en-US" sz="21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295280" y="4419720"/>
            <a:ext cx="6477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vent-Driven Pa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31375-F13D-4BDB-B263-6D1EDFCB2BA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400440" y="1599840"/>
            <a:ext cx="25909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ahrBox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s used for inpu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button's ONCLICK attribute specifies the code for converting the temperatu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elsiusBox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s used for outpu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456840" y="456840"/>
            <a:ext cx="70866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Text Boxes for Inpu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5867280" cy="4237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219640" y="4495680"/>
            <a:ext cx="3162240" cy="2040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2785-7086-456D-9ACF-0ED3C49154A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nput and Outpu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1447920"/>
            <a:ext cx="3276720" cy="31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te: the same text box can be used for both input and 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modify the conversion page to allow for entering a temperature in either box, then convert to the o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write a simple page in which the user can enter a number, then double it by clicking a but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809880" y="1371600"/>
            <a:ext cx="4924440" cy="21193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809880" y="3809880"/>
            <a:ext cx="4924440" cy="208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E609-6A53-4366-A83C-0CF445F1087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Text Area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1295280"/>
            <a:ext cx="84582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 text area is similar to a text box but it can contain any number of text l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eneral form of a text area elemen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&lt;textarea name="TEXTAREA_NAME" rows=NUM_ROWS cols=NUM_COLS wrap="virtual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INITIAL_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&lt;/textarea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NAME attribute gives the element a name so that it can be referen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ROWS attribute specifies the height (number of text lines) of the 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COLS attribute specifies the width (number of characters) of the 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WRAP attribute ensures that the text will wrap from one line to the nex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stead of running off the edge of the text 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nlike a text box, opening and closing tags are used to define a text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y text appearing between the tags will be the initial text in the text 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therwise, the contents of a text area are accessed/assigned in the same w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9821-1105-4AF7-BDFB-65F1AB402CA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6248520" y="1676160"/>
            <a:ext cx="26668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user enters first and last names into text box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long greeting is constructed using the names and assigned to the text are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76960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nput/Output via Text Area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5562720" cy="4136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952880" y="4572000"/>
            <a:ext cx="3353040" cy="2013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7DDC-AB3C-4B08-9807-0F5A668CE36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Dynamic Imag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just as you can use user-initiated events to change the contents of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ext areas and text boxes, you can also dynamically modify imag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&lt;img id="faceImg" src="happy.gif" alt="Happy Face" /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uses the image stored in the fil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appy.gif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to appear in the pag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you can change the image by reassigning its SRC attribu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milar to the way that text boxes/areas have their VALUE attribute reassign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36242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636242"/>
                </a:solidFill>
                <a:latin typeface="Courier New"/>
              </a:rPr>
              <a:t>document.getElementById('faceImg').src = "sad.gif"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laces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appy.gif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wit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ad.gif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D57A-81F2-4AF5-B40E-6292163F9FB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80880"/>
            <a:ext cx="7315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Dynamic Image Exampl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086600" y="1447560"/>
            <a:ext cx="1828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itially the image is set to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appy.gif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n a button is clicked, images is assigned a new SRC fi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6543720" cy="3591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648320" y="4419720"/>
            <a:ext cx="3581280" cy="2238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BD43-FDD6-420D-87FD-45B6FA631DA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implifying button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4343400"/>
            <a:ext cx="83059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unctions provide a mechanism for simplifying complex buttons such as thi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recall from Chapter 5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unctions minimize the amount of detail that has to be consider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can us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ath.sqr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without worrying about how it work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unctions reduce the length and complexity of cod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a single call to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ath.sqr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replaces the underlying complex algorith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1371600"/>
            <a:ext cx="83059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sider the button from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reetbox.html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size of ONCLICK attribute makes the button complex and difficult to 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lus, must be careful with nested quotes ("…" vs. '…'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600200" y="1886040"/>
            <a:ext cx="5191200" cy="1162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122F-31BD-4C82-8957-695138C240D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46748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imple user-defined function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addition to JavaScript's predefined functions, the user can define new functions in the HEAD section and call them within the pag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e will explore user-defined functions fully in Chapter 9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r now, the following simple form suffices for simplifying butt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600200" y="3048120"/>
            <a:ext cx="6019920" cy="14144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4724280"/>
            <a:ext cx="83059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function definition begins with the word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unction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followed by its name and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function name should be descriptive of the task being perform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nes beginning wit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re comments that describe the function's behavi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ments are ignored by the interpreter, but make code more user-re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statements to be executed when the function is called are placed between the curly br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251E-57AD-4D02-9522-4E8C73B7DD6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Greeting revisited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43240" y="1371240"/>
            <a:ext cx="2971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code from the button is moved to the user-defined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ree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fun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s a result, the button is greatly simplifi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57200" y="1200240"/>
            <a:ext cx="5346720" cy="5429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5562720" y="2787480"/>
            <a:ext cx="3352680" cy="20131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5943600" y="5105520"/>
            <a:ext cx="2895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GENERAL RULE: if more than one statement is to be associated with a button, define a separate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9E1D-4662-4999-AD7E-C891CEFCE6F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Event-driven Pag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ne popular feature of the Web is its interactive natur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you click on buttons to make windows appea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you enter credit card information in a form and submit it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ages that respond to user actions such as mouse clicks or form entries are known as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event-driven pag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JavaScript code can be combined with HTML elements such as buttons, text fields, and text areas to produce event-driven pa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40561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event handler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is an HTML element that can be programmed to respond to a user’s a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simplest event handler is a but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button can be associated with JavaScript code that will execute when the button is click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590920" y="5504040"/>
            <a:ext cx="2590560" cy="668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9B3E-86AA-4D80-9D64-FDD0B6E9BD7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23888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Buttons and Form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371600"/>
            <a:ext cx="82296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eneral form of a button elemen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&lt;input type="button" value="BUTTON_LABEL" onclick="JAVASCRIPT_CODE" 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TYPE attribute of the INPUT element identifies the element to be a but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VALUE attribute specifies the text label that appears on the but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ONCLICK attribute specifies the action to take pl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y JavaScript statement(s) can be assigned to the ONCLICK attrib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s can be (and frequently is) a call to a JavaScript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3962520"/>
            <a:ext cx="838188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r exampl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20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&lt;input type="button" value="Click for Free Money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                     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onclick="</a:t>
            </a:r>
            <a:r>
              <a:rPr b="0" lang="en-US" sz="1400" spc="-1" strike="noStrike">
                <a:solidFill>
                  <a:srgbClr val="636242"/>
                </a:solidFill>
                <a:latin typeface="Courier New"/>
              </a:rPr>
              <a:t>alert('Yeah, right.');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" 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predefined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ler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function displays a message in a new wind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re, the message 'Yeah, right.' is displayed at the click of the but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string can be denoted using either double("…") or single ('…') quo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re, single quotes must be used to avoid confusion with the ONCLICK quo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01AF-C0FB-4BBC-BB00-631F6434C44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Random Number Exampl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160020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call the task of generating random numb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arlier, we did this by embedding JavaScript code in SCRIPT t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ach time the page was loaded in the browser, the code was executed and the random number was written into the HTML text using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cument.wr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RAWBACK: the user had to reload for each random 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LTERNATIVE: place a button in the page with associated code for generating and displaying the random 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ach time the user clicks the button, the code for generating and displaying the number is execu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9A9E-DEAF-4028-A5A6-905E31FBBA8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09120" y="14475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en the button is clicked, two JavaScript statements are execut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772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number in the range 1..100 is randomly select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772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at number is displayed in an alert window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3276720"/>
            <a:ext cx="82296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68580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LuckyForm Exampl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85800" y="3075120"/>
            <a:ext cx="5638680" cy="3216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791320" y="2286000"/>
            <a:ext cx="3162240" cy="234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61EA-E7DF-42FF-B9A0-F4F3F3A678D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Output via Text Box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 button provides a simple mechanism for user interaction in a Web pag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y clicking the button, the user initiates some a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text box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is an event-handler that can display text (a word or phras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like an alert window, the text box appears as a box embedded in the pa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xt can be written to the box by JavaScript code (i.e., the box displays output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4952880" y="4286160"/>
            <a:ext cx="3810240" cy="15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r example, we could reimplement the lucky number page using a text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text box containing the random number is embedded in the p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oesn't require the user to close the alert window after each num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23960" y="3522600"/>
            <a:ext cx="4000320" cy="296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7B6B-2103-4545-B749-48D7C96264B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Output via Text Box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1523880"/>
            <a:ext cx="85345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eneral form of a text box elemen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&lt;input type="text" id="BOX_NAME" size="NUM_CHARS" value="INITIAL_TEXT" 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TYPE attribute of the INPUT element identifies the element to be a text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ID attribute gives the element an identifier so that it can be referen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SIZE attribute specifies the size of the box (number of characters that f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VALUE attribute specifies text that initially appears in the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419112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o display text in a text box, a JavaScript assignment is used to assign to its value attrib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s part of the assignment, must specify the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absolute nam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of the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general form i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36242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636242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636242"/>
                </a:solidFill>
                <a:latin typeface="Courier New"/>
              </a:rPr>
              <a:t>document.getElementById('BOX_NAME').value = VALUE_TO_BE_DISPLAYE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8483-4FB8-4A31-97C3-B1D24ADB213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400800" y="1295280"/>
            <a:ext cx="23623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n the button is clicked, the function call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isplayNumber()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s execut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function generates the random number and assigns it to the text box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s a result, each button click yields a new number in the box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456840" y="456840"/>
            <a:ext cx="76201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Text Box for Displaying Outpu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5638680" cy="3803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495680" y="4684680"/>
            <a:ext cx="2705400" cy="200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0319-A904-4AFF-80B9-4E48C6B52A8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nput via Text Box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xt boxes can also be used for receiving user inpu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user can enter text directly into the box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at text can then be accessed by JavaScript code via the absolute name of the box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36242"/>
                </a:solidFill>
                <a:latin typeface="Courier New"/>
              </a:rPr>
              <a:t>document.geElementById('BOX_NAME').valu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te that the value retrieved from a text box is always a str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the user enters a number, say 93, then the absolute name will access "93"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milar to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mp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, you must us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arseFloa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to convert the string to its numeric valu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495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example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we can revisit our temperature conversion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user enters the Fahrenheit temperature in a text bo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t the click of a button, the input is accessed and converted to Celsi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nother text box is used to display the converted tempera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41E3-6AF9-44BD-A7EE-3782D821489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davir2</cp:lastModifiedBy>
  <dcterms:modified xsi:type="dcterms:W3CDTF">2007-09-12T22:13:01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