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749-B4C0-4385-A832-53006A59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D7E-4D9B-4312-ADA0-67185079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72B-3F4E-4D10-97AA-2B74907D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DC2-261F-4797-B17E-5B2E1786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BD81-6052-491D-AA02-7F4EB882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DC1A-93BF-443D-8621-5754DC36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47AF-87C6-4C82-B63C-7CB719D6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143B-D6D5-4DB6-BF40-EE5F167D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31AA-D18D-42B2-B803-0D0C1D08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1265-B5BF-4F59-AA5A-421A6B6C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E248-C498-4DD0-86D1-BED96346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DCA-F7F3-4CF3-AC6C-52D82E0E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4DF4-EB17-4364-A5E2-3C86FEAF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7549-853C-4B12-A6B2-172E6951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4FFC-A213-42BF-9E01-403339F2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2EF9-D4EE-4825-90A1-41AFDBE4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4613-AACA-4282-AF4C-6B6053B6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2F9-F0C8-4A19-BF4E-C1DA77F8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82B-DA1A-489F-933E-B46303D3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B6F-31BE-48D4-A021-0AC165BD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AD3-4F49-4FEF-ABE3-BDB79569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7DC-FC77-4BA1-8015-9BB1A984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EF1-3CFC-4E9F-ABC6-FB01EF45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3ADF-9766-4FDD-8581-015A2B61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C69E-9A65-45EA-8FD1-1ECDDBB34FC0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A09E-C6F0-4BE0-9F98-1AC307B3AECE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Re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D3FB-BCAC-408F-9CC2-45A00915238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Sound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95280"/>
            <a:ext cx="830592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nalog recordings are repeatedly duplicated, small errors that were originally unnoticed begin to propa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gital recordings can be reproduced exactly without any deterio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sound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alog waveforms must be converted to a sequence of discrete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igital sampl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the process in which the amplitude of a wave is measured at regular intervals, and stored as discrete measur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5516640"/>
            <a:ext cx="83059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2860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requent measurements must be taken to ensure high quality (e.g., 44,100 readings per second for a C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s results in massive amounts of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chniques are used to compress the data and reduce file sizes (e.g., MP3, WAV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62000" y="3429000"/>
            <a:ext cx="4743720" cy="191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8B6-8D94-4F85-9417-F96D47CA2E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Im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representing im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ages are stored using a variety of formats and compression techniq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implest representation i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itm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tmaps partition an image into a grid of picture elements, cal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ixel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and then convert each pixel into a bit patte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886200"/>
            <a:ext cx="4343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resolu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sharpness or clarity of an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tmaps that are divided into smaller pixels will yield higher resolution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left image is stored using 96 pixels per square inch, and the right image is stored using 48 pixels per square i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left image appears sharp, but has twice the storag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76920" y="1541520"/>
            <a:ext cx="3743280" cy="1811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3581280" cy="22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C20D-FAA6-4CF5-9603-C088E62AFF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Image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creating a bitmap of a color image, more than one bit is required to represent each pix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most common system is to translate each pixel into a 24 bit code, known as it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GB valu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8 bits to represent the intensity of each red/green/blue compon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49568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on image formats implement various compression techniques to reduce storage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F (Graphics Interchange Form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ssl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rmat, meaning no information is lost in the compres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ly used for precise pictures, such as line draw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PEG (Joint Photographic Experts Gro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ss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rmat, so the compression is not fully reversible (but more efficien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ly used for photogra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86080" y="2557440"/>
            <a:ext cx="6286320" cy="17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D16-A284-411A-80DB-7D6793A4E4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stinguishing Data Typ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does a computer know what type of value is stored in a particular piece of memor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rt answer: it doesn'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program stores data in memory, it must store additional information as to what type of data the bit pattern repres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us, the same bit pattern might represent different values in different contex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895480" y="3276720"/>
            <a:ext cx="317988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0D74-6973-499E-BBEB-5057A93DCF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nalog vs. Digital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wo ways data can be stored electronicall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gnals represent data in a way that is analogous to real lif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gnals can vary continuously across an infinite range of valu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frequencies on an old-fashioned radi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 a d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igita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gnals utilize only a finite set of valu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frequencies on a modern radio with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gital displ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major tradeoff between analog and digital is variability vs. reproduci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alog allows for a (potentially) infinite number of unique signals, but they are harder to reprodu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od for storing data that is highly variable but does not need to be reproduced exact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gital signals limit the number of representable signals, but they are easily remembered and reproduc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od for storing data when reproducibility is paramou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2590920"/>
            <a:ext cx="2862360" cy="11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2473-5714-44B5-80F3-D323C33180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inary Numb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computers save and manipulate data as discrete (digital)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most effective systems use two distinct binary states for data represen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essence, all data is stored a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inary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e binary number system, all values are represented using only the two binary digits 0 and 1, which are calle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nary represen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verting binary to decim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3047760" cy="1563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362320" y="5181480"/>
            <a:ext cx="3886200" cy="132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C550-FA3A-4F89-B293-A86239A84F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Decimal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 Binary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gorithm for converting from decimal (D) to binary (B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5257800" cy="3228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0199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87E-5FF2-428A-86F3-5A43694D51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Integ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n integer value must be saved on a computer, its binary equivalent can be encoded as a bit pattern and stored digital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ually, a fixed size (e.g., 32 bits) is used for each integer so that the computer knows where one integer ends and another begi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itial bit in each pattern acts as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ign b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0=positive, 1=negativ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gative numbers are represented i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wo’s complement notatio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"largest" bit pattern corresponds to the smallest absolute value (-1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09680" y="3581280"/>
            <a:ext cx="4629240" cy="303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442-3356-4F3A-BBB9-9ABC1BC201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Real Numb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real number can be uniquely identified by the two components of its scientific notation (fractional part and the exponen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23.45 =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2345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x 10</a:t>
            </a:r>
            <a:r>
              <a:rPr b="0" lang="en-US" sz="1400" spc="-1" strike="noStrike" baseline="30000">
                <a:solidFill>
                  <a:srgbClr val="ff0000"/>
                </a:solidFill>
                <a:latin typeface="Verdana"/>
              </a:rPr>
              <a:t>-2</a:t>
            </a:r>
            <a:r>
              <a:rPr b="0" lang="en-US" sz="1400" spc="-1" strike="noStrike" baseline="30000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000042 =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4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x 10</a:t>
            </a:r>
            <a:r>
              <a:rPr b="0" lang="en-US" sz="1400" spc="-1" strike="noStrike" baseline="30000">
                <a:solidFill>
                  <a:srgbClr val="ff0000"/>
                </a:solidFill>
                <a:latin typeface="Verdana"/>
              </a:rPr>
              <a:t>-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us, any real number can be stored as a pair of integ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al numbers stored in this format are known a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floating point numb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since the decimal point moves (floats) to normalize the f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ndard formats exist for storing real numbers, using either 32 or 64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038480"/>
            <a:ext cx="2514600" cy="1910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most programming languages represent integers and reals differ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JavaScript simplifies things by using IEEE double-precision floating point for all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19000" y="3836880"/>
            <a:ext cx="5505480" cy="28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31E-FAF0-4F66-9062-94C1E18B70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Charac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276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aracters have no natural correspondence to binary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 scientists devised an arbitrary system for representing characters as bit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CII (American Standard Code for Information Interchang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ps each character to a specific 8-bit patte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 that all digits are contiguous, as are lower- and upper-case lett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'0' &lt; '1' &lt; … &lt; '9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'A' &lt; 'B' &lt; … &lt; 'Z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'a' &lt; 'b' &lt; … &lt; 'z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icode is a 16-bit extension to ASCII that supports other langu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86200" y="1405080"/>
            <a:ext cx="4876920" cy="44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FE98-9CCF-4CE0-8D32-6543C9FB57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Tex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ings can be represented as sequences of ASCII codes, one for each character in the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114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cific programs may store additional information along with the ASCII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 programming languages will often store the number of characters along with the ASCII c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word processing programs will insert special character symbols to denote formatting (analogous to HTML tags in a Web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296040" cy="9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CE8-EE71-4392-951D-57E235A1FC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Soun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s are capable of representing much more than numbers and tex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lex data requires additional techniques and algorith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representing sou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unds are inherently analog signals with a specific amplitudes and frequ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sound waves reach your ear, they cau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eardrum to vibrate, and your brai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prets the vibration as sou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 telephones translate a waveform int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ectrical signals, which are then sent ove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wire and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verted back to sou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 phonographs interpret waveforms stored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grooves of a disk (similar to audio cassett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alog signals cannot be reproduced exactly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this is not usually a problem since th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uman ear is unlikely to notice smal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consist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59680" y="3352680"/>
            <a:ext cx="2274840" cy="289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8C40-D3C9-4A57-BCD4-F4336C5C58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7:3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