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524-978A-4732-9108-C48FD250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70A-E9C7-4B74-B6E8-35A93FAD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AAC-B2B3-46D5-A1B5-2A19446A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D53-8D54-4482-8836-186DFCEF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D32D-3F0D-4FEC-8D47-8A1121AC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DB19-5257-44FB-8A8C-13CD5DEC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478D-754E-46D1-98DE-E3C03691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DEBE-3292-4147-99CF-F60D034D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6FC1-B46F-4C00-A4FF-BD218EC5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0B40-FFDC-47D5-ABB7-91D52152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43F4-8BD6-4307-B66E-518D717B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CF5-B4B2-4227-9552-D9C8DFC0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C43A-4011-4401-B046-4D19063C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003C-B4E3-4F35-958F-74D2A5F2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775C-04E2-40FA-A192-47B21AB0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95D2-1E0C-40B2-A8B5-32F73D9D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DCF3-4971-4440-8DAE-A8CD0085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E27-02EB-40AB-9E17-6C2170EE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86D-DDD2-477E-B440-73F5CD57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AE4-C480-4C54-A76D-4187D84E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3E9-8081-486D-ABE4-313B0ECF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6167-4D3B-4E39-A530-29815085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0EC-355E-4C8A-8D3A-A953C39E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437-BABF-4805-A8D7-E0A4AB95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3FD2-58F7-462E-B076-DEE96A5DED4F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E981-C098-41BE-A00D-B762DE198029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4419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 Science as a Discip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1D14-7088-4151-AD61-C77C147B64B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s and Data Structur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that involves developing, analyzing, and implementing algorithms for solving probl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cryption is the process of encoding a message so that it is decipherable only by its intended recipi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esar cipher: shift each letter three down in the alphab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ET TU BRUT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HW WX EUXW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esar cipher is an example of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private-key encryp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lies on the sender and the recipient sharing a secret k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modern encryption algorithms rely on private key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Digital Encryption Standard (DES) utilizes 56-bit key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09680" y="4648320"/>
            <a:ext cx="480060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54D-4F29-4B79-B43F-503C45A606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ublic-Key Encryp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vate-key encryption assumes that the sender and the recipient have agreed upon some key ahead of time (which introduces other security risk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itfield Diffie and Martin Hellman propose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ublic-key encry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ign each party a pair of associated keys, one is public and the other is priv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ssage encoded with a public key requires the corresponding private key for decoding, and vice ver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 all secure communications on the Internet use public key encryp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s for double encryption to also verify the identity of the sende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encode messages with your own private key and the recipient’s public key, and decode the message in rever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6553080" cy="193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929-D791-4C8F-BA3A-6C890253A4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chitectu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concerned with methods of organizing hardware components into efficient, reliable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arallel proce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ltiple processors can sometimes be utilized to share the computational loa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re are costs associated with coordinating the processors and dividing the work, so  not well suited for all tas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ing when parallel processing can be used effectively is a common task for computer archit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Core 2 Duo processor integrates the circuitry for 2 process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execute two different instructions simultaneously, potentially double execution sp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high-end Web Servers utilize multiple process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rvice multiple requests simultaneously by distributing the load among the process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572000"/>
            <a:ext cx="4876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ep Blue, IBM's chess playing computer, contained 32 general purpose processors and 512 special-purpose chess proc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cessors worked in parallel to evaluate chess moves (could generate and evaluate 200 million chess moves per seco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997, Deep Blue became the first computer to beat a world champion in a chess tourn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7800" y="4334040"/>
            <a:ext cx="3505320" cy="19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9F2-0364-4A72-B7CE-84DE5B3EF4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perating Systems and Networ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concerned with mechanisms to control the hardware and software components of computer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perating system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diate between hardware and softw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ime-sharing -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ed for multiple users to work on the same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user is allocated a portion of the processor, and the processor rotates among tasks so rapidly that it appears to be executing tasks simultaneous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ltitasking – a single user can run multiple programs simultaneous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application is allocated a portion of the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809880"/>
            <a:ext cx="83059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network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llow computers to communicate and shar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de area network (WAN) – connec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s over long distances (e.g.,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cal area network (LAN) – connec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s over short distances (e.g., s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 or buil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thernet is a family of technologies for building 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plest form uses broadcasting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288120" y="4191120"/>
            <a:ext cx="1941480" cy="24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10A-C631-46BE-8D59-EF50A6908E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oftware Engineer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concerned with creating effective software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rge projects can encompass millions of lines of c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ams of programmers work together to make an integrated wh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ordination and testing are key to successful proj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50292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demand continues to grow, placing pressure on programmers to produce at faster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early, there is a limit to personal produ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mply adding more programmers does not solve the problem: increasing numbers means increased complexity, and coordination becomes an even bigger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recent years, the adoption of the object-oriented programming methodology has made it easier to reus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714920" cy="23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297-49C1-4288-B2C2-592A56E251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tificial Intelligen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that attempts to make computers exhibit human-like characteristics (e.g., the ability to reason and thin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50, Turing predicted intelligent computers by 2000 (still not even clos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progress has been made in many A.I. real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bots in manufactu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pert systems – programs that encapsulate expert knowledge in a specific domain (e.g., for medical diagnosi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ural computing – design of architectures that mimic the bra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6248160" cy="242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EF1-7246-4C84-89B6-6138B31400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oinformatic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29200" y="1727280"/>
            <a:ext cx="3753000" cy="33782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that bridges the gap between biology and computer sc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cuses on using computers and computer science techniques to solve biological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s are integrated with various scientific to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microscopes connected to computers and digital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are used to model biological sys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pharmaceutical companies model drug interactions to save time and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s are used to store and process large amounts of biological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Human Genome Project stores and provides tools for studying D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08A-D3DB-4370-BF45-7CE1AD419D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Ethics of Comput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technology becomes more prevalent in society, computing professionals must ensure that hardware and software are used safely, fairly, and effective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562720" cy="43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3CB-7045-45A1-9BEC-8350CE8801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 “Science”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people argue that computer science is not a science in the same sense that biology and chemistry 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disciplinary nature of computer science has made it hard to classif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science is the study of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more than just machiner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nvolves all aspects of problem solving, inclu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sign and analysis of algorith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ormalization of algorithms as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velopment of computational devices for execu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heoretical study of the power and limitations of compu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ther this constitutes a "science" is a matter of interpre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rtainly, computer science represents a rigorous approach to understanding complex phenomena and problem solv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B07-EAAF-4127-A0A4-B18ED2C497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cientific Metho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developed by the scientific community for exami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servations and events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cientific metho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4956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activities carried out by computer scientists follow the scientific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designing and implementing a large database system requires hypothesizing about its behavior under various conditioning, experimenting to test those hypotheses, analyzing the results, and possibly redesig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debugging a complex program requires forming hypotheses about where an error might be occurring, experimenting to test those hypotheses, analyzing the results, and fixing the bu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148440" cy="176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2E2-72F1-4560-98C8-78FAE525F3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tificial Scien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2952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stinction between computer science and natural sciences like biology, chemistry, and physics is the type of systems being stud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tural sciences study naturally occurring phenomena and attempt to extract underlying laws of n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science study human-made constructs: programs, computers, and computational m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rbert Simon coined the phrase "artificial science" to distinguish computer science from the natural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Europe, computer science is commonly called "Informatic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hasizes the role of information processing as opposed to machin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rm "Algorithmics" has also been prop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hasizes the role of algorithms and problem sol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related fields study computation from different persp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mputer engineer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cuses on the design and construction of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formation systems manageme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cuses on business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429-D818-49FE-AB87-0155B4CD76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 Science Them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computation encompasses many different types of activities, computer science research is often difficult to classif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ree recurring themes define the discip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348160" cy="38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D3E-6443-42FB-A904-91E8D554D8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ard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hysical components of a computer and its supporting de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modern computers implement the von Neumann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 + memory + input/out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going research seeks to improve hardware design and organiza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ircuit design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reate smaller, faster, more energy-efficient chi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icrochip manufactur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eek to miniaturize and streamline produ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ystems architec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research methods to increas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hroughpu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the amount of work done in a given time perio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parallel processing – splitting the computation across multiple CP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networking – connecting computers to share information and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1E4-4C90-4E69-B2CE-F79986DFD7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oft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rograms that execute on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 basic software categor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ystems softwar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grams that directly control the execution of hardware components (e.g., operating system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evelopment softwar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grams that are used as tools in the development of other programs (e.g.  Microsoft.NET, Java SDK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pplications softwar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ll other programs, which perform a wide variety of tasks (e.g., web browsers, word processors, gam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careers in computer science are related to the design, development, testing, and maintenance of softw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anguage design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velop and extend programming languages for easier and more efficient sol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gramm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ign and code algorithms for execution on a comput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ystems analys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alyze program designs and manage develop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379-5AAC-4E1E-973F-7A582255E4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or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oretical computer scientists strive to understand the capabilities of algorithms and computers (deeply rooted in math and formal logi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uring machin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abstract computational machine invented by computer pioneer Alan Tur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ists of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otentially infinite tape on which characters can be writt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rocessing unit that can read and write on the tape, move in either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rection, and distinguish between a finite number of st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gnificance of the Turing mach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programmable (example below is programmed to distinguish between an even or odd number of a's on the tap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ably as powerful as any modern computer, but simpler so provides a manageable tool for studying computa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572000"/>
            <a:ext cx="205740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Turing used this simpler model to prove there are problems that cannot be solved by any comput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57440" y="4267080"/>
            <a:ext cx="4514760" cy="24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DB66-B4C9-4F56-9276-22B9FBD3D5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ubfields of Computer Scien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562360" y="1295280"/>
            <a:ext cx="3276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science can be divided into subfield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subfield takes a unique approach to compu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 the common themes of computer science (hardware, software, and theory) influence every subfie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628880" cy="5105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2120" y="63244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Denning, Peter. “Computer Science: The Discipline.” In Encyclopedia of Computer Science, 4</a:t>
            </a:r>
            <a:r>
              <a:rPr b="0" i="1" lang="en-US" sz="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 ed., 2000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289-134D-417D-8347-646F8B468A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8:3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