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8C7-212F-4557-9CE4-F08697DF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F3E-920B-430E-B84B-4BD8B24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824-FB26-42FC-9C51-1C759CDC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EF5-D455-4B0E-9DEC-BFBEC478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F12F-8CA1-482A-8A34-B7C33FE0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465A-0B59-4860-9FE1-23EA487A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6DF4-3413-42ED-9DBE-C1472308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3F6B-C4F0-4164-95C5-CE4E2002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0E5-6A9B-41C2-B9AF-701A0A28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A1CD-0DC6-4ED2-945B-5BFA1EA8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C8E3-B567-4EEF-B250-C8EBE75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ABF-581F-4E89-B950-2B2EFE11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65B6-F612-4DBA-A778-B95D314C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2CDB-0C66-4C0C-92FE-999FA68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819F-11CF-49E3-A3AE-D517E77C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69B5-F593-4423-BB72-F7A352ED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BA7D-F001-41EC-A2D0-B45EEA71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BA7-82E8-4657-9A8D-B0A4D3C6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BD1-170D-47D8-A67E-02B1F76E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F16-75AB-4B33-99A1-B47A690E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494-36A7-42AC-976E-8A6A7C6B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71E-8B64-4C75-A4CD-65A7A03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F37-1731-4AD9-AD1C-6C25BF6E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A38-5B66-4AF0-A068-E60CBA0F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8E0C-B73C-411E-B78B-4B1B39E6DC3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EEB8-29B0-43E2-8A20-754FAA323C3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tionmaster.com/encyclopedia/Image:Grace-Hopper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History of Compu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0DBB-EE78-4589-BE57-7A017F7DD7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4: VLSI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5410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 VLSI came the rise of personal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5 - Bill Gates &amp; Paul Allen founded Microso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tes wrote a BASIC interpreter for the first PC (Alt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7 - Steve Wozniak &amp; Steve Jobs founded Ap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nt from Jobs' garage to $120 million in sales by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0 - IBM introduced 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licensed the DOS operating system to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4 - Apple countered with Macinto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roduced the modern GUI-based OS (which was mostly developed at Xer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5 - Microsoft countered with Windo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867280" y="1457280"/>
          <a:ext cx="2895840" cy="2691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chest People in the World (Forbes.com, 3/8/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 Gate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6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ren Buffe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2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los Slim Helu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9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var Kampra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3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 Lakshmi Mitta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2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aul Alle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7985160" y="605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8006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80's - object-oriented programming beg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resented a new approach to program design which views a program as a collection of interacting software objects that model real-world 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malltalk (Kay, 1980), C++ (Stroustrup, 1985), Java (Sun, 19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FE9-DFF8-44CB-85A8-0F821553C7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5: Parallelism/Network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8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test generation of computers is still hotly deba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new switching technologies, but changes in usage have occur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-end machines (e.g. Web servers) can have multiple CPU'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7, highly parallel Deep Blue beat Kasparov in a chess ma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3, successor Deep Junior played Kasparov to a dra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352680"/>
            <a:ext cx="51055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computers today are net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traces its roots to the 1969 ARP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inly used by government &amp; universities until the   late 80s/early 9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was invented by Tim Berners-Lee in 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igned to allow physics researchers to share data and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 popular until 1993 when Marc Andreessen developed a graphical browser (Mos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essen would go on to found Netscape, and Internet Explorer soon fo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3353040" cy="235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5692680"/>
            <a:ext cx="3353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Netcraft Web Server Survey.” Netcraft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0FF-EA8B-421C-AC8E-AFDCCFCD05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compu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4027320"/>
            <a:ext cx="5867640" cy="1839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culating devices have been around for millennia (e.g., abacus ~3,000 B.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"computing technology" traces its roots to the 16-17th centu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part of the "Scientific Revolution", people like Kepler, Galileo, and Newton viewed the natural world as mechanistic and understand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led to technological advances &amp;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4152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 simple mechanical calculating devices to powerful modern computers, computing technology has evolved through technological breakthroug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039-3821-45A4-897F-5812A42D19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0: Mechanical Computer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50440"/>
            <a:ext cx="8142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642 – Pascal built a mechanical calculating ma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mechanical gears, a hand-crank, dials and knob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similar machines follow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971800"/>
            <a:ext cx="69343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05 – the first programmable device was Jacquard's l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m wove tapestries with elaborate, programmable patte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attern was represented by metal punch-cards, fed into the l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the loom, it became possible to mass-produce tapestries, and even reprogram it to produce different patterns simply by changing the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880" y="4724280"/>
            <a:ext cx="7947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800's – Babbage designed his "analytical engin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s design expanded upon mechanical calculators, but was programmable via punch-cards (similar to Jacquard's lo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bbage's vision described the general layout of modern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 never completed a functional machine – his design was beyond the technology of the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29560" y="1371600"/>
            <a:ext cx="1857240" cy="13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26360" y="2819520"/>
            <a:ext cx="13762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9B4-138A-48A7-92BE-0A3B1348DF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0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90 – Hollerith invented tabulating machin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ed for tabulating 1890 U.S. Census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Jacquard's loom and Babbage's analytical engine, it stored data on punch-cards, and could sort and tabulate using electrical pi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Hollerith's machine, census data was tabulated in 6 weeks (vs. 7 years for the 1880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llerith's company would become IB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591000"/>
            <a:ext cx="579132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30's – several engineers independently built "computers" using electromagnetic re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electromagnetic relay is physical switch, which can be opened/closed via electrical curr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use (Nazi Germany) – his machines were destroyed in WW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anasoff (Iowa State) – built a partially-working machine with his grad 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bitz (Bell Labs) – built the MARK I computer that followed the designs of Bab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160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0000"/>
              <a:buFont typeface="Wingdings" charset="2"/>
              <a:buChar char="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capabilities by modern standards: could store only 72 numbers, required 1/10 sec to add, 6 sec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160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0000"/>
              <a:buFont typeface="Wingdings" charset="2"/>
              <a:buChar char="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ll, 100 times faster than previous technolog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3654360"/>
            <a:ext cx="1863720" cy="244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2271600" cy="19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60E-4948-402F-BE0E-A2AC9F5DC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1: Vacuum Tub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5181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40's – vacuum tubes replaced rel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cuum tube is a light bulb containing  a partial vacuum to speed electron f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cuum tubes could control the flow of electricity faster than relays since they had no moving p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nted by Lee de Forest in 190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124080"/>
            <a:ext cx="53229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40's – hybrid computers using vacuum tubes and relays were 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LOSSUS (194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 "electronic computer", built by the British govt. (based on designs by Alan Tu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to decode Nazi communications during the 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er was top-secret, so did not influence other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NIAC (194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 publicly-acknowledged "electronic computer", built by Eckert &amp; Mauchly (UPe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ined 18,000 vacuum tubes and 1,500 rel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ighed 30 tons, consumed 140 k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1320" y="3794040"/>
            <a:ext cx="3047760" cy="2378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9986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608-2BA8-4B03-AFF3-4DC457D8FC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9560" y="2666880"/>
            <a:ext cx="8399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n Neumann popularized the idea of a "stored program"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stores both data and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 executes by loading program instructions from memory and executing them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 allow for interaction with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rtually all modern machines follow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9680" indent="-2156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(note: same basic design as Babb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1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OSSUS and ENIAC were not general purpose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ld enter input using dials &amp; knobs, paper t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to perform a different computation, needed to re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08680" y="3809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5105520"/>
            <a:ext cx="839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was still difficult and ted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machine had its own machine language, 0's &amp; 1's corresponding to the settings of physical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50's, assembly languages replaced 0's &amp; 1's with mnemonic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0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481-D884-41A2-A796-C4E22A743F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2: Transistor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50's – transistors began to replace tub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ransistor is a piece of silicon whose conductivity can be turned on and off using an electric curr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performed the same switching function of vacuum tubes, but were smaller, faster, more reliable, and cheaper to mass 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nted by Bardeen, Brattain, &amp; Shockley in 1948 (earning them the 1956 Nobel Prize in physic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some historians claim the transistor was the most important invention of the 20th centu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962520"/>
            <a:ext cx="762012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became commercial as cost dr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-level languages were designed to make programming more na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TRAN (1957, Backus at IB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P (1959, McCarthy at M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SIC (1959, Kemeny at Dartmou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BOL (1960,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urray-Hopper at DO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er industry grew as businesses could affor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nd use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160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ckert-Mauchly (1951), DEC (195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160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BM became market force in 1960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Grace Hopper (January 198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676760"/>
            <a:ext cx="1407960" cy="1647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681960" y="1219320"/>
            <a:ext cx="198576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D60-23B6-4995-837A-0DD1653D2B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3: Integrated Circuit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600" y="1434960"/>
            <a:ext cx="58165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60's - integrated circuits (IC) were produc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yce and Kilby independently developed techniques for packaging transistors and circuitry on a silicon chip (Kilby won the 2000 Nobel Prize in physic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dvance was made possible by miniaturization &amp; improved manufactu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ed for mass-producing useful circui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1 – Intel marketed the first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croprocess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4004, a chip with all the circuitry for a calcul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34880" y="4324320"/>
            <a:ext cx="8251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60's saw the rise of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: an operating system is a collection of programs that manage peripheral devices and other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60's, operating systems enabled time-sharing, where users share a computer by swapping jobs in and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computers became affordable to small businesses, specialized programming languages were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51080" indent="-2160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cal (1971, Wirth),  C (1972, Ritch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2190960" cy="14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53080" y="2895480"/>
            <a:ext cx="21862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643-C55E-4F8A-A78F-2CD12E4A2A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4: VLSI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 1970's - Very Large Scale Integration (VLS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the late 1970's, manufacturing advances allowed placing hundreds of thousands of transistors w/ circuitry on a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"very large scale integration" resulted in mass-produced microprocessors and other useful IC'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omputers could be constructed by simply connecting powerful IC's and peripheral devices, they were easier to make and more afford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353040" cy="3181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66880" y="641520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Intel Research. “Silicon—Moore’s Law.” Octo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350-DCE0-4F8D-B497-5C9C78E6F6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2:3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