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B4F-D7A4-474A-A980-AA5851BA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194-2997-4905-8E72-AFE9BC1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F4E-DBED-449E-B7EC-7C6A10B4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AD5-A28A-4DE3-96ED-002CBE04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4C4-7939-4742-8EBB-DA883A16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FD0-0A2A-48B7-889B-38F81301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7D0-9BF1-49E8-AA5C-B1C2158E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792-C22C-46BE-8370-7444D40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E4F-6397-4089-B929-68B00BFF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4BC3-40DF-4A08-89DC-9924653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1DC-0955-4F74-A0B8-9448F482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103-278B-44FA-A179-DEA055E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238E-CCE7-4607-A46C-A4AE5D9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E01-655D-43FE-861C-8897F91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F624-C9D4-4E88-AE54-01182EA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D93-98FD-498A-94F5-7B74955C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B9C6-CE5D-4494-95DB-605AB1CA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FF7-A740-47CB-A84C-85ECA99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054-4FFA-444D-BA71-F34226D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EDB-E3BF-45EA-8982-8301E966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C97-DEEE-4C5C-9C49-076D4F93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AC9-52C0-4EE4-A478-7FEFAD2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6C-369A-49D4-BE36-01C9BA2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422-3D9C-446B-AB71-20AEEEA7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5510-1F40-4D8A-B8DB-BB45DDCD1D2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094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7270-C74D-4D18-B176-D13B6C177F0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0D4D-82E1-48BE-AC09-9DB2387EC6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y capacity is usually specified in by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collection of 8 bits – so can represent a range of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56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collections of bytes can be specified using prefi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513160"/>
            <a:ext cx="6543720" cy="11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423720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byte is sufficient to represent a single character, can think of memory in terms of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kilobyte can store a few paragraphs (roughly 1 thousand characte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gabyte can store a book (roughly 1 m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igabyte can store a small library (roughly 1 b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rabyte can store a book repository (roughly 1 tr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267-FC49-43F4-B973-126046E1E4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use a combination of memory types, each with its own performance and cost characterist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in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im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is fast 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is stored as electric signals in circuitry, used to store active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volatile – data is lost when the computer is turned 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Random Access Memory (RAM), cac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cond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slower but che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different technologies (magnetic signals on hard disk, reflective spots on C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permanent – useful for storing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hard disk, floppy disk, compact disk (CD), flash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435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EF3-4D99-487C-8772-8A3DBFAF8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-end computers tend to hav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main memory to allow for quick access to more data and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secondary memory to allow for storing more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4BF-B872-4940-A02E-E3586E65DF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(I/O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receive data and instructions from external 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keyboard, mouse, track pad, microphone,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display or broadcast its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monitor, speaker, pri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6ED-F829-426E-A8F2-F6FF54C61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hard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program is a sequence of instructions for the computer (more specifically, for the CPU) to carry out in order to complete some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(Microsoft Word, Corel WordPerfe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mage processing (Adobe Photoshop, Macromedia Flash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b browsing (Internet Explorer, Mozilla Firefo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5867280"/>
            <a:ext cx="13716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780000"/>
            <a:ext cx="3962160" cy="27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6A9-ACA5-4769-AD8C-48140316E8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ating System (OS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 collection of programs that controls how the             CPU, memory, and I/O devices work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trols how data and instructions are loaded and executed by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rganizes and manages files and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ordinates the CPU, memory, and I/O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modern OS's utilize a Graphical User Interface (GUI) to make interacting with the computer ea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I's utilize windows, icons, menus, and poin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95840" y="3657600"/>
          <a:ext cx="345744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3657600"/>
                    <a:ext cx="345744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61920" y="3657600"/>
          <a:ext cx="3519720" cy="25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920" y="3657600"/>
                    <a:ext cx="35197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032-9404-4215-8A82-11153FFFA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Quick Net &amp; Web Overview 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hysical connections between computers vary, but the overall effect is that computers around the world can communicate and share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back to 1969, when the U.S. government sponsored the first long-distance computer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ing with only 4 computers, the network would eventually evolve into today's Interne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86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collection of software that spans the Internet and enables the interlinking of documents and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idea for the Web was propos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s system interlinked documents (including multimedia elements such as images and sound clips)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ough the use of well-defined rules, 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at define how they are formatted, documents could be shared across networks on various types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D45-0CAA-49B8-8223-418BBF8658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≠ World Wid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4308120"/>
            <a:ext cx="80773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could exist without the Web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did, in fact, for many years (applications included email and news grou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couldn't exist without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is the hardware that stores and executes the Web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CBC-602D-4389-B536-597C482B5F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a Web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p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text document that contains additional formatting information in a language called HTML (HyperText Markup Langu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program that accesses a Web page, interprets its content, and displays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9B9-F0AE-4413-ADF2-7FC056AB8D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server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n Internet-enabled computer that stores Web pages and executes software for providing access to th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quest a Web page, the browser sends a request over the Internet to the appropriat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erver locates the specified page and sends it back to your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require uniform names to locate and identify them uniqu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page is assign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niform Resource Locator (URL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RL's are commonly referred to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fferent parts of the Web address provide information for locating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472464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262-2F6A-498E-BD02-0DC9159A57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at is a Computer?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device that receives, stores, and processes inform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 types of computers have different characteris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uper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werful but expensive; used for complex computations (e.g., weather forecasting, engineering design and model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sk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ess powerful but affordable; used for a variety of user applications (e.g., email, Web browsing, document process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p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ilar functionality to desktops, but mo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lm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rtable, but limited applications and screen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0E4-06E4-4170-90CC-294529BC0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Local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eb browser can be used to view pages stored on the sam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go through the File menu to select the local page, 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nter the File location in the address box (withou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f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feature is handy when developing Web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reate a Web page and view it in the browser before uploading to a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0CF-B72D-4DF6-9AA6-45C41117C2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ktop Specifica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 computer can be conf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es materials contain highly technical information and computer jarg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specs describe two computer systems for sale in January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1 is a low-end system, inexpensive but with limit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2 is a high-end system, uses the latest technology so exp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B65-5732-47D1-A6A6-5029B3F8E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 vs. 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onitor, keyboard, mouse, hard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, Web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094-BD36-4488-A637-85D615868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Desktop 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372-AB10-4E33-AE50-5485FECC4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on Neumann 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hough specific components may vary, virtually all modern computers have the same underlying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d after computer pioneer, John von Neumann, who popularized the design in the early 1950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von Neumann architecture identifies 3 essential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put/Output Devices (I/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ow the user to interact with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ores information to be processed as well as programs (instructions specifying the steps necessary to complete specific task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rries out the instructions to process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4390920"/>
            <a:ext cx="5857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471-E75E-4480-B908-6C45DD323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entral Processing Unit (CPU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the "brains" of the computer, responsible for controlling its inne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de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ry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lectronic components wired together to control the flow of electrical sig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ircuitry is embedded in a small silicon chip, 1-2 inches squ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pite its small size, the CPU is the most complex part of a comput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PU circuitry can have 100's of millions of individual compon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rcial examples: Intel Core 2 Duo, AMD Athlon, Motorola PowerPC G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3913200"/>
            <a:ext cx="2514600" cy="225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52480" y="3809880"/>
            <a:ext cx="29386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C8F-524A-48BE-B5EE-6010D2FFA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works by repeatedly fetching a program instruction from memory and executing tha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al instructions are very simple (e.g., add two numbers, or copy this 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behavior results from incredible sp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53 GHz Celeron D processor can execute 2.5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93 GHz Core 2 Duo processor can execute 2.9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00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87C-CD9D-4CDD-8145-C5726F198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part of the comp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stores data and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ar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vices, meaning they store and process informatio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dig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commonly represented as either 0 or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the building block of digital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grouping bits together, large ranges of values can be represen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3664080"/>
            <a:ext cx="8305560" cy="243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7CA-B9E1-4D25-88A8-E02AE9C08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1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