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D57-E157-4FBE-B58D-3F5D6108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A9E-EAF0-49B7-B23D-0AB2448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846-0B1D-4BDC-BA51-7CE74103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6E0-36E3-4CF3-9649-029E6D4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747-BFF7-4F95-BC31-5D860B9C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41D-52BF-43B9-B955-CD1A41BC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DF50-309C-4863-87F7-C87F725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2963-0B21-4B44-A2E7-22D8EDC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BFF4-D584-4766-AA7F-168DFB42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D2DD-FB05-46F4-B515-38B48567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E518-BF6E-443B-8DD5-9D9D310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99F-B66F-482C-9549-6C1CF27C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61E-CD78-4C6A-A291-ECF56E5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A67-40F5-4CE9-A469-EF98A1A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0FF1-CC66-44DA-A68C-91789333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3793-CC57-4526-8261-932BC1EF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082-BBCA-4CB9-87A0-D597FF1D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CF6-6F61-43A8-AF65-79B9DF04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21A-6CB7-4515-B762-02020965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586-5658-4FAC-83FE-59E5235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38C-2F72-4A61-8383-F3ADA89B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C6A-D129-47DB-952C-A4EFB1C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DC1-1D0C-4600-B584-3442792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D1C-CCDB-4B4A-8CEB-2A4979C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07AE-1D09-42E6-87BA-D5F39EA6E17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01E0-CC25-44E5-B4C9-624472168E0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vaScript Numbers and Expres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79F4-05C4-4B98-89DD-A32741379D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vers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prompt has a default value of 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4952880" cy="242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495288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ECA-943A-418D-A0D7-10CF80F8A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Patte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tasks that we will consider have the same basic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mpt the user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em in varia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form some calculation(s) using those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play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urprisingly, there is a pattern to th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arseFloat(number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arseFloat(number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arseFloat(number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swer = SOME EXPRESSION INVOLVING number1, …, numberN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MESSAGE INVOLVING answer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A95-1C27-420E-8791-A4BA23241D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e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an extensive library of predefined mathematical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square root of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maximum of tw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(3.2, 1.8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3211560"/>
            <a:ext cx="594360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D44-6CE5-4F0D-899E-A28E9C19EC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ster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66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ould be modified to test a variety of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ge the function call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er various inputs and observe the corresponding outpu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1355760"/>
            <a:ext cx="4876920" cy="237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487692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A6F-7513-4044-8AC5-DE6B8E04DB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ther Useful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po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ises a number to a pow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10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-1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-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0.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9, 0.5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0.5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es a random number in the range [0…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is function has no inputs; it returns a different number each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330085256267488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213335955823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89750017377582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973-8658-437E-B883-09F866B5C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and Debugg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mputer jargon, the term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ug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an error in a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cess of systematically locating and fixing errors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ree types of errors can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ntax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ypographic err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omitting a quote or misspelling a function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browser catches these, they are usually "easy" to identify and fi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un-time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ccur when operations are applied to illegal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ttempting to multiply a string or divide by z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so caught by the browser, which either produces an error message or else returns a special value (string multiplication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for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a Numb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; division by zero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finit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laws in the design or implementation of a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ever your program produces the wrong res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y are not caught by the browser (the program is legal, just not what you wanted), logic errors are hardest to identif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86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technique for identifying bugs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agnostic write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various intervals in the code, write out the values of key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then isolate at what point the program is going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329-2074-47A3-B220-7C9E83823C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unit of information processed by a computer belongs to a general category 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ata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tring, number, Boolean (either true or fa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data type is associated with a specific set of predefined operators that may be used by programmers to manipulate values of that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 have seen string concatenation via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standard operators are predefined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 (+), subtraction (-), multiplication (*), division (/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s can be assigned various kinds of numerical values, including mathematical expressions formed by applying operators to nu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n expression appears on the right-hand side, the expression is evaluated and the resulting value is assigned to the variable on the left-hand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ord = "howdy" + " doo"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howdy do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50/4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9528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8672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72B-866E-466F-8734-4AFD3D7A6C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expressions can appear in write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parentheses can be used to make sub-expression grouping explic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3 + 7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"The sum of is " + (3 + 7)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e sum is 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variable appears in an expression, the value currently assigned to that variable is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5867640" cy="17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0AC-DD2F-4C75-88E3-1218A934EB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umber Represen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facts about JavaScript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improve readability, very large or very small number are displayed in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cientific nota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e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s the val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e2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0000000000000000000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stores all numbers in memory cells of a fixed size (6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only a finite number of value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within the range 1e-323 . . . 1e309, not all number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between any two numbers lie infinitely more number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an represent approximately 17 significant dig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 exa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9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rounded u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FCE-1CF2-4873-92F5-C2512DA29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ixe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+ operator serves two purpo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numbers, + means ad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strings, + means concate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about a mixed express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pplied to a string and a numb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is converted to a string (effectively, by placing quotes around it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string concatenation is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267080"/>
            <a:ext cx="3962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xpressions involving + are evaluated left-to-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have consequences in the way mixed expressions are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ICE: always use parentheses to group nested sub-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76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4114800" cy="176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AF7-06E4-4132-BBDB-2C5FDE4058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ing for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al care must be taken when prompting the user for numbe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ways returns a string, even if the user enters only dig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f the user enters 500 at a prompt, then the value "500" is retur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ed 12 at the prompt, what would be displayed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displayed would be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One more is 121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09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mpt return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hich is stored 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arenthesized sub-express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myNumber + 1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evaluat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is is a mixed expression, the numbe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converted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n concat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esul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s then concatenated to the en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One more i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needed is a mechanism for converting strings of digits into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accomplished in JavaScript using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DC6-C387-480C-A290-3F613A8F7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mathematics,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mapping from inputs to a single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absolute value function maps one number to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5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, -2.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.4, 17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7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maps strings of digits t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"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33720" y="2340000"/>
                <a:ext cx="2361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|</m:t>
                          </m:r>
                          <m:r>
                            <m:t xml:space="preserve">n</m:t>
                          </m:r>
                          <m:r>
                            <m:t xml:space="preserve">|</m:t>
                          </m:r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≥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&lt;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  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a programmer's view, a function is a "unit of computational abstra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some computation required to calculate the output given the inpu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JavaScript function encapsulates that computation and hides th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does not need to know how the function works, only how to apply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ying a function to inputs is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alling th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of a function call is 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2FA-BF67-477C-ACC9-360F258DE3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seFlo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function call can appear anywhere in a JavaScript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expression is evaluated, the return value for that call is substit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arseFloat(myNumber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prompts the user and stores their input (s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call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convert the string to a number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then reassigns that number back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uses the number val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display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e more is 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, the following is not an error (but probably not what was inten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parseFloat(myNumb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turns a number, but nothing is done with that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the only way to change the value of a variable is via an assignment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307-C1DB-46DA-80DE-3A23CA538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mperature Convers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page prompts the user for a temperature (in Fahrenheit), stores the input as a number, then converts that temperature to Cels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E99-5BA0-46DF-BE99-AB61BFB1ED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3:4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