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16BD-1864-4328-8E88-6C3D9CA9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559F-6914-41F6-822D-EB87773E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65ED-8E6C-44E1-82F1-9ABC3428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ECF1-8567-42A7-8BB9-5E24B70B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6AB6-0E32-42AF-93A1-ACF15400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2023-D45E-4CFB-816F-DE2B3961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17D9-D0EC-4982-BD6F-0E9A5E90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05A6-29D2-41EF-BA55-2442FF9C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CA19-0BE6-440E-AA75-785CEAC7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27F0-5A25-43D0-8036-78A6AA11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6AB3-9574-4426-A092-391A63FF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3AD7-BF68-4F91-ABE1-E45251CC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87B6-04D9-4F06-8CCC-CE283951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26FA-F428-4855-BEED-42F1DADD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78F4-F1A0-49D5-9905-8619EA09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9359-847E-4EFA-9F43-FE2E3126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193F-8FFC-4F2C-BC21-72B00BA3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8399-EFD5-4F37-B719-3E2DA8C7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E9B7-F7CF-4C84-B9E8-58E681FB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BABC-8177-4954-A00A-7AF67698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833E-C186-4EA8-8C23-69A8B998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FA04-DAF3-4985-A1AE-0581B344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BBDE-D21B-4A46-9E6E-2ED51830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29DC-E5BB-4B1F-BCDD-59BD9B0D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ADAF-49E7-4B16-AC89-6643E891B9B6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CC40-39E6-486A-97EF-41F1EF83700E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680" y="44197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Script and Dynamic Web P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CEC3-625B-4127-9D41-32ADDA39C1E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yntax Erro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error in the format of an HTML or JavaScript statements is known a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yntax err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syntax errors are ignored by the browse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misspelling an HTML tag nam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JavaScript syntax errors will generate an error mess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document.write("This example is illegal since t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                  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string is broken across lines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ields: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rror: unterminated string liter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document.write("The value of x is " 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ields: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rror: missing ) after argument li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B7D3-E518-486F-98EF-DA40751F77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JavaScript Variabl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variable name can be any sequence of letters, digits, and underscores (but must start with a lette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lid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tempInFahr   SUM   current_age   Sum2Date   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alid: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2hotforU   salary$   two words   "sum_to_date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riable names are case sensitive, so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Su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SU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re treated as different variab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71560" y="3809880"/>
            <a:ext cx="5619960" cy="27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A173-BFFB-4915-BA8C-6A7208A39C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Variables &amp; Memory Cell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s keep track of the values that variables represent by associating each variable with a specific piece of memory, known a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memory ce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 JavaScript assignment is executed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firstName = prompt("Please enter your name", "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value entered by the user (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Dave"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is stored in a memory cell associated with the variabl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rstNa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y future reference to the variable name evaluates to the value stored in its associated memory ce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81280" y="4038480"/>
            <a:ext cx="104940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661D-7AC6-4657-BB1C-3FF7E11C59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nother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ce you create a variable, you can repeatedly assign values to i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ly the most recent value is retained in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suppose we want to prompt the user for two different foo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only one food is needed at a time, we can reuse the same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47920" y="3352680"/>
            <a:ext cx="6172200" cy="310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DB20-A118-4B37-8DD6-B3777C894F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using Variabl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food = prompt("What is your favorite food?", 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document.write("&lt;p&gt;Your favorite food is " + food + "&lt;/p&gt;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554200"/>
            <a:ext cx="243864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irst pair of stat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ores the user's favorite f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splays that food in the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429000" y="2048040"/>
            <a:ext cx="4695840" cy="2286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429000" y="4417920"/>
            <a:ext cx="468648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255B-FE32-4B90-8609-CB5808E942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using Variables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food = prompt("What is your least favorite food?", 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document.write("&lt;p&gt;Your least favorite food is " + food + "&lt;/p&gt;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554200"/>
            <a:ext cx="24386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second pair of stat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ores the user's least favorite food (overwriting the old 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splays that food in the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657600" y="2057400"/>
            <a:ext cx="4552920" cy="2220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657600" y="4343400"/>
            <a:ext cx="4572000" cy="223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EC5F-7566-448C-B5BC-C9A9E8E12C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mpts with Defaul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 far, all prompts have been of the for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VARIABLE = prompt("PROMPT MESSAGE", "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times it makes sense to provide default values for promp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pecify a string literal instead of "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string will appear in the prompt box when it app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user wants to accept the default value, can just click O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411480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suppose we wanted to create a page that displays a verse of the children's song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Old MacDonald had a F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page should be able to display any ve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accomplish this by prompting the user for the animal and s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pecify default values so that it is easy to display a common ve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animal = prompt("Enter a kind of animal:", "cow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sound = prompt("What kind of sound does it make?", "moo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37C8-66B5-457E-9FE0-BB0FEA1CA8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ld MacDonal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page prompts the user for the animal and sound ("cow" and "moo", by default), then displays a verse using those val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br /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ags are embedded to break the output onto separate l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6172200" cy="40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C1CD-344D-4B36-9599-1608B1C63B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ld MacDonald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2590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efault values automatically appear in the prompt box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0176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can click OK to accept the defa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17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1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17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176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ype new values into the prompt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5029200" cy="2462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200400" y="3962520"/>
            <a:ext cx="5029200" cy="24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0D97-CA08-41C9-A4AC-80D1152AE6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ld MacDonald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09480" y="2714760"/>
            <a:ext cx="5800680" cy="376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352680" y="1379520"/>
            <a:ext cx="5295960" cy="258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1BB-0411-462F-8DA0-45BE22A91B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atic vs. Dynamic P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recall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Web page uses HTML tags to identify page content and formatting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ML can produce only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tatic pag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tic pages look the same and behave in the same manner each time they are loaded into a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80988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1995, researchers at Netscape developed JavaScript, a language for creating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ynamic p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b pages with JavaScript can change their appearanc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ver time (e.g., a different image each time that a page is loaded),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response to a user’s actions (e.g., typing, mouse clicks, and other input meth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0092-4A79-4F12-95D2-9CEAD74711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Localizing Chan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 far, we have used variables to store values read in via promp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other common use is to store values used repeatedly in a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ppose we wanted to change the spelling of the refrain in Old MacDonald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"E-I-E-I-O"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"Eeyigh-Eeyigh-Oh"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is, would need to find and update all occurrences in the ver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312408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ead, could use a variable to store the ref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refrain = "E-I-E-I-O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document.write("&lt;p&gt;Old MacDonald had a farm, " + refrain + ".&lt;br /&gt;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document.write("And on that farm he had a " + animal + ", "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refrain + ".&lt;br /&gt;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w, to update the value in the entire verse, simply must change the assig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refrain = "Eeyigh-Eeyigh-Oh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document.write("&lt;p&gt;Old MacDonald had a farm, " + refrain + ".&lt;br /&gt;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document.write("And on that farm he had a " + animal + ", "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refrain + ".&lt;br /&gt;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4FEE-124C-4C61-A7CD-86ECE06875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gramming Langu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vaScript i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rogramming langu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gramming language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a language for specifying instructions that a computer can execu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a programming language specifies a particular action that the computer is to carry ou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, changing an image or opening a window when a button is clicke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programming languages are general-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pular languages include C++, Java, J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vaScript was defined for a specific purpose: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dding dynamic content to Web p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add JavaScript statements to a Web page using the HTML t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Courier New"/>
              </a:rPr>
              <a:t>&lt;script type="text/javascript"&gt; . . . &lt;/scrip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browser displays the page, any statements inside the SCRIPT tags are executed and the result is displa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261D-F605-4C61-A60E-D4034998DB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ple Dynamic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low is a simple Web page with dynamic cont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note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ynamic content can be mixed with static HTML cont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demonstrates two types of JavaScript stat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signme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tatement that asks the user for input and stores that in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tatement that writes text into the HTML p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71600" y="3316320"/>
            <a:ext cx="6172200" cy="323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58F3-589D-4331-BE14-F34371C6CC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ssignment Statemen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an assignment statement involving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mp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executed by the brows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eparate window is opened with a text box for the user to enter tex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user is done typing, he/she can click on the OK butt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firstName = prompt("Please enter your name", "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OK is clicked, the text entered is assigned to a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a name used to symbolize a dynamic valu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the variabl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rstnam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used to store the text entered by the u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5120" y="4191120"/>
            <a:ext cx="4924440" cy="240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F915-EF23-41AF-B510-F2DE06AEFF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ssignment Statement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general form of an assignment statement using a prompt 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VARIABLE = prompt("PROMPT MESSAGE", "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variable name can vary depending on the task at ha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the variable is used to store the user's first name, s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rstNam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a meaningful na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prompt message that appears in the window can likewise chan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the message "Please enter your name" tells the user what is expect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57400" y="4191120"/>
            <a:ext cx="4848120" cy="236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4CB7-27EA-478A-A791-5203915EF9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rite Statemen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a write statement is executed by the brows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message specified in the statement is written into the HTML p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essage can inclu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tring literal – text enclosed in quo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combination of strings and variables, connected via '+'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document.write("&lt;p&gt;Hello " + firstName +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           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", welcome to my Web page.&lt;/p&gt;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 variable is encountered, the browser substitutes the value currently assigned to that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33720" y="4267080"/>
            <a:ext cx="4610160" cy="224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F8FD-FC67-49E9-8CF2-0F690DE775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rite Statement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general form of a write statement 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document.write("MESSAGE TO BE DISPLAYED " + VARIABLE +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" MORE MESSAGE" + ...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 that the statement can be broken across lines, as long as no string literal is split (i.e., the beginning and ending quotes of a string must be on same lin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pieces of the message are displayed in sequence, with no spaces in betwe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want spaces, you have to enter them in the tex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33720" y="4267080"/>
            <a:ext cx="4610160" cy="224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60AA-3E10-4104-954F-64FF71FCE1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Formatted Outpu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output produced by a write statement is embedded in the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rowser displays this output just as it does any other tex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text contains HTML tags, the browser will interpret the tags and format the text accordingly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document.write("&lt;p&gt;Hello &lt;i&gt;" + firstName +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                  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"&lt;/i&gt;, welcome to my Web page.&lt;/p&gt;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suming the varia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irstNam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been assigne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"Dave",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rowser would execute the statement to produ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p&gt;Hello &lt;i&gt;Dave&lt;/i&gt;, welcome to my Web page.&lt;/p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ich would be displayed by the browser 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lo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Dav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welcome to my Web pag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6BF3-DD50-4E20-86B1-E0988A4412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12:05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