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03E0-C151-41A4-9D65-96FD93C6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D5F-BC19-4BF8-9744-EE016C64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F49-3199-4E50-AD40-BA8CCC5A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F142-4B02-4AE3-9F33-9AD178D8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1C20-91E7-4F2D-8A91-5E90FFA8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CA53-14D6-4AE7-AD81-C8355B91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9468-A355-4302-AB8E-C237C0B7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A019-A53B-4D06-BAF0-D63A6571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B23F-0CE3-49AC-A47B-82053238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FF94-C788-4F28-A570-EEA32E08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6B60-E5A1-47A1-AAC2-B7557A5D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E9BE-8799-4736-8391-1BD37AF4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46A1-E389-4D3D-B6A2-52323EEF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C64B-45F1-41B8-B6CE-5BD1659D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3EF7-F434-49FB-ADD4-7CE30356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E8EE-0ECD-46F5-AE1E-44EA0C5B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3C6B-7179-4B6E-B00C-363B8B25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3E9-22D1-44D6-BF45-272A4BBD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18C-575D-4D89-BE01-0BC46D98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B8A-46A5-4A5D-9532-4E38A5DC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C527-B632-43A9-93B2-E806AE50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15E-87BE-4CCE-B2AA-C9CA9F25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1B16-BD1C-438F-AEE2-CAC0A86A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D028-15E4-4D97-AB65-63D44F83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123A-ABD5-4A21-B691-81FFA9971233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456B-F08D-4ED8-AE43-9443FA468A70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TML and Web Pag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92EE-2C95-4D58-AC46-136A2A2048A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yperlink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567684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476440" y="4267080"/>
            <a:ext cx="54482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FF9-268C-4D4E-9885-CD388F6967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m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 pages can contain other types of media besides text and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ages are embedded in a page using an IMG tag (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img /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to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br /&gt;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&lt;hr /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re is no closing tag so it ends with a s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G attrib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RC specifies the location of the im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T specifies alternate text that is displayed if the image fails to 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495680" y="3809880"/>
            <a:ext cx="4381560" cy="2183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3552840" cy="24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E35E-944D-4963-9E18-8048705D29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is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371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ML lists organize items in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ul&gt;…&lt;/ul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an unordered list;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ol&gt;…&lt;/ol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an ordered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li&gt;…&lt;/li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a list it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29200" y="2873520"/>
            <a:ext cx="3962520" cy="2917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427680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199-791B-423B-ABEF-0A583E42CF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ist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37160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style attribute can be used to format the list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181480" cy="1214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9480" y="3097080"/>
            <a:ext cx="5105520" cy="352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486400" y="3429000"/>
            <a:ext cx="3409920" cy="217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DAE-B122-4DCB-B4FD-C6C5553B24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ab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371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xt can be aligned into rows and columns using a TABLE 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able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table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apsulate the tabl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r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tr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apsulate a row within th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d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td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apsulate table data within a row (i.e., a column entry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00080" y="2666880"/>
            <a:ext cx="5248440" cy="26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505320" y="4987800"/>
            <a:ext cx="4114800" cy="17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D91-9D57-41D4-869E-1F9D8CCDE1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ables with Bord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371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rders can be added to tables using the border 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eric value assigned to the attribute specifies thickn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5038560" cy="265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200400" y="4599000"/>
            <a:ext cx="4838760" cy="202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818B-6C71-4489-BA94-989CEDCA42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ables for Alignmen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1676520"/>
            <a:ext cx="2057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bles are commonly used to align elements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an image is aligned to the left of som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772240" cy="307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14600" y="4419720"/>
            <a:ext cx="5448240" cy="206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AE8C-344F-4094-8FB3-F491014BF5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TML &amp; Web P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recall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Web page is a text document that contains additional formatting information in the HyperText Markup Language (HTML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ML specifies formatting within a page using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a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its simplest form, a tag is a word or symbol surrounded by brackets (&lt;&gt;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038560" cy="34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AE0-D3D4-479A-AC16-20F4BDBE47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TML Tag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d tags in a Web pag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tml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html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the entire HTML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HEAD section (enclosed between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ead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head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contains information that the browser uses to control the look of the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HEAD can contain a title for the browser window, enclosed between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itle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ODY section (enclosed between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body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body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contains the text that will appear in the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229280" y="4267080"/>
            <a:ext cx="4686120" cy="1933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4267080"/>
            <a:ext cx="3486240" cy="19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10BC-2F96-4B6F-8827-80350D291D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TML Elemen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gs and the text they enclose form a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TM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itle&gt; Title of the Page &lt;/title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is a TITL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itle&gt; Title of the Page 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a HEAD element (which contains a nested TITLE ele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1148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HTML elements have opening and closing tags, but no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!-- demo1.html    Dave Reed --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is a COMMENT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comment is ignored by the browser (it does not appear in the rendered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ents are used by the page developer to document page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5EA-CD23-4563-B9E4-80F066E6B6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xt Layou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ite space (extra spaces, tabs and blank lines) are ignored by the brow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allows the browser to adjust the text to the window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 can control some of the text layout using HTML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ARAGRAPH element (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p&gt;…&lt;/p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specifies text surrounded by blank 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REAK element (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br /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causes text to be displayed on a new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amp;nbsp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ymbol forces a space to appear in th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4087800"/>
            <a:ext cx="4267440" cy="182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6280" y="3429000"/>
            <a:ext cx="4095720" cy="319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660-D925-4F94-9E26-23A12D870D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eadings &amp; Alignmen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a large document, it is useful to divide the text into sections and then provide each with a heading describing the content that fo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1&gt; … &lt;/h1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a top-level heading (large and bo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2&gt; … &lt;/h2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a sub-heading (slightly smaller and bo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6&gt; … &lt;/h6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the smallest sub-he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HORIZONTAL-RULE element </a:t>
            </a:r>
            <a:r>
              <a:rPr b="0" lang="en-US" sz="1600" spc="-1" strike="noStrike">
                <a:solidFill>
                  <a:srgbClr val="0099ff"/>
                </a:solidFill>
                <a:latin typeface="Verdana"/>
              </a:rPr>
              <a:t>&lt;hr /&gt;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raws a dividing line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809880"/>
            <a:ext cx="82296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y default, headings and other elements are left-justified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change the alignment of an element by adding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ttribut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t qualifies the appearance of th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h1 style="text-align:center"&gt; Centered Heading &lt;/h1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p style="text-align:right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This paragraph is right justified. Each line will be shif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to line up at the right marg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/p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516-1ACD-4DE0-A4A7-90DE6EB533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eadings &amp; Alignment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371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V element groups multiple elements, so can be formatte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53200" y="2514600"/>
            <a:ext cx="3638520" cy="3225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4695840" cy="4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762F-9A56-4CF0-8F49-4DB720E033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ont Formatt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3716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xt can be formatted in a variety of 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old (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b&gt; … &lt;/b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, italics (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i&gt; … &lt;/i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, underlined  (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u&gt; … &lt;/u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lored text is enclosed in </a:t>
            </a:r>
            <a:r>
              <a:rPr b="0" lang="en-US" sz="1800" spc="-1" strike="noStrike">
                <a:solidFill>
                  <a:srgbClr val="0099ff"/>
                </a:solidFill>
                <a:latin typeface="Courier New"/>
              </a:rPr>
              <a:t>&lt;span style="color:????"&gt; … &lt;/spa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on colors can be used (e.g., red, green, orange, light blue, dark b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5600520" cy="276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800600" y="3125880"/>
            <a:ext cx="3867120" cy="18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3E0A-1A4F-4AA3-9695-29AF45E09A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yperlin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371600"/>
            <a:ext cx="8381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yperlin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or just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in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is a connection to another Web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default, a link appears as underlined text in the p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user clicks on the link, the corresponding page is retrieved and displa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link is specified using ANCHOR tags </a:t>
            </a:r>
            <a:r>
              <a:rPr b="0" lang="en-US" sz="1800" spc="-1" strike="noStrike">
                <a:solidFill>
                  <a:srgbClr val="0099ff"/>
                </a:solidFill>
                <a:latin typeface="Courier New"/>
              </a:rPr>
              <a:t>&lt;a&gt;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800" spc="-1" strike="noStrike">
                <a:solidFill>
                  <a:srgbClr val="0099ff"/>
                </a:solidFill>
                <a:latin typeface="Courier New"/>
              </a:rPr>
              <a:t>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xt that appears within the tags is displayed as the link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st have an HREF attribute that specifies the associated Web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a href="http://www.creighton.edu"&gt;Creighton University&lt;/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a href="personal.html"&gt;Local Page&lt;/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browser displays links underlined and in co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default, links whose pages have not yet been visited are b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default, links whose pages have previously been visited are pur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E916-6A34-4C62-9C63-37C6723EAE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2:28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