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CFAAE-8D4E-4C35-A045-B4664F17B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8B109-D82E-44B6-A215-04F7A82AE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09422-280A-4D12-9231-E6D2781EB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A3ED0-9BDC-46F3-B87D-47A8B9B30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8007A-A911-4143-A16F-EF4425480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282D9-0419-4E16-97B1-D8A6547E8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25C10-BCD4-4F89-A798-6325339C9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9120A-B867-4AA6-8A41-8DE4AA848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A82E4-4299-44B3-98E0-EB3B8AF61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6ECF6-CCB2-4C57-A5F4-792A5A655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F9B2-908A-4867-8D4C-C3142D205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79626-B632-4C6F-A2D6-400E61FFD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EC155-DE01-4400-BBB4-534B57D18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65DCC-2C54-4654-A197-68B5BF242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5400A-D0FB-46C6-BA66-D6E6B257B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F9672-8FA0-46E4-B309-E1B3DC442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260D7-38F0-4497-9E8E-CA24501B2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5D9BE-98F6-4023-B37F-A1C576183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A5EA-6CED-479B-AF14-1AC791452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57945-E434-410A-96DE-9B58B889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06932-A71B-4A54-9A1A-4362A1CB3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EA0F-A454-4B5E-AF4E-7E4951E97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2235-0C4A-4368-80BA-E964EECD5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C9840-F54C-40F1-8D1D-422850690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8A07-0D27-4C1C-9924-2CC2C9B4523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4CF1-4968-4F21-BC8C-3CE9ED65FF6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ct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Comic Sans MS"/>
              </a:rPr>
              <a:t>المحاضرة الرابعة</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سيطرة الرومان على وسط ايطاليا..</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ت لهزيمة روما على يد الغال اثرا بالغ في تدهور هيبة روما مما شجع الايكوي والفولسكي والاتروسقيين على استئناف عدائهم للرومان</a:t>
            </a:r>
            <a:endParaRPr b="0" lang="en-US" sz="3200" spc="-1" strike="noStrike">
              <a:solidFill>
                <a:srgbClr val="000000"/>
              </a:solidFill>
              <a:latin typeface="Comic Sans MS"/>
            </a:endParaRPr>
          </a:p>
          <a:p>
            <a:pPr marL="325800" indent="-3258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حاول الاتروسقيين استعادة مدينة فياي ولكن الرومان تمكنوا من دحرهم</a:t>
            </a:r>
            <a:r>
              <a:rPr b="0" lang="ar-SA"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روما ومدن لاتيوم وقمبانيا</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واجهت روما تمرد المدن اللاتينيه  عندما نقض الهرنيقي تحالفهم مع روما ومن ابرزها مدينة براينستي التي تزعمت الحرب ضد روما  وسار معها مدن لاتينيه اخرى من اعضاء العصبه اللاتينيه وقد استطاعت روما ان تقهر العصبه اللاتينيه .وارغمت براينستي على الدخول في العصبه..</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عقدت روما معاهدات منفصله مع كل مدينة على حده مع اختلاف بنود الاتفاقيه حسب موقف كل مدينه من روما وأصبحت القياده العسكريه للرومان..</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خاضت روما عدة حروب من اجل السيطرة على وسط ايطاليا ومنه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476280"/>
            <a:ext cx="6870600" cy="1008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روما والسمنيون</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557360"/>
            <a:ext cx="7696080" cy="46800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1</a:t>
            </a:r>
            <a:r>
              <a:rPr b="1" lang="ar-SA" sz="3200" spc="-1" strike="noStrike">
                <a:solidFill>
                  <a:srgbClr val="000000"/>
                </a:solidFill>
                <a:latin typeface="Comic Sans MS"/>
              </a:rPr>
              <a:t>_قامت جماعه تعرف باسم السابليون بالسيطره على اقليم قمبانيا وعلى معظم مناطق جنوب ايطاليا.</a:t>
            </a: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 السابيون يفرضون سيطرتهم على مناطق شاسعه ولكنهم يفتقدون لروح النظام والانضباط.</a:t>
            </a: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ن اشهر قبائلهم واشدها بئسا السمنيين ففي البدايه كانت العلاقه جيده بين السمنيين والرومان بسبب الخطر الغالي المشترك ولكن بزوال الخطر الغالي تضاربت المصالح.بين الطرفين من اجل السيطرة على جنوب ايطالي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قامت قوه روماتيه بطرد السمنيين من اقليم قمبانيا وعقد معاهده مع السمنيين </a:t>
            </a:r>
            <a:endParaRPr b="0" lang="en-US" sz="3200" spc="-1" strike="noStrike">
              <a:solidFill>
                <a:srgbClr val="000000"/>
              </a:solidFill>
              <a:latin typeface="Comic Sans MS"/>
            </a:endParaRPr>
          </a:p>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شعرت مدن اقليم قمبانيا بالخطر فعقدت حلف مع بعض المدن اللاتينيه وتحريضها ضد الرومان</a:t>
            </a:r>
            <a:endParaRPr b="0" lang="en-US" sz="3200" spc="-1" strike="noStrike">
              <a:solidFill>
                <a:srgbClr val="000000"/>
              </a:solidFill>
              <a:latin typeface="Comic Sans MS"/>
            </a:endParaRPr>
          </a:p>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ت المدن اللاتينيه قد ضاقت ذرعا بالسيطره الرومانيه خاصة ان روما ادخلتها في حرب مع لاتروسقين لمصلحتها الخاصه</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وانفردت بالاستيلاء على اراضيها ووزعتها على رعاياها وبدأت تتصرف باعتبارها سيدة اقليم لاتيوم</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دأت المدينه اللاتينيه تطالب روما بالمساواه وعندما رفضت استجابت لتلك المدن لمطالب قمبانيا وكونت حلف انظم اليه الفولسكيين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ستعدت روما لمواجهة ذلك التكتل عن طريق عقد المعاهدات مع عدة اطراف بموجبها تأكدت السيطرة العسكريه الرومانيه على اقليم لاتيوم كما عملت على خلق المصالح المشتركه بينها وبين المدن اللاتينيه وأعطت بعض مواطني تلك المدن حقوق المواطنه وسمحت لها بالاحتفاظ بنظامها الاداري على ان يقوموا بتقديم قوات عسكريه متى تطلب الامر...</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في هذه الاثناء كان السمنيون  على استعداد لمنازلة الرومان واوقعوا الهزيمه بالقوات الرومانيه واضطروا الرومان الى توقيع معاهده مهينه</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ت سنوات الهدنه فرصه للرومان لاعادة تنظيم قواتهم ثم قاموا بنقض المعاهده مع السمييينن وتمكنوا من طردهم من كثير من المناطق</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227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5" name="PlaceHolder 2"/>
          <p:cNvSpPr>
            <a:spLocks noGrp="1"/>
          </p:cNvSpPr>
          <p:nvPr>
            <p:ph/>
          </p:nvPr>
        </p:nvSpPr>
        <p:spPr>
          <a:xfrm>
            <a:off x="685800" y="836640"/>
            <a:ext cx="7696080" cy="5400720"/>
          </a:xfrm>
          <a:prstGeom prst="rect">
            <a:avLst/>
          </a:prstGeom>
          <a:noFill/>
          <a:ln w="0">
            <a:noFill/>
          </a:ln>
        </p:spPr>
        <p:txBody>
          <a:bodyPr lIns="90000" rIns="90000" tIns="46800" bIns="46800" anchor="t">
            <a:normAutofit fontScale="86000"/>
          </a:bodyPr>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الرغم من هزيمة السمينين الا انهم نجحوا في اقناع عصبة االمدن الاتروسقيه بان تهاجم اقليم اتروريا  حتى تخفف من الضغط الروماني عليهم ولكن الرومان تمكنوا من صد المدن الاتروسقية  وارغمتهم على توقيع هدنة طويلة الامد</a:t>
            </a:r>
            <a:endParaRPr b="0" lang="en-US" sz="3200" spc="-1" strike="noStrike">
              <a:solidFill>
                <a:srgbClr val="000000"/>
              </a:solidFill>
              <a:latin typeface="Comic Sans MS"/>
            </a:endParaRPr>
          </a:p>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ركزت روما جهودها العسكرية بعد ذلك لاخضاع السمنيين </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ونجحت القوات الرومانيه من اجتياح بلاد السميتيين وارغموهم على طلب الصلح وتحول السميتيين الى حلفاء وهكذا سيطرت روما على وسط ايطالي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000" y="476280"/>
            <a:ext cx="6870600" cy="1512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rPr>
              <a:t>سيطرة الرومان على جنوب ايطاليا</a:t>
            </a:r>
            <a:br>
              <a:rPr sz="4800"/>
            </a:br>
            <a:endParaRPr b="0" lang="en-US" sz="40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حرصت المدن الاغريقيه في جنوب ايطاليا على الدفاع عن استقلالها</a:t>
            </a:r>
            <a:endParaRPr b="0" lang="en-US" sz="3200" spc="-1" strike="noStrike">
              <a:solidFill>
                <a:srgbClr val="000000"/>
              </a:solidFill>
              <a:latin typeface="Comic Sans MS"/>
            </a:endParaRPr>
          </a:p>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ولت مدينة تارنتم مهمة الدفاع عن حرية تلك المدن خلال تعرضها لعدوان بعض القبائل الايطاليه </a:t>
            </a:r>
            <a:endParaRPr b="0" lang="en-US" sz="3200" spc="-1" strike="noStrike">
              <a:solidFill>
                <a:srgbClr val="000000"/>
              </a:solidFill>
              <a:latin typeface="Comic Sans MS"/>
            </a:endParaRPr>
          </a:p>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ستنجدت تارنتم بالإغريق لمساعدتها واستجاب لها الملك الاسبرطي ولكنه قتل...</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روما والاتروسقيين</a:t>
            </a:r>
            <a:endParaRPr b="0" lang="en-US" sz="4400" spc="-1" strike="noStrike">
              <a:solidFill>
                <a:srgbClr val="000000"/>
              </a:solidFill>
              <a:latin typeface="Comic Sans MS"/>
            </a:endParaRPr>
          </a:p>
        </p:txBody>
      </p:sp>
      <p:sp>
        <p:nvSpPr>
          <p:cNvPr id="1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ندلعت الحرب بين الرومان والاتروسقيين بهدف اعادة الملك تاركوينيوس سوبربوس (المتكبر) .</a:t>
            </a:r>
            <a:endParaRPr b="0" lang="en-US" sz="3200" spc="-1" strike="noStrike">
              <a:solidFill>
                <a:srgbClr val="000000"/>
              </a:solidFill>
              <a:latin typeface="Comic Sans MS"/>
            </a:endParaRPr>
          </a:p>
          <a:p>
            <a:pPr marL="291600" indent="-2916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زعم ذلك الصراع مدينة فياي الاتروسقيية ولكنها فشلت</a:t>
            </a:r>
            <a:endParaRPr b="0" lang="en-US" sz="3200" spc="-1" strike="noStrike">
              <a:solidFill>
                <a:srgbClr val="000000"/>
              </a:solidFill>
              <a:latin typeface="Comic Sans MS"/>
            </a:endParaRPr>
          </a:p>
          <a:p>
            <a:pPr marL="291600" indent="-2916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تعرضت روما لهزيمه من بورسنا ملك قلوسيوم الا ان سيطرة هذه المدينه على روما كانت قصيره الامد بسبب تدخل العصبه اللاتينيه وهزيمة الاتروسقيين ...</a:t>
            </a:r>
            <a:endParaRPr b="0" lang="en-US" sz="32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جاءت المساعده التاليه  لتارنتم والمدن الاغريقيه من قبل الاسكندر ملك ابيروس الذي ابعد الخطر الايطالي </a:t>
            </a:r>
            <a:endParaRPr b="0" lang="en-US" sz="3200" spc="-1" strike="noStrike">
              <a:solidFill>
                <a:srgbClr val="000000"/>
              </a:solidFill>
              <a:latin typeface="Comic Sans MS"/>
            </a:endParaRPr>
          </a:p>
          <a:p>
            <a:pPr marL="291600" indent="-2916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شعرت تارنتم بطموح الاسكندر فتركته يواجه الايطاليين بمفرده ولكنه قتل</a:t>
            </a:r>
            <a:endParaRPr b="0" lang="en-US" sz="3200" spc="-1" strike="noStrike">
              <a:solidFill>
                <a:srgbClr val="000000"/>
              </a:solidFill>
              <a:latin typeface="Comic Sans MS"/>
            </a:endParaRPr>
          </a:p>
          <a:p>
            <a:pPr marL="291600" indent="-2916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دأت روما تتدخل في شوؤن  جنوب ايطاليا خلال الحروب مع السمنتيين مما اثار قلق تارنت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خلال الحرب بين الايطاليين والمدن الاغريقيه تقدمت مدينة تورى الاغريقيه بطلب المساعده من روما مما اغضب تارنتم باعتبارها صاحبة السياده فقامت باغراق الاسطول الروماني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طلبت روما تعويضا عن تلك الاهانه ولكن تارنتم رفضت بعد ان ضمت مساعدة ملك ابيروس الحديد له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8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3" name="PlaceHolder 2"/>
          <p:cNvSpPr>
            <a:spLocks noGrp="1"/>
          </p:cNvSpPr>
          <p:nvPr>
            <p:ph/>
          </p:nvPr>
        </p:nvSpPr>
        <p:spPr>
          <a:xfrm>
            <a:off x="685800" y="1196640"/>
            <a:ext cx="7696080" cy="428940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لتقى الرومان مع ملك ابيروس (بير هوس) في معركة هيرا كليس وكان جيشه يضم مجموعه من الفيله واحرز انتصارا على الرومان وبالرغم من انتصاره الا ان خسائره كانت كبيره </a:t>
            </a:r>
            <a:endParaRPr b="0" lang="en-US" sz="3200" spc="-1" strike="noStrike">
              <a:solidFill>
                <a:srgbClr val="000000"/>
              </a:solidFill>
              <a:latin typeface="Comic Sans MS"/>
            </a:endParaRPr>
          </a:p>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دات المفاوضات بين الطرفين ولكن السناتو الروماني رفص عقد معاهده مع ابيروس بعد ان ضمنوا مساعدة قرطاجه التي كانت تخشى من تدخل ابيروس لمساعدة اغريق صقليه اذا فرغت من فرض سيطرتها على جنوب ايطالي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عقدت روما معاهده عسكريه مع قرطاجه ورد عليها ملك ابيروس بمساعدة صقليه ضد قرطاجه وبقي هناك </a:t>
            </a:r>
            <a:r>
              <a:rPr b="1" lang="ar-SA" sz="3200" spc="-1" strike="noStrike">
                <a:solidFill>
                  <a:srgbClr val="000000"/>
                </a:solidFill>
                <a:latin typeface="Comic Sans MS"/>
              </a:rPr>
              <a:t>3</a:t>
            </a:r>
            <a:r>
              <a:rPr b="1" lang="ar-SA" sz="3200" spc="-1" strike="noStrike">
                <a:solidFill>
                  <a:srgbClr val="000000"/>
                </a:solidFill>
                <a:latin typeface="Comic Sans MS"/>
              </a:rPr>
              <a:t> سنوات</a:t>
            </a:r>
            <a:endParaRPr b="0" lang="en-US" sz="3200" spc="-1" strike="noStrike">
              <a:solidFill>
                <a:srgbClr val="000000"/>
              </a:solidFill>
              <a:latin typeface="Comic Sans MS"/>
            </a:endParaRPr>
          </a:p>
          <a:p>
            <a:pPr marL="308520" indent="-3085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نشبت الحروب بين الرومان وحلفاء ملك ابيروس في جنوب ايطاليا واضطر ملك ابيروس الى العوده لمساعدة حلفائه واشتبك مع الرومان في معركة بينيفنيو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درك ملك ابيروس مدى الخسارة التي سيتعرض لها في حال استمراره فاضطر الى الانسحاب الى ابيروس تاركا حاميه عسكريه في تارنتم وبذلك اصبح جنوب ايطاليا خاضعا للرومان بأكمل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omic Sans MS"/>
              </a:rPr>
              <a:t>تكوين الحلف الثلاثي من(العصبه اللاتينيه +روما + عصبة الهرنيقي</a:t>
            </a:r>
            <a:r>
              <a:rPr b="1" lang="ar-SA"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94840" indent="-29484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اهتزت مكانة روما اثر هزيمتها على يد بورسينا .</a:t>
            </a:r>
            <a:endParaRPr b="0" lang="en-US" sz="2800" spc="-1" strike="noStrike">
              <a:solidFill>
                <a:srgbClr val="000000"/>
              </a:solidFill>
              <a:latin typeface="Comic Sans MS"/>
            </a:endParaRPr>
          </a:p>
          <a:p>
            <a:pPr marL="294840" indent="-29484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نشب الصراع بين العصبه اللاتينيه وروما مما اغرى قبائل المناطق الجبليه من الهجوم على اقليم لاتيوم </a:t>
            </a:r>
            <a:endParaRPr b="0" lang="en-US" sz="2800" spc="-1" strike="noStrike">
              <a:solidFill>
                <a:srgbClr val="000000"/>
              </a:solidFill>
              <a:latin typeface="Comic Sans MS"/>
            </a:endParaRPr>
          </a:p>
          <a:p>
            <a:pPr marL="294840" indent="-29484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اضطر الرومان والعصبه اللاتينيه الى عقد تحالف بين الطرفين ينص على تكوين حلف عسكري هجومي ودفاعي يسهم الجميع في تكوين قواته وتوزيع غنائمه على قدم المساوا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على ان تكون القياده بالتناوب وان يتبادل الطرفان حقوق المواطنه ” الاتجار – الزواج - التقاضي......“</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تسع الحلف ليشمل ايضا عصبة الهرنيقي (شرق اقليم لاتيو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omic Sans MS"/>
              </a:rPr>
              <a:t>حروب الحلف</a:t>
            </a:r>
            <a:endParaRPr b="0" lang="en-US" sz="36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05280" indent="-3052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خاض الحلف الثلاثي عدة حروب منفصله كالتالي </a:t>
            </a:r>
            <a:endParaRPr b="0" lang="en-US" sz="2800" spc="-1" strike="noStrike">
              <a:solidFill>
                <a:srgbClr val="000000"/>
              </a:solidFill>
              <a:latin typeface="Comic Sans MS"/>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a:t>
            </a:r>
            <a:r>
              <a:rPr b="1" lang="ar-SA" sz="2800" spc="-1" strike="noStrike" u="sng">
                <a:solidFill>
                  <a:srgbClr val="000000"/>
                </a:solidFill>
                <a:uFillTx/>
                <a:latin typeface="Comic Sans MS"/>
              </a:rPr>
              <a:t>1</a:t>
            </a:r>
            <a:r>
              <a:rPr b="1" lang="ar-SA" sz="2800" spc="-1" strike="noStrike" u="sng">
                <a:solidFill>
                  <a:srgbClr val="000000"/>
                </a:solidFill>
                <a:uFillTx/>
                <a:latin typeface="Comic Sans MS"/>
              </a:rPr>
              <a:t>- ضد قبائل السابيني</a:t>
            </a:r>
            <a:r>
              <a:rPr b="1" lang="ar-SA" sz="2800" spc="-1" strike="noStrike">
                <a:solidFill>
                  <a:srgbClr val="000000"/>
                </a:solidFill>
                <a:latin typeface="Comic Sans MS"/>
              </a:rPr>
              <a:t> ” الشمال الشرقي من لاتيوم ” تمكن الرومان من اضعاف احدى هذه القبائل  عندما كسبوا ود زعيم سايبيني“ اتيوس قلاووس“ ومنحوه مساحه من الارض استقر فيها هو وعشيرته ومنحوهم حقوق المواطنه الرومانيه وادرجوهم في طبقة البطارقه...</a:t>
            </a:r>
            <a:endParaRPr b="0" lang="en-US" sz="2800" spc="-1" strike="noStrike">
              <a:solidFill>
                <a:srgbClr val="000000"/>
              </a:solidFill>
              <a:latin typeface="Comic Sans MS"/>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mic Sans MS"/>
              </a:rPr>
              <a:t>2</a:t>
            </a:r>
            <a:r>
              <a:rPr b="1" lang="ar-SA" sz="3200" spc="-1" strike="noStrike" u="sng">
                <a:solidFill>
                  <a:srgbClr val="000000"/>
                </a:solidFill>
                <a:uFillTx/>
                <a:latin typeface="Comic Sans MS"/>
              </a:rPr>
              <a:t>_ضد الأيكوي“ جيران السابيني من الجنوب والفولسقي جيران العصبة اللاتينية من الجنوب</a:t>
            </a:r>
            <a:r>
              <a:rPr b="1" lang="ar-SA" sz="3200" spc="-1" strike="noStrike">
                <a:solidFill>
                  <a:srgbClr val="000000"/>
                </a:solidFill>
                <a:latin typeface="Comic Sans MS"/>
              </a:rPr>
              <a:t> منذ منتصف القرن الخامس ق.م  توغلت تلك القبائل جنوبي ووسط اقليم لاتيوم ولكن القوات الرومانيه نجحت في طردهم وصد خطره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3704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3" name="PlaceHolder 2"/>
          <p:cNvSpPr>
            <a:spLocks noGrp="1"/>
          </p:cNvSpPr>
          <p:nvPr>
            <p:ph/>
          </p:nvPr>
        </p:nvSpPr>
        <p:spPr>
          <a:xfrm>
            <a:off x="685800" y="836640"/>
            <a:ext cx="7696080" cy="464976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mic Sans MS"/>
              </a:rPr>
              <a:t>3</a:t>
            </a:r>
            <a:r>
              <a:rPr b="1" lang="ar-SA" sz="3200" spc="-1" strike="noStrike" u="sng">
                <a:solidFill>
                  <a:srgbClr val="000000"/>
                </a:solidFill>
                <a:uFillTx/>
                <a:latin typeface="Comic Sans MS"/>
              </a:rPr>
              <a:t>الحرب ضد_المدن الاتروسقيه</a:t>
            </a:r>
            <a:r>
              <a:rPr b="1" lang="ar-SA" sz="3200" spc="-1" strike="noStrike">
                <a:solidFill>
                  <a:srgbClr val="000000"/>
                </a:solidFill>
                <a:latin typeface="Comic Sans MS"/>
              </a:rPr>
              <a:t> :- </a:t>
            </a:r>
            <a:endParaRPr b="0" lang="en-US" sz="3200" spc="-1" strike="noStrike">
              <a:solidFill>
                <a:srgbClr val="000000"/>
              </a:solidFill>
              <a:latin typeface="Comic Sans MS"/>
            </a:endParaRPr>
          </a:p>
          <a:p>
            <a:pPr marL="298440" indent="-2984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عد هزيمة الاتروسقيين عند اريقيا انسحبوا من اقليم لاتيوم ولم يتبقى من معاقلهم سوى مدينة فياي التي كانت تسيطر على اغنى الاقاليم في لاتيوم </a:t>
            </a:r>
            <a:endParaRPr b="0" lang="en-US" sz="3200" spc="-1" strike="noStrike">
              <a:solidFill>
                <a:srgbClr val="000000"/>
              </a:solidFill>
              <a:latin typeface="Comic Sans MS"/>
            </a:endParaRPr>
          </a:p>
          <a:p>
            <a:pPr marL="298440" indent="-2984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ندلع الصراع بين الرومان والاتروسقيين حاول الرومان بمساعدة الحلف اللاتيني  طرد الاتروسقيين من اخر معاقلهم في لاتيوم ولكنهم هزموا </a:t>
            </a:r>
            <a:endParaRPr b="0" lang="en-US" sz="3200" spc="-1" strike="noStrike">
              <a:solidFill>
                <a:srgbClr val="000000"/>
              </a:solidFill>
              <a:latin typeface="Comic Sans MS"/>
            </a:endParaRPr>
          </a:p>
          <a:p>
            <a:pPr marL="298440" indent="-2984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جدد الصراع فنجح الرومان في دخول مدينة فياي واعملوا القتل في سكانها</a:t>
            </a:r>
            <a:r>
              <a:rPr b="0" lang="ar-SA"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omic Sans MS"/>
              </a:rPr>
              <a:t>غزوات الغال</a:t>
            </a:r>
            <a:endParaRPr b="0" lang="en-US" sz="4000" spc="-1" strike="noStrike">
              <a:solidFill>
                <a:srgbClr val="000000"/>
              </a:solidFill>
              <a:latin typeface="Comic Sans MS"/>
            </a:endParaRPr>
          </a:p>
        </p:txBody>
      </p:sp>
      <p:sp>
        <p:nvSpPr>
          <p:cNvPr id="165" name="PlaceHolder 2"/>
          <p:cNvSpPr>
            <a:spLocks noGrp="1"/>
          </p:cNvSpPr>
          <p:nvPr>
            <p:ph/>
          </p:nvPr>
        </p:nvSpPr>
        <p:spPr>
          <a:xfrm>
            <a:off x="685800" y="1412640"/>
            <a:ext cx="7696080" cy="460836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من هم الغاليين........... ؟</a:t>
            </a:r>
            <a:endParaRPr b="0" lang="en-US" sz="2800" spc="-1" strike="noStrike">
              <a:solidFill>
                <a:srgbClr val="000000"/>
              </a:solidFill>
              <a:latin typeface="Comic Sans MS"/>
            </a:endParaRPr>
          </a:p>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وصل الغال الى ايطاليا في القرن الرايع ق.م وترتب على ذلك عدة نتائج منها :-</a:t>
            </a:r>
            <a:endParaRPr b="0" lang="en-US" sz="2800" spc="-1" strike="noStrike">
              <a:solidFill>
                <a:srgbClr val="000000"/>
              </a:solidFill>
              <a:latin typeface="Comic Sans MS"/>
            </a:endParaRPr>
          </a:p>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سيطرتهم على سهل البو الذي عرف عند الرومان باسم غاله المتاخمه للالب ادت الى القضاء على النفوذ الاتروسقي في البو , في الوقت الذي اصبح الجزء الشمالي من ايطاليا مكمن خطر على الرومان</a:t>
            </a:r>
            <a:endParaRPr b="0" lang="en-US" sz="2800" spc="-1" strike="noStrike">
              <a:solidFill>
                <a:srgbClr val="000000"/>
              </a:solidFill>
              <a:latin typeface="Comic Sans MS"/>
            </a:endParaRPr>
          </a:p>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بدأ الصراع بين الطرفين عندما هاجم الغال اقليم اتروريا ومدينة قلوسيوم فطلبت المساعده من الرومان </a:t>
            </a:r>
            <a:endParaRPr b="0" lang="en-US" sz="2800" spc="-1" strike="noStrike">
              <a:solidFill>
                <a:srgbClr val="000000"/>
              </a:solidFill>
              <a:latin typeface="Comic Sans MS"/>
            </a:endParaRPr>
          </a:p>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رسل السناتو الروماني وفدا لتحذير الغزاه  فاعتبر الغال ذلك تدخل من روما </a:t>
            </a:r>
            <a:endParaRPr b="0" lang="en-US" sz="2800" spc="-1" strike="noStrike">
              <a:solidFill>
                <a:srgbClr val="000000"/>
              </a:solidFill>
              <a:latin typeface="Comic Sans MS"/>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7" name="PlaceHolder 2"/>
          <p:cNvSpPr>
            <a:spLocks noGrp="1"/>
          </p:cNvSpPr>
          <p:nvPr>
            <p:ph/>
          </p:nvPr>
        </p:nvSpPr>
        <p:spPr>
          <a:xfrm>
            <a:off x="685800" y="1196640"/>
            <a:ext cx="7696080" cy="42894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تقدم الغاليين بقواتهم نحو روما وهزمت القوات الرومانيه على ضفاف نهر آليا  </a:t>
            </a:r>
            <a:endParaRPr b="0" lang="en-US" sz="32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تباطئ الغال في التقدم نحو روما واخيرا دخلوها بدون مقاومه </a:t>
            </a:r>
            <a:endParaRPr b="0" lang="en-US" sz="32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نسحب الغال من روما مقابل جزيه من الذهب </a:t>
            </a:r>
            <a:endParaRPr b="0" lang="en-US" sz="32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درك الرومان مدى الحاجة لتحصين المدينه فاقاموا سورا من الحجر لحمايتها وادخلوا تعديلات على الجيش..</a:t>
            </a:r>
            <a:endParaRPr b="0" lang="en-US" sz="3200" spc="-1" strike="noStrike">
              <a:solidFill>
                <a:srgbClr val="000000"/>
              </a:solidFill>
              <a:latin typeface="Comic Sans MS"/>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6:52:41Z</dcterms:created>
  <dc:creator>مليحة</dc:creator>
  <dc:description/>
  <dc:language>en-US</dc:language>
  <cp:lastModifiedBy>مليحة</cp:lastModifiedBy>
  <dcterms:modified xsi:type="dcterms:W3CDTF">2010-04-07T09:01:54Z</dcterms:modified>
  <cp:revision>42</cp:revision>
  <dc:subject/>
  <dc:title>الشريحة 1</dc:title>
</cp:coreProperties>
</file>