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3536B-20BB-4C3B-B324-EBA7A68CD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54D2-45C3-46BB-8023-6F7E96D8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9107-8406-4D1C-9725-DCA82EA21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D4BED-1444-4EFC-8AA6-5C762B75E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56D19-BBA1-4616-8A84-AC6F7149D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D55F8-4A7A-4716-97E7-00EC99A6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03C7-3DBC-4FFE-8D7C-0E7C38FDA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A5E77-D180-4488-BFC6-4CCBE558F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CB5ED-1A3C-4B17-91B4-3D3959903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C7FA1-BCC7-491E-A9AD-7ADF8E9C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BB3DC-9EA1-44B8-8484-208CB517C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4A6F-734F-4860-817A-104E98793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C053A-20F6-4AA9-8C65-01C0979A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68B0-D217-4FC5-86D1-FDF7A25B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D1089-E550-4C77-8DBE-2C529B4EF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6548A-BB3F-4C14-8757-F744B5F86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1F8C2-F452-4E87-8C86-7C253B97C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D19E-919E-48E2-99DC-E2D8A228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DF7A-37DA-45EA-BDC0-0F2E0FF1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13FF-9C86-495C-AE66-C61ECD19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FDBF-5CC5-4EF8-BF55-493424F16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6561-9052-4790-9BCA-6A12682A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5A0D-2651-40FA-8CAA-D79679D7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F3F5-6BF1-4C46-915C-1602D8971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1A3B-0376-4892-9ADD-75493AF726FF}"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99cc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B08B-B9AA-49AB-824E-E8D28CF8875D}"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الحروب البونية</a:t>
            </a:r>
            <a:endParaRPr b="0" lang="en-US" sz="4400" spc="-1" strike="noStrike">
              <a:solidFill>
                <a:srgbClr val="000000"/>
              </a:solidFill>
              <a:latin typeface="Comic Sans MS"/>
            </a:endParaRPr>
          </a:p>
        </p:txBody>
      </p:sp>
      <p:sp>
        <p:nvSpPr>
          <p:cNvPr id="1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ن هي قرطاجة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تى بدأت العلاقات القرطاجية الرومانية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اهي طبيعة تلك العلاقات ؟</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615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0000"/>
              </a:solidFill>
              <a:uFillTx/>
              <a:latin typeface="Comic Sans MS"/>
            </a:endParaRPr>
          </a:p>
        </p:txBody>
      </p:sp>
      <p:sp>
        <p:nvSpPr>
          <p:cNvPr id="168" name="PlaceHolder 2"/>
          <p:cNvSpPr>
            <a:spLocks noGrp="1"/>
          </p:cNvSpPr>
          <p:nvPr>
            <p:ph/>
          </p:nvPr>
        </p:nvSpPr>
        <p:spPr>
          <a:xfrm>
            <a:off x="685800" y="764640"/>
            <a:ext cx="7696080" cy="472140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 </a:t>
            </a:r>
            <a:r>
              <a:rPr b="1" lang="ar-SA" sz="2400" spc="-1" strike="noStrike" u="sng">
                <a:solidFill>
                  <a:srgbClr val="000000"/>
                </a:solidFill>
                <a:uFillTx/>
                <a:latin typeface="Comic Sans MS"/>
              </a:rPr>
              <a:t>المرحلة الثانية :-</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صبح هدف الرومان السيطرة على قرطاجة نفسها شمال افريقيا</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زادت روما من عدد سفنها – كما استعدت قرطاجة للمواجهة</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لتقى الطرفان جنوبي صقلية عند رأس اقنوموس</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كان النصر لروما وتقدمت القوات الرومانية حتى اصبحت على بعد يوم من قرطاجة</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ستعد القرطاجيين خلالا موسم الشتاء ودربوا قواتهم وعندما نشبت الحرب كان النصر لقرطاجة واسر القائد الروماني</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رسلت روما قوة للمساندة اشتبكت مع الاسطول القرطاجي وبالرغم من انتصارها الا انها لم تتقدم نحو قرطاجة وأثناء العودة تعرضت للأعاصير وفقدت معظم سفنها</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1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0000"/>
              </a:solidFill>
              <a:uFillTx/>
              <a:latin typeface="Comic Sans MS"/>
            </a:endParaRPr>
          </a:p>
        </p:txBody>
      </p:sp>
      <p:sp>
        <p:nvSpPr>
          <p:cNvPr id="170"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المرحلة الثالثة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عادت روما بناء قوتها البحرية وغيرت خططها العسكرية للسيطرة على كامل صقلية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كانت القوات الرومانية تحت قيادة جايوس قاتالوس بينما يقود القرطاجيين هاميلكار الذي وجه نشاطه لضرب المصالح الرومانية في صقلية وايطاليا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نجح الرومان في السيطرة على بانورموس – ليلوبايوم</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بينما كانت روما تزيد قواتها كانت قرطاجة تسرح بعض جنودها بسبب ازمة اقتصادية ...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تتمكن قوات هاميلكار من الصمود فهزمت وأجبرت على توقيع الصلح الذي عرف باسم </a:t>
            </a:r>
            <a:r>
              <a:rPr b="1" lang="ar-SA" sz="2800" spc="-1" strike="noStrike" u="sng">
                <a:solidFill>
                  <a:srgbClr val="000000"/>
                </a:solidFill>
                <a:uFillTx/>
                <a:latin typeface="Comic Sans MS"/>
              </a:rPr>
              <a:t>صلح قاتالو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1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PlaceHolder 2"/>
          <p:cNvSpPr>
            <a:spLocks noGrp="1"/>
          </p:cNvSpPr>
          <p:nvPr>
            <p:ph/>
          </p:nvPr>
        </p:nvSpPr>
        <p:spPr>
          <a:xfrm>
            <a:off x="685800" y="1052640"/>
            <a:ext cx="7696080" cy="4433760"/>
          </a:xfrm>
          <a:prstGeom prst="rect">
            <a:avLst/>
          </a:prstGeom>
          <a:noFill/>
          <a:ln w="0">
            <a:noFill/>
          </a:ln>
        </p:spPr>
        <p:txBody>
          <a:bodyPr lIns="90000" rIns="90000" tIns="46800" bIns="46800" anchor="t">
            <a:normAutofit fontScale="83000"/>
          </a:bodyPr>
          <a:p>
            <a:pPr marL="505800" indent="-5058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شروط صلح قاتالوس:-</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يتنازل القرطاجيين عن جميع ممتلكاتهم في صقلية لروما</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فع تعويضات كبيرة لروما على اقساط سنوية لمدة </a:t>
            </a:r>
            <a:r>
              <a:rPr b="1" lang="ar-SA" sz="2800" spc="-1" strike="noStrike">
                <a:solidFill>
                  <a:srgbClr val="000000"/>
                </a:solidFill>
                <a:latin typeface="Comic Sans MS"/>
              </a:rPr>
              <a:t>20</a:t>
            </a:r>
            <a:r>
              <a:rPr b="1" lang="ar-SA" sz="2800" spc="-1" strike="noStrike">
                <a:solidFill>
                  <a:srgbClr val="000000"/>
                </a:solidFill>
                <a:latin typeface="Comic Sans MS"/>
              </a:rPr>
              <a:t> سنه</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نتائج الحرب البونية الاولى:-</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نهاية السيادة القرطاجية على صقلية</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 السيادة في غربي البحر المتوسط لروما</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بدأـ روما تتطلع لإقامة امبراطورية حيث سيطرت بعد ذلك على سردينيا وقورسيقا وهي مناطق نفوذ بحرية لقرطاج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125360"/>
            <a:ext cx="8062920" cy="273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الحرب البونية الثانية</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5" name="PlaceHolder 2"/>
          <p:cNvSpPr>
            <a:spLocks noGrp="1"/>
          </p:cNvSpPr>
          <p:nvPr>
            <p:ph/>
          </p:nvPr>
        </p:nvSpPr>
        <p:spPr>
          <a:xfrm>
            <a:off x="685800" y="1052640"/>
            <a:ext cx="7696080" cy="4433760"/>
          </a:xfrm>
          <a:prstGeom prst="rect">
            <a:avLst/>
          </a:prstGeom>
          <a:noFill/>
          <a:ln w="0">
            <a:noFill/>
          </a:ln>
        </p:spPr>
        <p:txBody>
          <a:bodyPr lIns="90000" rIns="90000" tIns="46800" bIns="46800" anchor="t">
            <a:normAutofit fontScale="84000"/>
          </a:bodyPr>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عد ان فقدت قرطاجة نفوذها في صقلية وجهت نضرها نحو اسبانيا وأوكلت هذه المهمة الى هاميلكار</a:t>
            </a:r>
            <a:endParaRPr b="0" lang="en-US" sz="3200" spc="-1" strike="noStrike">
              <a:solidFill>
                <a:srgbClr val="000000"/>
              </a:solidFill>
              <a:latin typeface="Comic Sans MS"/>
            </a:endParaRPr>
          </a:p>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 هدف القرطاجيين الحصول على موارد دخل جديدة تعوض الخسائر الحربية </a:t>
            </a:r>
            <a:r>
              <a:rPr b="1" lang="ar-SA" sz="3200" spc="-1" strike="noStrike">
                <a:solidFill>
                  <a:srgbClr val="000000"/>
                </a:solidFill>
                <a:latin typeface="Comic Sans MS"/>
              </a:rPr>
              <a:t>0</a:t>
            </a:r>
            <a:r>
              <a:rPr b="1" lang="ar-SA" sz="3200" spc="-1" strike="noStrike">
                <a:solidFill>
                  <a:srgbClr val="000000"/>
                </a:solidFill>
                <a:latin typeface="Comic Sans MS"/>
              </a:rPr>
              <a:t>- والاستفادة من رجال اسبانيا لتكوين الجيش</a:t>
            </a:r>
            <a:endParaRPr b="0" lang="en-US" sz="3200" spc="-1" strike="noStrike">
              <a:solidFill>
                <a:srgbClr val="000000"/>
              </a:solidFill>
              <a:latin typeface="Comic Sans MS"/>
            </a:endParaRPr>
          </a:p>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عتبرت روما ذلك تحدي من هاميلكار فأرسلت تستوضح الامر وأفاد بأن هدفه الحصول على مصادر دخل جديدة تمكنه من دفع التعويضات للرومان</a:t>
            </a:r>
            <a:endParaRPr b="0" lang="en-US" sz="3200" spc="-1" strike="noStrike">
              <a:solidFill>
                <a:srgbClr val="000000"/>
              </a:solidFill>
              <a:latin typeface="Comic Sans MS"/>
            </a:endParaRPr>
          </a:p>
          <a:p>
            <a:pPr marL="2880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7"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في عام </a:t>
            </a:r>
            <a:r>
              <a:rPr b="1" lang="ar-SA" sz="2800" spc="-1" strike="noStrike">
                <a:solidFill>
                  <a:srgbClr val="000000"/>
                </a:solidFill>
                <a:latin typeface="Comic Sans MS"/>
              </a:rPr>
              <a:t>221</a:t>
            </a:r>
            <a:r>
              <a:rPr b="1" lang="ar-SA" sz="2800" spc="-1" strike="noStrike">
                <a:solidFill>
                  <a:srgbClr val="000000"/>
                </a:solidFill>
                <a:latin typeface="Comic Sans MS"/>
              </a:rPr>
              <a:t> ق.م اسندت قيادة القوات القرطاجية في اسبانيا لهانيبال بن هاميلكار وقد ورث من ابيه كرهه للرومان</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عى الى تصفية حساباته مع روما مستغلا فرصة انشغال روما في حروبها مع الغال على ان يجبر روما على اعلان الحرب وتظهر بصورة المعتدي</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ستغل هانيبال الخلاف الدائر بين ساجونتوم واحدى القبائل الحليفة لقرطاجة فقام بحصار ساجونتوم التي طلبت تدخل روما فأرسل السناتو بعثة الى هانيبال وأنكر عليهم تدخلهم في المسألة </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جأت البعثة الى الحكومة القرطاجية وكان ردها تأييدها الكامل لهنيبال .</a:t>
            </a:r>
            <a:endParaRPr b="0" lang="en-US" sz="2800" spc="-1" strike="noStrike">
              <a:solidFill>
                <a:srgbClr val="000000"/>
              </a:solidFill>
              <a:latin typeface="Comic Sans MS"/>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a:t>
            </a:r>
            <a:endParaRPr b="0" lang="en-US" sz="2800" spc="-1" strike="noStrike">
              <a:solidFill>
                <a:srgbClr val="000000"/>
              </a:solidFill>
              <a:latin typeface="Comic Sans MS"/>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 dur="500">
                                          <p:stCondLst>
                                            <p:cond delay="0"/>
                                          </p:stCondLst>
                                        </p:cTn>
                                        <p:tgtEl>
                                          <p:spTgt spid="177">
                                            <p:txEl>
                                              <p:pRg st="0" end="0"/>
                                            </p:txEl>
                                          </p:spTgt>
                                        </p:tgtEl>
                                      </p:cBhvr>
                                    </p:animEffect>
                                    <p:anim calcmode="lin" valueType="num">
                                      <p:cBhvr additive="repl">
                                        <p:cTn id="8"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4" dur="500">
                                          <p:stCondLst>
                                            <p:cond delay="0"/>
                                          </p:stCondLst>
                                        </p:cTn>
                                        <p:tgtEl>
                                          <p:spTgt spid="177">
                                            <p:txEl>
                                              <p:pRg st="1" end="1"/>
                                            </p:txEl>
                                          </p:spTgt>
                                        </p:tgtEl>
                                      </p:cBhvr>
                                    </p:animEffect>
                                    <p:anim calcmode="lin" valueType="num">
                                      <p:cBhvr additive="repl">
                                        <p:cTn id="15" dur="500" fill="hold">
                                          <p:stCondLst>
                                            <p:cond delay="0"/>
                                          </p:stCondLst>
                                        </p:cTn>
                                        <p:tgtEl>
                                          <p:spTgt spid="177">
                                            <p:txEl>
                                              <p:pRg st="1" end="1"/>
                                            </p:txEl>
                                          </p:spTgt>
                                        </p:tgtEl>
                                        <p:attrNameLst>
                                          <p:attrName>ppt_x</p:attrName>
                                        </p:attrNameLst>
                                      </p:cBhvr>
                                      <p:tavLst>
                                        <p:tav tm="0">
                                          <p:val>
                                            <p:strVal val="#ppt_x-.1"/>
                                          </p:val>
                                        </p:tav>
                                        <p:tav tm="100000">
                                          <p:val>
                                            <p:strVal val="#ppt_x"/>
                                          </p:val>
                                        </p:tav>
                                      </p:tavLst>
                                    </p:anim>
                                    <p:anim calcmode="lin" valueType="num">
                                      <p:cBhvr additive="repl">
                                        <p:cTn id="16" dur="500" fill="hold">
                                          <p:stCondLst>
                                            <p:cond delay="0"/>
                                          </p:stCondLst>
                                        </p:cTn>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1" dur="500">
                                          <p:stCondLst>
                                            <p:cond delay="0"/>
                                          </p:stCondLst>
                                        </p:cTn>
                                        <p:tgtEl>
                                          <p:spTgt spid="177">
                                            <p:txEl>
                                              <p:pRg st="2" end="2"/>
                                            </p:txEl>
                                          </p:spTgt>
                                        </p:tgtEl>
                                      </p:cBhvr>
                                    </p:animEffect>
                                    <p:anim calcmode="lin" valueType="num">
                                      <p:cBhvr additive="repl">
                                        <p:cTn id="22" dur="500" fill="hold">
                                          <p:stCondLst>
                                            <p:cond delay="0"/>
                                          </p:stCondLst>
                                        </p:cTn>
                                        <p:tgtEl>
                                          <p:spTgt spid="177">
                                            <p:txEl>
                                              <p:pRg st="2" end="2"/>
                                            </p:txEl>
                                          </p:spTgt>
                                        </p:tgtEl>
                                        <p:attrNameLst>
                                          <p:attrName>ppt_x</p:attrName>
                                        </p:attrNameLst>
                                      </p:cBhvr>
                                      <p:tavLst>
                                        <p:tav tm="0">
                                          <p:val>
                                            <p:strVal val="#ppt_x-.1"/>
                                          </p:val>
                                        </p:tav>
                                        <p:tav tm="100000">
                                          <p:val>
                                            <p:strVal val="#ppt_x"/>
                                          </p:val>
                                        </p:tav>
                                      </p:tavLst>
                                    </p:anim>
                                    <p:anim calcmode="lin" valueType="num">
                                      <p:cBhvr additive="repl">
                                        <p:cTn id="23" dur="500" fill="hold">
                                          <p:stCondLst>
                                            <p:cond delay="0"/>
                                          </p:stCondLst>
                                        </p:cTn>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0">
                                  <p:stCondLst>
                                    <p:cond delay="0"/>
                                  </p:stCondLst>
                                  <p:iterate type="lt">
                                    <p:tmAbs val="50"/>
                                  </p:iterate>
                                  <p:childTnLst>
                                    <p:set>
                                      <p:cBhvr>
                                        <p:cTn id="2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8" dur="500">
                                          <p:stCondLst>
                                            <p:cond delay="0"/>
                                          </p:stCondLst>
                                        </p:cTn>
                                        <p:tgtEl>
                                          <p:spTgt spid="177">
                                            <p:txEl>
                                              <p:pRg st="3" end="3"/>
                                            </p:txEl>
                                          </p:spTgt>
                                        </p:tgtEl>
                                      </p:cBhvr>
                                    </p:animEffect>
                                    <p:anim calcmode="lin" valueType="num">
                                      <p:cBhvr additive="repl">
                                        <p:cTn id="29" dur="500" fill="hold">
                                          <p:stCondLst>
                                            <p:cond delay="0"/>
                                          </p:stCondLst>
                                        </p:cTn>
                                        <p:tgtEl>
                                          <p:spTgt spid="177">
                                            <p:txEl>
                                              <p:pRg st="3" end="3"/>
                                            </p:txEl>
                                          </p:spTgt>
                                        </p:tgtEl>
                                        <p:attrNameLst>
                                          <p:attrName>ppt_x</p:attrName>
                                        </p:attrNameLst>
                                      </p:cBhvr>
                                      <p:tavLst>
                                        <p:tav tm="0">
                                          <p:val>
                                            <p:strVal val="#ppt_x-.1"/>
                                          </p:val>
                                        </p:tav>
                                        <p:tav tm="100000">
                                          <p:val>
                                            <p:strVal val="#ppt_x"/>
                                          </p:val>
                                        </p:tav>
                                      </p:tavLst>
                                    </p:anim>
                                    <p:anim calcmode="lin" valueType="num">
                                      <p:cBhvr additive="repl">
                                        <p:cTn id="30" dur="500" fill="hold">
                                          <p:stCondLst>
                                            <p:cond delay="0"/>
                                          </p:stCondLst>
                                        </p:cTn>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5" dur="500">
                                          <p:stCondLst>
                                            <p:cond delay="0"/>
                                          </p:stCondLst>
                                        </p:cTn>
                                        <p:tgtEl>
                                          <p:spTgt spid="177">
                                            <p:txEl>
                                              <p:pRg st="4" end="4"/>
                                            </p:txEl>
                                          </p:spTgt>
                                        </p:tgtEl>
                                      </p:cBhvr>
                                    </p:animEffect>
                                    <p:anim calcmode="lin" valueType="num">
                                      <p:cBhvr additive="repl">
                                        <p:cTn id="36" dur="500" fill="hold">
                                          <p:stCondLst>
                                            <p:cond delay="0"/>
                                          </p:stCondLst>
                                        </p:cTn>
                                        <p:tgtEl>
                                          <p:spTgt spid="177">
                                            <p:txEl>
                                              <p:pRg st="4" end="4"/>
                                            </p:txEl>
                                          </p:spTgt>
                                        </p:tgtEl>
                                        <p:attrNameLst>
                                          <p:attrName>ppt_x</p:attrName>
                                        </p:attrNameLst>
                                      </p:cBhvr>
                                      <p:tavLst>
                                        <p:tav tm="0">
                                          <p:val>
                                            <p:strVal val="#ppt_x-.1"/>
                                          </p:val>
                                        </p:tav>
                                        <p:tav tm="100000">
                                          <p:val>
                                            <p:strVal val="#ppt_x"/>
                                          </p:val>
                                        </p:tav>
                                      </p:tavLst>
                                    </p:anim>
                                    <p:anim calcmode="lin" valueType="num">
                                      <p:cBhvr additive="repl">
                                        <p:cTn id="37" dur="500" fill="hold">
                                          <p:stCondLst>
                                            <p:cond delay="0"/>
                                          </p:stCondLst>
                                        </p:cTn>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9" name="PlaceHolder 2"/>
          <p:cNvSpPr>
            <a:spLocks noGrp="1"/>
          </p:cNvSpPr>
          <p:nvPr>
            <p:ph/>
          </p:nvPr>
        </p:nvSpPr>
        <p:spPr>
          <a:xfrm>
            <a:off x="539640" y="549360"/>
            <a:ext cx="7842240" cy="4937040"/>
          </a:xfrm>
          <a:prstGeom prst="rect">
            <a:avLst/>
          </a:prstGeom>
          <a:noFill/>
          <a:ln w="0">
            <a:noFill/>
          </a:ln>
        </p:spPr>
        <p:txBody>
          <a:bodyPr lIns="90000" rIns="90000" tIns="46800" bIns="46800" anchor="t">
            <a:normAutofit fontScale="78000"/>
          </a:bodyPr>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سيطر هانيبال على ساجونتوم  بعد حصار دام </a:t>
            </a:r>
            <a:r>
              <a:rPr b="1" lang="ar-SA" sz="3200" spc="-1" strike="noStrike">
                <a:solidFill>
                  <a:srgbClr val="000000"/>
                </a:solidFill>
                <a:latin typeface="Comic Sans MS"/>
              </a:rPr>
              <a:t>18</a:t>
            </a:r>
            <a:r>
              <a:rPr b="1" lang="ar-SA" sz="3200" spc="-1" strike="noStrike">
                <a:solidFill>
                  <a:srgbClr val="000000"/>
                </a:solidFill>
                <a:latin typeface="Comic Sans MS"/>
              </a:rPr>
              <a:t> شهرا</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بعثة الى قرطاجة تطلب تسليم هانيبال والقادة التابعين له وكان رد الحكومة تأييدها التام لهانيبال مما يعني اندلاع الحرب بين الطرفين </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جيشا الى اسبانيا بزعامة القنصل بوبليوس سقيبيو وآخر الى شمال افريقيا بهدف غزوها </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لم يترك هانيبال لروما فرصة اختيار ساحة المعركة حيث قرر ان ينقل الصراع الى شبه الجزيرة الايطالية نفسها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1" name="PlaceHolder 2"/>
          <p:cNvSpPr>
            <a:spLocks noGrp="1"/>
          </p:cNvSpPr>
          <p:nvPr>
            <p:ph/>
          </p:nvPr>
        </p:nvSpPr>
        <p:spPr>
          <a:xfrm>
            <a:off x="685800" y="333360"/>
            <a:ext cx="7696080" cy="515304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يكن بإمكان هانيبال نقل قواته الى ايطاليا بحرا .لماذا</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قرر هانيبال السير برا عبر جبال البرانس والألب .</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عرض خلال العبور لعدد من المشاكل منها الجو – التضاريس- قبائل الغال  كلفته نصف قواته.....</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عت روما لجمع قواتها لمواجهة هانيبال والقى الطرفان عند نهر تربيا وبالرغم من ان القوات الرومانية كانت اكثر عددا الا ان النصر من نصيب هانيبال ونتيجة ذلك انسحاب الرومان من شمال ايطاليا</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تصار هانيبال شجع الغاليين على الانضمام اليه وبلغ عدد قواته </a:t>
            </a:r>
            <a:r>
              <a:rPr b="1" lang="ar-SA" sz="2800" spc="-1" strike="noStrike">
                <a:solidFill>
                  <a:srgbClr val="000000"/>
                </a:solidFill>
                <a:latin typeface="Comic Sans MS"/>
              </a:rPr>
              <a:t>50000</a:t>
            </a:r>
            <a:r>
              <a:rPr b="1" lang="ar-SA" sz="2800" spc="-1" strike="noStrike">
                <a:solidFill>
                  <a:srgbClr val="000000"/>
                </a:solidFill>
                <a:latin typeface="Comic Sans MS"/>
              </a:rPr>
              <a:t>مقاتل وقضى الشتاء يدرب الجيش</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قى الطرفان مرة اخرى عند بحيرة تراسميني وحقق فيها هانيبال نصرا رائعا</a:t>
            </a:r>
            <a:endParaRPr b="0" lang="en-US" sz="2800" spc="-1" strike="noStrike">
              <a:solidFill>
                <a:srgbClr val="000000"/>
              </a:solidFill>
              <a:latin typeface="Comic Sans MS"/>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3" name="PlaceHolder 2"/>
          <p:cNvSpPr>
            <a:spLocks noGrp="1"/>
          </p:cNvSpPr>
          <p:nvPr>
            <p:ph/>
          </p:nvPr>
        </p:nvSpPr>
        <p:spPr>
          <a:xfrm>
            <a:off x="685800" y="836640"/>
            <a:ext cx="7696080" cy="54007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صبح الطريق مفتوحا امام هانيبال لاقتحام روما ولكن العتاد لم تكن متوفرة</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قرر الرومان عدم الدخول في حرب مباشرة مع هانيبال وتركوه يستنزف قوته في متابعة الشاردين ومحاولة قطع اتصاله بالغاليين </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ستغرق ذلك وقتا طويلا حتى اكملت روما استعدادها لمعركة فاصلة والتقى الطرفين في </a:t>
            </a:r>
            <a:r>
              <a:rPr b="1" lang="ar-SA" sz="3200" spc="-1" strike="noStrike" u="sng">
                <a:solidFill>
                  <a:srgbClr val="000000"/>
                </a:solidFill>
                <a:uFillTx/>
                <a:latin typeface="Comic Sans MS"/>
              </a:rPr>
              <a:t>سهل قاناي</a:t>
            </a:r>
            <a:r>
              <a:rPr b="1" lang="ar-SA" sz="3200" spc="-1" strike="noStrike">
                <a:solidFill>
                  <a:srgbClr val="000000"/>
                </a:solidFill>
                <a:latin typeface="Comic Sans MS"/>
              </a:rPr>
              <a:t> عام </a:t>
            </a:r>
            <a:r>
              <a:rPr b="1" lang="ar-SA" sz="3200" spc="-1" strike="noStrike">
                <a:solidFill>
                  <a:srgbClr val="000000"/>
                </a:solidFill>
                <a:latin typeface="Comic Sans MS"/>
              </a:rPr>
              <a:t>216</a:t>
            </a:r>
            <a:r>
              <a:rPr b="1" lang="ar-SA" sz="3200" spc="-1" strike="noStrike">
                <a:solidFill>
                  <a:srgbClr val="000000"/>
                </a:solidFill>
                <a:latin typeface="Comic Sans MS"/>
              </a:rPr>
              <a:t> وبالرغم من ان جيش روما كان اضعاف جيش هانيبال الا ان خطته وذكائه كان السبب في انتصاره وفقدت روما معظم قواتها .ماهي خطط هانيبال التي مكنته من تحقيق النصر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55880"/>
            <a:ext cx="6870600" cy="825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
        <p:nvSpPr>
          <p:cNvPr id="185" name="PlaceHolder 2"/>
          <p:cNvSpPr>
            <a:spLocks noGrp="1"/>
          </p:cNvSpPr>
          <p:nvPr>
            <p:ph/>
          </p:nvPr>
        </p:nvSpPr>
        <p:spPr>
          <a:xfrm>
            <a:off x="685800" y="1196640"/>
            <a:ext cx="7696080" cy="504036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رتب على معركة قاني عدة نتائج منها:-</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 منحت هانيبال الثقة في جيشه</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 اهتزت ثقة حلفاء روما في حليفتهم وانحازوا الى جانب عدوها</a:t>
            </a:r>
            <a:endParaRPr b="0" lang="en-US" sz="2800" spc="-1" strike="noStrike">
              <a:solidFill>
                <a:srgbClr val="000000"/>
              </a:solidFill>
              <a:latin typeface="Comic Sans MS"/>
            </a:endParaRPr>
          </a:p>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كانت خطة هانيبال التالية الاستيلاء على المدن الاغريقية حتى يجبر روما على دخول مرحلة جديدة من الصراع . اما روما فقد استعادت مكانتها ولكنها لم تتورط في حرب مع هانيبال ولكنها حالت بينه وبين حلفائه , كما حالت دون وصول أي مدد له من قرطاجة او صقلية .كما نجحت في القضاء على المدد الذي جاء به اخوه , الذي قتل وأرسل رأسه الى هانيبال </a:t>
            </a:r>
            <a:endParaRPr b="0" lang="en-US" sz="2800" spc="-1" strike="noStrike">
              <a:solidFill>
                <a:srgbClr val="000000"/>
              </a:solidFill>
              <a:latin typeface="Comic Sans MS"/>
            </a:endParaRPr>
          </a:p>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سحب هانيبال الى الطرف الجنوبي لايطاليا وبقي حتى صدرت الاوامر بان يعود الى قرطاجة عام </a:t>
            </a:r>
            <a:r>
              <a:rPr b="1" lang="ar-SA" sz="2800" spc="-1" strike="noStrike">
                <a:solidFill>
                  <a:srgbClr val="000000"/>
                </a:solidFill>
                <a:latin typeface="Comic Sans MS"/>
              </a:rPr>
              <a:t>203</a:t>
            </a:r>
            <a:r>
              <a:rPr b="1" lang="ar-SA" sz="2800" spc="-1" strike="noStrike">
                <a:solidFill>
                  <a:srgbClr val="000000"/>
                </a:solidFill>
                <a:latin typeface="Comic Sans MS"/>
              </a:rPr>
              <a:t>ق.م </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بداية العلاقات الرومانية القرطاجية </a:t>
            </a:r>
            <a:r>
              <a:rPr b="1" lang="ar-SA"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السياسة الخارجية القرطاجية تهدف الى الحفاظ على المصالح التجارية القرطاجية وذلك عن طريق ضمان السيطرة على  غربي البحر المتوسط</a:t>
            </a:r>
            <a:endParaRPr b="0" lang="en-US" sz="3200" spc="-1" strike="noStrike">
              <a:solidFill>
                <a:srgbClr val="000000"/>
              </a:solidFill>
              <a:latin typeface="Comic Sans MS"/>
            </a:endParaRPr>
          </a:p>
          <a:p>
            <a:pPr marL="315360" indent="-3153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قدت قرطاجة معاهدات تجارية مع روما , اتبعتها بمعاهدة عسكرية . متى ؟ ولماذا؟</a:t>
            </a:r>
            <a:endParaRPr b="0" lang="en-US" sz="3200" spc="-1" strike="noStrike">
              <a:solidFill>
                <a:srgbClr val="000000"/>
              </a:solidFill>
              <a:latin typeface="Comic Sans MS"/>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7" name="PlaceHolder 2"/>
          <p:cNvSpPr>
            <a:spLocks noGrp="1"/>
          </p:cNvSpPr>
          <p:nvPr>
            <p:ph/>
          </p:nvPr>
        </p:nvSpPr>
        <p:spPr>
          <a:xfrm>
            <a:off x="685800" y="549360"/>
            <a:ext cx="7696080" cy="575928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تتجرأ روما على خوض الحرب مع هانيبال بالرغم من الوضع السيئ لجيشه</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 القيادة الرومانية لاسقيبيو ابن بوبليوس اسقيبيو وكانت خطته القضاء على النفوذ القرطاجي في اسبانيا فنجح في ذلك ثم يمم وجهته صوب قرطاجة ونجح في كسب ود القبائل ، مما مهد السبيل للسيطرة على قرطاجة</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رفض السناتو السماح لاسقيبيو من القيام بمهاجمة قرطاجة فاستغل الوقت في تدريب قواته , اما قرطاجه فقد قامت بإرسال قوه مساندة لهانيبال , وقوة اخري للدفاع عن قرطاجة</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مكنت القوات القرطاجية وحلفائها من شل قوات اسقيبيو مع دخول الشتاء</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ظاهر اسقيبيو بأنه على استعداد للصلح وبدأت المفاوضات التي اطال امدها عمدا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9"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5000"/>
          </a:bodyPr>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ما ان انتهى الشتاء حتى قطع اسقيبيو المفاوضات وأعلن الحرب على قرطاجة والحق بها الهزيمة مما دفعها الى طلب الصلح ومن شروطه:- </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ستدعاء هانيبال من ايطاليا</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تنازل قرطاجة عن ممتلكاتها في اسبانيا</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يخفض عدد السفن القرطاجية الى </a:t>
            </a:r>
            <a:r>
              <a:rPr b="1" lang="ar-SA" sz="2800" spc="-1" strike="noStrike">
                <a:solidFill>
                  <a:srgbClr val="000000"/>
                </a:solidFill>
                <a:latin typeface="Comic Sans MS"/>
              </a:rPr>
              <a:t>20</a:t>
            </a:r>
            <a:r>
              <a:rPr b="1" lang="ar-SA" sz="2800" spc="-1" strike="noStrike">
                <a:solidFill>
                  <a:srgbClr val="000000"/>
                </a:solidFill>
                <a:latin typeface="Comic Sans MS"/>
              </a:rPr>
              <a:t> سفينة</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فع غرامة لروما </a:t>
            </a:r>
            <a:endParaRPr b="0" lang="en-US" sz="2800" spc="-1" strike="noStrike">
              <a:solidFill>
                <a:srgbClr val="000000"/>
              </a:solidFill>
              <a:latin typeface="Comic Sans MS"/>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ولكن عودة هانيبال ومعه </a:t>
            </a:r>
            <a:r>
              <a:rPr b="1" lang="ar-SA" sz="2800" spc="-1" strike="noStrike">
                <a:solidFill>
                  <a:srgbClr val="000000"/>
                </a:solidFill>
                <a:latin typeface="Comic Sans MS"/>
              </a:rPr>
              <a:t>15000</a:t>
            </a:r>
            <a:r>
              <a:rPr b="1" lang="ar-SA" sz="2800" spc="-1" strike="noStrike">
                <a:solidFill>
                  <a:srgbClr val="000000"/>
                </a:solidFill>
                <a:latin typeface="Comic Sans MS"/>
              </a:rPr>
              <a:t> من الجنود شجعت قرطاجة على خرق المعاهدة وهاجمت بعض الناقلات الرومانية مما ادى الى استئناف القتال</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1" name="PlaceHolder 2"/>
          <p:cNvSpPr>
            <a:spLocks noGrp="1"/>
          </p:cNvSpPr>
          <p:nvPr>
            <p:ph/>
          </p:nvPr>
        </p:nvSpPr>
        <p:spPr>
          <a:xfrm>
            <a:off x="685800" y="692280"/>
            <a:ext cx="7696080" cy="5473440"/>
          </a:xfrm>
          <a:prstGeom prst="rect">
            <a:avLst/>
          </a:prstGeom>
          <a:noFill/>
          <a:ln w="0">
            <a:noFill/>
          </a:ln>
        </p:spPr>
        <p:txBody>
          <a:bodyPr lIns="90000" rIns="90000" tIns="46800" bIns="46800" anchor="t">
            <a:normAutofit fontScale="80000"/>
          </a:bodyPr>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موقعة زاما</a:t>
            </a:r>
            <a:r>
              <a:rPr b="1" lang="ar-SA" sz="2800" spc="-1" strike="noStrike">
                <a:solidFill>
                  <a:srgbClr val="000000"/>
                </a:solidFill>
                <a:latin typeface="Comic Sans MS"/>
              </a:rPr>
              <a:t> في صيف </a:t>
            </a:r>
            <a:r>
              <a:rPr b="1" lang="ar-SA" sz="2800" spc="-1" strike="noStrike">
                <a:solidFill>
                  <a:srgbClr val="000000"/>
                </a:solidFill>
                <a:latin typeface="Comic Sans MS"/>
              </a:rPr>
              <a:t>202</a:t>
            </a:r>
            <a:r>
              <a:rPr b="1" lang="ar-SA" sz="2800" spc="-1" strike="noStrike">
                <a:solidFill>
                  <a:srgbClr val="000000"/>
                </a:solidFill>
                <a:latin typeface="Comic Sans MS"/>
              </a:rPr>
              <a:t> التقى سقيبيو وهانيبال عند زاما , اطلق هانيبال فيلته , وكان القائد الروماني قد درب قواته على مواجهة الفيلة ، فقام بإثارة الفيلة القرطاجية التي انحرفت تجاه مقدمة جيش هانيبال وقضت على الجيش القرطاجي مما جعل هانيبال يصر على طلب الصلح ومن شروطه :-</a:t>
            </a:r>
            <a:endParaRPr b="0" lang="en-US" sz="2800" spc="-1" strike="noStrike">
              <a:solidFill>
                <a:srgbClr val="000000"/>
              </a:solidFill>
              <a:latin typeface="Comic Sans MS"/>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تنازل قرطاجة عن جميع ممتلكاتها ماعدا قرطاجة نفسها</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دفع تعويض كبير يقسط على مدى </a:t>
            </a:r>
            <a:r>
              <a:rPr b="1" lang="ar-SA" sz="2800" spc="-1" strike="noStrike">
                <a:solidFill>
                  <a:srgbClr val="000000"/>
                </a:solidFill>
                <a:latin typeface="Comic Sans MS"/>
              </a:rPr>
              <a:t>50</a:t>
            </a:r>
            <a:r>
              <a:rPr b="1" lang="ar-SA" sz="2800" spc="-1" strike="noStrike">
                <a:solidFill>
                  <a:srgbClr val="000000"/>
                </a:solidFill>
                <a:latin typeface="Comic Sans MS"/>
              </a:rPr>
              <a:t> عاما</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سلم لروما جميع سفنها ماعدا </a:t>
            </a:r>
            <a:r>
              <a:rPr b="1" lang="ar-SA" sz="2800" spc="-1" strike="noStrike">
                <a:solidFill>
                  <a:srgbClr val="000000"/>
                </a:solidFill>
                <a:latin typeface="Comic Sans MS"/>
              </a:rPr>
              <a:t>10</a:t>
            </a:r>
            <a:r>
              <a:rPr b="1" lang="ar-SA" sz="2800" spc="-1" strike="noStrike">
                <a:solidFill>
                  <a:srgbClr val="000000"/>
                </a:solidFill>
                <a:latin typeface="Comic Sans MS"/>
              </a:rPr>
              <a:t> من السفن</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ألا تدخل قرطاجة في أي حرب الا بموافقة رومانية مسبقة</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رد لمسينيا كل ممتلكاتها </a:t>
            </a:r>
            <a:endParaRPr b="0" lang="en-US" sz="2800" spc="-1" strike="noStrike">
              <a:solidFill>
                <a:srgbClr val="000000"/>
              </a:solidFill>
              <a:latin typeface="Comic Sans MS"/>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وهكذا اعلن اسقيبيو الافريقي انتصاره بينما تخلص هانيبال من حياته بأكله السم حتى لا يقع اسيرا في يد الروما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99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685800" y="764640"/>
            <a:ext cx="7696080" cy="4721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بذلك انتهت الحرب البونية الثانية وتأكدت السيادة الرومانية على البحر المتوسط ليصبح فيما بعد بحيرة رومان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691920"/>
            <a:ext cx="6870600" cy="649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حرب البونية الثالثة</a:t>
            </a:r>
            <a:endParaRPr b="0" lang="en-US" sz="3200" spc="-1" strike="noStrike">
              <a:solidFill>
                <a:srgbClr val="000000"/>
              </a:solidFill>
              <a:latin typeface="Comic Sans MS"/>
            </a:endParaRPr>
          </a:p>
        </p:txBody>
      </p:sp>
      <p:sp>
        <p:nvSpPr>
          <p:cNvPr id="195"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من خلال شروط معاهدة زاما الا تخوض قرطاجة أي حرب الا بموافقة روما مما حال دون اعادة الامبراطورية القرطاجي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عمل هنيبال على اعادة ازدهار التجارة القرطاجية البحرية حتىانه عرض على روما دفع الاقساط المفروضة دفعة واحدة بعد عشر سنوات من الحرب.</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ت روما تنظر ازاء ذلك بقلق واستغلت محاولات مملكة نوميديا في السيطرة على ممتلكات قرطاجية لاعلان الحرب مرة اخرى على قرطاج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 ماسينسيا ملك نوميديا يسعى للسيطرة على قرطاجة وطرابلس( الجزائر – تونس – ليبيا) اشتكت قرطاجة للرومان فأرسلت  روما بعثة بزعامة قاتو الكبير لاستطلاع المشكل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عاد قاتو مبهورا من ازدهار قرطاجة وطلب ضرورة ضمها الى روما او القضاء عليها ولكن السناتو رفض ذلك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7" name="PlaceHolder 2"/>
          <p:cNvSpPr>
            <a:spLocks noGrp="1"/>
          </p:cNvSpPr>
          <p:nvPr>
            <p:ph/>
          </p:nvPr>
        </p:nvSpPr>
        <p:spPr>
          <a:xfrm>
            <a:off x="685800" y="980640"/>
            <a:ext cx="7696080" cy="4505400"/>
          </a:xfrm>
          <a:prstGeom prst="rect">
            <a:avLst/>
          </a:prstGeom>
          <a:noFill/>
          <a:ln w="0">
            <a:noFill/>
          </a:ln>
        </p:spPr>
        <p:txBody>
          <a:bodyPr lIns="90000" rIns="90000" tIns="46800" bIns="46800" anchor="t">
            <a:normAutofit fontScale="92000"/>
          </a:bodyPr>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علنت البعثة الرومانية ان الحق الى جانب نوميديا</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ستغلت نوميديا تأييد الرومان لها وبدأت تتدخل في شؤن قرطاجة الداخلية بحجة فرار بعض المنفيين من برقة الى طرابلس مما اغضب القرطاجيين فأعلنوا الحرب على نوميديا على مضض . ولكن النصر كان حليفا لنوميديا</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ستغلت روما هذا الوضع فأعلنت الحرب بحجة خرق القرطاجيين لمعاهدة </a:t>
            </a:r>
            <a:r>
              <a:rPr b="1" lang="ar-SA" sz="2000" spc="-1" strike="noStrike">
                <a:solidFill>
                  <a:srgbClr val="000000"/>
                </a:solidFill>
                <a:latin typeface="Comic Sans MS"/>
              </a:rPr>
              <a:t>203</a:t>
            </a:r>
            <a:r>
              <a:rPr b="1" lang="ar-SA" sz="2000" spc="-1" strike="noStrike">
                <a:solidFill>
                  <a:srgbClr val="000000"/>
                </a:solidFill>
                <a:latin typeface="Comic Sans MS"/>
              </a:rPr>
              <a:t>- فبادرت قرطاجة بأعدام قادتها العسكريينوارسال بعثة لروما بهدف الاعتذار لروما وشرح الموقف وعضت تسليم </a:t>
            </a:r>
            <a:r>
              <a:rPr b="1" lang="ar-SA" sz="2000" spc="-1" strike="noStrike">
                <a:solidFill>
                  <a:srgbClr val="000000"/>
                </a:solidFill>
                <a:latin typeface="Comic Sans MS"/>
              </a:rPr>
              <a:t>300</a:t>
            </a:r>
            <a:r>
              <a:rPr b="1" lang="ar-SA" sz="2000" spc="-1" strike="noStrike">
                <a:solidFill>
                  <a:srgbClr val="000000"/>
                </a:solidFill>
                <a:latin typeface="Comic Sans MS"/>
              </a:rPr>
              <a:t> من ابناء قرطاجة رهائن ولكن الرومان طلبوا منهم اخلاء المدينة والعيش بعيدا عن البحر بمسافة </a:t>
            </a:r>
            <a:r>
              <a:rPr b="1" lang="ar-SA" sz="2000" spc="-1" strike="noStrike">
                <a:solidFill>
                  <a:srgbClr val="000000"/>
                </a:solidFill>
                <a:latin typeface="Comic Sans MS"/>
              </a:rPr>
              <a:t>16</a:t>
            </a:r>
            <a:r>
              <a:rPr b="1" lang="ar-SA" sz="2000" spc="-1" strike="noStrike">
                <a:solidFill>
                  <a:srgbClr val="000000"/>
                </a:solidFill>
                <a:latin typeface="Comic Sans MS"/>
              </a:rPr>
              <a:t> كلم</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رفض القرطاجيين ذلك واستعدوا لحرب غير متكافئة استمرت </a:t>
            </a:r>
            <a:r>
              <a:rPr b="1" lang="ar-SA" sz="2000" spc="-1" strike="noStrike">
                <a:solidFill>
                  <a:srgbClr val="000000"/>
                </a:solidFill>
                <a:latin typeface="Comic Sans MS"/>
              </a:rPr>
              <a:t>4</a:t>
            </a:r>
            <a:r>
              <a:rPr b="1" lang="ar-SA" sz="2000" spc="-1" strike="noStrike">
                <a:solidFill>
                  <a:srgbClr val="000000"/>
                </a:solidFill>
                <a:latin typeface="Comic Sans MS"/>
              </a:rPr>
              <a:t> سنوات انتهت بانتصار الرومان  عام </a:t>
            </a:r>
            <a:r>
              <a:rPr b="1" lang="ar-SA" sz="2000" spc="-1" strike="noStrike">
                <a:solidFill>
                  <a:srgbClr val="000000"/>
                </a:solidFill>
                <a:latin typeface="Comic Sans MS"/>
              </a:rPr>
              <a:t>146</a:t>
            </a:r>
            <a:r>
              <a:rPr b="1" lang="ar-SA" sz="2000" spc="-1" strike="noStrike">
                <a:solidFill>
                  <a:srgbClr val="000000"/>
                </a:solidFill>
                <a:latin typeface="Comic Sans MS"/>
              </a:rPr>
              <a:t> ق.م ودخول قرطاجة التي سويت  مبانيها بالارض وبيع اهلها في اسواق العبيد, ودكت اراضيها بالملح وحولت  المنطقة الى ولاية رومانية عرفت باسم ولاية افريقيا </a:t>
            </a:r>
            <a:endParaRPr b="0" lang="en-US" sz="2000" spc="-1" strike="noStrike">
              <a:solidFill>
                <a:srgbClr val="000000"/>
              </a:solidFill>
              <a:latin typeface="Comic Sans MS"/>
            </a:endParaRPr>
          </a:p>
          <a:p>
            <a:pPr marL="3153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نصت المعاهدة على :- </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دم وجود قواعد دائمة لقرطاجة في ايطاليا.</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 تنشئ روما سلسلة من المستعمرات العسكرية على الساحل الغربي لايطاليا من اتروريا الى قمبانيا</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 تنشئ روما هيئة بحرية لحراسة الشواطئ الايطالية مزودة بأسطول صغير</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الهدف من المعاهدة</a:t>
            </a:r>
            <a:r>
              <a:rPr b="1" lang="ar-SA" sz="3200" spc="-1" strike="noStrike">
                <a:solidFill>
                  <a:srgbClr val="000000"/>
                </a:solidFill>
                <a:latin typeface="Comic Sans MS"/>
              </a:rPr>
              <a:t> خشية روما من سيطرة قرطاجه على السواحل الغربية الايطالية والحيلولة دون ذلك</a:t>
            </a:r>
            <a:endParaRPr b="0" lang="en-US" sz="3200" spc="-1" strike="noStrike">
              <a:solidFill>
                <a:srgbClr val="000000"/>
              </a:solidFill>
              <a:latin typeface="Comic Sans MS"/>
            </a:endParaRPr>
          </a:p>
          <a:p>
            <a:pPr marL="332640" indent="-3326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نتيجة تلك المعاهدة</a:t>
            </a:r>
            <a:r>
              <a:rPr b="1" lang="ar-SA" sz="3200" spc="-1" strike="noStrike">
                <a:solidFill>
                  <a:srgbClr val="000000"/>
                </a:solidFill>
                <a:latin typeface="Comic Sans MS"/>
              </a:rPr>
              <a:t> تنامي قوة روما وسيطرتها على المنطقة حتى اصبحت على مشارف الامبراطورية القرطاجية مما جعل الصدام حتمي بين الطرفي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اية الصراع بين روما وقرطاجة</a:t>
            </a:r>
            <a:endParaRPr b="0" lang="en-US" sz="32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ت الشرارة الاولى لاندلاع الحرب هي مشكلة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 جيش سراقوسه يضم عددا من المرتزقة من قمبانيا“ المامرتيني“ الذين تركوا الخدمة وسيطروا على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خشي  هيرو ملك سراقوسة من استغلال ذلك لمهاجمة المدن الاغريقية فحاصر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ستنجد المامرتيين بقرطاجة ونجحت في فك الحصار عن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لم يغادر الاسطول القرطاجي فأرسل المامرتيني الى روما كي تضمهم ضمن رعاياها .</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نقسم السناتو ازاء ذلك ؟ ماهي الاسباب ؟ وكيف انتهى الموقف؟</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704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1" name="PlaceHolder 2"/>
          <p:cNvSpPr>
            <a:spLocks noGrp="1"/>
          </p:cNvSpPr>
          <p:nvPr>
            <p:ph/>
          </p:nvPr>
        </p:nvSpPr>
        <p:spPr>
          <a:xfrm>
            <a:off x="685800" y="836640"/>
            <a:ext cx="7696080" cy="4649760"/>
          </a:xfrm>
          <a:prstGeom prst="rect">
            <a:avLst/>
          </a:prstGeom>
          <a:noFill/>
          <a:ln w="0">
            <a:noFill/>
          </a:ln>
        </p:spPr>
        <p:txBody>
          <a:bodyPr lIns="90000" rIns="90000" tIns="46800" bIns="46800" anchor="t">
            <a:normAutofit fontScale="79000"/>
          </a:bodyPr>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يخشى الرافضون ان الاستجابة لطلب المامرتيني يعني دخول حرب مع قرطاجة وروما لم تكن مستعدة بعد, ويرى المؤيدون ان سيطرة قرطاجة على ميسينيا يعني تهديد سلامة جنوب ايطاليا والملاحة الرومانية في مضيق ميسينيا.</a:t>
            </a:r>
            <a:endParaRPr b="0" lang="en-US" sz="2800" spc="-1" strike="noStrike">
              <a:solidFill>
                <a:srgbClr val="000000"/>
              </a:solidFill>
              <a:latin typeface="Comic Sans MS"/>
            </a:endParaRPr>
          </a:p>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حيل الامر الى جمعية المئينات , وتحت ضغط القناصل تمت الموافقة على ارسال فرقة لمساعدة المامرتيين فباشرت قرطاجة بالانسحاب مما يعني اعلان العداء بين الطرفين.</a:t>
            </a:r>
            <a:endParaRPr b="0" lang="en-US" sz="2800" spc="-1" strike="noStrike">
              <a:solidFill>
                <a:srgbClr val="000000"/>
              </a:solidFill>
              <a:latin typeface="Comic Sans MS"/>
            </a:endParaRPr>
          </a:p>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رسلت قرطاجة قوة عسكرية لاستعادة ميسينيا وحرضت هيرو للانضمام الى جانبها ولكن روما تمكنت من هزيمة الحليفين وأشعلت نار الحرب بينها وبين الحليفي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125360"/>
            <a:ext cx="6870600" cy="2664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الحرب البونية الاولى</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omic Sans MS"/>
              </a:rPr>
              <a:t>الحرب البونية الاول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412640"/>
            <a:ext cx="7696080" cy="46083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المرحلة الأولى :-</a:t>
            </a:r>
            <a:endParaRPr b="0" lang="en-US" sz="3200" spc="-1" strike="noStrike">
              <a:solidFill>
                <a:srgbClr val="000000"/>
              </a:solidFill>
              <a:latin typeface="Comic Sans MS"/>
            </a:endParaRPr>
          </a:p>
          <a:p>
            <a:pPr marL="305280" indent="-3052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قوة عسكرية لتأديب حاكم سيراقوسه وحاصرتها وعرضت على هيرو الصلح مقابل ” دفع غرامة لروما – الاحتفاظ بسهل صغير يحيط بالمدينة – محالفة روما على قدم المساواة لمدة </a:t>
            </a:r>
            <a:r>
              <a:rPr b="1" lang="ar-SA" sz="3200" spc="-1" strike="noStrike">
                <a:solidFill>
                  <a:srgbClr val="000000"/>
                </a:solidFill>
                <a:latin typeface="Comic Sans MS"/>
              </a:rPr>
              <a:t>15</a:t>
            </a:r>
            <a:r>
              <a:rPr b="1" lang="ar-SA" sz="3200" spc="-1" strike="noStrike">
                <a:solidFill>
                  <a:srgbClr val="000000"/>
                </a:solidFill>
                <a:latin typeface="Comic Sans MS"/>
              </a:rPr>
              <a:t> عام“ فقبل هيرو</a:t>
            </a:r>
            <a:endParaRPr b="0" lang="en-US" sz="3200" spc="-1" strike="noStrike">
              <a:solidFill>
                <a:srgbClr val="000000"/>
              </a:solidFill>
              <a:latin typeface="Comic Sans MS"/>
            </a:endParaRPr>
          </a:p>
          <a:p>
            <a:pPr marL="305280" indent="-3052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ردت قرطاجة على ذلك بإرسال قوة عسكرية الى صقلية لاستمالة مدينة اجريجنتوم الاغريقية ولكن الرومان دخلوا المدينة وعاقبوا اهلها </a:t>
            </a:r>
            <a:endParaRPr b="0" lang="en-US" sz="3200" spc="-1" strike="noStrike">
              <a:solidFill>
                <a:srgbClr val="000000"/>
              </a:solidFill>
              <a:latin typeface="Comic Sans MS"/>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6"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درك الرومان حاجتهم لزيادة قوتهم البحرية عن طريق بناء السفن . كيف تم ذلك ؟</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تقى الطرفان عام </a:t>
            </a:r>
            <a:r>
              <a:rPr b="1" lang="ar-SA" sz="3200" spc="-1" strike="noStrike">
                <a:solidFill>
                  <a:srgbClr val="000000"/>
                </a:solidFill>
                <a:latin typeface="Comic Sans MS"/>
              </a:rPr>
              <a:t>260</a:t>
            </a:r>
            <a:r>
              <a:rPr b="1" lang="ar-SA" sz="3200" spc="-1" strike="noStrike">
                <a:solidFill>
                  <a:srgbClr val="000000"/>
                </a:solidFill>
                <a:latin typeface="Comic Sans MS"/>
              </a:rPr>
              <a:t> في معركة مولاي البحرية وكان النصر لروما لتفوقهم في القتال على ظهر السفن</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ابعت روما سيطرتها على صقلية ولم يتبقى لقرطاجة سوى ثلاث مدن على الساحل الغربي</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هكذا نجد ان مسرح الاجداث في المرحلة الاولى صقل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6:52:41Z</dcterms:created>
  <dc:creator>مليحة</dc:creator>
  <dc:description/>
  <dc:language>en-US</dc:language>
  <cp:lastModifiedBy>مليحة</cp:lastModifiedBy>
  <dcterms:modified xsi:type="dcterms:W3CDTF">2010-04-07T08:06:41Z</dcterms:modified>
  <cp:revision>78</cp:revision>
  <dc:subject/>
  <dc:title>الشريحة 1</dc:title>
</cp:coreProperties>
</file>