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15A37-15A7-4E16-B634-42E0D42AA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E90E3-688D-4C80-94BA-654B798EE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6ACC0-5973-425E-BE3F-03E9AE5F5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EDCC0-DD51-43E2-A9C6-69BB26667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27DD1-1253-4E01-A79F-73085932D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4399B-3A10-4323-8DAB-38086CBAB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CF1DF-47F3-4378-8971-477690B96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4DCB8-A584-4784-AF9E-5549301C5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40A13-1BB4-4321-8674-3216FC15A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DE582-9E34-4CC6-9A22-7B2597F0D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25817-D43C-46EA-91B4-AA9EA22D8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158D9-26EC-4524-B2C7-25755A81F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7F662-932E-4843-A4C4-AED69BB273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الحروب المقدونية</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من هي مقدونيا</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صغر الممالك الهلينستية من حيث المساحة والسكان والثروه ولكنها اكثر تنظيما وانضباطا وولاء للاسرة الحاكمة</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افحت للسيطرة على بحر ايجة ودخلت في حروب مع البطالمة في عدة حروب للسيطرة على عصبة القوقلاديس والبلقان</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مكن ملكها فيليب الخامس من الانتصار في الحرب المقدونية الاولى على الايتوليين حلفاء روما دون تدخل من الرومان</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ان فيليب يدرك مدى ضرورة تكوين قوة بحرية تنافس اعدائه في المطقة ولذا عقد معاهدة مع الرومان عام </a:t>
            </a:r>
            <a:r>
              <a:rPr b="1" lang="ar-SA" sz="2800" spc="-1" strike="noStrike">
                <a:solidFill>
                  <a:srgbClr val="000000"/>
                </a:solidFill>
                <a:latin typeface="Arial"/>
              </a:rPr>
              <a:t>205</a:t>
            </a:r>
            <a:r>
              <a:rPr b="1" lang="ar-SA" sz="2800" spc="-1" strike="noStrike">
                <a:solidFill>
                  <a:srgbClr val="000000"/>
                </a:solidFill>
                <a:latin typeface="Arial"/>
              </a:rPr>
              <a:t> ولجأ الى القرصنة في بحر ايجة لاضعاف اعدائة ( رودس وبرجام) كما عمل على بناء اسطوله البحر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5400"/>
            <a:ext cx="82296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fontScale="90000"/>
          </a:bodyPr>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انت مملكة البطالمة تترنح تحت ضربات انطيوخوس الثالث واطماع فيليب الخامس فاتفق الطرفان على تقسيم ممتلكاتها الخارجية مستغلين وفاة بطلميوس الرابع وصغر سن بطلميوس الخامس , وسط انشغال روما في حربها مع قرطاجة</a:t>
            </a:r>
            <a:endParaRPr b="0" lang="en-US" sz="2800" spc="-1" strike="noStrike">
              <a:solidFill>
                <a:srgbClr val="000000"/>
              </a:solidFill>
              <a:latin typeface="Arial"/>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دأ الحليفين في تنفيذ الاتفاقية السرية وسيطر فيليب على ممتلكات مصر في بحر ايجة ” مليتوس- ساموس – خيوس – ولوسيماخوس“  ودخلت في حرب مع رودس وبرجام بينم سيطر انطيوخوس على جوف سوريا</a:t>
            </a:r>
            <a:endParaRPr b="0" lang="en-US" sz="2800" spc="-1" strike="noStrike">
              <a:solidFill>
                <a:srgbClr val="000000"/>
              </a:solidFill>
              <a:latin typeface="Arial"/>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ستنجدت رودس وبرجام بروما التي خرجت منتصرة في حروبها مع قرطاجة</a:t>
            </a:r>
            <a:endParaRPr b="0" lang="en-US" sz="2800" spc="-1" strike="noStrike">
              <a:solidFill>
                <a:srgbClr val="000000"/>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الحرب المقدونية الثانية</a:t>
            </a:r>
            <a:endParaRPr b="0" lang="en-US" sz="4400" spc="-1" strike="noStrike">
              <a:solidFill>
                <a:srgbClr val="000000"/>
              </a:solidFill>
              <a:latin typeface="Arial"/>
            </a:endParaRPr>
          </a:p>
        </p:txBody>
      </p:sp>
      <p:sp>
        <p:nvSpPr>
          <p:cNvPr id="52"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fontScale="87000"/>
          </a:bodyPr>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خشيت روما من تعاظم نفوذ فيليب فأرسلت  اليه بعثة تطلب منه وقف نشاطة الحربي في بحر ايجة وبلاد اليونان ولكنه رد على ذلك باستيلائه على شاطئ تراقية والدردنيل وارسل قوة الى اقليم اتيكا للتخريب </a:t>
            </a:r>
            <a:endParaRPr b="0" lang="en-US" sz="3200" spc="-1" strike="noStrike">
              <a:solidFill>
                <a:srgbClr val="000000"/>
              </a:solidFill>
              <a:latin typeface="Arial"/>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علنت روما الحرب على فيليب وانتصرت عليه في معركة كينوس كيغلاي ” رؤؤس الكلاب عام </a:t>
            </a:r>
            <a:r>
              <a:rPr b="1" lang="ar-SA" sz="3200" spc="-1" strike="noStrike">
                <a:solidFill>
                  <a:srgbClr val="000000"/>
                </a:solidFill>
                <a:latin typeface="Arial"/>
              </a:rPr>
              <a:t>197/196</a:t>
            </a:r>
            <a:r>
              <a:rPr b="1" lang="ar-SA" sz="3200" spc="-1" strike="noStrike">
                <a:solidFill>
                  <a:srgbClr val="000000"/>
                </a:solidFill>
                <a:latin typeface="Arial"/>
              </a:rPr>
              <a:t>ق.م مما اجبر فيليب على الانسحاب الى مقدونيا </a:t>
            </a:r>
            <a:endParaRPr b="0" lang="en-US" sz="3200" spc="-1" strike="noStrike">
              <a:solidFill>
                <a:srgbClr val="000000"/>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549000"/>
            <a:ext cx="8229600" cy="5576760"/>
          </a:xfrm>
          <a:prstGeom prst="rect">
            <a:avLst/>
          </a:prstGeom>
          <a:noFill/>
          <a:ln w="0">
            <a:noFill/>
          </a:ln>
        </p:spPr>
        <p:txBody>
          <a:bodyPr lIns="90000" rIns="90000" tIns="46800" bIns="46800" anchor="t">
            <a:normAutofit fontScale="80000"/>
          </a:bodyPr>
          <a:p>
            <a:pPr marL="274320" indent="-27432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قبل فيليب شروط الصلح وهي :- اعلان الحرية للمدن الاغريقية – انسحاب فيليب من بحر ايجة واسيا الصغرى – ان يدفع غرامة لروما قدرها الف تالنت- ان يسلم جميع سفنه لروما – </a:t>
            </a:r>
            <a:endParaRPr b="0" lang="en-US" sz="4000" spc="-1" strike="noStrike">
              <a:solidFill>
                <a:srgbClr val="000000"/>
              </a:solidFill>
              <a:latin typeface="Arial"/>
            </a:endParaRPr>
          </a:p>
          <a:p>
            <a:pPr marL="274320" indent="-27432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هكذا اصبح فيليب حليفا للرومان وقدم لها المساعدة في حربها ضد انطيوخوس الثالث</a:t>
            </a:r>
            <a:endParaRPr b="0" lang="en-US" sz="4000" spc="-1" strike="noStrike">
              <a:solidFill>
                <a:srgbClr val="000000"/>
              </a:solidFill>
              <a:latin typeface="Arial"/>
            </a:endParaRPr>
          </a:p>
          <a:p>
            <a:pPr marL="274320" indent="-27432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 يأمل ان تكافئه روما ببسط سيطرته على المناطق الت حررها من السلوقيين ولكن روما منحتها حرية شكلية </a:t>
            </a:r>
            <a:endParaRPr b="0" lang="en-US" sz="4000" spc="-1" strike="noStrike">
              <a:solidFill>
                <a:srgbClr val="000000"/>
              </a:solidFill>
              <a:latin typeface="Arial"/>
            </a:endParaRPr>
          </a:p>
          <a:p>
            <a:pPr marL="27432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4320"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549000"/>
            <a:ext cx="8229600" cy="5576760"/>
          </a:xfrm>
          <a:prstGeom prst="rect">
            <a:avLst/>
          </a:prstGeom>
          <a:noFill/>
          <a:ln w="0">
            <a:noFill/>
          </a:ln>
        </p:spPr>
        <p:txBody>
          <a:bodyPr lIns="90000" rIns="90000" tIns="46800" bIns="46800" anchor="t">
            <a:normAutofit fontScale="81000"/>
          </a:bodyPr>
          <a:p>
            <a:pPr marL="277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لحرب المقدونية الثالثة</a:t>
            </a:r>
            <a:endParaRPr b="0" lang="en-US" sz="3200" spc="-1" strike="noStrike">
              <a:solidFill>
                <a:srgbClr val="000000"/>
              </a:solidFill>
              <a:latin typeface="Arial"/>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عد موت فيليب حاول خلفائه التخلص من قبضة روما , وحاول احد ابنائه ويدعى برسيوس الى التقرب من المدن اليونانية بهدف توحيد الجهد ضد روما.</a:t>
            </a:r>
            <a:endParaRPr b="0" lang="en-US" sz="3200" spc="-1" strike="noStrike">
              <a:solidFill>
                <a:srgbClr val="000000"/>
              </a:solidFill>
              <a:latin typeface="Arial"/>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س لماذا ساهمت المدن اليونانية في الحرب ضد روما ؟</a:t>
            </a:r>
            <a:endParaRPr b="0" lang="en-US" sz="3200" spc="-1" strike="noStrike">
              <a:solidFill>
                <a:srgbClr val="000000"/>
              </a:solidFill>
              <a:latin typeface="Arial"/>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ندلعت الحرب المقدونية الثالثة وتمكنت روما من تحقيق نصر كبير على مقدونيا وحلفائها من اليونان في موقعة بدنا عام </a:t>
            </a:r>
            <a:r>
              <a:rPr b="1" lang="ar-SA" sz="3200" spc="-1" strike="noStrike">
                <a:solidFill>
                  <a:srgbClr val="000000"/>
                </a:solidFill>
                <a:latin typeface="Arial"/>
              </a:rPr>
              <a:t>168</a:t>
            </a:r>
            <a:r>
              <a:rPr b="1" lang="ar-SA" sz="3200" spc="-1" strike="noStrike">
                <a:solidFill>
                  <a:srgbClr val="000000"/>
                </a:solidFill>
                <a:latin typeface="Arial"/>
              </a:rPr>
              <a:t>ق.م</a:t>
            </a:r>
            <a:endParaRPr b="0" lang="en-US" sz="3200" spc="-1" strike="noStrike">
              <a:solidFill>
                <a:srgbClr val="000000"/>
              </a:solidFill>
              <a:latin typeface="Arial"/>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ام الرومان بتقسيم مقدونيا الى اربعة جمهوريات على ان تتمتع بحكمها الذاتي مع فرض جزية سنوية لروما</a:t>
            </a:r>
            <a:endParaRPr b="0" lang="en-US" sz="3200" spc="-1" strike="noStrike">
              <a:solidFill>
                <a:srgbClr val="000000"/>
              </a:solidFill>
              <a:latin typeface="Arial"/>
            </a:endParaRPr>
          </a:p>
          <a:p>
            <a:pPr marL="277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لحرب المقدونية الرابعة</a:t>
            </a:r>
            <a:r>
              <a:rPr b="1" lang="ar-SA"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دى طموح احد ابناء برسيوس الى اعادة توحيد مقدونيا مما اعلن الحرب المقدونية الرابعة حيث جمع قواته في تراقيا ولكنه هزم على يد روما التي نجحت في تحويل مقدونيا الى ولاية رومانية عام </a:t>
            </a:r>
            <a:r>
              <a:rPr b="1" lang="ar-SA" sz="3200" spc="-1" strike="noStrike">
                <a:solidFill>
                  <a:srgbClr val="000000"/>
                </a:solidFill>
                <a:latin typeface="Arial"/>
              </a:rPr>
              <a:t>147</a:t>
            </a:r>
            <a:r>
              <a:rPr b="1" lang="ar-SA" sz="3200" spc="-1" strike="noStrike">
                <a:solidFill>
                  <a:srgbClr val="000000"/>
                </a:solidFill>
                <a:latin typeface="Arial"/>
              </a:rPr>
              <a:t>ق.م</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5:36:24Z</dcterms:created>
  <dc:creator>مليحة</dc:creator>
  <dc:description/>
  <dc:language>en-US</dc:language>
  <cp:lastModifiedBy>مليحة</cp:lastModifiedBy>
  <dcterms:modified xsi:type="dcterms:W3CDTF">2010-04-07T11:24:31Z</dcterms:modified>
  <cp:revision>7</cp:revision>
  <dc:subject/>
  <dc:title>الحروب المقدونية</dc:title>
</cp:coreProperties>
</file>