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CF40-8FA9-4DD0-8EEE-730AABA4E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AD09-1AC0-4BF6-B199-9AC0590D1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EEAC-DFEA-45A3-A889-8F376A0F1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E7BD-A407-4839-AF20-91B6A385A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E520-98C5-4B8E-9BE9-65044FCDAE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70AE-F63C-4D22-B2C4-E32A6B418F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690A-8324-4E1B-A68C-A802EE87C7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741A-72B0-4100-B4B1-A0A08EA886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D7E3-F180-4CF2-AD5F-1963883717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35A6-1402-46DA-9799-FD73C2D3E7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27B3-C710-41F2-A35A-F88F103E3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9DBB-C261-4806-B939-48CC3DA98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89B1-D045-4A9A-B5EC-C063C1CA49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340E-80F9-49CF-B0B0-FCF517BBC8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4455-9E2A-4AF8-B46D-8407177E80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1F97-31D6-409C-B6F4-6AA18626F9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4BA7-6C6E-48B1-90CE-5F52710B41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04E-6D6D-4141-8875-72810D05DB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2FA-881A-4490-B2A8-E19EFEE8E1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05E-5105-4034-8BF0-880682B6B9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099-51FF-4D18-85EB-C990FA15AA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B16-5693-40FF-92AA-ADBC54A88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4474-D7A1-4998-8F3F-02127D6718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79D-2CCD-4217-BB37-60163D3F96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8A2-ED8B-4B39-8CC4-11E2F81183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F7C-14B2-4CBB-9B76-0051C599E3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8C9-EAA9-4CC1-9C28-F0B3D74A16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786-6240-4195-8D5B-970B44B972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B54-BB70-4048-BCF4-F2491B6444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E2A-A606-4078-9B67-BC1B57C37D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BEC2F-BA05-47A0-9665-5CF0EA2B35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08F70-16EB-479E-80FF-08C50CEECC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A53E8-1DA1-4252-84FE-545E1A35E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E02B-717E-4E33-8DA0-E9EF56795E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796FA-AAC7-497A-9533-34309C93AF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306D4-58B1-4163-BCBE-A26CB28A78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6010F-16AB-4DC5-8120-D082C4E8A0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B1B9B-647C-436A-B1F2-87A8249825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04D94-C7C2-46FC-AFDC-1113CD903D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D2D0F-8250-4AD7-9E88-081698C142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CB5B8-E911-40AE-B8CA-31BC007A20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E6CC-A7C2-404B-B464-DB320055D3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F4476-65D1-4881-9677-295ED3FEF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26CD-09D4-4A84-AD5F-255B481E0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4DEC-42FD-45D6-9CD5-141077DEE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9BD0-5D8B-4347-B729-F12B9C830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0CB6-7A19-4A85-B580-4061BBD8E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B93B-150D-4C9A-8DEE-17349392A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73B6-6C9F-44DD-9A86-794DBEC736D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1BEA-BB17-4E66-8495-A62F1B25DFB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1AAE-A491-4135-A1FB-49C79C9A657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7AFF-1252-4B8B-91F3-B4C0AEC64C0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BBC0-E72E-4367-89B3-7A9279A7771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28D1-3BF0-4061-A01B-51BDDF1B088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omma Splice</a:t>
            </a:r>
            <a:br>
              <a:rPr sz="3200"/>
            </a:br>
            <a:r>
              <a:rPr b="0" lang="ar-LB" sz="3200" spc="-1" strike="noStrike">
                <a:solidFill>
                  <a:srgbClr val="376092"/>
                </a:solidFill>
                <a:latin typeface="Calibri"/>
              </a:rPr>
              <a:t>أخطاء العطف: استخدام فاصلة بين جملتين كاملتين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ma splice is two simple sentences incorrectly joined with a comma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ome peopl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oth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ref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gs.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Francisco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lea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r room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first test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second on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sy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CF2C-8314-438F-8584-F41C93C3E7F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rrecting Comma Splices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كيفية تصحيح الخطأ السابق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ays to fix comma spl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period (.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eople like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s prefer dog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second one was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With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eople like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prefer do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second one was eas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538-D35E-400C-8F25-DF4CADF54F0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mma splice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rammartips.homestead.com/splice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epts.dyc.edu/learningcenter/owl/exercises/comma_splices_ex2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502B-61C1-4532-9218-F38FDE46589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Run-on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rammar.ccc.commnet.edu/Grammar/cgi-shl/quiz.pl/run-ons_add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epts.dyc.edu/learningcenter/owl/exercises/run-ons_ex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70E-D1FA-4D05-944D-B482F893FF5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comma spl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and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.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460-B2C9-4398-9F3A-C69592C0797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8080560" y="2895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comma spl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watch TV, but my childre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like garlic. I don’t like o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like garlic, I don’t like o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watch TV. My childre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BAF7-126D-453F-9BEA-C49CB995FCA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7166160" y="358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following sentence as either a comma splice, a run-on, or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, and 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 sp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-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5C44-5E29-4F8F-9DD6-6B8D677E5EA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365560" y="4648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following sentence as either a comma splice, a run-on, or cor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you like to play tennis, would you like to go to the golf cour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 sp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080A-8F50-492C-82DD-5BE8BB01A9A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508560" y="38862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ompound sentences with Conjunctive Adverbs</a:t>
            </a:r>
            <a:br>
              <a:rPr sz="3200"/>
            </a:br>
            <a:r>
              <a:rPr b="0" lang="ar-LB" sz="3200" spc="-1" strike="noStrike">
                <a:solidFill>
                  <a:srgbClr val="376092"/>
                </a:solidFill>
                <a:latin typeface="Calibri"/>
              </a:rPr>
              <a:t>العطف باستخدام ظروف العطف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the following t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7F8E-1773-4626-8C62-F87BD89D96A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3000" y="2133720"/>
          <a:ext cx="6603840" cy="347976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ordinating conjun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حروف العط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Conjunctive 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</a:t>
                      </a:r>
                      <a:r>
                        <a:rPr b="1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ظروف العط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ar-L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furthermore</a:t>
                      </a:r>
                      <a:r>
                        <a:rPr b="0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Mor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n 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How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Neverth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Ther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As a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otherw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Compound sentences with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ordinating Conjunctions 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&amp;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njunctive Adverb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aining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is wearing a raincoa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ainin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as a res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is wearing a rainco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hungr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have time to 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hungr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howeve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don’t have time to 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F5F8-78EE-4F9C-93FD-DCAF1E2039D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1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: More about the Compound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C67A-3FAC-4079-AEFA-0902F02E915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Compound sentences with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ordinating Conjunctions 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&amp;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njunctive Adverb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in additio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to work hard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will get f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to work hard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otherwis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will get f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4D09-D991-4D1D-AFCD-92274021241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njunctive Adverb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nglishexercises.org/makeagame/viewgame.asp?id=1565#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ebhome.broward.edu/~dshaw/handouts/Pointers%20(Conjunctive%20Adverbs)%20Exercise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9E57-00D6-4237-ABF1-D27A31EF29C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, so,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 so,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 so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, so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E43-D6F6-45C3-81D9-B41F898935F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7090200" y="3733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 however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; however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; however,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 however,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7EBC-D250-41A6-80EE-3AAE58BBFDA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746800" y="4572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BF7A-D6B6-4708-A81E-ADB234FC55B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8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ound sentence: Re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 Spl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nctive Ad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6BC2-34D0-4AB4-A219-42312C694CD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ound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ound sentence is two simple sentences connected by a comma and a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entenc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simpl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4E15-CE07-436D-94A0-22032C56D70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962520" y="3733920"/>
            <a:ext cx="9144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172200" y="4800600"/>
            <a:ext cx="27432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Coordinating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7"/>
          <p:cNvCxnSpPr>
            <a:stCxn id="205" idx="3"/>
          </p:cNvCxnSpPr>
          <p:nvPr/>
        </p:nvCxnSpPr>
        <p:spPr>
          <a:xfrm>
            <a:off x="4876920" y="4610160"/>
            <a:ext cx="1296000" cy="41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Straight Arrow Connector 9"/>
          <p:cNvCxnSpPr/>
          <p:nvPr/>
        </p:nvCxnSpPr>
        <p:spPr>
          <a:xfrm flipH="1">
            <a:off x="2590560" y="4190040"/>
            <a:ext cx="762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9" name="Oval 10"/>
          <p:cNvSpPr/>
          <p:nvPr/>
        </p:nvSpPr>
        <p:spPr>
          <a:xfrm>
            <a:off x="1066680" y="4952880"/>
            <a:ext cx="17528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. The sentences can be positive or nega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is a teacher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is sister is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doesn’t like music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opposite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likes ar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747D-927E-48BC-A17B-FCA06626B21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that express alternatives or cho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Friday, they go to a m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visit som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a </a:t>
            </a: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rea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My friend and his sister work a lot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, s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don’t go out very 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6968-3597-40FA-8D06-191D73CD137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Run-ons</a:t>
            </a:r>
            <a:br>
              <a:rPr sz="2800"/>
            </a:br>
            <a:r>
              <a:rPr b="0" lang="ar-LB" sz="2800" spc="-1" strike="noStrike">
                <a:solidFill>
                  <a:srgbClr val="376092"/>
                </a:solidFill>
                <a:latin typeface="Calibri"/>
              </a:rPr>
              <a:t>أخطاء العطف: جملتان متصلتان دون علامة ترقيم أو حرف عطف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un-on is two simple sentences incorrectly joined with no coordinating conjunction and no com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Francis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orked out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lea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r room.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first test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fficult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second on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sy.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AFB0-A25B-43C1-82C6-33883BEA36C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rrecting run-ons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كيفية تصحيح الخطأ السابق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ways to fix run-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period (.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second one was ea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ith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second one was ea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9FAF-32DC-46A8-AED3-B840EE20B3A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run-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and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.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7CFF-6A43-4974-8679-4FAF8C5B19E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928280" y="2362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6:47Z</dcterms:modified>
  <cp:revision>282</cp:revision>
  <dc:subject/>
  <dc:title>Slide 1</dc:title>
</cp:coreProperties>
</file>