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D3F5-4384-4A85-AC97-065EED8D6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D506-C9D7-42AF-A0FD-B93FDAC07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0E21-C2E5-4500-B228-FEBBF60C3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99BC-22DC-4E21-A1F6-46B03D92A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D037-2946-4E49-B592-7624F04654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53A6-E6E5-4BEA-8B26-A434AA0E32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43C1-815F-4090-A160-C08EC74E46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4F3A-034C-45E3-8D07-882AE62319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481A-D62C-4BD6-9DA7-D9F71AEE5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D311-A665-4B3A-9629-186C13DD9D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C5E1-FFD7-4FB0-B6DB-81AD376A71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987C-B621-4B2F-AEBB-1805137E3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4FFF-1251-48CB-9995-B6F2EBA909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3096C-4A51-4A03-9BF6-BCAE462DA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BCF2-10FC-4343-847A-2BA513A4B4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777E-ADC4-49F0-95AA-B335C3DC5E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5433-0FE2-4098-8568-5775492C30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71E-98CD-400F-8E34-37AB0EEC2A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787-D3E6-4606-A568-9BAB053CDC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1D07-0FFC-4655-B47E-0CA81AFFD0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09D-5BAD-4F7E-8158-5C4EFD4D3A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B07-2322-489B-A9E1-6BE25DBEB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7583-8421-4769-992E-C2D89C5FEA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12D-D23D-4E19-8E19-8AB7B90E15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489-98AC-4812-A5B5-B44B729502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022-A3C7-467B-A720-630EA4D15C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3F5-84B3-4322-BE99-6AA5814FE6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295-1DA7-40D1-9EA8-7BEB434244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D66-D76B-4B21-8F19-F722493D5F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5C0-251E-4005-907A-A772ED97BD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89AEC-E1A6-483C-B7A6-D572EAA886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5489-BD62-463B-9319-7AD7CDB924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39985-8A0A-48A0-9DBB-A30C112D3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977D-FDF1-40B6-89FF-AC176C3FD2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2F0FC-3264-468F-9A82-CCE8D0876E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AD921-1FE1-4F27-A7FA-C4840F4B0A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2ABD8-3DC2-4394-9AED-E7B203DDF2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F73B8-3ADE-4559-8C6D-AA449AB88F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8716A8-7EE8-401B-8A78-D187B12AA0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DA76-9CDA-4089-9EDB-26D70F8AAA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67A71-7842-4EA7-8938-0217F621F6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EC4CF-ABDC-4547-8D3A-8F552F184D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EE767-B365-4E26-B0EC-A5C4B0A27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EC38-048F-4C89-925D-F9D54E14F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99DC7-296A-4E9F-A72E-5F5447C30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5434-CC7D-4D71-8E5E-EDE21EC5F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C3ED-9A5A-4733-989B-1BB616044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0C5A-EC2F-4BB1-B286-2A758CDFB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AD9-0B67-4C5C-8863-8B67B3FE8B1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5C64-9193-4F92-B11C-5225DBEEE1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E6C1-F2BC-4DE2-9F81-11E8000E526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50A-DD7B-4D6D-8EEB-9CA357AC5B9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02AD-1CAA-446B-8E5C-AA61BF2682D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FB50-C43D-4C64-99A2-529248769EE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are subordinating conjunctions that we use to make complex senten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finish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go to b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soon a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s soon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been doing my homewo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came fro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’t go to bed until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ill go to b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finish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d a sandwich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 was doing my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F13C-0BCE-4093-A42B-006D6FF1F18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finished his homework, 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n’t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 your homework, you ca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not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ish 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go to be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finis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home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E05E-7DD6-4E82-B425-1D13F7913E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the following 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Francisco gets a shopping cart.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simple senten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Francisco gets a shopping cart, and then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ound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Francisco gets a shopping cart before Mrs. Garcia reads the shopping list.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plex sent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9EC7-A4C6-4529-8840-FEE41999CED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6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ordination = Subordination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examp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.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tarted to rain, so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started to rain, Ahmad put on his rainco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Sentences 1 and 2 and 3 have the same meaning. 1 = 2 = 3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BC91-374B-4FBB-9532-F92EDD181BB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023240" y="220968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2 simpl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7552800" y="320040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8313120" y="411480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Cut the tomato and the onion. After that, put them in the bowl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before you put them in the bow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t the tomato and onion after you put them in the bow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t the tomato and the onion in the bowl before you cut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62A2-E83A-46BC-8A6F-D22474A08A1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06100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ich is the best way to rewrite the following senten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 because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so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don’t buy junk food, but they like healthy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so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like healthy food, but they don’t buy junk fo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D581-1F8F-4FB5-AC05-B877B51FA37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618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al hated school ______ he always got good gr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A748-8071-4BA8-83A2-5A83C325E52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67048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The Complex Sentence: Subordinating Conjunctions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best subordinating conj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ila cleaned her room ______ her mother got home from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79DE-344E-4547-A889-5AC10596D7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365560" y="39625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e whether each sentence is simple, compound, or comple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a began planning her summer vacation in Dece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Beca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left the play early, I missed the surprise e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ya was invited to a party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wants to buy a new outf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29F-3A94-4107-BD49-9A44C459F8D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90124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2369520" y="44197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2980440" y="54864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ison finished playing the video game, she shut down the compu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aning of this poem is difficult to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and his brother went fishing last weekend,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y caught lots of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3757-BCBF-4D17-A4EF-1D3935716B5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341320" y="22096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76788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4961520" y="449568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2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40E8-1AD6-419E-9823-B5FB97800F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1A8-7118-4EB6-A979-F5FB56521E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lex Sentence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الجملة المعقدة</a:t>
            </a:r>
            <a:r>
              <a:rPr b="0" lang="ar-L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279-640A-4E05-9131-8A369ECF183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clause is a group of words that contains a subject and a verb. (=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are two kinds of clauses in Englis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ependent clauses: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مستقل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. Dependent clauses:(also called a fragment) </a:t>
            </a:r>
            <a:r>
              <a:rPr b="0" lang="ar-LB" sz="2800" spc="-1" strike="noStrike">
                <a:solidFill>
                  <a:srgbClr val="000000"/>
                </a:solidFill>
                <a:latin typeface="Calibri"/>
              </a:rPr>
              <a:t>جملة تاب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..because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09E8-C18C-4F3C-AA26-9A00C6D4E9E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ependent clause has on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ir and expresses a complete thought. (It is just another name for a simple sent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ung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Ahma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lay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otball with his fri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Leil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tch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vie on T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1A8C-59C4-45D3-9EB7-7A376694F1A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pendent clause is an independent clause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ordinating conjunction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أدوات تكوين الجمل المعقدة</a:t>
            </a:r>
            <a:r>
              <a:rPr b="0" lang="ar-L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uch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ecause, after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t r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sn’t hungry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hmad played football with his friend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eila watched a movie on TV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5083-3944-4B66-9984-83F5D37C98C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What is a clause?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ependent clau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NOT express a complete thought, so it is NOT a sentence by itself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a fragment. It MUST be joined to an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ndependent clau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The result is a complex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efore Leila watched a movie on TV,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she helped her mother in the kitche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se four sentences are called complex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7115-1BAF-4E14-99CB-52555D716DF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394000" y="2133720"/>
            <a:ext cx="623232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Arial"/>
              </a:rPr>
              <a:t>Becau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an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have f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228760" y="4876920"/>
            <a:ext cx="6686640" cy="7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bd9"/>
                </a:solidFill>
                <a:latin typeface="Times New Roman"/>
                <a:ea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58a034"/>
                </a:solidFill>
                <a:latin typeface="Times New Roman"/>
                <a:ea typeface="Arial"/>
              </a:rPr>
              <a:t>w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Arial"/>
              </a:rPr>
              <a:t>to the beach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446160" y="4114800"/>
            <a:ext cx="120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806560" y="4038480"/>
            <a:ext cx="1403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1041480" y="3352680"/>
            <a:ext cx="1585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ubordin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on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 rot="5400000">
            <a:off x="5917680" y="2349360"/>
            <a:ext cx="380880" cy="528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27080 h 5283000"/>
              <a:gd name="textAreaBottom" fmla="*/ 5155920 h 528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166"/>
                </a:lnTo>
                <a:cubicBezTo>
                  <a:pt x="10800" y="6997"/>
                  <a:pt x="5400" y="7828"/>
                  <a:pt x="0" y="7828"/>
                </a:cubicBezTo>
                <a:cubicBezTo>
                  <a:pt x="5400" y="7828"/>
                  <a:pt x="10800" y="8659"/>
                  <a:pt x="10800" y="9490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 flipH="1">
            <a:off x="3137040" y="4648320"/>
            <a:ext cx="1648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>
            <a:off x="1486080" y="2590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6"/>
          <p:cNvSpPr/>
          <p:nvPr/>
        </p:nvSpPr>
        <p:spPr>
          <a:xfrm>
            <a:off x="1486080" y="2590920"/>
            <a:ext cx="1155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0"/>
          <p:cNvSpPr/>
          <p:nvPr/>
        </p:nvSpPr>
        <p:spPr>
          <a:xfrm rot="16174800">
            <a:off x="5538600" y="86760"/>
            <a:ext cx="306360" cy="5615280"/>
          </a:xfrm>
          <a:custGeom>
            <a:avLst/>
            <a:gdLst>
              <a:gd name="textAreaLeft" fmla="*/ 195840 w 306360"/>
              <a:gd name="textAreaRight" fmla="*/ 306360 w 306360"/>
              <a:gd name="textAreaTop" fmla="*/ 135000 h 5615280"/>
              <a:gd name="textAreaBottom" fmla="*/ 5480280 h 561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6984"/>
                </a:lnTo>
                <a:cubicBezTo>
                  <a:pt x="10800" y="7815"/>
                  <a:pt x="5400" y="8646"/>
                  <a:pt x="0" y="8646"/>
                </a:cubicBezTo>
                <a:cubicBezTo>
                  <a:pt x="5400" y="8646"/>
                  <a:pt x="10800" y="9477"/>
                  <a:pt x="10800" y="10308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5408280" y="3124080"/>
            <a:ext cx="2067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4205880" y="5791320"/>
            <a:ext cx="2219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lex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complex sentence has one independent clause and one (or more) dependent cla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because I had a big breakf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Ahmad played football with his friend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he did his homewo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Leila helped her mother in the kitche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she watched a movie on T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 can change the order of clauses in a complex sent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t rai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we didn’t go the par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cause I had a big breakf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I wasn’t hung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fter Ahmad did his homewo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he played football with his frien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efore Leila watched a movie on TV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Calibri"/>
              </a:rPr>
              <a:t>she helped her mother in the kitch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f the dependent clause comes first, use comma (,) 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9A82-AE4E-4DD1-AED9-9EFB4C9D5AF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2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09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310" dur="500" autoRev="1" fill="hold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09Z</dcterms:modified>
  <cp:revision>282</cp:revision>
  <dc:subject/>
  <dc:title>Slide 1</dc:title>
</cp:coreProperties>
</file>