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9AE2-F1CD-4E78-834C-D5AB8EA4BD6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8AAF-7514-4315-88E7-CEBDC57274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g-Rule Strategy (Inductiv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4371-9E39-4618-A7B2-E1FD98B998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g-Rule Strategy (Inductiv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EEFF-C340-46D3-B40C-061D3AC1F4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le-Eg Strategy (Deductiv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D3B0E-55D6-452B-914D-73B211F315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BC337-E42A-4C29-99A7-20A7537567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2AB1E-03B0-4C80-A74D-9C89A4D340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0484E-AC80-4ECB-963D-2AE9CFAC51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E5F28-B86B-4FAD-98BD-FC0FCFF0679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D8E4D-AF17-4E1A-B0F0-B4C903CB18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40CB7-E32A-4ABD-8199-807FB26414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64AD5-A7E2-45B7-9F78-45CDB9DD00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78B27-58A3-4B84-A042-2E88B7A2B4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D01D5-A967-4000-A039-6305C72A51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79517-A580-41BB-AF89-5BB0286085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F2146-53BB-4A89-9D7E-9429172F5A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FF549-15A1-4CA9-A715-1D8D5F8A74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9E443-C980-45F6-BDEE-B573DF12F6F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C08DB-9C20-47B9-8096-708671902F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1CFF6-8BC8-49A1-83F5-3976B73EBE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5AB9F-ACFE-4842-B9A8-6F23C0C4252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09C6-4503-4B3A-AC78-89400BD73B4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B6A8-C96C-4E73-8D21-BA76C68AA5A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891C-52A7-4BE0-BB53-157F0F2615B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1EDB-547B-45CB-8A27-E86D7528CC0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7D6E-B495-42C5-A997-757B7AC11E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802A4-E676-4E37-B57A-8643D69F344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2F21-1B71-4DED-B373-5A8D592DE00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40E0-DA6C-4488-93F6-00CCD76A21A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CA1A-ACA1-4D1C-92CC-774E55CC465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FBF9-2274-4BA5-A61D-3343EF55718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9E10-05B0-4C33-B02B-70FAA7B1A52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C192-4808-4E88-AA22-B392C7EDE8A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DF43-3B3D-4A5B-A79E-AD7C11DC12E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FC9A90-2FAA-4B94-88C8-786B19CF7B3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47CB48-F6EA-4A03-A29F-EBA387968A6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5F0614-CA15-43DC-B210-37203839BA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96535-3FA1-4638-828A-D283DAD046E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1022DA-18A5-49EB-A4CC-8DAE4AC9073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5F7D0F-C80B-41D9-88D2-BD79CFBC7C5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474A6-D569-40E1-ADB6-4703F6B6BE2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6F8070-3906-4441-81EA-2A5B9700E58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6BDF70-E552-4058-978E-423694ED8BF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385C26-EE4E-43F8-B88F-545547E99BF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027F8-E748-4C07-8A72-703D87DC2A2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15831-A9D6-4105-BF64-402319FC0CD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64F5C-CD46-4C0E-BECC-B44C49247AC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FE9AC7-0158-4207-B635-2AAEA90FA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D3BA0-96F4-4071-B778-A37766EE9FD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C1AD9F-45B9-4546-A550-382827F9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257781-C0FB-47FE-892E-ED0BD326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451350-AE2D-4AF4-B6F1-AB7237C1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2FE41F-F267-4C9E-BF99-FA010809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67DD4A-B390-4AA6-8DAB-21873285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ECD93F-AD69-48F5-951D-E88A396F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A61111-E5AF-4F8E-8D81-0F40DBEF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FC7CF4-9CB0-45D9-B423-EC9EFF9E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13DA6D-7690-424E-8532-E254A667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F6B0BE-F04C-4AAD-A20D-86DAA3739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9F4D2-C220-40DD-8632-0314E35D4AF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A8E3A0-8B69-4D4F-A277-28E0F8052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9108C6-C566-4FF4-AF46-1121A79AC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FEB031-A57C-4C28-8B88-EBF2C52D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41C5EE-E94D-4A11-8408-BB99AAC0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643E1E-30D8-434A-97AF-57516FE5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D65111-E5EF-4CE8-A877-6306F171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0FED6E-6F03-417F-BD05-0812F923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8C9DFF-E522-43E5-B6B2-79A3FC6E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786A1F-4C13-4ACF-B180-C493FA5D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14C482-3328-41A9-A444-F5D1AB39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CD31F-F6A3-4755-8FA3-65B920BEB3C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05E317-E828-4E79-A0BE-ECD39B42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A278C2-BA53-4CCA-91F4-CC4FFAFFA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92580C-9110-4863-B9AE-3276BF768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6A2E8-4270-40A4-80BD-6B1AADACB1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0EF52-0D4A-49D2-AABD-FCDE53BF2E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E607-DF37-4066-B58F-560DA5DB03B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6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218556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950F-8134-443A-A8B5-76728CD506D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92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A872-82FC-472D-B532-687FD757882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39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Num" idx="4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8FE4-D0CF-46C5-9C73-85CF2DB77D1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86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5"/>
          </p:nvPr>
        </p:nvSpPr>
        <p:spPr>
          <a:xfrm>
            <a:off x="74304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6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7"/>
          </p:nvPr>
        </p:nvSpPr>
        <p:spPr>
          <a:xfrm>
            <a:off x="709884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6601-73FD-4956-8D22-6B699FB55E1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32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4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8"/>
          </p:nvPr>
        </p:nvSpPr>
        <p:spPr>
          <a:xfrm>
            <a:off x="74304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9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0"/>
          </p:nvPr>
        </p:nvSpPr>
        <p:spPr>
          <a:xfrm>
            <a:off x="709884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C3AF-51F4-4146-8F32-1B72E7A0E76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slide11.xm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218592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DA96-FCF5-4CB5-B2A7-3A5FEA9B312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ubtitle 2"/>
          <p:cNvSpPr/>
          <p:nvPr/>
        </p:nvSpPr>
        <p:spPr>
          <a:xfrm>
            <a:off x="5562720" y="4648320"/>
            <a:ext cx="400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898989"/>
                </a:solidFill>
                <a:latin typeface="Calibri"/>
              </a:rPr>
              <a:t>نظام التعليم المطور للانتسا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898989"/>
                </a:solidFill>
                <a:latin typeface="Calibri"/>
              </a:rPr>
              <a:t>كلية الآداب – قسم اللغة الانجليزي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290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1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2" name="Freeform 10"/>
          <p:cNvSpPr/>
          <p:nvPr/>
        </p:nvSpPr>
        <p:spPr>
          <a:xfrm>
            <a:off x="0" y="2666880"/>
            <a:ext cx="609120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itle 1"/>
          <p:cNvSpPr/>
          <p:nvPr/>
        </p:nvSpPr>
        <p:spPr>
          <a:xfrm>
            <a:off x="457200" y="2895480"/>
            <a:ext cx="50990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700" spc="-1" strike="noStrike">
                <a:solidFill>
                  <a:srgbClr val="376092"/>
                </a:solidFill>
                <a:latin typeface="AYM Wadiy S_U normal."/>
                <a:cs typeface="Times New Roman"/>
              </a:rPr>
              <a:t>اسم المقرر ورقمه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76092"/>
                </a:solidFill>
                <a:latin typeface="AYM Wadiy S_U normal."/>
                <a:cs typeface="Times New Roman"/>
              </a:rPr>
              <a:t>اللغة الانجليزية (كتابة)،</a:t>
            </a:r>
            <a:r>
              <a:rPr b="1" lang="ar-SA" sz="1800" spc="-1" strike="noStrike">
                <a:solidFill>
                  <a:srgbClr val="376092"/>
                </a:solidFill>
                <a:latin typeface="AYM Wadiy S_U normal."/>
                <a:ea typeface="Times New Roman"/>
              </a:rPr>
              <a:t>103</a:t>
            </a:r>
            <a:r>
              <a:rPr b="1" lang="ar-SA" sz="1800" spc="-1" strike="noStrike">
                <a:solidFill>
                  <a:srgbClr val="376092"/>
                </a:solidFill>
                <a:latin typeface="AYM Wadiy S_U normal."/>
                <a:ea typeface="Times New Roman"/>
              </a:rPr>
              <a:t>- </a:t>
            </a:r>
            <a:r>
              <a:rPr b="1" lang="ar-SA" sz="1800" spc="-1" strike="noStrike">
                <a:solidFill>
                  <a:srgbClr val="376092"/>
                </a:solidFill>
                <a:latin typeface="AYM Wadiy S_U normal."/>
                <a:ea typeface="Times New Roman"/>
              </a:rPr>
              <a:t>7403</a:t>
            </a:r>
            <a:br>
              <a:rPr sz="1800"/>
            </a:br>
            <a:r>
              <a:rPr b="1" lang="ar-EG" sz="2200" spc="-1" strike="noStrike">
                <a:solidFill>
                  <a:srgbClr val="7f7f7f"/>
                </a:solidFill>
                <a:latin typeface="Calibri"/>
                <a:cs typeface="Times New Roman"/>
              </a:rPr>
              <a:t>الفصل الدراسي </a:t>
            </a:r>
            <a:r>
              <a:rPr b="1" lang="ar-SA" sz="2200" spc="-1" strike="noStrike">
                <a:solidFill>
                  <a:srgbClr val="7f7f7f"/>
                </a:solidFill>
                <a:latin typeface="Calibri"/>
                <a:cs typeface="Times New Roman"/>
              </a:rPr>
              <a:t>الثاني</a:t>
            </a:r>
            <a:br>
              <a:rPr sz="3200"/>
            </a:br>
            <a:r>
              <a:rPr b="1" lang="ar-EG" sz="1700" spc="-1" strike="noStrike">
                <a:solidFill>
                  <a:srgbClr val="7f7f7f"/>
                </a:solidFill>
                <a:latin typeface="Calibri"/>
                <a:cs typeface="Times New Roman"/>
              </a:rPr>
              <a:t>العام الدراسي </a:t>
            </a:r>
            <a:r>
              <a:rPr b="1" lang="ar-EG" sz="1700" spc="-1" strike="noStrike">
                <a:solidFill>
                  <a:srgbClr val="7f7f7f"/>
                </a:solidFill>
                <a:latin typeface="Calibri"/>
                <a:ea typeface="Times New Roman"/>
              </a:rPr>
              <a:t>1430</a:t>
            </a:r>
            <a:r>
              <a:rPr b="1" lang="ar-EG" sz="1700" spc="-1" strike="noStrike">
                <a:solidFill>
                  <a:srgbClr val="7f7f7f"/>
                </a:solidFill>
                <a:latin typeface="Calibri"/>
                <a:ea typeface="Times New Roman"/>
              </a:rPr>
              <a:t> – </a:t>
            </a:r>
            <a:r>
              <a:rPr b="1" lang="ar-EG" sz="1700" spc="-1" strike="noStrike">
                <a:solidFill>
                  <a:srgbClr val="7f7f7f"/>
                </a:solidFill>
                <a:latin typeface="Calibri"/>
                <a:ea typeface="Times New Roman"/>
              </a:rPr>
              <a:t>1431</a:t>
            </a:r>
            <a:r>
              <a:rPr b="1" lang="ar-SA" sz="1700" spc="-1" strike="noStrike">
                <a:solidFill>
                  <a:srgbClr val="7f7f7f"/>
                </a:solidFill>
                <a:latin typeface="Calibri"/>
                <a:cs typeface="Times New Roman"/>
              </a:rPr>
              <a:t>هـ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Times New Roman"/>
              </a:rPr>
              <a:t>وليد عثما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10"/>
          <p:cNvSpPr/>
          <p:nvPr/>
        </p:nvSpPr>
        <p:spPr>
          <a:xfrm>
            <a:off x="380880" y="640548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608C-1DB3-4DCA-B858-307CC9A87DEF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Prepositions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743040" y="2362320"/>
            <a:ext cx="553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247680" y="2514600"/>
            <a:ext cx="5448240" cy="39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mouse is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unde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the tabl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things: mouse +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: one is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und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Under is a preposition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6603840" y="3505320"/>
            <a:ext cx="2559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8" descr="BD07336_"/>
          <p:cNvPicPr/>
          <p:nvPr/>
        </p:nvPicPr>
        <p:blipFill>
          <a:blip r:embed="rId1"/>
          <a:stretch/>
        </p:blipFill>
        <p:spPr>
          <a:xfrm>
            <a:off x="6356520" y="3809880"/>
            <a:ext cx="2055600" cy="15415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7" descr="HH00865_"/>
          <p:cNvPicPr/>
          <p:nvPr/>
        </p:nvPicPr>
        <p:blipFill>
          <a:blip r:embed="rId2"/>
          <a:stretch/>
        </p:blipFill>
        <p:spPr>
          <a:xfrm>
            <a:off x="5861160" y="2514600"/>
            <a:ext cx="313668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Prepositions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412920" y="2057400"/>
            <a:ext cx="87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is a list of the most common preposi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0">
            <a:hlinkClick r:id="rId1" action="ppaction://hlinksldjump"/>
          </p:cNvPr>
          <p:cNvSpPr/>
          <p:nvPr/>
        </p:nvSpPr>
        <p:spPr>
          <a:xfrm>
            <a:off x="9282240" y="5746680"/>
            <a:ext cx="185760" cy="370080"/>
          </a:xfrm>
          <a:custGeom>
            <a:avLst/>
            <a:gdLst>
              <a:gd name="textAreaLeft" fmla="*/ 11880 w 185760"/>
              <a:gd name="textAreaRight" fmla="*/ 173880 w 185760"/>
              <a:gd name="textAreaTop" fmla="*/ 11880 h 370080"/>
              <a:gd name="textAreaBottom" fmla="*/ 358200 h 370080"/>
            </a:gdLst>
            <a:ahLst/>
            <a:rect l="textAreaLeft" t="textAreaTop" r="textAreaRight" b="textAreaBottom"/>
            <a:pathLst>
              <a:path w="21600" h="42991">
                <a:moveTo>
                  <a:pt x="0" y="0"/>
                </a:moveTo>
                <a:lnTo>
                  <a:pt x="21600" y="0"/>
                </a:lnTo>
                <a:lnTo>
                  <a:pt x="21600" y="42991"/>
                </a:lnTo>
                <a:lnTo>
                  <a:pt x="0" y="42991"/>
                </a:lnTo>
                <a:close/>
              </a:path>
              <a:path fill="lightenLess" w="21600" h="429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2991">
                <a:moveTo>
                  <a:pt x="21600" y="0"/>
                </a:moveTo>
                <a:lnTo>
                  <a:pt x="21600" y="42991"/>
                </a:lnTo>
                <a:lnTo>
                  <a:pt x="20200" y="41591"/>
                </a:lnTo>
                <a:lnTo>
                  <a:pt x="20200" y="1400"/>
                </a:lnTo>
                <a:close/>
              </a:path>
              <a:path fill="darkenLess" w="21600" h="42991">
                <a:moveTo>
                  <a:pt x="21600" y="42991"/>
                </a:moveTo>
                <a:lnTo>
                  <a:pt x="0" y="42991"/>
                </a:lnTo>
                <a:lnTo>
                  <a:pt x="1400" y="41591"/>
                </a:lnTo>
                <a:lnTo>
                  <a:pt x="20200" y="41591"/>
                </a:lnTo>
                <a:close/>
              </a:path>
              <a:path fill="lighten" w="21600" h="42991">
                <a:moveTo>
                  <a:pt x="0" y="42991"/>
                </a:moveTo>
                <a:lnTo>
                  <a:pt x="0" y="0"/>
                </a:lnTo>
                <a:lnTo>
                  <a:pt x="1400" y="1400"/>
                </a:lnTo>
                <a:lnTo>
                  <a:pt x="1400" y="41591"/>
                </a:lnTo>
                <a:close/>
              </a:path>
              <a:path fill="darken" w="21600" h="42991">
                <a:moveTo>
                  <a:pt x="3794" y="14489"/>
                </a:moveTo>
                <a:lnTo>
                  <a:pt x="17806" y="21496"/>
                </a:lnTo>
                <a:lnTo>
                  <a:pt x="3794" y="28502"/>
                </a:lnTo>
                <a:close/>
              </a:path>
            </a:pathLst>
          </a:custGeom>
          <a:solidFill>
            <a:srgbClr val="ff99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533520" y="2514600"/>
          <a:ext cx="7429320" cy="3581280"/>
        </p:xfrm>
        <a:graphic>
          <a:graphicData uri="http://schemas.openxmlformats.org/drawingml/2006/table">
            <a:tbl>
              <a:tblPr/>
              <a:tblGrid>
                <a:gridCol w="928440"/>
                <a:gridCol w="928800"/>
                <a:gridCol w="928800"/>
                <a:gridCol w="928440"/>
                <a:gridCol w="928800"/>
                <a:gridCol w="928800"/>
                <a:gridCol w="928440"/>
                <a:gridCol w="928800"/>
              </a:tblGrid>
              <a:tr h="709560"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o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o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hi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 (exce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t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o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o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o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nea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w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roug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p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ro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s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tw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s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w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ain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f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yo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o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pic>
        <p:nvPicPr>
          <p:cNvPr id="334" name="Picture 12" descr="MCj02869460000[1]"/>
          <p:cNvPicPr/>
          <p:nvPr/>
        </p:nvPicPr>
        <p:blipFill>
          <a:blip r:embed="rId1"/>
          <a:stretch/>
        </p:blipFill>
        <p:spPr>
          <a:xfrm>
            <a:off x="7264440" y="1981080"/>
            <a:ext cx="2363760" cy="216720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3"/>
          <p:cNvSpPr/>
          <p:nvPr/>
        </p:nvSpPr>
        <p:spPr>
          <a:xfrm>
            <a:off x="907920" y="2209680"/>
            <a:ext cx="7677360" cy="22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word is a prepos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pizza in the oven is min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4">
            <a:hlinkClick r:id="rId2" action="ppaction://hlinksldjump"/>
          </p:cNvPr>
          <p:cNvSpPr/>
          <p:nvPr/>
        </p:nvSpPr>
        <p:spPr>
          <a:xfrm>
            <a:off x="743040" y="4419720"/>
            <a:ext cx="165096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z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2806560" y="4419720"/>
            <a:ext cx="165132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8"/>
          <p:cNvSpPr/>
          <p:nvPr/>
        </p:nvSpPr>
        <p:spPr>
          <a:xfrm>
            <a:off x="4788000" y="4419720"/>
            <a:ext cx="165096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9"/>
          <p:cNvSpPr/>
          <p:nvPr/>
        </p:nvSpPr>
        <p:spPr>
          <a:xfrm>
            <a:off x="6769080" y="4419720"/>
            <a:ext cx="165096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14" descr="MCj01981640000[1]"/>
          <p:cNvPicPr/>
          <p:nvPr/>
        </p:nvPicPr>
        <p:blipFill>
          <a:blip r:embed="rId3"/>
          <a:stretch/>
        </p:blipFill>
        <p:spPr>
          <a:xfrm rot="20387400">
            <a:off x="247680" y="2438280"/>
            <a:ext cx="189864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38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247680" y="2133720"/>
            <a:ext cx="751212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word is a prepos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irl by the door is my siste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"/>
          <p:cNvSpPr/>
          <p:nvPr/>
        </p:nvSpPr>
        <p:spPr>
          <a:xfrm>
            <a:off x="1073160" y="4267080"/>
            <a:ext cx="165096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2971800" y="4267080"/>
            <a:ext cx="165096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4952880" y="4267080"/>
            <a:ext cx="165096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6934320" y="4267080"/>
            <a:ext cx="165096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24" descr="MCPE05891_0000[1]"/>
          <p:cNvPicPr/>
          <p:nvPr/>
        </p:nvPicPr>
        <p:blipFill>
          <a:blip r:embed="rId1"/>
          <a:stretch/>
        </p:blipFill>
        <p:spPr>
          <a:xfrm>
            <a:off x="7346880" y="2057400"/>
            <a:ext cx="196056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4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743040" y="3808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412920" y="2209680"/>
            <a:ext cx="751176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word is a preposi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runners raced around the track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1073160" y="4267080"/>
            <a:ext cx="165096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2971800" y="4267080"/>
            <a:ext cx="165096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4952880" y="4267080"/>
            <a:ext cx="165096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6934320" y="4267080"/>
            <a:ext cx="165096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9" descr="RUNNERS5"/>
          <p:cNvPicPr/>
          <p:nvPr/>
        </p:nvPicPr>
        <p:blipFill>
          <a:blip r:embed="rId1"/>
          <a:stretch/>
        </p:blipFill>
        <p:spPr>
          <a:xfrm>
            <a:off x="7512120" y="1905120"/>
            <a:ext cx="19112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5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3"/>
          <p:cNvSpPr/>
          <p:nvPr/>
        </p:nvSpPr>
        <p:spPr>
          <a:xfrm>
            <a:off x="743040" y="2286000"/>
            <a:ext cx="8172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look again at the sentences you practiced wi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izza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oven is m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irl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b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door is my sis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unners raced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rou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tr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Prepositional Phrases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Prepositional Phrases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1898640" y="1981080"/>
            <a:ext cx="6108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he 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he d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rou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he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825480" y="4114800"/>
            <a:ext cx="8089920" cy="123660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se are prepositional phrases. Prepositional phrases start with a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prepositio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and end with the </a:t>
            </a:r>
            <a:r>
              <a:rPr b="0" lang="en-US" sz="2500" spc="-1" strike="noStrike">
                <a:solidFill>
                  <a:srgbClr val="009900"/>
                </a:solidFill>
                <a:latin typeface="Arial"/>
              </a:rPr>
              <a:t>object of a prepositio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743040" y="2057400"/>
            <a:ext cx="84200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the prepositional phr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 chose a book from the libr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"/>
          <p:cNvSpPr/>
          <p:nvPr/>
        </p:nvSpPr>
        <p:spPr>
          <a:xfrm>
            <a:off x="2889360" y="3809880"/>
            <a:ext cx="429264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se a 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2889360" y="4648320"/>
            <a:ext cx="429264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ok from th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2889360" y="5486400"/>
            <a:ext cx="429264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from th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8" descr="MCj00889800000[1]"/>
          <p:cNvPicPr/>
          <p:nvPr/>
        </p:nvPicPr>
        <p:blipFill>
          <a:blip r:embed="rId1"/>
          <a:stretch/>
        </p:blipFill>
        <p:spPr>
          <a:xfrm>
            <a:off x="7429680" y="1905120"/>
            <a:ext cx="1935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2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74" dur="indefinite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42680" y="205740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the prepositional phr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 sat with my mo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2889360" y="3809880"/>
            <a:ext cx="280656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sat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2889360" y="4648320"/>
            <a:ext cx="280656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2889360" y="5486400"/>
            <a:ext cx="280656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with my m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10" descr="MCj02899660000[1]"/>
          <p:cNvPicPr/>
          <p:nvPr/>
        </p:nvPicPr>
        <p:blipFill>
          <a:blip r:embed="rId1"/>
          <a:stretch/>
        </p:blipFill>
        <p:spPr>
          <a:xfrm>
            <a:off x="5861160" y="2133720"/>
            <a:ext cx="31986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500" autoRev="1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181" dur="500" autoRev="1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182" dur="500" autoRev="1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Calibri"/>
              </a:rPr>
              <a:t>Prepositional phrases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use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prepositional phras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write longer senten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tudents bought a boo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tudents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in my clas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ught a boo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tudents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in my clas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ught a book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about flowe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CBE2-5B25-488D-9435-55251A020D3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1760" y="213336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Lecture # 13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429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Building Sentences: Prepositional Phr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218592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B144-B90B-454A-88D5-6AB77AD82CA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Calibri"/>
              </a:rPr>
              <a:t>Prepositional phrases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other 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questions were difficul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questions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in the English exa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ere difficul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questions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about prepositions in the English exa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ere difficul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516C-EF37-40C4-8B56-819870FEFFD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repositional phrases of place</a:t>
            </a:r>
            <a:br>
              <a:rPr sz="4400"/>
            </a:br>
            <a:r>
              <a:rPr b="0" lang="ar-LB" sz="4400" spc="-1" strike="noStrike">
                <a:solidFill>
                  <a:srgbClr val="ff0000"/>
                </a:solidFill>
                <a:latin typeface="Calibri"/>
              </a:rPr>
              <a:t>الجار والمجرور للدلالة على المكان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repositional phrases of pl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ook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n the desk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mi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oom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cross from the bathroom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Mary’s bedroo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like to sit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on the chair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next to the windo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y clothes ar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in the bag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under the b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F682-30DD-4575-8D9B-A343BA52864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repositional phrases of time</a:t>
            </a:r>
            <a:br>
              <a:rPr sz="4400"/>
            </a:br>
            <a:r>
              <a:rPr b="0" lang="ar-LB" sz="4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ar-LB" sz="4400" spc="-1" strike="noStrike">
                <a:solidFill>
                  <a:srgbClr val="ff0000"/>
                </a:solidFill>
                <a:latin typeface="Calibri"/>
              </a:rPr>
              <a:t>الجار والمجرور للدلالة على الزمان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repositional phrases of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saw my friends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before the te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will play tennis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after cla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usually have a big breakfast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in the morn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father came back from Mecca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at midnigh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56E3-56D8-4F6D-B0CD-588619789FD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Prepositional Phrases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 presentation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slideshare.net/diana.koscik/prepositional-phrases-power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3E96-D72A-49B1-9C85-E2A16829A76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F20B-B38D-4213-824A-79352B129295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oup 5"/>
          <p:cNvGrpSpPr/>
          <p:nvPr/>
        </p:nvGrpSpPr>
        <p:grpSpPr>
          <a:xfrm>
            <a:off x="5181480" y="1981080"/>
            <a:ext cx="2600280" cy="2524320"/>
            <a:chOff x="5181480" y="1981080"/>
            <a:chExt cx="2600280" cy="2524320"/>
          </a:xfrm>
        </p:grpSpPr>
        <p:sp>
          <p:nvSpPr>
            <p:cNvPr id="390" name="Oval 6"/>
            <p:cNvSpPr/>
            <p:nvPr/>
          </p:nvSpPr>
          <p:spPr>
            <a:xfrm>
              <a:off x="527832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1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518148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2" name="Rectangle 8"/>
          <p:cNvSpPr/>
          <p:nvPr/>
        </p:nvSpPr>
        <p:spPr>
          <a:xfrm>
            <a:off x="2362320" y="3352680"/>
            <a:ext cx="281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6"/>
          <p:cNvSpPr/>
          <p:nvPr/>
        </p:nvSpPr>
        <p:spPr>
          <a:xfrm>
            <a:off x="2362320" y="2209680"/>
            <a:ext cx="2689200" cy="12369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Lecture Components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Building a sent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Prepositional Phr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E3DE-6723-4ED6-8F2D-AB827C3EE798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Building a Sentence</a:t>
            </a:r>
            <a:br>
              <a:rPr sz="4400"/>
            </a:br>
            <a:r>
              <a:rPr b="0" lang="ar-LB" sz="4400" spc="-1" strike="noStrike">
                <a:solidFill>
                  <a:srgbClr val="376092"/>
                </a:solidFill>
                <a:latin typeface="Calibri"/>
              </a:rPr>
              <a:t>بناء الجمل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Building a sentenc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entence is a group of words which starts with a capital letter and ends with a full stop (.), question mark (?) or exclamation mark (!). A sentence contains or implies a predicate and a subjec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8FB1-6C44-4C07-B896-17F02CA1CE1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Building a Senten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tences can contai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ubjects </a:t>
            </a:r>
            <a:r>
              <a:rPr b="0" lang="ar-LB" sz="3200" spc="-1" strike="noStrike">
                <a:solidFill>
                  <a:srgbClr val="ff0000"/>
                </a:solidFill>
                <a:latin typeface="Calibri"/>
              </a:rPr>
              <a:t>فاعل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objects</a:t>
            </a:r>
            <a:r>
              <a:rPr b="0" lang="ar-LB" sz="32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0" lang="ar-LB" sz="3200" spc="-1" strike="noStrike">
                <a:solidFill>
                  <a:srgbClr val="009900"/>
                </a:solidFill>
                <a:latin typeface="Calibri"/>
              </a:rPr>
              <a:t>مفعول به</a:t>
            </a:r>
            <a:r>
              <a:rPr b="0" lang="ar-LB" sz="32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ubject in a sentence is generally the person or thing carrying out an action.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The objec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 sentence is involved in an action but does not carry it out, the object comes after 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the verb</a:t>
            </a:r>
            <a:r>
              <a:rPr b="0" lang="ar-LB" sz="3200" spc="-1" strike="noStrike">
                <a:solidFill>
                  <a:srgbClr val="00b0f0"/>
                </a:solidFill>
                <a:latin typeface="Calibri"/>
              </a:rPr>
              <a:t>الفعل</a:t>
            </a:r>
            <a:r>
              <a:rPr b="0" lang="ar-LB" sz="32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he boy 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climbed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a tree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C4D62-3E35-4BFB-80E0-9CE44C23406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Building a Senten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want to say more about the subject (the boy) or the object (the tree), you can add a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djective</a:t>
            </a:r>
            <a:r>
              <a:rPr b="0" lang="ar-LB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ar-LB" sz="2800" spc="-1" strike="noStrike">
                <a:solidFill>
                  <a:srgbClr val="ff0000"/>
                </a:solidFill>
                <a:latin typeface="Calibri"/>
              </a:rPr>
              <a:t>نعت، صفة</a:t>
            </a:r>
            <a:r>
              <a:rPr b="0" lang="ar-LB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xample: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you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oy climbed 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al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re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want to say more about how he climbed the tree you can use an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adverb</a:t>
            </a:r>
            <a:r>
              <a:rPr b="0" lang="ar-LB" sz="28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0" lang="ar-LB" sz="2800" spc="-1" strike="noStrike">
                <a:solidFill>
                  <a:srgbClr val="009900"/>
                </a:solidFill>
                <a:latin typeface="Calibri"/>
              </a:rPr>
              <a:t>ظرف</a:t>
            </a:r>
            <a:r>
              <a:rPr b="0" lang="ar-LB" sz="28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xample: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you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oy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quick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imbed 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al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re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5D1C-79C0-43EE-8BED-CAB4920D7CE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Building a Senten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entence becomes more interesting as it gives the reader or listener more inform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add a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prepositional phrase</a:t>
            </a:r>
            <a:r>
              <a:rPr b="0" lang="ar-LB" sz="3200" spc="-1" strike="noStrike">
                <a:solidFill>
                  <a:srgbClr val="009900"/>
                </a:solidFill>
                <a:latin typeface="Calibri"/>
              </a:rPr>
              <a:t>جار ومجرو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xample: The young boy quickly climbed a tall tree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in the gard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ED36-B2F9-45AA-A8AE-22A97495A42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11"/>
          <p:cNvSpPr/>
          <p:nvPr/>
        </p:nvSpPr>
        <p:spPr>
          <a:xfrm>
            <a:off x="1073160" y="1940040"/>
            <a:ext cx="80899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position is a part of speech that shows a relationship between two thing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ation (on, under, in)</a:t>
            </a:r>
            <a:r>
              <a:rPr b="0" lang="ar-L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LB" sz="2400" spc="-1" strike="noStrike">
                <a:solidFill>
                  <a:srgbClr val="000000"/>
                </a:solidFill>
                <a:latin typeface="Arial"/>
                <a:cs typeface="Arial"/>
              </a:rPr>
              <a:t>للمكان</a:t>
            </a:r>
            <a:r>
              <a:rPr b="0" lang="ar-L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ing (before, after, during)</a:t>
            </a:r>
            <a:r>
              <a:rPr b="0" lang="ar-L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LB" sz="2400" spc="-1" strike="noStrike">
                <a:solidFill>
                  <a:srgbClr val="000000"/>
                </a:solidFill>
                <a:latin typeface="Arial"/>
                <a:cs typeface="Arial"/>
              </a:rPr>
              <a:t>للزمان</a:t>
            </a:r>
            <a:r>
              <a:rPr b="0" lang="ar-L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rection (from, toward, to) </a:t>
            </a:r>
            <a:r>
              <a:rPr b="0" lang="ar-LB" sz="2400" spc="-1" strike="noStrike">
                <a:solidFill>
                  <a:srgbClr val="000000"/>
                </a:solidFill>
                <a:latin typeface="Arial"/>
                <a:cs typeface="Arial"/>
              </a:rPr>
              <a:t>للاتجاه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Prepositions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5" name="Rectangle 12"/>
          <p:cNvSpPr/>
          <p:nvPr/>
        </p:nvSpPr>
        <p:spPr>
          <a:xfrm>
            <a:off x="5842080" y="511164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Prepositions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7" name="Text Box 1027"/>
          <p:cNvSpPr/>
          <p:nvPr/>
        </p:nvSpPr>
        <p:spPr>
          <a:xfrm>
            <a:off x="577800" y="2286000"/>
            <a:ext cx="5200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028"/>
          <p:cNvSpPr/>
          <p:nvPr/>
        </p:nvSpPr>
        <p:spPr>
          <a:xfrm>
            <a:off x="141120" y="2514600"/>
            <a:ext cx="600264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mouse is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o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the tabl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things: mouse +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: one is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On is a preposition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029"/>
          <p:cNvSpPr/>
          <p:nvPr/>
        </p:nvSpPr>
        <p:spPr>
          <a:xfrm>
            <a:off x="5943600" y="3581280"/>
            <a:ext cx="2146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1030"/>
          <p:cNvGrpSpPr/>
          <p:nvPr/>
        </p:nvGrpSpPr>
        <p:grpSpPr>
          <a:xfrm>
            <a:off x="6108840" y="2590920"/>
            <a:ext cx="2310840" cy="2625120"/>
            <a:chOff x="6108840" y="2590920"/>
            <a:chExt cx="2310840" cy="2625120"/>
          </a:xfrm>
        </p:grpSpPr>
        <p:pic>
          <p:nvPicPr>
            <p:cNvPr id="321" name="Picture 1031" descr="HH00865_"/>
            <p:cNvPicPr/>
            <p:nvPr/>
          </p:nvPicPr>
          <p:blipFill>
            <a:blip r:embed="rId1"/>
            <a:stretch/>
          </p:blipFill>
          <p:spPr>
            <a:xfrm>
              <a:off x="6191280" y="3200040"/>
              <a:ext cx="222840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Picture 1032" descr="BD07336_"/>
            <p:cNvPicPr/>
            <p:nvPr/>
          </p:nvPicPr>
          <p:blipFill>
            <a:blip r:embed="rId2"/>
            <a:stretch/>
          </p:blipFill>
          <p:spPr>
            <a:xfrm>
              <a:off x="6108840" y="2590920"/>
              <a:ext cx="1972080" cy="1479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9:14:34Z</dcterms:created>
  <dc:creator>nader darawsheh</dc:creator>
  <dc:description/>
  <dc:language>en-US</dc:language>
  <cp:lastModifiedBy>Sayyed-Zain</cp:lastModifiedBy>
  <dcterms:modified xsi:type="dcterms:W3CDTF">2010-09-02T09:05:02Z</dcterms:modified>
  <cp:revision>284</cp:revision>
  <dc:subject/>
  <dc:title>Slide 1</dc:title>
</cp:coreProperties>
</file>