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26C0-B229-4D20-ADDE-6D85A13DC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92A8-E7B4-4BD0-905E-A071C11D8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7A13-FC8D-4478-8B9E-51BB8863D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F14E-76E4-4AF1-91F9-2BF0CDBC3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070F-8D13-4F95-8DC6-69E26DEAD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9781-75DE-4F9A-90D8-0EE6F0C2E7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946B-1E0C-4F29-9569-C0833DA35B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6B37-C0F7-4C97-B262-AD95FFBAF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7DCF2-DD27-4AE5-8B20-ACFD58343C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F6EA-8897-42F4-AF6F-C3FADE50E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5AB0-79CB-41A2-9977-B9F90A449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2589-D585-458D-8E06-C7B1E222B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7D58-0E75-45C8-A9B1-93E6524FB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45F8-6D4D-46B2-8EA1-4DCDF5CB03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411A-4239-4BBE-84E0-AD9B42EB72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5B49-20FB-4B0C-BDA4-6F28A7DE31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2390-FA00-4B94-A7EC-FDBC7F9EAC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210-CC9F-42F2-9332-AB93046AFF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779-7769-40F3-9A3A-8E2EAC511A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CED-8C83-4E5B-AEFA-45B96325B0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FF3-8EA3-4756-9393-2506629142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281-E37E-465F-83F1-BA6CF96CB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9979-F1D6-4D33-9308-FAA74BE76A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E87-54AA-401B-8156-28836CCFCF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AA3-D1FE-44C2-9613-F0CEE8B9B4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C77-9673-4B96-85B3-E8E461DDF8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630-0980-44EE-A236-A95E420276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E04-A7EC-4693-89B9-4FC4F24AA6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CB68-8EC2-4AE3-BFA9-310232F5B3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69F-2799-4792-AFA7-90B24D9EE8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2ACEA-1EE6-49AB-8D08-2FB32C6BE5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21027-58F0-446D-B8D7-46AEC452F3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EEEDD-67D6-4A38-B017-EEBA95E5C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1734-BEE5-45DC-99C4-64FAC60635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F3115-0F50-449F-ABC1-B5B7BE845C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EB18C-48BB-461B-9CB8-C3D30BD266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9F8B-C6BF-4F26-B1EF-8AD84BC893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91E99-7F52-4D89-B1EF-8B801E19FC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0BC1-345C-4FBC-8E76-342D0EFD23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79B3-3B44-4FEA-9FCB-D29AF0B438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C8499-98B4-4122-86F0-7D8405E883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D1CB-DBF5-4BB2-8459-406FDBCCBD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B3B9C-E192-482C-8D4A-922010331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BEAB-27DD-4FF3-BC43-8ED3A3708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D872-5421-4F00-91F5-153D92F7C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E8A8-C40B-4E78-B0AE-623C66354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BADF-287D-4EBB-8BA7-367DFD55F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2969-D59F-4B78-91B8-6EA4A9A4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4FA7-954F-48EE-ADA0-0C78253A676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2745-C7E1-4F4C-B007-1C66EDB3220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1EE5-D46F-438C-873D-156FFD8284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EE9-1591-4B09-94FD-C020601F660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DAA7-FD54-4F66-A34F-9ED38715B9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1FB4-3AB7-4CA4-B4E1-E092506571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ple sentence can have a verb in any tense (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on the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ho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las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ill sh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mall nex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7C33-E6CF-4FA0-B314-EFE7C9FDD0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الجملة المركّ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co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4A86-2992-4893-ABAB-EAAD85BCF39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000000"/>
                </a:solidFill>
                <a:latin typeface="Calibri"/>
              </a:rPr>
              <a:t>حروف العط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7"/>
          <p:cNvCxnSpPr>
            <a:stCxn id="226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is a scienti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travels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orks in Damma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lives in Al-Ah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didn’t study for the te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ailed the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year we will go to the bea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will stay at h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406F-6B90-473D-9B6A-10B688750A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676520"/>
          <a:ext cx="6603840" cy="18540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ting 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4A8-4F93-4F07-A66C-A8808253BF0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D94A-BD13-482A-9CA8-8C353B46DB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the correct coordinating conjunction. Us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d, or, but, or 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e are going to have spaghetti for dinner, _______ we are going to have ice cream for dess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It is my birthday, _______ I have to go to work. I wish that I could stay home and rel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ould you like to play tennis, ______ would you like to go to the golf 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It is raining, ______ she is wearing a rainco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4913-96DD-4DD4-AA15-8AFE6220F30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329160" y="205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364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727880" y="36576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18200" y="441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It is cold outside, ______ we can’t go swi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I’m hungry, _______ I don’t have time to 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I enjoy opera, _______ I like the bal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She’s a trustworthy friend, _______ I tell her my secr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I want to go to school, _______ I don’t have enough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We can go to the movies, _______ we can rent a vid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A6BF-7886-4AB1-9046-0B9E08F480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108760" y="4572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49928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205080" y="2666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899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661200" y="1676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95648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 their mother is watching them quie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2E6E-AB65-4EED-8723-9280CB5C23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042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contains a compound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and Maria watch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ia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and plays tennis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668C-F567-42C5-836A-9BAB34B2E57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614080" y="2666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words and f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ingful stat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ways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ion of time at the end of the sent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goes / to school / every morning / An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dy goes to school every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3A1-B5DF-4015-AC10-13983C4D2E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0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2738-3A4C-4831-B18F-2B87936E16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take / photos / they / every 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take photos every Mon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goes / every day / she / 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 goes to school every 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football / Eric / after school / 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ic plays football after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EFF5-A6B3-48A0-AE2C-89142C2DA84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is making / he / at the moment /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is making breakfast at th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to the club / the girls / go / on Satur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irls go to the club on Saturd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o'clock / school / at / 8 /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ool starts at 8 o'clo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Tuesday / the boys / their bikes / ride / e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ys ride their bikes every Tues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C0F-C243-409C-9294-CCC641D7BD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I / home / going / am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am going home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) Simon / on Fridays / the dishes / w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on washes the dishes on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) are / questions / we / answering / the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answering the questions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38F-DEE9-4987-AAEC-87A6A7F7211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E6A9-91BA-4C55-9E63-D44D3385C5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8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ات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هي مواد مساندة من خارج الكتاب لكنها مطلوبة في الاختبار ومه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ة رقم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ستكون عبارة عن نماذج أسئلة للتدريب على الاختبار النهائ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7D89-665C-485F-BAAC-17F70D0CC8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with expression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2C81-31D2-411F-B1D4-BBF40E2ECF2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ypes of sentences</a:t>
            </a:r>
            <a:br>
              <a:rPr sz="44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three main types of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simple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بسيط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ound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رك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lex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CD7-F67A-4CC6-A4C1-EDBB53DDF71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be very short, consisting of a simple subject and a simple predic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المبتدأ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PREDICATE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الخبر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roommat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ost his ke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fami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s in an apar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like warm milk or col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have class on Tuesd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19D-B6CF-4135-AF27-E56225C4755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have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ubje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mother and my f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brother, sister, and m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his sister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 and work in Jedd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Al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TV and had dinner at h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C6F-A59E-4136-8129-90C1BD8E1F8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 can b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تقريري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errogative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استفهامي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You can shop at the mall on weeke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you shop at the mall on weeke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rancisco cleaned his room for 2 h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 Francisco clean his room for 2 h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DBD7-36C9-4381-879D-707F53B2993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e sentence can be an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exclamation 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(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صيغة التعجب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imperative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(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صيغة الأمر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Help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ease hold the b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is a wonderful gif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clever you 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012-5275-4962-B279-934569521AD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9:37Z</dcterms:modified>
  <cp:revision>278</cp:revision>
  <dc:subject/>
  <dc:title>Slide 1</dc:title>
</cp:coreProperties>
</file>