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CD01-812C-42AD-A725-F5F81E40D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89DF-069F-408B-9666-24583C0D7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BDBE-C513-45A0-B578-A9210F542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33B0-BEE3-44D1-9A76-66E9FF4A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646B-D505-4A55-A682-475ACD933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4672-6798-454E-910A-FD7D1E808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AD18-3E73-4F3D-8EB4-283F1F3CF1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5822-64A0-492E-A4BA-C18024B78F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A6D0-CCAB-4FA7-9C3E-038310962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40F1-6317-43B8-8538-2A0C1F4869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24F8-C6E3-498F-BBB8-A650C2B6F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5AAC-F7B9-4771-94C8-8977BF9B2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B270-BA05-4A88-9CFE-DAA61D46B6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FEB69-16BC-4609-9F95-897B865EA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442A-8934-4949-BE29-CBBA77C0A4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D4E1-9D36-4AB9-AD87-B728123479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BCA8-E226-41B3-84ED-73AF59B580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754-2940-41A5-956A-3B0D5C1707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1EC-4040-4991-B9FA-281BF05FD7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273-E6C8-48D2-870B-933269F255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AF8-77FF-4414-8DBE-399B10A10A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7F3-01B7-4EA4-9A49-E7188051B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7D0B-387A-4DC1-9BA1-2A66B7604F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AE5-2821-437F-A98C-EF867970F0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CAE-2D39-406D-B250-DD0A3B3A9B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0C1-C3AA-46AA-9F7F-81451C7955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5B7-9718-47C6-9DC4-F0DF7FB330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C4C-485D-4478-A1EB-A0D831A142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D0A-6C93-4736-9BC2-A2998F00F4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70A-C2B2-468C-BF46-92D94BD4A0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62740-EA7A-4C1D-9189-43A59A7085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38DB4-2077-4C9F-BC21-12BFB5109D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53A17-7B22-45BC-818B-32E3DEE83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38AE-E268-4F66-B42A-8F045E6FC3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8F21-B615-4754-A0F9-236E2D8FD7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36BE3-D44A-4A65-9B7A-AE3217598F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3E79B-053A-4D37-AB50-DD7728BABF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B0360-25D0-4955-8809-28C2AF703D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359D7-A626-4E05-964D-E418669997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5F30-2D87-4D24-AE84-CAC2AD2E15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4924-0408-4DF9-BC1E-DABE81E240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7AC3A-EEB6-48A2-BBC2-FC51B942C9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BF196-3DEE-4B48-8982-71387CBD8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B91E-6317-467A-8A32-BED8B61C2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88BE-FE9F-4562-BD1C-135045E3A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8C31-60DC-4B3D-A802-05411E6CF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AB16-0AC9-4C08-9416-9492D403D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537C-9604-4530-B3A7-0895A2D19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7D6-2259-4ED6-B190-D4C47D093F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CA18-F669-416D-B6D2-86A4B950C7E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0EBB-1B7B-4B81-8757-F3AB3271839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106C-89AF-4953-B1F2-0625C6A5AB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763-D5BF-415D-A544-19CE892A833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D73-E82C-4E54-8F67-D6149854FF1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are subordinating conjunctions that we use to make complex senten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finish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go to b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s soon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been doing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ame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’t go to bed until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a sandwic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was doing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AD5-084F-4147-A85F-472458AE6E9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inished his homework, 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n’t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 your homework, you c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not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74F0-2DEA-429F-AB64-43E7473CF21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following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rancisco gets a shopping cart.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imple sent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rancisco gets a shopping cart, and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rancisco gets a shopping cart before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x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7B76-42CF-4D7F-B953-8EC0191D23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6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.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, so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started to rain,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B316-A326-403E-9B33-0C8A324B267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023240" y="22096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2 simpl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552800" y="32004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313120" y="41148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Cut the tomato and the onion. After that, put them in the bowl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before you put them in the bow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after you put them in the bow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tomato and the onion in the bowl before you c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24A-D5FE-4782-8F89-7BB1151326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06100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 because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so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but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so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but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A05-AA7C-4825-A0A4-E1B57C56E5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618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al hated school ______ he always got good gr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CEC-FD9F-4094-9F6E-42A9B92EBBC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67048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la cleaned her room ______ her mother got home from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911C-D59C-44EB-8AEC-C50CD95EB3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365560" y="3962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 whether each sentence is simple, compound, or compl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 began planning her summer vacation in Dec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left the play early, I missed the surprise e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ya was invited to a party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wants to buy a new out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D238-8092-4988-BCAE-4038EA6338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90124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369520" y="4419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980440" y="5486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ison finished playing the video game, she shut down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 of this poem is difficult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and his brother went fishing last weekend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caught lots of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E479-9E81-4338-A499-B95E1134C47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341320" y="2209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6788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4961520" y="449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685F-BAB8-4474-B479-808E65A6BBD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7D9-02B7-415A-9002-AF74459201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lex Sentence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9452-12DF-43B3-8F54-6F4BA5D2739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lause is a group of words that contains a subject and a verb. (=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two kinds of clauses in Engli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ependent clauses: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Dependent clauses:(also called a fragment)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تاب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..because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8FC4-958A-42E4-A8B4-2F1B153BA74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pendent clause ha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and expresses a complete thought. (It is just another name for a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Ahm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a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otball with his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Lei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ie on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0FA6-02FC-480A-A78F-21819B4D41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pendent clause is an independent clause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ordinating conjunction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أدوات تكوين الجمل المعقد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uch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cause, after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n’t hung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played football with his frien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ila watched a movie on TV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E3B5-EA31-48F0-A572-7B89D2FA8CC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t cla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express a complete thought, so it is NOT a sentence by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a fragment. It MUST be joined to an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sult is a complex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 Leila watched a movie on TV,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she helped her mother in the kitc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se four sentences are called complex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0D9-794B-432F-AFF4-3CBA7C12BA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4000" y="2133720"/>
            <a:ext cx="62323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Beca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an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have f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28760" y="4876920"/>
            <a:ext cx="66866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the beach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446160" y="4114800"/>
            <a:ext cx="120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806560" y="4038480"/>
            <a:ext cx="140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41480" y="3352680"/>
            <a:ext cx="1585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ordin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 rot="5400000">
            <a:off x="5917680" y="2349360"/>
            <a:ext cx="380880" cy="528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5283000"/>
              <a:gd name="textAreaBottom" fmla="*/ 5155920 h 528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166"/>
                </a:lnTo>
                <a:cubicBezTo>
                  <a:pt x="10800" y="6997"/>
                  <a:pt x="5400" y="7828"/>
                  <a:pt x="0" y="7828"/>
                </a:cubicBezTo>
                <a:cubicBezTo>
                  <a:pt x="5400" y="7828"/>
                  <a:pt x="10800" y="8659"/>
                  <a:pt x="10800" y="9490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137040" y="4648320"/>
            <a:ext cx="164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1486080" y="259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1486080" y="2590920"/>
            <a:ext cx="115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0"/>
          <p:cNvSpPr/>
          <p:nvPr/>
        </p:nvSpPr>
        <p:spPr>
          <a:xfrm rot="16174800">
            <a:off x="5538600" y="86760"/>
            <a:ext cx="306360" cy="5615280"/>
          </a:xfrm>
          <a:custGeom>
            <a:avLst/>
            <a:gdLst>
              <a:gd name="textAreaLeft" fmla="*/ 195840 w 306360"/>
              <a:gd name="textAreaRight" fmla="*/ 306360 w 306360"/>
              <a:gd name="textAreaTop" fmla="*/ 135000 h 5615280"/>
              <a:gd name="textAreaBottom" fmla="*/ 5480280 h 561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984"/>
                </a:lnTo>
                <a:cubicBezTo>
                  <a:pt x="10800" y="7815"/>
                  <a:pt x="5400" y="8646"/>
                  <a:pt x="0" y="8646"/>
                </a:cubicBezTo>
                <a:cubicBezTo>
                  <a:pt x="5400" y="8646"/>
                  <a:pt x="10800" y="9477"/>
                  <a:pt x="10800" y="1030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408280" y="3124080"/>
            <a:ext cx="2067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4205880" y="5791320"/>
            <a:ext cx="2219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complex sentence has one independent clause and one (or more) dependent cla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Leila helped her mother in the kitche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she watched a movie on T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can change the order of clauses in a complex sent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 had a big breakf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Ahmad did his home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he played football with his frie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Leila watched a movie on T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she helped her mother in the kitch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the dependent clause comes first, use comma (,) 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7F8D-714D-4FB9-98BA-EE2982090F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09Z</dcterms:modified>
  <cp:revision>282</cp:revision>
  <dc:subject/>
  <dc:title>Slide 1</dc:title>
</cp:coreProperties>
</file>