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FDCB-F8F5-4264-9823-19FBEE3C581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CCF7-59A1-4CD0-AA84-6B43E628E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-Rule Strategy (Induct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3912-6257-4916-9EE2-A1161CADE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-Rule Strategy (Induct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CD08-AE05-44E7-87DC-0B6A7306A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-Eg Strategy (Deduct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2235-E92C-4DF1-B2AA-07FFEBE69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19A4-B9AC-453B-948D-8E1D78BC0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3847-E89D-4DD7-A043-7F614B9C0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D61D9-744F-4AD9-B2F8-B606B4B27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B666E-04C2-4482-A57B-A432AC7126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CC27F-5E1B-453C-80D3-6476C97347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2692C-D04D-4938-921B-B93166116D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62484-BEF8-4DBD-9C4D-C39C71A82A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0C820-E2CF-43F2-82B4-8791F5CA52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1E12F-66E8-4E3F-ADC8-BB8974414F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851EB-05C9-4D34-A389-2B5BFE7D0D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E21A-B38E-459E-B921-14C05CD48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10A73-00EC-45AB-A32E-23AFA911AF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AAE48-C71E-4DDA-BD7F-BCC5222B70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9429F-6937-47F0-8589-ACF2B1FA50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8598E-29D9-444E-BD5D-EEDE91854D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4163E-2DBC-4B99-860C-D38F38250A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3CE-9DCE-40DF-BF95-8BEDAFB285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658-E6BE-48AE-A8AD-848361A67B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BE4C-7E9F-4672-9CB8-06745FEE09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66E2-1310-4461-B644-4ABC5A30FD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E324-EC4D-4114-8557-9243A3FFC7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B8938-0C03-42C9-8B6B-76BBD560EF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938D-1747-4D2E-A8FA-3712F05DDB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07DA-401C-4537-8EC6-B828AF345A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5A9-5F78-4F76-B7AB-931AE6FC10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54E-71ED-43DD-9D7B-10758AEC5A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D0F5-1BB1-4797-8D4B-883DB46376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286-8AF0-4A68-9D11-E0DA0B52BE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829D-6830-4C80-98BB-E450B85E01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EDF70-D6E3-486E-96EC-1B6D0B76D65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54AE9-86D3-4B7A-B579-108CAC804F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152AB-BD44-4D7A-943F-DC8E84A0C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C561-919B-4F64-B7C1-9D53F7018F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E7F6E-E008-4943-8314-33FF319746E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F68B2-614F-4338-9D06-8FA91AE481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A8BCD-F63D-4E0E-A90F-7F395E4441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0BEFB-CA34-403C-B9F9-9DA8EBEC4CA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F8726-0168-4C73-A426-C3B2D21700A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A8903-138A-4130-B452-61E0F049FE1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1F6A4-0E87-4EB8-928E-4CADDCA3914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0AA2D-CD99-4F75-ABC7-EA1DEEDC08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85793-DE49-4A91-8B63-A83BC72750E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6E6274-E0C9-4E68-9ACD-6B4EF070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A175-626A-41AE-91FC-0FD01EB55FB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F1387F-CBE4-4CA3-ABEA-D3F95F22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3048EC-2EB3-417D-B4BC-81D855CC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0E0F78-DF17-496D-A5E0-D6DCB084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44B2AE-6666-4AA5-96CF-275F9446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4BD840-4D89-4AB0-B89E-EF663AC1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35EFBC-0512-4432-8D7D-B15C8F1C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08B28E-EB78-4F58-AC4F-5B45DB7A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86852A-EA78-4BDF-BAB7-4F22C41C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65D0FD-D123-438F-A630-A8537B80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FC388A-7771-4E78-8F09-52B7A73C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14864-AF77-44F5-A6FF-A6E28A5DFE1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8A2C57-348E-42DE-9386-4FBEC277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8B1250-45E1-4E72-8A50-B2C00AF0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B42CA8-3351-4831-BD35-BED842F6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AFBB49-D3A5-4899-932F-AB193F29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BB1674-92B2-47D2-8112-0B4CBA70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2A76A5-DEC3-4CF4-BB1E-74C4410D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393B58-D957-4A61-92EF-982AD3D3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A9DCFA-4960-4E09-BF9B-A6F926FE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FE437B-55FC-473F-93F3-434D9880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DB085C-BC46-4D59-8EA2-75F20B59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4A76-8DD7-454A-B53B-D9DF70210FF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3B1667-9F8B-4ADD-8663-EC7541CA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B894C6-A5A2-42B2-9623-2C8D79CB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593713-8506-495A-8975-7E6AE911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269E9-D14F-4255-B618-70281D8B9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5DF4-B4D2-4208-8C21-F32CFB471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79DF-4C45-4236-985A-0F4F364304C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1855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935B-3810-41E5-A9DB-B7157D5956D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9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3F37-08A6-434F-B7BE-3817B866AA4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39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C8F4-8A3D-4695-A6CA-77D13C8DFF3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8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5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6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7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4CE8-BB15-47E0-8A28-965A9FD11E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3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8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9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0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CC2B-63A1-4B72-B476-E6BF1D98FF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11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6C2D-836C-4177-B6E3-3C99F5DD7FC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ubtitle 2"/>
          <p:cNvSpPr/>
          <p:nvPr/>
        </p:nvSpPr>
        <p:spPr>
          <a:xfrm>
            <a:off x="5562720" y="4648320"/>
            <a:ext cx="400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898989"/>
                </a:solidFill>
                <a:latin typeface="Calibri"/>
              </a:rPr>
              <a:t>كلية الآداب – قسم اللغة الانجليز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290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itle 1"/>
          <p:cNvSpPr/>
          <p:nvPr/>
        </p:nvSpPr>
        <p:spPr>
          <a:xfrm>
            <a:off x="457200" y="2895480"/>
            <a:ext cx="5099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للغة الانجليزية (كتابة)،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103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- 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7403</a:t>
            </a:r>
            <a:br>
              <a:rPr sz="1800"/>
            </a:br>
            <a:r>
              <a:rPr b="1" lang="ar-EG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فصل الدراسي </a:t>
            </a:r>
            <a:r>
              <a:rPr b="1" lang="ar-SA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ثاني</a:t>
            </a:r>
            <a:br>
              <a:rPr sz="3200"/>
            </a:br>
            <a:r>
              <a:rPr b="1" lang="ar-EG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0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 –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1</a:t>
            </a:r>
            <a:r>
              <a:rPr b="1" lang="ar-SA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ه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Times New Roman"/>
              </a:rPr>
              <a:t>وليد عثما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1964-A3D1-46F3-B498-127BBB81D82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43040" y="2362320"/>
            <a:ext cx="553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247680" y="2514600"/>
            <a:ext cx="544824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mouse is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und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 tab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hings: mouse +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: one is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un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der is a prepositio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6603840" y="3505320"/>
            <a:ext cx="2559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BD07336_"/>
          <p:cNvPicPr/>
          <p:nvPr/>
        </p:nvPicPr>
        <p:blipFill>
          <a:blip r:embed="rId1"/>
          <a:stretch/>
        </p:blipFill>
        <p:spPr>
          <a:xfrm>
            <a:off x="6356520" y="3809880"/>
            <a:ext cx="2055600" cy="1541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HH00865_"/>
          <p:cNvPicPr/>
          <p:nvPr/>
        </p:nvPicPr>
        <p:blipFill>
          <a:blip r:embed="rId2"/>
          <a:stretch/>
        </p:blipFill>
        <p:spPr>
          <a:xfrm>
            <a:off x="5861160" y="2514600"/>
            <a:ext cx="31366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412920" y="2057400"/>
            <a:ext cx="87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is a list of the most common preposi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0">
            <a:hlinkClick r:id="rId1" action="ppaction://hlinksldjump"/>
          </p:cNvPr>
          <p:cNvSpPr/>
          <p:nvPr/>
        </p:nvSpPr>
        <p:spPr>
          <a:xfrm>
            <a:off x="9282240" y="5746680"/>
            <a:ext cx="185760" cy="370080"/>
          </a:xfrm>
          <a:custGeom>
            <a:avLst/>
            <a:gdLst>
              <a:gd name="textAreaLeft" fmla="*/ 11880 w 185760"/>
              <a:gd name="textAreaRight" fmla="*/ 173880 w 185760"/>
              <a:gd name="textAreaTop" fmla="*/ 11880 h 370080"/>
              <a:gd name="textAreaBottom" fmla="*/ 358200 h 370080"/>
            </a:gdLst>
            <a:ahLst/>
            <a:rect l="textAreaLeft" t="textAreaTop" r="textAreaRight" b="textAreaBottom"/>
            <a:pathLst>
              <a:path w="21600" h="42991">
                <a:moveTo>
                  <a:pt x="0" y="0"/>
                </a:moveTo>
                <a:lnTo>
                  <a:pt x="21600" y="0"/>
                </a:lnTo>
                <a:lnTo>
                  <a:pt x="21600" y="42991"/>
                </a:lnTo>
                <a:lnTo>
                  <a:pt x="0" y="42991"/>
                </a:lnTo>
                <a:close/>
              </a:path>
              <a:path fill="lightenLess" w="21600" h="429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2991">
                <a:moveTo>
                  <a:pt x="21600" y="0"/>
                </a:moveTo>
                <a:lnTo>
                  <a:pt x="21600" y="42991"/>
                </a:lnTo>
                <a:lnTo>
                  <a:pt x="20200" y="41591"/>
                </a:lnTo>
                <a:lnTo>
                  <a:pt x="20200" y="1400"/>
                </a:lnTo>
                <a:close/>
              </a:path>
              <a:path fill="darkenLess" w="21600" h="42991">
                <a:moveTo>
                  <a:pt x="21600" y="42991"/>
                </a:moveTo>
                <a:lnTo>
                  <a:pt x="0" y="42991"/>
                </a:lnTo>
                <a:lnTo>
                  <a:pt x="1400" y="41591"/>
                </a:lnTo>
                <a:lnTo>
                  <a:pt x="20200" y="41591"/>
                </a:lnTo>
                <a:close/>
              </a:path>
              <a:path fill="lighten" w="21600" h="42991">
                <a:moveTo>
                  <a:pt x="0" y="42991"/>
                </a:moveTo>
                <a:lnTo>
                  <a:pt x="0" y="0"/>
                </a:lnTo>
                <a:lnTo>
                  <a:pt x="1400" y="1400"/>
                </a:lnTo>
                <a:lnTo>
                  <a:pt x="1400" y="41591"/>
                </a:lnTo>
                <a:close/>
              </a:path>
              <a:path fill="darken" w="21600" h="42991">
                <a:moveTo>
                  <a:pt x="3794" y="14489"/>
                </a:moveTo>
                <a:lnTo>
                  <a:pt x="17806" y="21496"/>
                </a:lnTo>
                <a:lnTo>
                  <a:pt x="3794" y="28502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533520" y="2514600"/>
          <a:ext cx="7429320" cy="3581280"/>
        </p:xfrm>
        <a:graphic>
          <a:graphicData uri="http://schemas.openxmlformats.org/drawingml/2006/table">
            <a:tbl>
              <a:tblPr/>
              <a:tblGrid>
                <a:gridCol w="928440"/>
                <a:gridCol w="928800"/>
                <a:gridCol w="928800"/>
                <a:gridCol w="928440"/>
                <a:gridCol w="928800"/>
                <a:gridCol w="928800"/>
                <a:gridCol w="928440"/>
                <a:gridCol w="928800"/>
              </a:tblGrid>
              <a:tr h="709560"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h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t (exce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ou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ro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w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ain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f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y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334" name="Picture 12" descr="MCj02869460000[1]"/>
          <p:cNvPicPr/>
          <p:nvPr/>
        </p:nvPicPr>
        <p:blipFill>
          <a:blip r:embed="rId1"/>
          <a:stretch/>
        </p:blipFill>
        <p:spPr>
          <a:xfrm>
            <a:off x="7264440" y="1981080"/>
            <a:ext cx="2363760" cy="21672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3"/>
          <p:cNvSpPr/>
          <p:nvPr/>
        </p:nvSpPr>
        <p:spPr>
          <a:xfrm>
            <a:off x="907920" y="2209680"/>
            <a:ext cx="7677360" cy="22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 is a prepos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izza in the oven is min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">
            <a:hlinkClick r:id="rId2" action="ppaction://hlinksldjump"/>
          </p:cNvPr>
          <p:cNvSpPr/>
          <p:nvPr/>
        </p:nvSpPr>
        <p:spPr>
          <a:xfrm>
            <a:off x="743040" y="441972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2806560" y="4419720"/>
            <a:ext cx="165132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4788000" y="441972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6769080" y="441972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4" descr="MCj01981640000[1]"/>
          <p:cNvPicPr/>
          <p:nvPr/>
        </p:nvPicPr>
        <p:blipFill>
          <a:blip r:embed="rId3"/>
          <a:stretch/>
        </p:blipFill>
        <p:spPr>
          <a:xfrm rot="20387400">
            <a:off x="247680" y="2438280"/>
            <a:ext cx="189864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38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247680" y="2133720"/>
            <a:ext cx="751212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word is a pre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irl by the door is my siste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07316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297180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495288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693432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4" descr="MCPE05891_0000[1]"/>
          <p:cNvPicPr/>
          <p:nvPr/>
        </p:nvPicPr>
        <p:blipFill>
          <a:blip r:embed="rId1"/>
          <a:stretch/>
        </p:blipFill>
        <p:spPr>
          <a:xfrm>
            <a:off x="7346880" y="2057400"/>
            <a:ext cx="19605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74304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412920" y="2209680"/>
            <a:ext cx="751176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word is a pre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runners raced around the track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07316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97180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495288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6934320" y="4267080"/>
            <a:ext cx="16509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9" descr="RUNNERS5"/>
          <p:cNvPicPr/>
          <p:nvPr/>
        </p:nvPicPr>
        <p:blipFill>
          <a:blip r:embed="rId1"/>
          <a:stretch/>
        </p:blipFill>
        <p:spPr>
          <a:xfrm>
            <a:off x="7512120" y="1905120"/>
            <a:ext cx="1911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3"/>
          <p:cNvSpPr/>
          <p:nvPr/>
        </p:nvSpPr>
        <p:spPr>
          <a:xfrm>
            <a:off x="743040" y="2286000"/>
            <a:ext cx="8172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look again at the sentences you practiced 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izz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oven is m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irl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door is my si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unners raced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r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r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al Phras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al Phras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1898640" y="1981080"/>
            <a:ext cx="6108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 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 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825480" y="4114800"/>
            <a:ext cx="8089920" cy="123660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se are prepositional phrases. Prepositional phrases start with a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preposit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nd end with the </a:t>
            </a:r>
            <a:r>
              <a:rPr b="0" lang="en-US" sz="2500" spc="-1" strike="noStrike">
                <a:solidFill>
                  <a:srgbClr val="009900"/>
                </a:solidFill>
                <a:latin typeface="Arial"/>
              </a:rPr>
              <a:t>object of a preposit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743040" y="2057400"/>
            <a:ext cx="84200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prepositional phr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chose a book from the libr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2889360" y="3809880"/>
            <a:ext cx="429264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se a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2889360" y="4648320"/>
            <a:ext cx="429264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k from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889360" y="5486400"/>
            <a:ext cx="429264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from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8" descr="MCj00889800000[1]"/>
          <p:cNvPicPr/>
          <p:nvPr/>
        </p:nvPicPr>
        <p:blipFill>
          <a:blip r:embed="rId1"/>
          <a:stretch/>
        </p:blipFill>
        <p:spPr>
          <a:xfrm>
            <a:off x="7429680" y="1905120"/>
            <a:ext cx="1935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4" dur="indefinite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268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42680" y="20574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prepositional ph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 sat with my m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2889360" y="3809880"/>
            <a:ext cx="28065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at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2889360" y="4648320"/>
            <a:ext cx="28065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2889360" y="5486400"/>
            <a:ext cx="2806560" cy="368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with my 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0" descr="MCj02899660000[1]"/>
          <p:cNvPicPr/>
          <p:nvPr/>
        </p:nvPicPr>
        <p:blipFill>
          <a:blip r:embed="rId1"/>
          <a:stretch/>
        </p:blipFill>
        <p:spPr>
          <a:xfrm>
            <a:off x="5861160" y="2133720"/>
            <a:ext cx="3198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500" autoRev="1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81" dur="500" autoRev="1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alibri"/>
              </a:rPr>
              <a:t>Prepositional phras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prepositional phra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write longer sent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udents bought a bo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udents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in my cla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ught a bo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udents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in my clas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ught a book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about flow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8506-45EA-493F-8284-61C01FB085B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# 13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2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Building Sentences: Prepositional Phr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4A5D-D2B8-4740-899F-67291F19C75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alibri"/>
              </a:rPr>
              <a:t>Prepositional phras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othe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s were difficu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s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in the English ex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re difficu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s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about prepositions in the English ex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re difficu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41FE-7AEC-47F5-A877-04FF390A095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epositional phrases of place</a:t>
            </a:r>
            <a:br>
              <a:rPr sz="4400"/>
            </a:br>
            <a:r>
              <a:rPr b="0" lang="ar-LB" sz="4400" spc="-1" strike="noStrike">
                <a:solidFill>
                  <a:srgbClr val="ff0000"/>
                </a:solidFill>
                <a:latin typeface="Calibri"/>
              </a:rPr>
              <a:t>الجار والمجرور للدلالة على المكان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epositional phrases of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ok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n the desk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m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oom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cross from the bathroo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Mary’s bedro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like to si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on the chai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next to the wind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 clothes ar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in the bag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under the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2D7D-9D3F-4D25-AB78-5070AD95C34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epositional phrases of time</a:t>
            </a:r>
            <a:br>
              <a:rPr sz="4400"/>
            </a:br>
            <a:r>
              <a:rPr b="0" lang="ar-LB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LB" sz="4400" spc="-1" strike="noStrike">
                <a:solidFill>
                  <a:srgbClr val="ff0000"/>
                </a:solidFill>
                <a:latin typeface="Calibri"/>
              </a:rPr>
              <a:t>الجار والمجرور للدلالة على الزمان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positional phrases of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aw my friend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before the te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play tenni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fter cl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sually have a big breakfas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in the mor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ather came back from Mecca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t midnigh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05CF-E7CF-4D27-BAD2-CA3C1A1C9C8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al Phrase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 presentation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slideshare.net/diana.koscik/prepositional-phrases-power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2752-D797-4E48-9AD2-461C8270AA3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A214-0676-400D-9C74-03ACA72803A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5"/>
          <p:cNvGrpSpPr/>
          <p:nvPr/>
        </p:nvGrpSpPr>
        <p:grpSpPr>
          <a:xfrm>
            <a:off x="5181480" y="1981080"/>
            <a:ext cx="2600280" cy="2524320"/>
            <a:chOff x="5181480" y="1981080"/>
            <a:chExt cx="2600280" cy="2524320"/>
          </a:xfrm>
        </p:grpSpPr>
        <p:sp>
          <p:nvSpPr>
            <p:cNvPr id="390" name="Oval 6"/>
            <p:cNvSpPr/>
            <p:nvPr/>
          </p:nvSpPr>
          <p:spPr>
            <a:xfrm>
              <a:off x="527832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2" name="Rectangle 8"/>
          <p:cNvSpPr/>
          <p:nvPr/>
        </p:nvSpPr>
        <p:spPr>
          <a:xfrm>
            <a:off x="2362320" y="33526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6"/>
          <p:cNvSpPr/>
          <p:nvPr/>
        </p:nvSpPr>
        <p:spPr>
          <a:xfrm>
            <a:off x="236232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Component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uilding a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Prepositional Phr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C6DB-554C-47BF-8CB0-F257D658935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Building a Sentence</a:t>
            </a:r>
            <a:br>
              <a:rPr sz="4400"/>
            </a:br>
            <a:r>
              <a:rPr b="0" lang="ar-LB" sz="4400" spc="-1" strike="noStrike">
                <a:solidFill>
                  <a:srgbClr val="376092"/>
                </a:solidFill>
                <a:latin typeface="Calibri"/>
              </a:rPr>
              <a:t>بناء الجمل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uilding a sentenc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entence is a group of words which starts with a capital letter and ends with a full stop (.), question mark (?) or exclamation mark (!). A sentence contains or implies a predicate and a su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1780-BAD8-4333-95C4-DAA2F9A0843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Building a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tences can contai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ubjects </a:t>
            </a:r>
            <a:r>
              <a:rPr b="0" lang="ar-LB" sz="3200" spc="-1" strike="noStrike">
                <a:solidFill>
                  <a:srgbClr val="ff0000"/>
                </a:solidFill>
                <a:latin typeface="Calibri"/>
              </a:rPr>
              <a:t>فاع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objects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مفعول به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bject in a sentence is generally the person or thing carrying out an action.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The objec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 sentence is involved in an action but does not carry it out, the object comes after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e verb</a:t>
            </a:r>
            <a:r>
              <a:rPr b="0" lang="ar-LB" sz="3200" spc="-1" strike="noStrike">
                <a:solidFill>
                  <a:srgbClr val="00b0f0"/>
                </a:solidFill>
                <a:latin typeface="Calibri"/>
              </a:rPr>
              <a:t>الفعل</a:t>
            </a:r>
            <a:r>
              <a:rPr b="0" lang="ar-LB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boy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climbed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a tree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8D3C-5239-4145-BA60-F08EA90A828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Building a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want to say more about the subject (the boy) or the object (the tree), you can add 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djective</a:t>
            </a:r>
            <a:r>
              <a:rPr b="0" lang="ar-L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LB" sz="2800" spc="-1" strike="noStrike">
                <a:solidFill>
                  <a:srgbClr val="ff0000"/>
                </a:solidFill>
                <a:latin typeface="Calibri"/>
              </a:rPr>
              <a:t>نعت، صفة</a:t>
            </a:r>
            <a:r>
              <a:rPr b="0" lang="ar-L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: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you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oy climbed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r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want to say more about how he climbed the tree you can use an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adverb</a:t>
            </a:r>
            <a:r>
              <a:rPr b="0" lang="ar-LB" sz="28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ar-LB" sz="2800" spc="-1" strike="noStrike">
                <a:solidFill>
                  <a:srgbClr val="009900"/>
                </a:solidFill>
                <a:latin typeface="Calibri"/>
              </a:rPr>
              <a:t>ظرف</a:t>
            </a:r>
            <a:r>
              <a:rPr b="0" lang="ar-LB" sz="2800" spc="-1" strike="noStrike">
                <a:solidFill>
                  <a:srgbClr val="0099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: Th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you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oy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quick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imbed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r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7FE8-37E0-4BD1-A5AE-266E0D9F013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Building a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ntence becomes more interesting as it gives the reader or listener more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add a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prepositional phrase</a:t>
            </a:r>
            <a:r>
              <a:rPr b="0" lang="ar-LB" sz="3200" spc="-1" strike="noStrike">
                <a:solidFill>
                  <a:srgbClr val="009900"/>
                </a:solidFill>
                <a:latin typeface="Calibri"/>
              </a:rPr>
              <a:t>جار ومجرو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 The young boy quickly climbed a tall tree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in the gard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A696-81C2-42B4-B07E-15F4535C8B2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1"/>
          <p:cNvSpPr/>
          <p:nvPr/>
        </p:nvSpPr>
        <p:spPr>
          <a:xfrm>
            <a:off x="1073160" y="1940040"/>
            <a:ext cx="8089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position is a part of speech that shows a relationship between two th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tion (on, under, in)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cs typeface="Arial"/>
              </a:rPr>
              <a:t>للمكان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ing (before, after, during)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cs typeface="Arial"/>
              </a:rPr>
              <a:t>للزمان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ion (from, toward, to) </a:t>
            </a:r>
            <a:r>
              <a:rPr b="0" lang="ar-LB" sz="2400" spc="-1" strike="noStrike">
                <a:solidFill>
                  <a:srgbClr val="000000"/>
                </a:solidFill>
                <a:latin typeface="Arial"/>
                <a:cs typeface="Arial"/>
              </a:rPr>
              <a:t>للاتجاه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5842080" y="511164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eposition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7" name="Text Box 1027"/>
          <p:cNvSpPr/>
          <p:nvPr/>
        </p:nvSpPr>
        <p:spPr>
          <a:xfrm>
            <a:off x="577800" y="2286000"/>
            <a:ext cx="5200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28"/>
          <p:cNvSpPr/>
          <p:nvPr/>
        </p:nvSpPr>
        <p:spPr>
          <a:xfrm>
            <a:off x="141120" y="2514600"/>
            <a:ext cx="600264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mouse is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 tab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hings: mouse +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: one is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n is a prepositio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29"/>
          <p:cNvSpPr/>
          <p:nvPr/>
        </p:nvSpPr>
        <p:spPr>
          <a:xfrm>
            <a:off x="5943600" y="3581280"/>
            <a:ext cx="2146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030"/>
          <p:cNvGrpSpPr/>
          <p:nvPr/>
        </p:nvGrpSpPr>
        <p:grpSpPr>
          <a:xfrm>
            <a:off x="6108840" y="2590920"/>
            <a:ext cx="2310840" cy="2625120"/>
            <a:chOff x="6108840" y="2590920"/>
            <a:chExt cx="2310840" cy="2625120"/>
          </a:xfrm>
        </p:grpSpPr>
        <p:pic>
          <p:nvPicPr>
            <p:cNvPr id="321" name="Picture 1031" descr="HH00865_"/>
            <p:cNvPicPr/>
            <p:nvPr/>
          </p:nvPicPr>
          <p:blipFill>
            <a:blip r:embed="rId1"/>
            <a:stretch/>
          </p:blipFill>
          <p:spPr>
            <a:xfrm>
              <a:off x="6191280" y="3200040"/>
              <a:ext cx="222840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1032" descr="BD07336_"/>
            <p:cNvPicPr/>
            <p:nvPr/>
          </p:nvPicPr>
          <p:blipFill>
            <a:blip r:embed="rId2"/>
            <a:stretch/>
          </p:blipFill>
          <p:spPr>
            <a:xfrm>
              <a:off x="6108840" y="2590920"/>
              <a:ext cx="1972080" cy="147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Sayyed-Zain</cp:lastModifiedBy>
  <dcterms:modified xsi:type="dcterms:W3CDTF">2010-09-02T09:05:02Z</dcterms:modified>
  <cp:revision>284</cp:revision>
  <dc:subject/>
  <dc:title>Slide 1</dc:title>
</cp:coreProperties>
</file>