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295DA-C0B6-4060-9EA6-819CCD785C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7AAA8-6E0C-480F-8A5E-C30BB9EE1C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C67BB-7E62-45C3-883E-B147431409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90868-D843-4C3F-BE4B-FF55067319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7823A-D781-4DBA-BF2A-DC7ABDFD14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EF6BE-51AA-4738-8E07-90A8A59168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7A180-8FDC-4D51-9400-5C9FAD1F48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B404F-7E1C-4C99-893D-9B1D5B4119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9D9E0-81DC-41C3-841A-C1FC222D1B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DAAA0-1C44-4789-8B1C-50592C88B0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50337-86EB-407F-835B-9E9C7F78B4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5B4B2-52D4-4EC9-83AA-7A9E0FE64A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A6870-2997-489F-B507-DED8009519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DCB60-6A49-461B-9B13-BB06BBD4E9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67D5B-F931-4114-AF35-6CCC70E28D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CE21E-184F-4DA3-BBA9-3CD7528D4C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764A1-A163-4E2B-923F-9B3B146FBBB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D047-9693-4C95-A188-5B4A9493F0F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020B-D0CB-4AD7-8A0B-4BE8B907F7A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DACA-E3CF-46FC-A619-DC8F72332A0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9059-77F2-4C23-A903-6A48A44D3D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767D-7DD7-4DBC-834B-08AA1B9F1C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9F705-D5AF-4DE7-A218-3F56066ED0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0E1D-7492-402A-BEC6-2F604AA417A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BC61-D268-4E75-823D-6CC8900F9A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1BCF-6933-437E-87CB-57F809F76F3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36B5-51A0-41D3-B96E-73D6956230C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D6A1-769F-42B6-BC33-83867AF7EE2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AF36-C84E-4F2C-B8FA-7B39F80CE06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906A-F563-43CE-BC11-A5EFD47B043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D2239-2CC5-457B-981A-B165F1363BE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A3865-EA0D-4689-AD1E-98EAAB98024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9150B-392B-42D6-B211-EED08CBD44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6922F-5C0E-46AF-9863-04F5B99D99A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16DD3-A96F-4E53-9005-D8C07CDD635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7B924-B55E-4761-AFB3-3625051B28C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373C9-0628-4C11-9556-055D28BFBE9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48B56-8791-4278-884A-29642C8808D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ABF6A-FB68-4334-8B2A-6C38A8E6772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86AA8-60B0-4477-8DBC-A6452605EEB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0B90E-FEFE-4D91-83C4-C545BF1E965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433F4-9D8F-462A-8922-A578F873819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B1694-6AA0-4920-A818-AEB0DA8EFE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36BBA-BD1F-49FA-B2E5-1C4CE0950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DEACF-A792-489B-B9AD-7778EFC00A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D3E63-2676-4973-B20B-65A118AC0B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6CE14-C738-4DFF-BAAD-4D0CAD815D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76EAF-8A12-4B62-B046-6A38FF58F1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A9A3-657A-48D2-95A5-29A3626FC9B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6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21855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38FC-EA38-4BC6-9A34-1D098A54166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9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96BF-0F20-410B-805C-13DE2C34694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39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4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E102-A5CB-428D-9F23-02B2AE1C30C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5397-F78E-4814-81C7-A0B236B09B7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ubtitle 2"/>
          <p:cNvSpPr/>
          <p:nvPr/>
        </p:nvSpPr>
        <p:spPr>
          <a:xfrm>
            <a:off x="5562720" y="4648320"/>
            <a:ext cx="400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898989"/>
                </a:solidFill>
                <a:latin typeface="Calibri"/>
              </a:rPr>
              <a:t>نظام التعليم المطور للانتس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898989"/>
                </a:solidFill>
                <a:latin typeface="Calibri"/>
              </a:rPr>
              <a:t>كلية الآداب – قسم اللغة الانجليزي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191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1"/>
          <p:cNvSpPr/>
          <p:nvPr/>
        </p:nvSpPr>
        <p:spPr>
          <a:xfrm>
            <a:off x="457200" y="2895480"/>
            <a:ext cx="5099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700" spc="-1" strike="noStrike">
                <a:solidFill>
                  <a:srgbClr val="376092"/>
                </a:solidFill>
                <a:latin typeface="AYM Wadiy S_U normal."/>
                <a:cs typeface="Times New Roman"/>
              </a:rPr>
              <a:t>اسم المقرر ورقمه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cs typeface="Times New Roman"/>
              </a:rPr>
              <a:t>اللغة الانجليزية (كتابة)،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103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- </a:t>
            </a:r>
            <a:r>
              <a:rPr b="1" lang="ar-SA" sz="1800" spc="-1" strike="noStrike">
                <a:solidFill>
                  <a:srgbClr val="376092"/>
                </a:solidFill>
                <a:latin typeface="AYM Wadiy S_U normal."/>
                <a:ea typeface="Times New Roman"/>
              </a:rPr>
              <a:t>7403</a:t>
            </a:r>
            <a:br>
              <a:rPr sz="1800"/>
            </a:br>
            <a:r>
              <a:rPr b="1" lang="ar-EG" sz="22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فصل الدراسي </a:t>
            </a:r>
            <a:r>
              <a:rPr b="1" lang="ar-SA" sz="22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ثاني</a:t>
            </a:r>
            <a:br>
              <a:rPr sz="3200"/>
            </a:br>
            <a:r>
              <a:rPr b="1" lang="ar-EG" sz="17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عام الدراسي 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1430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 – </a:t>
            </a:r>
            <a:r>
              <a:rPr b="1" lang="ar-EG" sz="1700" spc="-1" strike="noStrike">
                <a:solidFill>
                  <a:srgbClr val="7f7f7f"/>
                </a:solidFill>
                <a:latin typeface="Calibri"/>
                <a:ea typeface="Times New Roman"/>
              </a:rPr>
              <a:t>1431</a:t>
            </a:r>
            <a:r>
              <a:rPr b="1" lang="ar-SA" sz="1700" spc="-1" strike="noStrike">
                <a:solidFill>
                  <a:srgbClr val="7f7f7f"/>
                </a:solidFill>
                <a:latin typeface="Calibri"/>
                <a:cs typeface="Times New Roman"/>
              </a:rPr>
              <a:t>ه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f7f7f"/>
                </a:solidFill>
                <a:latin typeface="Calibri"/>
                <a:cs typeface="Times New Roman"/>
              </a:rPr>
              <a:t>وليد عثما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E4BA-BEBD-4ADB-BF9F-2A4CBEE7D28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Comma Splice</a:t>
            </a:r>
            <a:br>
              <a:rPr sz="3200"/>
            </a:br>
            <a:r>
              <a:rPr b="0" lang="ar-LB" sz="3200" spc="-1" strike="noStrike">
                <a:solidFill>
                  <a:srgbClr val="376092"/>
                </a:solidFill>
                <a:latin typeface="Calibri"/>
              </a:rPr>
              <a:t>أخطاء العطف: استخدام فاصلة بين جملتين كاملتين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mma splice is two simple sentences incorrectly joined with a comma al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Subj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ver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subj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 ver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Some people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lik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ts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oth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pref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ogs. 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Francisco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worked ou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Mari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clean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er room.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The first test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wa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ifficul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the second one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wa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asy.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166F-C311-4BC8-B8F0-279A51431B6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orrecting Comma Splices</a:t>
            </a:r>
            <a:br>
              <a:rPr sz="4400"/>
            </a:br>
            <a:r>
              <a:rPr b="0" lang="ar-LB" sz="4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ar-LB" sz="4400" spc="-1" strike="noStrike">
                <a:solidFill>
                  <a:srgbClr val="376092"/>
                </a:solidFill>
                <a:latin typeface="Calibri"/>
              </a:rPr>
              <a:t>كيفية تصحيح الخطأ السابق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wo ways to fix comma splic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a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period (.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people like cats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s prefer dog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ncisco worked ou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aria cleaned her roo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irst test was difficul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 second one was eas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With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om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a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coordinating conjunc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people like cats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and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s prefer do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ncisco worked ou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aria cleaned her roo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irst test was difficult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b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second one was eas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3C02-2581-4748-871E-EF7E82030E9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omma splices Onlin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grammartips.homestead.com/splice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depts.dyc.edu/learningcenter/owl/exercises/comma_splices_ex2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AB74-FBB5-4A13-B1DD-042E3CFA1B1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Run-ons onlin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grammar.ccc.commnet.edu/Grammar/cgi-shl/quiz.pl/run-ons_add1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depts.dyc.edu/learningcenter/owl/exercises/run-ons_ex1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A794-6463-48D9-B9B7-7758BC4D9CF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of the following is a comma spli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eople like cats others prefer do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eople like cats, others prefer do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eople like cats, and others prefer do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eople like cats. Others prefer do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B1DC-AA0E-452B-96CF-54928FF5DCB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8080560" y="28954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of the following is a comma spli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don’t watch TV, but my children 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don’t like garlic. I don’t like on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don’t like garlic, I don’t like on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don’t watch TV. My children 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CABB-3B5F-482A-9536-41BDC7CEA4F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7166160" y="35812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the following sentence as either a comma splice, a run-on, or corr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going to have spaghetti for dinner, and we are going to have ice cream for desse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a spl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n-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226B-0E14-4E0F-92F2-24E729CA1EB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2365560" y="46483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the following sentence as either a comma splice, a run-on, or corr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uld you like to play tennis, would you like to go to the golf cours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a spl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n-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2282-EE9F-4665-A6AB-8BF7C976555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508560" y="38862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Compound sentences with Conjunctive Adverbs</a:t>
            </a:r>
            <a:br>
              <a:rPr sz="3200"/>
            </a:br>
            <a:r>
              <a:rPr b="0" lang="ar-LB" sz="3200" spc="-1" strike="noStrike">
                <a:solidFill>
                  <a:srgbClr val="376092"/>
                </a:solidFill>
                <a:latin typeface="Calibri"/>
              </a:rPr>
              <a:t>العطف باستخدام ظروف العطف</a:t>
            </a:r>
            <a:endParaRPr b="0" lang="en-US" sz="32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y the following tab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ar-LB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D439-3FF3-42B2-8F4E-997257839D9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143000" y="2133720"/>
          <a:ext cx="6603840" cy="3479760"/>
        </p:xfrm>
        <a:graphic>
          <a:graphicData uri="http://schemas.openxmlformats.org/drawingml/2006/table">
            <a:tbl>
              <a:tblPr/>
              <a:tblGrid>
                <a:gridCol w="3301920"/>
                <a:gridCol w="3301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Coordinating conjunct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حروف العط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Conjunctive Ad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 </a:t>
                      </a:r>
                      <a:r>
                        <a:rPr b="1" lang="ar-LB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ظروف العط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ar-L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furthermore</a:t>
                      </a:r>
                      <a:r>
                        <a:rPr b="0" lang="ar-LB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 More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In ad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Howe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 Neverthel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Theref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As a res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otherw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Calibri"/>
              </a:rPr>
              <a:t>Compound sentences with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Coordinating Conjunctions </a:t>
            </a:r>
            <a:r>
              <a:rPr b="0" lang="en-US" sz="2800" spc="-1" strike="noStrike">
                <a:solidFill>
                  <a:srgbClr val="376092"/>
                </a:solidFill>
                <a:latin typeface="Calibri"/>
              </a:rPr>
              <a:t>&amp;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Conjunctive Adverbs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raining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s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e is wearing a raincoat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raining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;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 as a resul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e is wearing a rainco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’m hungry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bu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don’t have time to e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’m hungry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;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 however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 don’t have time to e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156A-45DC-4434-8F88-15780565235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22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24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28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30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1760" y="213336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Lecture # 11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429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Types of Sentences: More about the Compound Sen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C469-CDB5-4877-AC78-F0F3E388B8A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Calibri"/>
              </a:rPr>
              <a:t>Compound sentences with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Coordinating Conjunctions </a:t>
            </a:r>
            <a:r>
              <a:rPr b="0" lang="en-US" sz="2800" spc="-1" strike="noStrike">
                <a:solidFill>
                  <a:srgbClr val="376092"/>
                </a:solidFill>
                <a:latin typeface="Calibri"/>
              </a:rPr>
              <a:t>&amp;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Conjunctive Adverbs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going to have spaghetti for dinner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going to have ice cream for desse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going to have spaghetti for dinner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;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 in addition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e are going to have ice cream for desse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need to work harder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ou will get fir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need to work harder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otherwise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ou will get fir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AF8F-A49B-4638-98DC-D0ED082ABE1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68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70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74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76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onjunctive Adverbs onlin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englishexercises.org/makeagame/viewgame.asp?id=1565#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ebhome.broward.edu/~dshaw/handouts/Pointers%20(Conjunctive%20Adverbs)%20Exercise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93AF-5867-48BC-A232-21489F5E221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of the following sentences is punctuated correctl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 is tired, so, he would like to go to b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 is tired so, he would like to go to b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 is tired so he would like to go to b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i is tired, so he would like to go to b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31E5-ABAA-4A56-8E2E-28709DC09AF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7090200" y="3733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of the following sentences is punctuated correctl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y computer frustrates me however I couldn’t live without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y computer frustrates me; however I couldn’t live without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y computer frustrates me; however, I couldn’t live without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y computer frustrates me however, I couldn’t live without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BECE-2CD3-463B-84A0-9085E0801C8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2746800" y="45720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C5B0-CC7F-4335-BB7E-93D0911261C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5"/>
          <p:cNvGrpSpPr/>
          <p:nvPr/>
        </p:nvGrpSpPr>
        <p:grpSpPr>
          <a:xfrm>
            <a:off x="5181480" y="1981080"/>
            <a:ext cx="2600280" cy="2524320"/>
            <a:chOff x="5181480" y="1981080"/>
            <a:chExt cx="2600280" cy="2524320"/>
          </a:xfrm>
        </p:grpSpPr>
        <p:sp>
          <p:nvSpPr>
            <p:cNvPr id="278" name="Oval 6"/>
            <p:cNvSpPr/>
            <p:nvPr/>
          </p:nvSpPr>
          <p:spPr>
            <a:xfrm>
              <a:off x="527832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518148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" name="Rectangle 8"/>
          <p:cNvSpPr/>
          <p:nvPr/>
        </p:nvSpPr>
        <p:spPr>
          <a:xfrm>
            <a:off x="2362320" y="33526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6"/>
          <p:cNvSpPr/>
          <p:nvPr/>
        </p:nvSpPr>
        <p:spPr>
          <a:xfrm>
            <a:off x="236232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Lecture Components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mpound sentence: Re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n-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a Spl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junctive Adver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33AC-559D-451C-A45D-A04DB944343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The Compound Senten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ompound sentence is two simple sentences connected by a comma and a 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coordinating conjunc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 sentenc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simple sent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36D6-42B3-45B1-A277-85E5D243C0A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3962520" y="3733920"/>
            <a:ext cx="914400" cy="175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alibri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172200" y="4800600"/>
            <a:ext cx="274320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Coordinating conj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Straight Arrow Connector 7"/>
          <p:cNvCxnSpPr>
            <a:stCxn id="205" idx="3"/>
          </p:cNvCxnSpPr>
          <p:nvPr/>
        </p:nvCxnSpPr>
        <p:spPr>
          <a:xfrm>
            <a:off x="4876920" y="4610160"/>
            <a:ext cx="1296000" cy="419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8" name="Straight Arrow Connector 9"/>
          <p:cNvCxnSpPr/>
          <p:nvPr/>
        </p:nvCxnSpPr>
        <p:spPr>
          <a:xfrm flipH="1">
            <a:off x="2590560" y="4190040"/>
            <a:ext cx="76248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9" name="Oval 10"/>
          <p:cNvSpPr/>
          <p:nvPr/>
        </p:nvSpPr>
        <p:spPr>
          <a:xfrm>
            <a:off x="1066680" y="4952880"/>
            <a:ext cx="1752840" cy="762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m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092"/>
                </a:solidFill>
                <a:latin typeface="Calibri"/>
              </a:rPr>
              <a:t>The Compound Sentence: </a:t>
            </a:r>
            <a:r>
              <a:rPr b="1" lang="en-US" sz="2800" spc="-1" strike="noStrike" u="sng">
                <a:solidFill>
                  <a:srgbClr val="376092"/>
                </a:solidFill>
                <a:uFillTx/>
                <a:latin typeface="Calibri"/>
              </a:rPr>
              <a:t>Coordinating Conjunctions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b0f0"/>
                </a:solidFill>
                <a:latin typeface="Calibri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nects two sentences wi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mila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deas. The sentences can be positive or negati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friend is a teacher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, 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is sister is a doc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doesn’t like music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, a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e doesn’t like a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B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nects two sentences with opposite ide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likes ar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, b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e doesn’t like mus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3376-4CB2-45DC-9711-10C026EA914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092"/>
                </a:solidFill>
                <a:latin typeface="Calibri"/>
              </a:rPr>
              <a:t>The Compound Sentence: </a:t>
            </a:r>
            <a:r>
              <a:rPr b="1" lang="en-US" sz="2800" spc="-1" strike="noStrike" u="sng">
                <a:solidFill>
                  <a:srgbClr val="376092"/>
                </a:solidFill>
                <a:uFillTx/>
                <a:latin typeface="Calibri"/>
              </a:rPr>
              <a:t>Coordinating Conjunctions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alibri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nects two sentences that express alternatives or choic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 Friday, they go to a mall</a:t>
            </a:r>
            <a:r>
              <a:rPr b="0" lang="en-US" sz="3200" spc="-1" strike="noStrike">
                <a:solidFill>
                  <a:srgbClr val="009900"/>
                </a:solidFill>
                <a:latin typeface="Calibri"/>
              </a:rPr>
              <a:t>, o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visit some frie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46c0a"/>
                </a:solidFill>
                <a:latin typeface="Calibri"/>
              </a:rPr>
              <a:t>S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nects a </a:t>
            </a:r>
            <a:r>
              <a:rPr b="1" lang="en-US" sz="3200" spc="-1" strike="noStrike">
                <a:solidFill>
                  <a:srgbClr val="b3a2c7"/>
                </a:solidFill>
                <a:latin typeface="Calibri"/>
              </a:rPr>
              <a:t>reas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a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resul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3a2c7"/>
                </a:solidFill>
                <a:latin typeface="Calibri"/>
              </a:rPr>
              <a:t>My friend and his sister work a lot</a:t>
            </a: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, so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they don’t go out very oft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88FD-D61E-4C59-918E-F19B9080BBE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Calibri"/>
              </a:rPr>
              <a:t>Run-ons</a:t>
            </a:r>
            <a:br>
              <a:rPr sz="2800"/>
            </a:br>
            <a:r>
              <a:rPr b="0" lang="ar-LB" sz="2800" spc="-1" strike="noStrike">
                <a:solidFill>
                  <a:srgbClr val="376092"/>
                </a:solidFill>
                <a:latin typeface="Calibri"/>
              </a:rPr>
              <a:t>أخطاء العطف: جملتان متصلتان دون علامة ترقيم أو حرف عطف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run-on is two simple sentences incorrectly joined with no coordinating conjunction and no comm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Subj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ver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subj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 ver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Francisc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worked out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Mari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clean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er room.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The first test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wa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ifficult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the second one </a:t>
            </a:r>
            <a:r>
              <a:rPr b="0" lang="en-US" sz="2800" spc="-1" strike="noStrike">
                <a:solidFill>
                  <a:srgbClr val="009900"/>
                </a:solidFill>
                <a:latin typeface="Calibri"/>
              </a:rPr>
              <a:t>wa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asy.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3C70-9C56-4BE6-A6A8-A81187AF357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orrecting run-ons</a:t>
            </a:r>
            <a:br>
              <a:rPr sz="4400"/>
            </a:br>
            <a:r>
              <a:rPr b="0" lang="ar-LB" sz="4400" spc="-1" strike="noStrike">
                <a:solidFill>
                  <a:srgbClr val="376092"/>
                </a:solidFill>
                <a:latin typeface="Calibri"/>
              </a:rPr>
              <a:t>كيفية تصحيح الخطأ السابق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two ways to fix run-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a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period (.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ancisco worked ou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ria cleaned her roo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irst test was difficul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 second one was eas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With a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omm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a 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coordinating conjun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ancisco worked ou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ria cleaned her roo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irst test was difficul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second one was eas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4153-B97E-4C91-BDD3-A20A7B94C15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Practic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of the following is a run-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eople like cats others prefer do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eople like cats, others prefer do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eople like cats, and others prefer do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eople like cats. Others prefer do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5322-D58D-4DC8-A52F-7787CC322C0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7928280" y="23623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Bell MT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/>
  <dc:language>en-US</dc:language>
  <cp:lastModifiedBy>Sayyed-Zain</cp:lastModifiedBy>
  <dcterms:modified xsi:type="dcterms:W3CDTF">2010-09-02T09:06:47Z</dcterms:modified>
  <cp:revision>282</cp:revision>
  <dc:subject/>
  <dc:title>Slide 1</dc:title>
</cp:coreProperties>
</file>