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8D36-547E-4D37-AC89-0E0047102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F009-5FEF-4FAD-AE8F-6D03D3DBF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0D62-9C3D-4139-A4E3-C8800CE99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4C2A-61F1-4576-807D-AB8A1054A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5CB9-C666-478D-A810-796AC9FC12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9C2C-8F5A-4B36-B937-99677E87D3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9C4B-9D8D-4E31-B1FA-D60B4D0C7C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3943-07DC-4C50-BB3F-73083BEF35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E145-D1C1-42E8-967E-74016B8B6E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B6BF-0EBD-456D-89E3-297F994368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0BCC-DEC4-4185-8C5C-83F74B2F5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B820-8D8C-458C-A040-315B59466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4073-51E1-46FD-9088-5AD29669D5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B321-01D5-42D7-B9B9-CF3CD45902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435D-6556-41D9-9EB9-726102F340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9D2E-CE4B-41BF-BE58-36D61A90DA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68D9-748D-4D7E-B30D-EA6AC6FB2A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3DD-7A83-4D58-AA68-459987CADE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C69-20B4-4483-9CEB-37FF9ECA81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F06-FBE6-42E2-AE91-F46633F9D7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4A4-362A-4D7D-9476-96778C725D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49C-FA33-4A10-9985-FFAD2AAC86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1D4A-21D9-456A-8C1C-257DCD3A75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2D9-3E9E-4339-AA34-A4E88B53FF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814-B268-4CDD-96BF-A96CCD8152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C80-BF5E-47FC-B7B6-6703C380D7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283-BC2E-4B1B-828F-F5644FACA2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292-D1F3-43C0-8752-5ADCA80256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2D7-2E3D-4ABD-81D6-064CB4DB45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C42-F681-40D6-9D52-C3C03D2C55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1453B-B7E0-4B55-96D7-2865EFA36F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6AB00-2130-40C4-9F8C-E2D0C2E463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6002B-ECD0-4CA2-A57E-150D0F024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6D99-13E7-41B0-A989-AD27AD8102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73474-52B1-465F-8066-B243BDFE1C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2F108-1732-4DE2-939E-9751B50945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20545-68D0-40CB-95EF-E49D6798AD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77D45-BBF3-4A7A-91BB-C86E407C51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A82CB-3A0C-4AE9-95F3-DD0F8790AB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95EA6-589D-4FF2-8094-859D22D810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0F266-C15D-4766-B8F1-8A4EE91361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6DA50-E46E-4838-92C3-A61CC2B18A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69CA5-8BFB-4AC5-9D85-907969289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FC19-CC3D-4EFD-9E19-2E94D5777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D672-8473-4801-B16F-54566E88A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FCEF-A370-4096-A844-BB3EF5952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B07C-4B23-4CC8-9183-EC9DC7FAB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7A67-BE71-4CAF-8D24-BCE4264E8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83EB-C783-4135-84A7-C208062B908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C828-CB9D-4842-91D7-9A85032A646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7238-583E-418E-A0CC-8734E362661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0678-5833-48AD-A25F-B3E613F4FD2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F5EE-D890-4B17-B2C3-E9C894F664B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9A29-B87C-40D8-A0A2-710CF1F79DE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ple sentence can have a verb in any tense (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ho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mall on the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shopp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mall last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ill sh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mall next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1558-EAE1-411F-B6E0-C4E2DA8B3F7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ound Sentence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الجملة المركّ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ound sentence is two simple sentences connected by a comma and a co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entenc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simple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D1E7-7008-4468-B1B0-51D53F38A2A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962520" y="3733920"/>
            <a:ext cx="9144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6172200" y="4800600"/>
            <a:ext cx="27432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rdinating 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000000"/>
                </a:solidFill>
                <a:latin typeface="Calibri"/>
              </a:rPr>
              <a:t>حروف العط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7"/>
          <p:cNvCxnSpPr>
            <a:stCxn id="226" idx="3"/>
          </p:cNvCxnSpPr>
          <p:nvPr/>
        </p:nvCxnSpPr>
        <p:spPr>
          <a:xfrm>
            <a:off x="4876920" y="4610160"/>
            <a:ext cx="1296000" cy="41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Straight Arrow Connector 9"/>
          <p:cNvCxnSpPr/>
          <p:nvPr/>
        </p:nvCxnSpPr>
        <p:spPr>
          <a:xfrm flipH="1">
            <a:off x="2590560" y="4190040"/>
            <a:ext cx="7624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0" name="Oval 10"/>
          <p:cNvSpPr/>
          <p:nvPr/>
        </p:nvSpPr>
        <p:spPr>
          <a:xfrm>
            <a:off x="1066680" y="4952880"/>
            <a:ext cx="175284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mad is a scientis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travels of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orks in Damma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lives in Al-Ah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didn’t study for the tes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failed the ex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year we will go to the beach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 will stay at h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B954-6E61-4447-AB7D-F2E1C6F0C21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676520"/>
          <a:ext cx="6603840" cy="185400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cal 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rdinating Conj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. The sentences can be positive or nega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is a teacher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is sister is a do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doesn’t like music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opposite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likes ar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A89A-94E3-4A5D-B5AD-456F5304FD9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that express alternatives or cho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Friday, they go to a mall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visit some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a </a:t>
            </a: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reas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My friend and his sister work a lot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, s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don’t go out very 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7393-3F88-4A8F-A9BB-7B7A3168B0E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 the correct coordinating conjunction. Us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nd, or, but, or 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We are going to have spaghetti for dinner, _______ we are going to have ice cream for desse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It is my birthday, _______ I have to go to work. I wish that I could stay home and rela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Would you like to play tennis, ______ would you like to go to the golf cour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It is raining, ______ she is wearing a rainco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5760-70CF-40CA-B231-A58CD3EFCB2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329160" y="2057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20364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727880" y="36576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518200" y="4419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It is cold outside, ______ we can’t go swim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I’m hungry, _______ I don’t have time to e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I enjoy opera, _______ I like the bal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She’s a trustworthy friend, _______ I tell her my secr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I want to go to school, _______ I don’t have enough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We can go to the movies, _______ we can rent a vide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EED1-3EB3-44F9-BAEE-C01DBC3CCAF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5108760" y="4572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49928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3205080" y="2666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899080" y="220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661200" y="1676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495648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 and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, and,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, and their mother is watching them quiet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 and,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3B51-C787-4D64-A1C9-5359BBF3C68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804200" y="4572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contains a compound subj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and Maria watch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atches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ia watches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atches a movie and plays tennis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E95D-31F3-490E-A6BC-1AAEB02F411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614080" y="2666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words and for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ningful stat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ways us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ression of time at the end of the sent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goes / to school / every morning / And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ndy goes to school every mor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E215-B432-4ABC-A18F-A186709E60E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0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1586-549A-4EA7-B536-F61537306C5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take / photos / they / every Mo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take photos every Mond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goes / every day / she / 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 goes to school every d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football / Eric / after school / pl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ic plays football after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3710-97D0-43D2-AF65-206377A4EC3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is making / he / at the moment / break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 is making breakfast at the mo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to the club / the girls / go / on Satur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girls go to the club on Saturda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o'clock / school / at / 8 / st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ool starts at 8 o'clo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Tuesday / the boys / their bikes / ride / e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boys ride their bikes every Tues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4FF0-A326-4F65-A621-D931CA332BD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) I / home / going / am /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am going home n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) Simon / on Fridays / the dishes / w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on washes the dishes on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) are / questions / we / answering / the /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are answering the questions n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61D0-597C-410B-96AB-65C4F54BFA0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7A6C-D02A-4407-8FB0-043C3752A2D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80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محاضرات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هي مواد مساندة من خارج الكتاب لكنها مطلوبة في الاختبار ومه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محاضرة رقم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ستكون عبارة عن نماذج أسئلة للتدريب على الاختبار النهائ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54D9-51A3-4C04-B092-25270F5A0FC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ound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s with expressions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D5DB-1977-4F01-B8A5-4C18ADF0BF4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Types of sentences</a:t>
            </a:r>
            <a:br>
              <a:rPr sz="44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three main types of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simple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بسيط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ound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رك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lex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عق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F056-E3B1-4AFD-8CFF-E45B08057F9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mple sentence can be very short, consisting of a simple subject and a simple predic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from lecture 9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1" lang="ar-LB" sz="2800" spc="-1" strike="noStrike">
                <a:solidFill>
                  <a:srgbClr val="ff0000"/>
                </a:solidFill>
                <a:latin typeface="Calibri"/>
              </a:rPr>
              <a:t>المبتدأ</a:t>
            </a:r>
            <a:r>
              <a:rPr b="1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PREDICATE</a:t>
            </a:r>
            <a:r>
              <a:rPr b="1" lang="ar-LB" sz="2800" spc="-1" strike="noStrike">
                <a:solidFill>
                  <a:srgbClr val="009900"/>
                </a:solidFill>
                <a:latin typeface="Calibri"/>
              </a:rPr>
              <a:t>الخبر</a:t>
            </a:r>
            <a:r>
              <a:rPr b="1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roommat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ost his ke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fami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ves in an apart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n’t like warm milk or cold coff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n’t have class on Tuesd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655B-667E-40D6-A22A-291582AA172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mple sentence can have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ound subjec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mpound predic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from lecture 9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mother and my fa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peak and write English we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brother, sister, and mo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peak and write English we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hmad and his sister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ve and work in Jedda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hmad and Al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tched TV and had dinner at h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8E80-CCAB-441E-A30D-23CC13707FC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sentence can b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declar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(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تقريري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terrogative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 (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استفهامي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You can shop at the mall on weeke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 you shop at the mall on weeken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Francisco cleaned his room for 2 ho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d Francisco clean his room for 2 hou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5BD6-32E8-4381-869C-16EC34F064B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mple sentence can be an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exclamation 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(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صيغة التعجب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an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imperative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(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صيغة الأمر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Help 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lease hold the b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is a wonderful gif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w clever you a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3645-DBC6-4860-8B9D-114C4E40542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9:37Z</dcterms:modified>
  <cp:revision>278</cp:revision>
  <dc:subject/>
  <dc:title>Slide 1</dc:title>
</cp:coreProperties>
</file>