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D4C4-97F2-4F92-AE1B-CA3BFC24D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02F5-49B0-4EDF-8580-0E4842F8D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26E2-DDE0-4DBC-9846-B310BA335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708C-C585-45F7-9CC9-A2E0BA185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68129-81C7-47AC-B00A-966B775EA6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D4F0F-B20B-4904-A4F9-9862A4F783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941AF-9472-47D2-A189-C292CA034B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52E5A-8412-41EF-9373-730B882DB4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97E29-EFD7-465A-AB13-48E8EA4C4F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7FB70-5E63-40B9-A3A7-81E6EBE728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7DF8F-6EA2-4EF0-8DB8-3646075DC1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DED8-3CBF-4B30-9E5B-6FEDBBE68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A0CF3-3268-4093-9859-6BA2939A72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0E45F-88D2-495D-960E-5A09F097CB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AE29E-DB57-481C-8337-79A0BCC137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8C8C2-0B9A-46F5-B32B-BC8C7EA624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0E83F-2039-4CCC-BF96-C62E6AF819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3D6-E97B-454C-BE56-68F7B14B75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B014-9201-46D7-B90E-0AC85FA46F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E3D-EA38-4134-BDAC-F747D3FE16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55B9-5485-4914-BFD6-7A0406EBD1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A668-D078-4A77-9327-96D9E2F0A3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B1B3-6A4E-4097-ADB3-91E813493A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40C-E73A-46A7-B680-8A0BB5CAC0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748-4AAC-460B-9D4D-344A31C72B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1749-ADEC-4D9A-9077-66D31C321C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0CC-76FA-4982-9C25-F22909D1B4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738D-E9D5-46BB-A660-74BEE0C03A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5650-3F01-4F98-9978-22E8F9FA40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8C4C-86C9-4BFE-A9DE-B0DA5C6E97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2D057-A622-46A7-92BC-6DB19C6D59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724CD-37DB-44FF-922A-AAB957786C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3D775-8376-4F5C-ADBE-E5C01F95A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F51D-6707-4D9A-AFC9-0B41B18338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143BC-268D-4F04-A293-57C3C0FEC4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76984-EED9-40E9-8DDC-AD310FA305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18A3C-6AAE-4859-88D1-CC4F0DE9771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43964-747D-4E6C-B7D8-EF1CD20FDD6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FC49C-AEE6-4E67-903A-089820F13BE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A2612-D257-4779-9C53-79AD35A465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9F8F6-FD56-4CFE-BF89-77C153A720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60B62-12C0-4204-9FD3-4C5625A2787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38B12-1D1D-4692-A6AB-AD9D8E6C1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D6E3-8670-456F-8961-2EA2BAB28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C4D2-53B9-49CE-807C-30F9A7FED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BE332-48F8-438C-92E0-D99538A99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74B3-4D96-4D5D-8493-80C64E93E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C647-69D8-43D8-923E-2B5315841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69F9-B8EC-47FE-A25F-7FA8C526475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330D-7669-44F0-BAB0-8E58355DA27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6A9D-649E-41C1-BC01-D6B566F55D0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71D4-A5E1-46C6-B0D9-95CF9DC2911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3E60-846E-4EC8-977A-5CCBF770ECC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ubtitle 2"/>
          <p:cNvSpPr/>
          <p:nvPr/>
        </p:nvSpPr>
        <p:spPr>
          <a:xfrm>
            <a:off x="5562720" y="4648320"/>
            <a:ext cx="400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898989"/>
                </a:solidFill>
                <a:latin typeface="Calibri"/>
              </a:rPr>
              <a:t>كلية الآداب – قسم اللغة الانجليز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91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457200" y="2895480"/>
            <a:ext cx="5099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للغة الانجليزية (كتابة)،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103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- 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7403</a:t>
            </a:r>
            <a:br>
              <a:rPr sz="1800"/>
            </a:br>
            <a:r>
              <a:rPr b="1" lang="ar-EG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ثاني</a:t>
            </a:r>
            <a:br>
              <a:rPr sz="3200"/>
            </a:br>
            <a:r>
              <a:rPr b="1" lang="ar-EG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0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 –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1</a:t>
            </a:r>
            <a:r>
              <a:rPr b="1" lang="ar-SA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ه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Times New Roman"/>
              </a:rPr>
              <a:t>وليد عثما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12D7-D1B6-479D-B3EC-090AB520DA6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omma Splice</a:t>
            </a:r>
            <a:br>
              <a:rPr sz="3200"/>
            </a:br>
            <a:r>
              <a:rPr b="0" lang="ar-LB" sz="3200" spc="-1" strike="noStrike">
                <a:solidFill>
                  <a:srgbClr val="376092"/>
                </a:solidFill>
                <a:latin typeface="Calibri"/>
              </a:rPr>
              <a:t>أخطاء العطف: استخدام فاصلة بين جملتين كاملتين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ma splice is two simple sentences incorrectly joined with a comma al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 ver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Some people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t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oth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pref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gs.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Francisco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orked ou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Mar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lea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r room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The first test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fficul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the second one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asy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6471-9CDF-4309-AEB2-6EEE6D24AF0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rrecting Comma Splices</a:t>
            </a:r>
            <a:br>
              <a:rPr sz="4400"/>
            </a:br>
            <a:r>
              <a:rPr b="0" lang="ar-LB" sz="4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ar-LB" sz="4400" spc="-1" strike="noStrike">
                <a:solidFill>
                  <a:srgbClr val="376092"/>
                </a:solidFill>
                <a:latin typeface="Calibri"/>
              </a:rPr>
              <a:t>كيفية تصحيح الخطأ السابق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ways to fix comma spli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period (.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people like cat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s prefer dog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isco worked ou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ria cleaned her roo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test was difficul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second one was eas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With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oordinating conjun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people like cat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and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s prefer do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isco worked ou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ria cleaned her roo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test was difficul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second one was eas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8AD7-91E1-424C-B1CD-38A9B13FF4D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mma splices Onlin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grammartips.homestead.com/splice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epts.dyc.edu/learningcenter/owl/exercises/comma_splices_ex2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16EB-6370-4B30-BB72-5C178D3F8E0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Run-ons onlin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grammar.ccc.commnet.edu/Grammar/cgi-shl/quiz.pl/run-ons_add1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epts.dyc.edu/learningcenter/owl/exercises/run-ons_ex1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596C-093F-47E5-96F8-9FF78809CEA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following is a comma spl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,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, and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.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D597-3831-463F-BE7F-BD26E591788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8080560" y="28954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following is a comma spl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watch TV, but my children 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like garlic. I don’t like on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like garlic, I don’t like on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watch TV. My children 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9E4D-CEA4-4858-B502-D7F0A080EEE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7166160" y="3581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following sentence as either a comma splice, a run-on, or corr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going to have spaghetti for dinner, and we are going to have ice cream for desse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a spl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-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1E6A-C064-4129-99EA-D8639DDDFEC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2365560" y="46483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the following sentence as either a comma splice, a run-on, or corr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you like to play tennis, would you like to go to the golf cour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a spl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-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FDD6-EFF3-4BC6-9ECE-5BF44C81CDA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508560" y="38862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ompound sentences with Conjunctive Adverbs</a:t>
            </a:r>
            <a:br>
              <a:rPr sz="3200"/>
            </a:br>
            <a:r>
              <a:rPr b="0" lang="ar-LB" sz="3200" spc="-1" strike="noStrike">
                <a:solidFill>
                  <a:srgbClr val="376092"/>
                </a:solidFill>
                <a:latin typeface="Calibri"/>
              </a:rPr>
              <a:t>العطف باستخدام ظروف العطف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the following tab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ar-LB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BA29-792D-45EF-B15B-17793CE9FAC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143000" y="2133720"/>
          <a:ext cx="6603840" cy="3479760"/>
        </p:xfrm>
        <a:graphic>
          <a:graphicData uri="http://schemas.openxmlformats.org/drawingml/2006/table">
            <a:tbl>
              <a:tblPr/>
              <a:tblGrid>
                <a:gridCol w="3301920"/>
                <a:gridCol w="3301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oordinating conjunc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حروف العط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Conjunctive Ad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 </a:t>
                      </a:r>
                      <a:r>
                        <a:rPr b="1" lang="ar-LB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ظروف العط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ar-L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furthermore</a:t>
                      </a:r>
                      <a:r>
                        <a:rPr b="0" lang="ar-LB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 More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n ad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Howe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 Neverthe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Theref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As a 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otherw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Compound sentences with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Coordinating Conjunctions </a:t>
            </a: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&amp;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onjunctive Adverb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raining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is wearing a raincoa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raining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;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as a resul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is wearing a rainco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m hungry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bu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have time to 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m hungry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;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however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don’t have time to 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31B8-5091-4D1C-8A48-4FDD22A3557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2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4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8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30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# 11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2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ypes of Sentences: More about the Compound Sen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2E64-2965-4138-B6F3-7B8FBAB5EBF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Compound sentences with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Coordinating Conjunctions </a:t>
            </a: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&amp;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onjunctive Adverb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going to have spaghetti for dinne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going to have ice cream for desse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going to have spaghetti for dinne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;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 in additio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e are going to have ice cream for desse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need to work harde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will get fi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need to work harde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otherwis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will get fi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96F5-B1F5-443A-9AD3-80D83B7490D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68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70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74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76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njunctive Adverbs onlin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englishexercises.org/makeagame/viewgame.asp?id=1565#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ebhome.broward.edu/~dshaw/handouts/Pointers%20(Conjunctive%20Adverbs)%20Exercise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A809-C253-474F-863F-05C0D5B8EED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of the following sentences is punctuated correct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 is tired, so, he would like to 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 is tired so, he would like to 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 is tired so he would like to 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 is tired, so he would like to 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31DC-A573-4DBB-ACD1-F4A607EB52E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7090200" y="3733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of the following sentences is punctuated correct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computer frustrates me however I couldn’t live without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computer frustrates me; however I couldn’t live without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computer frustrates me; however, I couldn’t live without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computer frustrates me however, I couldn’t live without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E1A7-215D-40B3-B92B-26D42443704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746800" y="4572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E079-0A08-49F7-AC39-D2CFFE3340C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278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Component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pound sentence: Re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-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a Spl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junctive Adver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C9CD-B5B3-4C6A-9FE2-EA7CACE0EA1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Compound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ound sentence is two simple sentences connected by a comma and a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coordinating conjun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sentenc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simple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D007-4235-42D7-9EEF-75F309E9257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962520" y="3733920"/>
            <a:ext cx="9144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172200" y="4800600"/>
            <a:ext cx="274320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Coordinating conj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Straight Arrow Connector 7"/>
          <p:cNvCxnSpPr>
            <a:stCxn id="205" idx="3"/>
          </p:cNvCxnSpPr>
          <p:nvPr/>
        </p:nvCxnSpPr>
        <p:spPr>
          <a:xfrm>
            <a:off x="4876920" y="4610160"/>
            <a:ext cx="1296000" cy="419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8" name="Straight Arrow Connector 9"/>
          <p:cNvCxnSpPr/>
          <p:nvPr/>
        </p:nvCxnSpPr>
        <p:spPr>
          <a:xfrm flipH="1">
            <a:off x="2590560" y="4190040"/>
            <a:ext cx="76248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9" name="Oval 10"/>
          <p:cNvSpPr/>
          <p:nvPr/>
        </p:nvSpPr>
        <p:spPr>
          <a:xfrm>
            <a:off x="1066680" y="4952880"/>
            <a:ext cx="175284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f0"/>
                </a:solidFill>
                <a:latin typeface="Calibri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as. The sentences can be positive or nega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 is a teacher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, 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is sister is a do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doesn’t like music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, 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doesn’t like 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with opposite ide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likes ar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 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doesn’t like mus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7444-9B45-4B8B-A63F-11EAF3C2F49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alibri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that express alternatives or choi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Friday, they go to a mall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, 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visit some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a </a:t>
            </a:r>
            <a:r>
              <a:rPr b="1" lang="en-US" sz="3200" spc="-1" strike="noStrike">
                <a:solidFill>
                  <a:srgbClr val="b3a2c7"/>
                </a:solidFill>
                <a:latin typeface="Calibri"/>
              </a:rPr>
              <a:t>reas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3a2c7"/>
                </a:solidFill>
                <a:latin typeface="Calibri"/>
              </a:rPr>
              <a:t>My friend and his sister work a lot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, so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they don’t go out very 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66E4-065A-4598-92D5-9036C30C8A4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Run-ons</a:t>
            </a:r>
            <a:br>
              <a:rPr sz="2800"/>
            </a:br>
            <a:r>
              <a:rPr b="0" lang="ar-LB" sz="2800" spc="-1" strike="noStrike">
                <a:solidFill>
                  <a:srgbClr val="376092"/>
                </a:solidFill>
                <a:latin typeface="Calibri"/>
              </a:rPr>
              <a:t>أخطاء العطف: جملتان متصلتان دون علامة ترقيم أو حرف عطف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un-on is two simple sentences incorrectly joined with no coordinating conjunction and no com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 ver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Francisc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orked out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Mar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lea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r room.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The first test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fficult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the second one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asy.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716E-D5C0-4834-86DF-517BC491517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rrecting run-ons</a:t>
            </a:r>
            <a:br>
              <a:rPr sz="4400"/>
            </a:br>
            <a:r>
              <a:rPr b="0" lang="ar-LB" sz="4400" spc="-1" strike="noStrike">
                <a:solidFill>
                  <a:srgbClr val="376092"/>
                </a:solidFill>
                <a:latin typeface="Calibri"/>
              </a:rPr>
              <a:t>كيفية تصحيح الخطأ السابق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two ways to fix run-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a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period (.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ncisco worked ou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ria cleaned her ro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test was difficul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second one was eas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With 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om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coordinating conjun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ncisco worked ou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ria cleaned her ro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test was difficul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second one was eas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85F3-55EA-498C-956C-40D6976A4C0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following is a run-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,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, and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.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F735-671D-4E03-9383-F4DEFA95157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7928280" y="23623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Sayyed-Zain</cp:lastModifiedBy>
  <dcterms:modified xsi:type="dcterms:W3CDTF">2010-09-02T09:06:47Z</dcterms:modified>
  <cp:revision>282</cp:revision>
  <dc:subject/>
  <dc:title>Slide 1</dc:title>
</cp:coreProperties>
</file>