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E536-72BC-4FF8-A099-70ABD700EF1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7866-BF32-44F3-8F33-8BB130D0D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5FF0-2D21-46B6-A88D-959727926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A6DC-1E7B-4A61-94C4-97C6DD66F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-Eg Strategy (De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BF0F-5F58-4B9B-B0E7-5DED51A03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A165-70E5-4D79-BC47-E9588B09F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B8D4-10B0-495D-9460-0884C5B7B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611C-A0DF-466B-8B18-3BDD2C674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B3D1-B2EC-438E-8681-BC9888C0EF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F15F-DF6E-44CE-B369-931E6C1800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3584-86C3-4CC3-A218-A9C5FEDFE5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B59B-AE38-4E80-8767-F7959A656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8986-F34E-4ECA-9168-42BADFD59A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29A1-1A57-485C-B3B7-C48B0FF96B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8AA8-9FD6-4337-975A-9F43D087E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05E6-B020-4612-BF1B-2994E4927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EF5C-0F84-4058-BD58-A5F8AE3A57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3861-C4BA-430E-89E3-4CEC69053F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170D-7907-48F6-B23C-00017CF888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1B28-0F84-4D6E-84A4-5A7247717F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109B-2BB1-444D-9DD1-FE757B31C2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DEC-A781-48DA-A00B-32F639BB85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E07-5717-45F5-B4D7-21AE02B3FB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014-5D69-45D8-9A95-4A99C8533A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87A-AA81-401B-985C-FB14D39B67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E4E-85D1-4109-BA6A-A9453469E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699A-EC52-49DC-B40E-A0B54DC4B9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4BB-C30A-4BBD-8BFF-196392ED91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9C6-F2B3-4758-A7D3-ECE27B0FFB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D91-CFA2-40A1-B60B-F847FD7659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A86-804B-4A72-B054-BC6EA120F0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A58-E5F3-4ED1-9AD2-F533AF92E4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C3A-3CBB-45DF-9083-B0604E4ACB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D27-A5C0-4441-9C70-F12A67DDF6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4CF6B-5F2F-425B-A7A6-BE4B443FE0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01D5C-C843-471D-AD28-62CABA7191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F619F-D7FF-4892-8E97-883D6D2B1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D8A3-4007-4604-AC1E-04173238B0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06626-27CC-4C0E-BFE7-DDE4199E17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7D89A-1894-420E-8C4A-8D2FC854FE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3F5A2-F908-4D20-B318-E9FFF8C128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FD6E1-FBB8-4EA7-BEBF-61C6B8A099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61DBF-06B7-432D-8198-23B7FA8E45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A5CA0-707C-49A2-AAD4-F4D321606C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0012C-A632-484D-B888-6FADFB4115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63FE8-F4A9-4346-8FDE-EF05360015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D7C0E-D31A-4C50-9C3D-D86E4CB4725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BC278-C995-44DD-B657-82F415B5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6F61-00B7-41C5-9945-273195D8BE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2C9A4C-71B2-4239-9A62-CAF87E45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1BFE1-D72D-4D60-9810-4ED1F8EA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4871D-70D7-49FA-8DD9-C5A93802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72E3B-ECA7-45A6-AF3B-F02570F3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075754-E9D3-49A4-8A4D-29807252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7F278-0445-4E56-8FF0-038B183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4D7FC-4326-4083-8E41-D5C79CBD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F314A-099F-40CD-A569-6205DF8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D57A9-8F06-455A-8311-91CF1BC3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95A03-5B7F-4348-A2D4-191079D8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7255-8B83-450F-904A-2CAD126DBD0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BFEAE-EA2F-4A87-B3F2-3E263CC0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43770-3D5D-49BA-B43E-C63B9944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5F11A-1698-48A9-AD0C-335DCFD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4D3F7-04CB-4131-B8FF-C2AB08EC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06E7F-4EB3-4A03-9DC9-E216B7C9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7629D-2EC0-4340-B05A-1291B041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53277-3819-4E88-B4C0-4487E501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9DAD62-3265-48FA-9AAA-5B8FDAC0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1570C-7D45-40F2-8029-1D15DFA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0CD34-9A6A-4219-800F-8322C3BC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66F8-D485-48AF-A34F-B70103341E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56F87-6C93-422A-BB14-28187D6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AA4842-498B-4475-B7F0-1950A815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1A37E5-2695-49C9-860F-C39C61AF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BB64-AE5D-4F70-9FBC-9623D10F5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C3EA-7C50-47B7-A634-DA5B42D38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756F-197E-4D62-A54E-1322D09F0E5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5594-9A65-4717-95CA-D3A2C751879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F5E5-E612-44AC-B91B-7DAB93CEFE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35E7-3739-4D73-BE84-5FE8FAED3D5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8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5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6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7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1FCB-4619-4B39-85FF-E9CE3A066A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3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8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9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0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70BD-BD5E-4AA1-BE8B-A1697A4211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1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785-309B-40CD-AD35-F2A34577751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90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A84A-04D7-40A0-98CC-CF86AB3320A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43040" y="2362320"/>
            <a:ext cx="553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47680" y="2514600"/>
            <a:ext cx="544824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mouse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und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: mouse +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one i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der is a prepos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603840" y="3505320"/>
            <a:ext cx="255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BD07336_"/>
          <p:cNvPicPr/>
          <p:nvPr/>
        </p:nvPicPr>
        <p:blipFill>
          <a:blip r:embed="rId1"/>
          <a:stretch/>
        </p:blipFill>
        <p:spPr>
          <a:xfrm>
            <a:off x="6356520" y="3809880"/>
            <a:ext cx="2055600" cy="154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HH00865_"/>
          <p:cNvPicPr/>
          <p:nvPr/>
        </p:nvPicPr>
        <p:blipFill>
          <a:blip r:embed="rId2"/>
          <a:stretch/>
        </p:blipFill>
        <p:spPr>
          <a:xfrm>
            <a:off x="5861160" y="2514600"/>
            <a:ext cx="3136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412920" y="2057400"/>
            <a:ext cx="87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 list of the most common prepos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>
            <a:hlinkClick r:id="rId1" action="ppaction://hlinksldjump"/>
          </p:cNvPr>
          <p:cNvSpPr/>
          <p:nvPr/>
        </p:nvSpPr>
        <p:spPr>
          <a:xfrm>
            <a:off x="9282240" y="5746680"/>
            <a:ext cx="185760" cy="370080"/>
          </a:xfrm>
          <a:custGeom>
            <a:avLst/>
            <a:gdLst>
              <a:gd name="textAreaLeft" fmla="*/ 11880 w 185760"/>
              <a:gd name="textAreaRight" fmla="*/ 173880 w 185760"/>
              <a:gd name="textAreaTop" fmla="*/ 11880 h 370080"/>
              <a:gd name="textAreaBottom" fmla="*/ 358200 h 370080"/>
            </a:gdLst>
            <a:ahLst/>
            <a:rect l="textAreaLeft" t="textAreaTop" r="textAreaRight" b="textAreaBottom"/>
            <a:pathLst>
              <a:path w="21600" h="42991">
                <a:moveTo>
                  <a:pt x="0" y="0"/>
                </a:moveTo>
                <a:lnTo>
                  <a:pt x="21600" y="0"/>
                </a:lnTo>
                <a:lnTo>
                  <a:pt x="21600" y="42991"/>
                </a:lnTo>
                <a:lnTo>
                  <a:pt x="0" y="42991"/>
                </a:lnTo>
                <a:close/>
              </a:path>
              <a:path fill="lightenLess" w="21600" h="42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91">
                <a:moveTo>
                  <a:pt x="21600" y="0"/>
                </a:moveTo>
                <a:lnTo>
                  <a:pt x="21600" y="42991"/>
                </a:lnTo>
                <a:lnTo>
                  <a:pt x="20200" y="41591"/>
                </a:lnTo>
                <a:lnTo>
                  <a:pt x="20200" y="1400"/>
                </a:lnTo>
                <a:close/>
              </a:path>
              <a:path fill="darkenLess" w="21600" h="42991">
                <a:moveTo>
                  <a:pt x="21600" y="42991"/>
                </a:moveTo>
                <a:lnTo>
                  <a:pt x="0" y="42991"/>
                </a:lnTo>
                <a:lnTo>
                  <a:pt x="1400" y="41591"/>
                </a:lnTo>
                <a:lnTo>
                  <a:pt x="20200" y="41591"/>
                </a:lnTo>
                <a:close/>
              </a:path>
              <a:path fill="lighten" w="21600" h="42991">
                <a:moveTo>
                  <a:pt x="0" y="42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91"/>
                </a:lnTo>
                <a:close/>
              </a:path>
              <a:path fill="darken" w="21600" h="42991">
                <a:moveTo>
                  <a:pt x="3794" y="14489"/>
                </a:moveTo>
                <a:lnTo>
                  <a:pt x="17806" y="21496"/>
                </a:lnTo>
                <a:lnTo>
                  <a:pt x="3794" y="28502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2514600"/>
          <a:ext cx="7429320" cy="35812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  <a:gridCol w="928800"/>
                <a:gridCol w="928440"/>
                <a:gridCol w="928800"/>
                <a:gridCol w="928800"/>
                <a:gridCol w="928440"/>
                <a:gridCol w="928800"/>
              </a:tblGrid>
              <a:tr h="70956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 (exce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w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ai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334" name="Picture 12" descr="MCj02869460000[1]"/>
          <p:cNvPicPr/>
          <p:nvPr/>
        </p:nvPicPr>
        <p:blipFill>
          <a:blip r:embed="rId1"/>
          <a:stretch/>
        </p:blipFill>
        <p:spPr>
          <a:xfrm>
            <a:off x="7264440" y="1981080"/>
            <a:ext cx="2363760" cy="2167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907920" y="2209680"/>
            <a:ext cx="767736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izza in the oven is mi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>
            <a:hlinkClick r:id="rId2" action="ppaction://hlinksldjump"/>
          </p:cNvPr>
          <p:cNvSpPr/>
          <p:nvPr/>
        </p:nvSpPr>
        <p:spPr>
          <a:xfrm>
            <a:off x="74304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806560" y="4419720"/>
            <a:ext cx="16513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478800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676908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4" descr="MCj01981640000[1]"/>
          <p:cNvPicPr/>
          <p:nvPr/>
        </p:nvPicPr>
        <p:blipFill>
          <a:blip r:embed="rId3"/>
          <a:stretch/>
        </p:blipFill>
        <p:spPr>
          <a:xfrm rot="20387400">
            <a:off x="247680" y="2438280"/>
            <a:ext cx="18986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47680" y="2133720"/>
            <a:ext cx="7512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irl by the door is my sist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07316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97180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95288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93432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4" descr="MCPE05891_0000[1]"/>
          <p:cNvPicPr/>
          <p:nvPr/>
        </p:nvPicPr>
        <p:blipFill>
          <a:blip r:embed="rId1"/>
          <a:stretch/>
        </p:blipFill>
        <p:spPr>
          <a:xfrm>
            <a:off x="7346880" y="2057400"/>
            <a:ext cx="19605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74304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412920" y="2209680"/>
            <a:ext cx="75117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runners raced around the trac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07316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97180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95288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693432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RUNNERS5"/>
          <p:cNvPicPr/>
          <p:nvPr/>
        </p:nvPicPr>
        <p:blipFill>
          <a:blip r:embed="rId1"/>
          <a:stretch/>
        </p:blipFill>
        <p:spPr>
          <a:xfrm>
            <a:off x="7512120" y="1905120"/>
            <a:ext cx="191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743040" y="2286000"/>
            <a:ext cx="8172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gain at the sentences you practic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zz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ven is 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oor is my si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ners race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898640" y="1981080"/>
            <a:ext cx="610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825480" y="4114800"/>
            <a:ext cx="8089920" cy="12366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se are prepositional phrases. Prepositional phrases start with 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preposi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end with the </a:t>
            </a:r>
            <a:r>
              <a:rPr b="0" lang="en-US" sz="2500" spc="-1" strike="noStrike">
                <a:solidFill>
                  <a:srgbClr val="009900"/>
                </a:solidFill>
                <a:latin typeface="Arial"/>
              </a:rPr>
              <a:t>object of a preposi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743040" y="2057400"/>
            <a:ext cx="8420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epositional phr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chose a book from the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889360" y="380988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 a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2889360" y="464832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 from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889360" y="548640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from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MCj00889800000[1]"/>
          <p:cNvPicPr/>
          <p:nvPr/>
        </p:nvPicPr>
        <p:blipFill>
          <a:blip r:embed="rId1"/>
          <a:stretch/>
        </p:blipFill>
        <p:spPr>
          <a:xfrm>
            <a:off x="7429680" y="1905120"/>
            <a:ext cx="193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prepositional ph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sat with my m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889360" y="380988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a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889360" y="464832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2889360" y="548640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with my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0" descr="MCj02899660000[1]"/>
          <p:cNvPicPr/>
          <p:nvPr/>
        </p:nvPicPr>
        <p:blipFill>
          <a:blip r:embed="rId1"/>
          <a:stretch/>
        </p:blipFill>
        <p:spPr>
          <a:xfrm>
            <a:off x="5861160" y="2133720"/>
            <a:ext cx="31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write longer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bought a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my cla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ught a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my cla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ught a book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bout flow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6DEC-C27B-4AFB-933E-23E8D1DF77F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3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Building Sentences: Prepositional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AC59-823E-4F06-A670-A5AE77DC9DF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the English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bout prepositions in the English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28D9-51B7-4DD2-97BC-308E189AFE5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epositional phrases of place</a:t>
            </a:r>
            <a:br>
              <a:rPr sz="4400"/>
            </a:b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الجار والمجرور للدلالة على المكان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epositional phrases of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o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 the des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oom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cross from the bathroo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ry’s bedro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like to si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on the chai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next to the wind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lothe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n the bag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under the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F13A-6F4F-4D2D-9013-D749BFD4409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epositional phrases of time</a:t>
            </a:r>
            <a:br>
              <a:rPr sz="4400"/>
            </a:b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الجار والمجرور للدلالة على الزمان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positional phrases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w my friend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before the t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play tenn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fter 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sually have a big breakfa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in the mor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ther came back from Mecc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t mid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AFE-7D36-4E13-A8C2-6C8A1A2B855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 presentat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lideshare.net/diana.koscik/prepositional-phrases-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4CA8-B87C-410E-A964-D4C41A77908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0D2B-2D0A-4784-B84F-A4B82238134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390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uilding a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Prepositional Ph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D666-0BE0-4E43-928C-7000526DB40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بناء الجمل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ilding a sentenc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ntence is a group of words which starts with a capital letter and ends with a full stop (.), question mark (?) or exclamation mark (!). A sentence contains or implies a predicate and a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767C-E036-4E78-B6F7-C5F0612C457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 can conta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s 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فاع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objects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مفعول به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bject in a sentence is generally the person or thing carrying out an action.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The o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sentence is involved in an action but does not carry it out, the object comes after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verb</a:t>
            </a:r>
            <a:r>
              <a:rPr b="0" lang="ar-LB" sz="3200" spc="-1" strike="noStrike">
                <a:solidFill>
                  <a:srgbClr val="00b0f0"/>
                </a:solidFill>
                <a:latin typeface="Calibri"/>
              </a:rPr>
              <a:t>الفعل</a:t>
            </a:r>
            <a:r>
              <a:rPr b="0" lang="ar-LB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boy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limbed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 tre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B9F8-4922-4621-ADD0-76F34250C38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say more about the subject (the boy) or the object (the tree), you can add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jective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نعت، صفة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o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y climbe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say more about how he climbed the tree you can use a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dverb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ظرف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o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y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quick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imbe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EF8A-6D0B-4E46-B789-9F27D5F4725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ntence becomes more interesting as it gives the reader or listener more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a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epositional phrase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جار ومجر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 The young boy quickly climbed a tall tre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the gard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7640-F999-49BD-8B7D-1A218335168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1"/>
          <p:cNvSpPr/>
          <p:nvPr/>
        </p:nvSpPr>
        <p:spPr>
          <a:xfrm>
            <a:off x="1073160" y="1940040"/>
            <a:ext cx="8089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position is a part of speech that shows a relationship between two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tion (on, under, in)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مكان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(before, after, during)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زمان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ion (from, toward, to)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اتجاه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5842080" y="51116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Text Box 1027"/>
          <p:cNvSpPr/>
          <p:nvPr/>
        </p:nvSpPr>
        <p:spPr>
          <a:xfrm>
            <a:off x="577800" y="2286000"/>
            <a:ext cx="520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28"/>
          <p:cNvSpPr/>
          <p:nvPr/>
        </p:nvSpPr>
        <p:spPr>
          <a:xfrm>
            <a:off x="141120" y="2514600"/>
            <a:ext cx="6002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mouse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: mouse +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one i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 is a prepos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29"/>
          <p:cNvSpPr/>
          <p:nvPr/>
        </p:nvSpPr>
        <p:spPr>
          <a:xfrm>
            <a:off x="5943600" y="3581280"/>
            <a:ext cx="2146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30"/>
          <p:cNvGrpSpPr/>
          <p:nvPr/>
        </p:nvGrpSpPr>
        <p:grpSpPr>
          <a:xfrm>
            <a:off x="6108840" y="2590920"/>
            <a:ext cx="2310840" cy="2625120"/>
            <a:chOff x="6108840" y="2590920"/>
            <a:chExt cx="2310840" cy="2625120"/>
          </a:xfrm>
        </p:grpSpPr>
        <p:pic>
          <p:nvPicPr>
            <p:cNvPr id="321" name="Picture 1031" descr="HH00865_"/>
            <p:cNvPicPr/>
            <p:nvPr/>
          </p:nvPicPr>
          <p:blipFill>
            <a:blip r:embed="rId1"/>
            <a:stretch/>
          </p:blipFill>
          <p:spPr>
            <a:xfrm>
              <a:off x="6191280" y="3200040"/>
              <a:ext cx="2228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032" descr="BD07336_"/>
            <p:cNvPicPr/>
            <p:nvPr/>
          </p:nvPicPr>
          <p:blipFill>
            <a:blip r:embed="rId2"/>
            <a:stretch/>
          </p:blipFill>
          <p:spPr>
            <a:xfrm>
              <a:off x="6108840" y="2590920"/>
              <a:ext cx="1972080" cy="147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5:02Z</dcterms:modified>
  <cp:revision>284</cp:revision>
  <dc:subject/>
  <dc:title>Slide 1</dc:title>
</cp:coreProperties>
</file>