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BD8A-F6F5-4D16-98E1-F7929633E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2E2B-0FB3-40A6-83EF-12C74BA14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2EBC-BAEB-433C-BB92-F0ABEEFFC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1CD4-3F11-43F9-BA0A-76E2FB92B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1943-EB62-465E-AA30-8F8C015614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D1DB4-2907-48FA-BE86-26429C4F6F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4C5C-6F2D-4240-AE4E-658B2E4BE5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DFFC2-693B-4BB1-95C8-2101D51E09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BB62-A2E7-458F-AE9F-D34CE5D906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71CE-9547-4C4F-A923-1C112CF75F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6C54D-5BFB-438E-8273-B141FE9AA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1F0D-2BE9-4D72-B74A-D55AA048B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CFF6-1480-4DFC-91C7-BA734DA600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3D82B-FB52-422B-A7D2-A78375CE32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BF22-7C56-4005-A2F3-E97D75A5D8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839F-0333-4E59-9941-5EB9B04B39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1A3A2-3CED-44EC-BFAB-46A6F512F2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434-949B-453A-95A1-98001ADE2E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05C-EB86-4764-9D10-23E79D58F4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756-FE62-43AE-8553-CE8C9E33BB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CCA-DA1D-4746-A1C6-AF444B9EE7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AAE-411E-4447-A10C-C68AE23A0C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8C65-4DFF-478C-8F16-84D4BAAD83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8D1-14CA-4330-AE15-FB98868820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DDD-F40E-4380-AC77-1759272F3D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694-D723-416D-A1C9-FAC49AD83C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826-ED58-4C1B-A92A-270C887DC6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150-BECD-4F78-99F8-0E0D5C41C0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D1D-CC1D-4BD4-943E-CC9AA18201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ED6-45C7-4DD7-B3BF-1622F5E0B2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478DA-89B8-4939-854C-1BC2C65861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DE9B5-58AE-4E65-B21A-BD4F639542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2EACC-7AC9-4A68-8CBE-40C0CEF1F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D477-E767-40D3-A4EB-725DE27EB2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E253D-ED7D-4AB0-BFAF-85D05EFB6A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E9C48-33CC-47DE-B067-8688CBA9E6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06406-63C3-4F08-9EF6-BCDCE6B32C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457F6-E621-48BC-8DF2-CE9B3102C5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25348-D8DD-48FF-B38D-D97CD5238E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24DC9-6040-4F85-92B7-957E19EC28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52234-DD4F-4A61-AD53-3EDF289522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593A9-A0A3-464B-B74D-53F0683807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B8C2B-D940-4300-8289-AE2F6D344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4F78-70F9-478A-B678-FA4F9AD23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1864-CE8A-4C02-842C-9513D6D03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77D5-AB3A-4A56-AD11-9DABA4B5A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2244-9ECD-41AD-82D4-B1B9F7FB9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C4C2-8259-4682-BA85-90DC0371D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0384-33A7-4CD8-8680-278697B54AE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361-3A6A-4CD0-978B-71A6D617BFB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CD16-A905-4CAD-BEAA-52EA61039AE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16A9-9F07-43D4-A7E0-CDFD1D96CDC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3F26-81D6-4DF3-AE38-0125A490228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1FEC-990F-4934-ADBB-474F6547B9B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imple sentence can have a verb in any tense (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ho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mall on the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hopp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mall last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ill sho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mall next week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5175-3D6E-41C7-A520-B0ADCFC164C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ound Sentence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الجملة المركّب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ound sentence is two simple sentences connected by a comma and a co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entenc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simpl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DFC6-E4E9-4CBE-BBD8-9C1C0AF5330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962520" y="3733920"/>
            <a:ext cx="9144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6172200" y="4800600"/>
            <a:ext cx="27432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rdinating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000000"/>
                </a:solidFill>
                <a:latin typeface="Calibri"/>
              </a:rPr>
              <a:t>حروف العط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7"/>
          <p:cNvCxnSpPr>
            <a:stCxn id="226" idx="3"/>
          </p:cNvCxnSpPr>
          <p:nvPr/>
        </p:nvCxnSpPr>
        <p:spPr>
          <a:xfrm>
            <a:off x="4876920" y="4610160"/>
            <a:ext cx="1296000" cy="41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Straight Arrow Connector 9"/>
          <p:cNvCxnSpPr/>
          <p:nvPr/>
        </p:nvCxnSpPr>
        <p:spPr>
          <a:xfrm flipH="1">
            <a:off x="2590560" y="4190040"/>
            <a:ext cx="762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0" name="Oval 10"/>
          <p:cNvSpPr/>
          <p:nvPr/>
        </p:nvSpPr>
        <p:spPr>
          <a:xfrm>
            <a:off x="1066680" y="4952880"/>
            <a:ext cx="17528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mad is a scientis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travels of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works in Damma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lives in Al-Ah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didn’t study for the tes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failed the ex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year we will go to the beach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, 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will stay at h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FBDC-CBEF-40A2-B1F8-8C32579A9FC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1676520"/>
          <a:ext cx="6603840" cy="185400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cal Relation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rdinating Conj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. The sentences can be positive or neg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is a teacher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is sister is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doesn’t like music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opposite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likes ar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2159-8AB5-429B-B5F9-508C6DC7E29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that express alternatives or cho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Friday, they go to a m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visit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a </a:t>
            </a: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rea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My friend and his sister work a lot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, s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don’t go out very 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5908-C359-4E19-92D4-4CE60A6225A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ert the correct coordinating conjunction. Use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nd, or, but, or 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We are going to have spaghetti for dinner, _______ we are going to have ice cream for desse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It is my birthday, _______ I have to go to work. I wish that I could stay home and rela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Would you like to play tennis, ______ would you like to go to the golf cour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It is raining, ______ she is wearing a rainco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A8AA-DDB1-428C-AF90-BE7B66BC9C7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329160" y="20574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20364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727880" y="36576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18200" y="4419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It is cold outside, ______ we can’t go swi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I’m hungry, _______ I don’t have time to 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I enjoy opera, _______ I like the bal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She’s a trustworthy friend, _______ I tell her my secr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I want to go to school, _______ I don’t have enough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We can go to the movies, _______ we can rent a vide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FA49-6FCF-470E-944E-9E84DF58050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5108760" y="4572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49928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205080" y="2666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899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3661200" y="16765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956480" y="32004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 and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, and,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, and their mother is watching them quiet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running and jumping happily and, their mother is watching them quie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A499-2015-4DAB-AB18-562E793D44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804200" y="4572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contains a compound subj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and Maria watch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atches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ia watches a movie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atches a movie and plays tennis every Satur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9DFA-86B3-4795-8577-EC5E3985F65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614080" y="2666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words and for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ningful stat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lways use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ression of time at the end of the sent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goes / to school / every morning / And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: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ndy goes to school every mor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2D50-0B34-477C-AC55-6A7285C176C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0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D10F-34E8-411E-A046-6146E76768B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take / photos / they / every Mon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take photos every Mon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goes / every day / she / to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e goes to school every 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football / Eric / after school / pl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ic plays football after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F18-D5FB-47AE-A037-F23AEFEBD41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is making / he / at the moment /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 is making breakfast at the mo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to the club / the girls / go / on Satur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girls go to the club on Saturda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o'clock / school / at / 8 / st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ool starts at 8 o'clo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Tuesday / the boys / their bikes / ride / ev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oys ride their bikes every Tues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6B32-4AA4-421C-8EF6-D529A5EF0B1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Sentences with expressions of tim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I / home / going / am /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am going home 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) Simon / on Fridays / the dishes / was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on washes the dishes on Friday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) are / questions / we / answering / the /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are answering the questions n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B7F4-240C-4CF2-A1D7-BEB884D7BD0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7EB2-45E2-4EE9-9CD6-E1FE49D2AF8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80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محاضرات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هي مواد مساندة من خارج الكتاب لكنها مطلوبة في الاختبار ومه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محاضرة رقم 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ستكون عبارة عن نماذج أسئلة للتدريب على الاختبار النهائ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EFC8-6537-478D-B483-8F07537F020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ound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 with expressions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E578-C61C-41DF-9F0B-20FD023DBE6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ypes of sentences</a:t>
            </a:r>
            <a:br>
              <a:rPr sz="44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three main types of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simple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بسيط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ound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رك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lex sentence.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عق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8567-2961-4F58-B9F8-104D1573725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 sentence can be very short, consisting of a simple subject and a simple predic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from lecture 9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1" lang="ar-LB" sz="2800" spc="-1" strike="noStrike">
                <a:solidFill>
                  <a:srgbClr val="ff0000"/>
                </a:solidFill>
                <a:latin typeface="Calibri"/>
              </a:rPr>
              <a:t>المبتدأ</a:t>
            </a:r>
            <a:r>
              <a:rPr b="1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alibri"/>
              </a:rPr>
              <a:t>PREDICATE</a:t>
            </a:r>
            <a:r>
              <a:rPr b="1" lang="ar-LB" sz="2800" spc="-1" strike="noStrike">
                <a:solidFill>
                  <a:srgbClr val="009900"/>
                </a:solidFill>
                <a:latin typeface="Calibri"/>
              </a:rPr>
              <a:t>الخبر</a:t>
            </a:r>
            <a:r>
              <a:rPr b="1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roommat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ost his ke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fami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ves in an apart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n’t like warm milk or cold coff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don’t have class on Tuesd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8EDE-70CF-48A9-904C-0B2BCDCE284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 sentence can have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ound subjec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a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mpound predic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from lecture 9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mother and my fa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peak and write English we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y brother, sister, and m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peak and write English we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hmad and his sister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ve and work in Jedda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hmad and Al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tched TV and had dinner at ho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AC06-CFE0-4F09-B369-ECA5C751FAB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 sentence can b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declar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تقريري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terrogative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 (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استفهامي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You can shop at the mall on weeke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you shop at the mall on weeken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Francisco cleaned his room for 2 ho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d Francisco clean his room for 2 ho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F525-5026-4843-8D78-00F2BE98757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Simple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mple sentence can be an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exclamation 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(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صيغة التعجب</a:t>
            </a:r>
            <a:r>
              <a:rPr b="0" lang="ar-LB" sz="2800" spc="-1" strike="noStrike">
                <a:solidFill>
                  <a:srgbClr val="ff0066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a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imperative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(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صيغة الأمر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Help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lease hold the bo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his is a wonderful gif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clever you ar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22E8-B9E0-4D96-91BB-19B0C95980E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9:37Z</dcterms:modified>
  <cp:revision>278</cp:revision>
  <dc:subject/>
  <dc:title>Slide 1</dc:title>
</cp:coreProperties>
</file>