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AD90-C66D-4DBD-B670-F4BC88400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0BA6-6F14-4A1A-94EA-7A35964AF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860F-66E9-495E-93A8-A9E8964CF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9319-9475-4C6E-9402-029D822F6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57AF-DB18-414E-BD78-2608756DDB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EA91-9F39-4BA2-AD18-B084A589ED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7750-CEC2-41B9-B350-654917A490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3DC4-7DF9-46CE-A844-FC73788C82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F732-671B-4E9D-AAFB-9102279F35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C6E1-757A-4A02-B0A4-F901BC236F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B9C2-6949-419E-B200-98706B4BF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2AAA-9065-4CF4-8D30-61FD13271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F20E-8C4C-419A-8A08-2154F7FC55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5A1C-C05A-4897-8C97-EAC4A20834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E628-A455-4028-81BC-E4ABC81D39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26D6-4CFE-4C6E-9CFF-5E0C4A74B7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CE29-0D09-4D94-B213-2101BD4D50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2CA-E9E8-4CF8-82A4-D17F33D420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606-BD4C-4421-94AA-F87E857D7D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DA8-4948-4CC5-977F-1536846B59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BE7-EB68-4D16-A9D8-542EBF8111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202-6452-43E1-9576-29051B683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9354-06AB-43FF-8021-ED6432AF41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899-F7AC-4517-91B1-7053A37F21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225-B572-4609-B553-0FCDB91E8F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D80-D5E7-4E1D-A7FE-17AAB5FA0E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EFC-88C4-4F37-AA64-C9D698675B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328-9B6B-4D60-A059-4AAF7B02BF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208-9E7E-44E3-A01F-F4F6B3D3AA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FEC-2CF4-43D2-96E4-8789FA47DB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A275E-E857-4BE2-9A47-AE83265EE1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B1596-675C-4436-A4E0-5EEC25351C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6AD40-2C7B-4544-A595-C8DD3A789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A759-9ACE-48EF-8B4E-D3CA15C99B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7E046-7376-4A84-968D-77352AFA1F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97C48-F620-4ECD-AB9F-3D92313C55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23BE6-DA83-46A7-9385-61EB8E10E8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83547-0AF8-424D-8602-3D297AB66A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2BB6A-0A07-4979-9DA0-4A2B5A8720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F234F-C020-412F-AAEB-AE3EE52796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10E0C-DB56-4C83-81E2-07945E0018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90392-1FB7-437A-9270-156B885223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E14BA-BBFB-492A-BB3B-544DC01D1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E279-5DE4-4C86-97B1-8E9331597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6E8B-F9FB-4DF0-A567-C9AA2E54B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329C-97E3-4740-B5C9-86B509EB7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2F3D-507A-4DF5-95C9-AAC792DA9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55C4-3823-4AD4-9667-77C48793E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AF96-7840-44C6-8262-D4819B46F8B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E211-C782-40CB-A20B-816AAF7C2BB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1F0F-76C4-4925-91AF-83612BD4783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45EA-98C6-4C83-BFCD-6F17E6C1BE2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A1A4-ECF6-44A4-860D-019AD175F56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9508-5581-4A2D-9AD1-DEFF84E2694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are subordinating conjunctions that we use to make complex senten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finish my homewo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go to b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soon 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s soon 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ve been doing my homewo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i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came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’t go to bed until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d a sandwic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was doing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878E-B898-4E13-A2E2-928B24639F2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lthou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finished his homework, h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n’t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finish your homework, you c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not go to b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ish your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go to b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finish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2F61-A7D8-4FD6-9BDA-D4AB7F6BEEB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ordination = Subordinat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the following 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Francisco gets a shopping cart. Then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simple sente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Francisco gets a shopping cart, and then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ound sent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Francisco gets a shopping cart before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lex sent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entences 1 and 2 and 3 have the same meaning. 1 = 2 = 3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7D3E-A460-4FF9-ADAA-22CCD1C290C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6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ordination = Subordinat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exampl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tarted to rain.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tarted to rain, so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it started to rain,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entences 1 and 2 and 3 have the same meaning. 1 = 2 = 3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A826-2B93-4932-B694-531FD2A8D1D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023240" y="22096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2 simple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7552800" y="320040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8313120" y="41148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ich is the best way to rewrite the following sentence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Cut the tomato and the onion. After that, put them in the bowl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t the tomato and onion before you put them in the bow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t the tomato and onion after you put them in the bow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the tomato and the onion in the bowl before you cut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7E2F-32BD-40C0-BEAC-B5BE3B49B98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061000" y="358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ich is the best way to rewrite the following sente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 because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, so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, but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like healthy food, so they don’t buy junk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like healthy food, but they don’t buy junk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FA4D-2BAB-4FD6-B5DA-701B75C467F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8461800" y="3733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best sub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al hated school ______ he always got good gr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E6C3-EB51-4747-93CD-0D542AB85D1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2670480" y="4648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best sub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ila cleaned her room ______ her mother got home from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F6BD-6B49-4DCB-AAB4-B9E6EA8F7DE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365560" y="39625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e whether each sentence is simple, compound, or comple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a began planning her summer vacation in Dece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left the play early, I missed the surprise e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ya was invited to a party,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wants to buy a new outf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EE29-14E5-44F2-BF70-F0EFBFF8603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290124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369520" y="44197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2980440" y="54864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ison finished playing the video game, she shut down the compu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aning of this poem is difficult to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and his brother went fishing last weekend,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caught lots of f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4AB0-C6F6-4716-A529-093F15E74F3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341320" y="22096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76788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4961520" y="44956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2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919A-FA3A-460D-9E33-A71FE37D24F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6FC1-88FC-4B4C-858D-25705A7C981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76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lex Sentence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عقدة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EC0E-0D68-459F-B86B-07DD54294F7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clause is a group of words that contains a subject and a verb. (= simple sent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are two kinds of clauses in Englis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ependent clauses: </a:t>
            </a: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جملة مستقل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. Dependent clauses:(also called a fragment) </a:t>
            </a: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جملة تاب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..because 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E584-9ACA-44FE-8CB3-242725031D7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dependent clause ha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ir and expresses a complete thought. (It is just another name for a simple sent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rai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ung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Ahm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lay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otball with his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Leil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tch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ie on 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37F7-4A81-4239-BBA4-9987F6CA9D6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ependent clause is an independent clause with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ordinating conjunction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أدوات تكوين الجمل المعقدة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uch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ecause, after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wasn’t hungr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mad played football with his friend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ila watched a movie on TV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8359-E848-4095-83EA-CE6816FF967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pendent clau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NOT express a complete thought, so it is NOT a sentence by itsel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only a fragment. It MUST be joined to an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result is a complex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We didn’t go the pa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I wasn’t hungr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ecause I had a big break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Ahmad played football with his friend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fter he did his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fore Leila watched a movie on TV,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she helped her mother in the kitc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se four sentences are called complex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20C3-1027-427B-A892-9C393F590A8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394000" y="2133720"/>
            <a:ext cx="623232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Becau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294bd9"/>
                </a:solidFill>
                <a:latin typeface="Times New Roman"/>
                <a:ea typeface="Arial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58a034"/>
                </a:solidFill>
                <a:latin typeface="Times New Roman"/>
                <a:ea typeface="Arial"/>
              </a:rPr>
              <a:t>wan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Arial"/>
              </a:rPr>
              <a:t>to have fu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228760" y="4876920"/>
            <a:ext cx="668664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bd9"/>
                </a:solidFill>
                <a:latin typeface="Times New Roman"/>
                <a:ea typeface="Arial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58a034"/>
                </a:solidFill>
                <a:latin typeface="Times New Roman"/>
                <a:ea typeface="Arial"/>
              </a:rPr>
              <a:t>w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Arial"/>
              </a:rPr>
              <a:t>to the beach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446160" y="4114800"/>
            <a:ext cx="120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806560" y="4038480"/>
            <a:ext cx="1403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1041480" y="3352680"/>
            <a:ext cx="1585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ubordin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on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3"/>
          <p:cNvSpPr/>
          <p:nvPr/>
        </p:nvSpPr>
        <p:spPr>
          <a:xfrm rot="5400000">
            <a:off x="5917680" y="2349360"/>
            <a:ext cx="380880" cy="528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7080 h 5283000"/>
              <a:gd name="textAreaBottom" fmla="*/ 5155920 h 528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6166"/>
                </a:lnTo>
                <a:cubicBezTo>
                  <a:pt x="10800" y="6997"/>
                  <a:pt x="5400" y="7828"/>
                  <a:pt x="0" y="7828"/>
                </a:cubicBezTo>
                <a:cubicBezTo>
                  <a:pt x="5400" y="7828"/>
                  <a:pt x="10800" y="8659"/>
                  <a:pt x="10800" y="9490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4"/>
          <p:cNvSpPr/>
          <p:nvPr/>
        </p:nvSpPr>
        <p:spPr>
          <a:xfrm flipH="1">
            <a:off x="3137040" y="4648320"/>
            <a:ext cx="1648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5"/>
          <p:cNvSpPr/>
          <p:nvPr/>
        </p:nvSpPr>
        <p:spPr>
          <a:xfrm>
            <a:off x="1486080" y="2590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6"/>
          <p:cNvSpPr/>
          <p:nvPr/>
        </p:nvSpPr>
        <p:spPr>
          <a:xfrm>
            <a:off x="1486080" y="2590920"/>
            <a:ext cx="1155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0"/>
          <p:cNvSpPr/>
          <p:nvPr/>
        </p:nvSpPr>
        <p:spPr>
          <a:xfrm rot="16174800">
            <a:off x="5538600" y="86760"/>
            <a:ext cx="306360" cy="5615280"/>
          </a:xfrm>
          <a:custGeom>
            <a:avLst/>
            <a:gdLst>
              <a:gd name="textAreaLeft" fmla="*/ 195840 w 306360"/>
              <a:gd name="textAreaRight" fmla="*/ 306360 w 306360"/>
              <a:gd name="textAreaTop" fmla="*/ 135000 h 5615280"/>
              <a:gd name="textAreaBottom" fmla="*/ 5480280 h 561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6984"/>
                </a:lnTo>
                <a:cubicBezTo>
                  <a:pt x="10800" y="7815"/>
                  <a:pt x="5400" y="8646"/>
                  <a:pt x="0" y="8646"/>
                </a:cubicBezTo>
                <a:cubicBezTo>
                  <a:pt x="5400" y="8646"/>
                  <a:pt x="10800" y="9477"/>
                  <a:pt x="10800" y="10308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408280" y="3124080"/>
            <a:ext cx="2067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t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4205880" y="5791320"/>
            <a:ext cx="2219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complex sentence has one independent clause and one (or more) dependent clau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We didn’t go the park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I wasn’t hungry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because I had a big breakf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Ahmad played football with his friend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fter he did his home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Leila helped her mother in the kitche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fore she watched a movie on T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 can change the order of clauses in a complex sent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we didn’t go the pa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 had a big breakfa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I wasn’t hung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fter Ahmad did his homewo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he played football with his frie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fore Leila watched a movie on T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she helped her mother in the kitch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the dependent clause comes first, use comma (,) 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4523-71B2-4F2E-8059-491EF3DD319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09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10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6:09Z</dcterms:modified>
  <cp:revision>282</cp:revision>
  <dc:subject/>
  <dc:title>Slide 1</dc:title>
</cp:coreProperties>
</file>