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792E-EC3B-4B6C-B31B-8AA2CB37606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9BE7-A8C7-4716-969E-30FFC6C39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206D-D5D1-4F3C-BB52-7F61AB635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F6A1-099A-42CC-9DD2-C7D1C4B8C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F0B4-3BFE-44FB-BD3A-0EB4E79AA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0E87-51BC-453C-958D-85AB40930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DF33B-9690-4895-B227-4EC90E53AD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6C0EA-2304-4AAD-9B52-CC160D6E87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7D25B-EA77-414A-B2E3-9D0FB502E6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A234A-CD99-4190-AD2E-80B7C5C480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54A42-22E9-42DB-B625-83C2E2CE32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BFDB-9EB0-4362-9302-C435F5B300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33D30-6266-43D8-91A0-19ED4332C5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4881-EBD3-47B1-B6B5-13CF9BC70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D57BC-5564-4108-902E-E679B3BD7F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118BE-BC23-4523-AA74-949EDB4096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617A7-0FEC-472D-9045-78621FB608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5BFF3-00B3-4DAB-84F2-AAD08A3579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D90E1-AC89-4E90-8861-C2A580F090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E190-10E6-4A42-B00F-63FAF694E6F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4A6-53BD-4762-A520-B254B94C9F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32A-2644-4BF8-9DC5-0CAB9D71E6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97EA-0680-4A15-B928-C7AB7D3B79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374-6FE4-4153-9908-F62CBADD17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D655F-8EAC-459E-8063-0F97E5F827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4B6C-AE12-4BFB-A609-92BA591F869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DBC-0FB0-4D44-B367-08B472815C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F61-06E3-4F6B-AAA9-8E9F9CB0E9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DFA-3BC5-43E6-A6A6-88F612A1CC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A78E-ABBF-4090-9D11-94293F39621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505E-2A89-464D-ABCE-8291918790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1B73-0888-4FF3-862B-5F93D2BC3F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4BBC0-C93F-4CA6-B456-C39B234A990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05125-2079-4D49-B878-DD1FC906E9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A6D5F-FC8F-497F-9736-5BF299059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1008-D979-4655-9419-A25ED44099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B5AC7-DCC4-4E2F-89B7-070BAF26E1F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E156B-1ED8-4C50-8AC3-1EFD527BF95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44996-443F-4463-83FC-7D69DFA6EA9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E162C-EF4F-4630-81D4-7AE8BE57F0B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AA291-A3E6-4C53-92F9-CC99CF2808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D5350-FDCA-4319-BE6D-74FB90078CE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06A2B-C492-4393-9ABB-3E255CB248A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FAC14-FA3D-4A21-9816-49DF6519C3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B502EB-AE77-4C66-8250-839CD5A0B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31CD5-21A9-4AEB-B384-3FCE96764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6F87-7D3E-45A4-803F-8CC820202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8DF9-01A0-4055-96B8-B8132D96B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DDB72-C725-4542-8EC0-9998097F9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CEDC-60E1-40D2-AA65-35FD256A5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8D31-3B5A-40FE-BF23-EC27519813D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6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218556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5A64-DE3D-4B09-BE59-5E112D4AF68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92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BB5F-61FE-44DE-85E7-2755D21A6C1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39" name="Oval 8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Rectangle 10"/>
          <p:cNvSpPr/>
          <p:nvPr/>
        </p:nvSpPr>
        <p:spPr>
          <a:xfrm>
            <a:off x="388800" y="6372360"/>
            <a:ext cx="25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 [        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D376-01DE-4061-8489-CED2A417098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ymedina.com/" TargetMode="External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fofranchising.it/" TargetMode="Externa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66F0-BBC2-4C6C-AD6E-6CD29D11F6D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ubtitle 2"/>
          <p:cNvSpPr/>
          <p:nvPr/>
        </p:nvSpPr>
        <p:spPr>
          <a:xfrm>
            <a:off x="5562720" y="4800600"/>
            <a:ext cx="400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e46c0a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e46c0a"/>
                </a:solidFill>
                <a:latin typeface="Calibri"/>
              </a:rPr>
              <a:t>كلية </a:t>
            </a:r>
            <a:r>
              <a:rPr b="0" lang="ar-SA" sz="2400" spc="-1" strike="noStrike">
                <a:solidFill>
                  <a:srgbClr val="e46c0a"/>
                </a:solidFill>
                <a:latin typeface="Calibri"/>
              </a:rPr>
              <a:t>الآدا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198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itle 1"/>
          <p:cNvSpPr/>
          <p:nvPr/>
        </p:nvSpPr>
        <p:spPr>
          <a:xfrm>
            <a:off x="457200" y="2895480"/>
            <a:ext cx="5099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سم المقرر ورقمه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: مبادئ الإدار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فصل الدراسي 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أول</a:t>
            </a:r>
            <a:br>
              <a:rPr sz="2200"/>
            </a:br>
            <a:r>
              <a:rPr b="1" lang="ar-EG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عام الدراسي 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43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0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 – </a:t>
            </a:r>
            <a:r>
              <a:rPr b="1" lang="ar-EG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43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ea typeface="Times New Roman"/>
              </a:rPr>
              <a:t>1</a:t>
            </a:r>
            <a:r>
              <a:rPr b="1" lang="ar-SA" sz="2200" spc="-1" strike="noStrike">
                <a:solidFill>
                  <a:srgbClr val="e46c0a"/>
                </a:solidFill>
                <a:latin typeface="Calibri"/>
                <a:cs typeface="Times New Roman"/>
              </a:rPr>
              <a:t>ه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د. ندير علي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A07E-1D79-4ECB-8C8D-59BDE56802B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أعمال العائلية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Family Business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ي تلك الأعمال الصغيرة التي تمتلك من طرف افراد عائلة واحدة لتوفير مصدر رزق لها (محلات تجارية، صيدليات،...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أعمال المنزلية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Home-Based Business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ي أعمال تمارس في المنزل ومملوكة مباشرة من قبل فرد أو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أكثر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AA38-3B8C-415A-BAC9-25AA65A0500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عايير تصنيف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66C2-2150-444E-B9B3-93A4A12A8BE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00120" y="1785960"/>
          <a:ext cx="7120080" cy="3627360"/>
        </p:xfrm>
        <a:graphic>
          <a:graphicData uri="http://schemas.openxmlformats.org/drawingml/2006/table">
            <a:tbl>
              <a:tblPr/>
              <a:tblGrid>
                <a:gridCol w="3560760"/>
                <a:gridCol w="355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عيار عدد العم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دول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1224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افراد ـ 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مريك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1224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مملكة العربية السعود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ـ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بريطاني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ـ 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اتحاد الاوروب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ماليزي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2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قل من </a:t>
                      </a: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QA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الجزائر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جالات نشاط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أعمال التوزيع بكافة أشكالها (مثل تجارة الجملة والتجزئة والنقل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خدمات الأخرى غير المادية (مثل الخدمات الطبية، المطاعم، التنظيف، ...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أعمال البناء (البناء، الكهرباء ،...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تصنيع (مثل الحرفيين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41D2-D5C4-49CB-98F9-D4FBE9C14C0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همية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خلق وظائف (في الكثير من الدول هي المحرك الاقتصادي الاساسي لخلق الوظائف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مصدر للإبداع التكنولوجي (تلعب دور كبير في تحسين وابتكار المنتجات وعمليات انتاجية جديدة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نافسة (تلعب دور ايجابي لخلق ودفع روح المنافسة في السوق وهذا يعد شيئ ايجابي للمستهلك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إشباع حاجات المجتمع وقطاع الأعمال (مثل صناعة الجواهر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40194-C485-4796-B1D0-F014DE36A75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المبادرة عبر الانترنت و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لقد فتح الانترنت آفاقا كبيرة أمام المبادرة في إطار الأعمال، فهناك الكثير من الأعمال الناجحة التي كانت بفضل جهود عدد قليل من الأفراد (مثل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Google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،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e-Bay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)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  يمكنكم مراجعة موقع انترنت هذه منظمة الأعمال الصغيرة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mymedina.c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 كمثال لمبادرات ناجحة في مجال الخدمات السياحة عبر الانترنت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C6AA-4667-47BE-8319-FEB2ED35FAA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سباب نجاح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فكرة جيد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خطة واضح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شجاعة وجرأة في التنفيذ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إتباع إستراتيجية إبداعية قادرة على خلق ميزات تنافسية للمشروع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تشخيص جزء من السوق الذي لم يخدم بشكل جيد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B187-1302-42DD-8FB6-DB1865F969F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سباب فشل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نقص الخبر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نقص التجرب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عدم وجود إستراتيجية واضحة للعمل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عدم وجود قيادة الواعية للمحيط البيئي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رقابة مالية غير كافي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قلة الالتزام بالعمل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E5B1-D740-4562-B6D5-737D15140A9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آليات إقامة الأعمال الصغير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بدء بعمل جديد تماما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شراء 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نشاط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قائم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تغيير اختصاص عمل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شراكة مع الآخرين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امتياز </a:t>
            </a:r>
            <a:r>
              <a:rPr b="1" lang="it-IT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Franchising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(</a:t>
            </a:r>
            <a:r>
              <a:rPr b="0" lang="it-CH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infofranchising.it</a:t>
            </a:r>
            <a:r>
              <a:rPr b="1" lang="ar-Q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)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B5BF-8739-4D8E-9D3D-E15D7291A88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شخصيات ناجحة  بدأت من أعمال صغيرة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2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4784-8810-4411-8ADA-19ECE07B75D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047760" cy="2397240"/>
          </a:xfrm>
          <a:prstGeom prst="rect">
            <a:avLst/>
          </a:prstGeom>
          <a:ln w="0">
            <a:noFill/>
          </a:ln>
        </p:spPr>
      </p:pic>
      <p:sp>
        <p:nvSpPr>
          <p:cNvPr id="254" name="CasellaDiTesto 11"/>
          <p:cNvSpPr/>
          <p:nvPr/>
        </p:nvSpPr>
        <p:spPr>
          <a:xfrm>
            <a:off x="304920" y="3962520"/>
            <a:ext cx="373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Bill G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Microsoft</a:t>
            </a: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5486400" y="1523880"/>
            <a:ext cx="3657600" cy="2386080"/>
          </a:xfrm>
          <a:prstGeom prst="rect">
            <a:avLst/>
          </a:prstGeom>
          <a:ln w="0">
            <a:noFill/>
          </a:ln>
        </p:spPr>
      </p:pic>
      <p:sp>
        <p:nvSpPr>
          <p:cNvPr id="256" name="CasellaDiTesto 5"/>
          <p:cNvSpPr/>
          <p:nvPr/>
        </p:nvSpPr>
        <p:spPr>
          <a:xfrm>
            <a:off x="5105520" y="3962520"/>
            <a:ext cx="45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"/>
              </a:rPr>
              <a:t>Sergey Brin 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e46c0a"/>
                </a:solidFill>
                <a:latin typeface="Arial"/>
              </a:rPr>
              <a:t> Larry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Google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58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690A8-5EE2-404C-AE33-5CDE1C2F514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1743120" cy="2781360"/>
          </a:xfrm>
          <a:prstGeom prst="rect">
            <a:avLst/>
          </a:prstGeom>
          <a:ln w="0">
            <a:noFill/>
          </a:ln>
        </p:spPr>
      </p:pic>
      <p:sp>
        <p:nvSpPr>
          <p:cNvPr id="260" name="CasellaDiTesto 5"/>
          <p:cNvSpPr/>
          <p:nvPr/>
        </p:nvSpPr>
        <p:spPr>
          <a:xfrm>
            <a:off x="228600" y="43434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46c0a"/>
                </a:solidFill>
                <a:latin typeface="Arial"/>
              </a:rPr>
              <a:t>Enzo Ferrari</a:t>
            </a:r>
            <a:r>
              <a:rPr b="1" lang="ar-QA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2" descr="http://t3.gstatic.com/images?q=tbn:Ia63lG06pgZcBM:http://kingdom.com.sa/sysadmin/NewsManagment/articlefiles/280-HRH%2520Prince%2520Alwaleed%2520bin%2520Talal,%2520Apr%252009.JPG"/>
          <p:cNvPicPr/>
          <p:nvPr/>
        </p:nvPicPr>
        <p:blipFill>
          <a:blip r:embed="rId2"/>
          <a:stretch/>
        </p:blipFill>
        <p:spPr>
          <a:xfrm>
            <a:off x="6629400" y="1600200"/>
            <a:ext cx="1847880" cy="2771640"/>
          </a:xfrm>
          <a:prstGeom prst="rect">
            <a:avLst/>
          </a:prstGeom>
          <a:ln w="0">
            <a:noFill/>
          </a:ln>
        </p:spPr>
      </p:pic>
      <p:sp>
        <p:nvSpPr>
          <p:cNvPr id="262" name="CasellaDiTesto 5"/>
          <p:cNvSpPr/>
          <p:nvPr/>
        </p:nvSpPr>
        <p:spPr>
          <a:xfrm>
            <a:off x="5562720" y="4419720"/>
            <a:ext cx="39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46c0a"/>
                </a:solidFill>
                <a:latin typeface="Arial"/>
              </a:rPr>
              <a:t>Al-Walīd bin Ṭalā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2133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e46c0a"/>
                </a:solidFill>
                <a:latin typeface="Calibri"/>
              </a:rPr>
              <a:t>ال</a:t>
            </a:r>
            <a:r>
              <a:rPr b="1" lang="ar-SA" sz="4400" spc="-1" strike="noStrike">
                <a:solidFill>
                  <a:srgbClr val="e46c0a"/>
                </a:solidFill>
                <a:latin typeface="Calibri"/>
              </a:rPr>
              <a:t>محاضرة الثانية عشرة</a:t>
            </a:r>
            <a:r>
              <a:rPr b="1" lang="ar-DZ" sz="4400" spc="-1" strike="noStrike">
                <a:solidFill>
                  <a:srgbClr val="e46c0a"/>
                </a:solidFill>
                <a:latin typeface="Calibri"/>
              </a:rPr>
              <a:t>: </a:t>
            </a:r>
            <a:br>
              <a:rPr sz="3200"/>
            </a:b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429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e46c0a"/>
                </a:solidFill>
                <a:latin typeface="Calibri"/>
                <a:ea typeface="Calibri"/>
              </a:rPr>
              <a:t> </a:t>
            </a:r>
            <a:r>
              <a:rPr b="1" lang="ar-SA" sz="5400" spc="-1" strike="noStrike">
                <a:solidFill>
                  <a:srgbClr val="e46c0a"/>
                </a:solidFill>
                <a:latin typeface="Calibri"/>
                <a:cs typeface="Calibri"/>
              </a:rPr>
              <a:t>الريادة </a:t>
            </a:r>
            <a:br>
              <a:rPr sz="5400"/>
            </a:br>
            <a:r>
              <a:rPr b="1" lang="ar-SA" sz="5400" spc="-1" strike="noStrike">
                <a:solidFill>
                  <a:srgbClr val="e46c0a"/>
                </a:solidFill>
                <a:latin typeface="Calibri"/>
                <a:cs typeface="Calibri"/>
              </a:rPr>
              <a:t>والمشروعات الصغير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2185920" y="6356520"/>
            <a:ext cx="482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6AB3-D82B-4D16-8889-ABFBDECC13F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948B-B89E-4C5F-9A36-07AECE077DD2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5"/>
          <p:cNvGrpSpPr/>
          <p:nvPr/>
        </p:nvGrpSpPr>
        <p:grpSpPr>
          <a:xfrm>
            <a:off x="5181480" y="1981080"/>
            <a:ext cx="2600280" cy="2524320"/>
            <a:chOff x="5181480" y="1981080"/>
            <a:chExt cx="2600280" cy="2524320"/>
          </a:xfrm>
        </p:grpSpPr>
        <p:sp>
          <p:nvSpPr>
            <p:cNvPr id="266" name="Oval 6"/>
            <p:cNvSpPr/>
            <p:nvPr/>
          </p:nvSpPr>
          <p:spPr>
            <a:xfrm>
              <a:off x="527832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7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518148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Rectangle 8"/>
          <p:cNvSpPr/>
          <p:nvPr/>
        </p:nvSpPr>
        <p:spPr>
          <a:xfrm>
            <a:off x="2362320" y="33526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6"/>
          <p:cNvSpPr/>
          <p:nvPr/>
        </p:nvSpPr>
        <p:spPr>
          <a:xfrm>
            <a:off x="236232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DZ" sz="4400" spc="-1" strike="noStrike">
                <a:solidFill>
                  <a:srgbClr val="376092"/>
                </a:solidFill>
                <a:latin typeface="Calibri"/>
              </a:rPr>
              <a:t>الأهداف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07" name="ZoneTexte 3"/>
          <p:cNvSpPr/>
          <p:nvPr/>
        </p:nvSpPr>
        <p:spPr>
          <a:xfrm>
            <a:off x="228600" y="16002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ت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هدف هذ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ه المحاضرة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إلى التعريف بـ</a:t>
            </a:r>
            <a:r>
              <a:rPr b="1" lang="ar-DZ" sz="4000" spc="-1" strike="noStrike">
                <a:solidFill>
                  <a:srgbClr val="e46c0a"/>
                </a:solidFill>
                <a:latin typeface="Arial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4000" spc="-1" strike="noStrike">
                <a:solidFill>
                  <a:srgbClr val="e46c0a"/>
                </a:solidFill>
                <a:latin typeface="Arial"/>
              </a:rPr>
              <a:t>ـ مفهوم </a:t>
            </a: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المبادر والريادة والمشروعات الصغيرة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46c0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خصائص الشخصية المبادرة اوالرائدة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e46c0a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e46c0a"/>
                </a:solidFill>
                <a:latin typeface="Arial"/>
              </a:rPr>
              <a:t> معايير تصنيف الأعمال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عنصر نائب لرقم الشريحة 4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E4591-6803-4574-8564-55F00492BE2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المحتوى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فهوم المبادرات الخاص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خصائص الشخصية المبادر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فاهيم خاطئة عن الشخصية المباد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أنواع المبادرات الخاص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عايير تصنيف 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مجالات نشاط 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المبادرة عبر الانترنت و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أسباب نجاح وفشل الأعمال الصغير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e46c0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AAF8-73B9-473E-91EE-2C2E1CBE7BB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فهوم المبادرات الخاصة </a:t>
            </a:r>
            <a:r>
              <a:rPr b="1" lang="it-IT" sz="4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Entrepreneurship</a:t>
            </a:r>
            <a:endParaRPr b="0" lang="en-US" sz="40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  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هي خصائص وسلوكات تتعلق بالابتداء بعمل والتخطيط له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وتنظيمه وتحمل  مخاطره والإبداع في إدارته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	</a:t>
            </a:r>
            <a:r>
              <a:rPr b="1" lang="ar-QA" sz="3200" spc="-1" strike="noStrike">
                <a:solidFill>
                  <a:srgbClr val="376092"/>
                </a:solidFill>
                <a:latin typeface="Times New Roman"/>
                <a:cs typeface="Times New Roman"/>
              </a:rPr>
              <a:t>المبادر</a:t>
            </a:r>
            <a:r>
              <a:rPr b="1" lang="ar-SA" sz="32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هو فرد يتمتع بقدرات على تحمل المخاطر ورؤية الفرص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	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التخطيط والإدارة الإبداعية لعمل خاص به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8B5D-1F0E-4F51-9F5D-0BF22149637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خصائص الشخصية المبادرة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95000" y="1447560"/>
            <a:ext cx="89154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قدرة على التحكم الذاتي والاعتقاد بأن مصيرهم يحددونه بأنفسهم ويحبون الاستقلالي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تمتعون بطاقة عمل هائلة ويعملون بجد واجتهاد ومثابرة ورغبة بالتميز والنجاح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شعرون بالحاجة إلى تحقيق انجازات متميزة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سعون وراء تحقيق أهداف فيها نسبة كبيرة من التحدي</a:t>
            </a:r>
            <a:r>
              <a:rPr b="1" lang="ar-SA" sz="2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0839-89E3-4C54-BC13-8BFE7767FEC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95000" y="1523880"/>
            <a:ext cx="8915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تقبلون حالات الغموض ويتحملون المخاط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ثقة عالية بالنفس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ت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حلون بالصب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استقلالية وعدم الاتكال على الغي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قدرة على تقبل الفشل ومن ثم تصحيح الأخطاء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ABB2-9E4C-4A75-8DAC-07626E77DFB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مفاهيم خاطئة عن الشخصية المبادرة 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ولدون بموهب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بادر هو شخص مغام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ال هو مفتاح نجاح المبادر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مبادر هو شاب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؛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يحمل شهادة جامعي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BF2CE-CECF-4EDB-8B68-44133138878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76092"/>
                </a:solidFill>
                <a:latin typeface="Calibri"/>
              </a:rPr>
              <a:t>أنواع المبادرات الخاصة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 - </a:t>
            </a:r>
            <a:r>
              <a:rPr b="1" lang="ar-SA" sz="3200" spc="-1" strike="noStrike">
                <a:solidFill>
                  <a:srgbClr val="e46c0a"/>
                </a:solidFill>
                <a:latin typeface="Calibri"/>
                <a:cs typeface="Times New Roman"/>
              </a:rPr>
              <a:t>الأعمال الصغيرة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mall Busi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و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مشروع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يمتلك ويدار من قبل فرد أو أفراد معدودين وبشكل مستقل ويعمل فيه عدد قليل من العاملين ولا يهيمن بأي شكل من الأشكال على القطاع الذي ينشط فيه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ـ الإعمال الصغيرة جدا </a:t>
            </a:r>
            <a:r>
              <a:rPr b="1" lang="it-IT" sz="3200" spc="-1" strike="noStrike">
                <a:solidFill>
                  <a:srgbClr val="e46c0a"/>
                </a:solidFill>
                <a:latin typeface="Times New Roman"/>
              </a:rPr>
              <a:t>Micro Business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هي أعمال توجد في مكان واحد ويعمل فيها اقل من خمسة أفراد 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cs typeface="Times New Roman"/>
              </a:rPr>
              <a:t>وغالبا ما تكون أعمالا حرفية</a:t>
            </a:r>
            <a:r>
              <a:rPr b="1" lang="ar-S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. </a:t>
            </a:r>
            <a:r>
              <a:rPr b="1" lang="ar-QA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عنصر نائب لرقم الشريحة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C4A6-2C3F-4025-AAFE-B852B977BA45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dr. nadir aliane</dc:creator>
  <dc:description/>
  <dc:language>en-US</dc:language>
  <cp:lastModifiedBy>kfu</cp:lastModifiedBy>
  <dcterms:modified xsi:type="dcterms:W3CDTF">2010-12-12T13:17:52Z</dcterms:modified>
  <cp:revision>152</cp:revision>
  <dc:subject/>
  <dc:title>Slide 1</dc:title>
</cp:coreProperties>
</file>