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sldImg"/>
          </p:nvPr>
        </p:nvSpPr>
        <p:spPr>
          <a:xfrm>
            <a:off x="952560" y="685440"/>
            <a:ext cx="495288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73A13-B3B6-42F2-BAA4-44F07A448654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39928-4E06-4336-AF09-0A35DC08AB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539463-755B-4BC4-866A-EC2D148979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9D3E8F-EBE4-4206-955E-5BE71EC8A8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635918-46B4-45A4-8A7C-A30B6A8085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F89ADE-700B-4EDE-AF21-2B41371967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EF5321-F27A-46D8-BB11-E659AC3B80B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BFD776-59C3-48B8-BFB5-86D69AD4EA6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5D3965-6DF4-495F-BF2A-EA11CDA5216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7CE343-1F95-4D1A-A54C-D335D5994A2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DCB1CF-420C-4E03-9E6F-59986664355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262E8C-690E-4DF3-A3F9-A4DB99DE17C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62561E-6F63-4E7F-84D9-B54A72581AD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9446F5-A4FD-421F-ADF8-41037B1CEA3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EE911F-9874-4743-A7B8-B242C9367B6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60B814-183D-4B57-AED6-0841CB14A72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3904A5-C12E-44B1-86E9-96BC929E12A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F6A623-7816-4FA5-8568-4934E6F18BD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586165-AB83-49C2-A0DF-59F43A5F5434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E2231-CF26-4671-9F13-6DEB2289792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0EE55-B270-4BB5-9513-08E1E7CD6F2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43DA9-F2B3-4CBC-93B6-5F619615643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64DEB-8568-428B-9F80-95621B023E3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4931D-2CB5-4CAC-9FBD-E94790A6929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6B53A9-D2E0-4976-B928-BFF5C28E97B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4398A-86BD-4C98-9807-F3CA1A76FBC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2EF56-971C-43BB-815F-EC8964DCD67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7599E-E206-4C9A-9693-E617299A90F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A7F1F-9559-4A25-B8CA-C9188CAA4EB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3C7D8-C04D-4678-8BF1-9936B6869AC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468BC-76C5-4486-86FA-8188F0A9D0D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F344B-499F-458E-A2E2-37A1FCA73030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298562-5A55-4EF8-A66B-DFD0701FF911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A812DD-A941-4BE9-AFFB-DCF42160DB0F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964CA7-A4AA-4D7B-9A95-4568114921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BA4A4B-9EB1-43D8-A38C-B87749E8D409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91F7C9-38DC-4DF9-B717-32476BF0A700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7CCCB8-845A-4006-A401-3DE5EA208DDD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7D5732-1E55-4B5B-BE97-937B8604183E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3DC8B3-BE3C-479C-B980-D5F97F847ED2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82000A-C6B6-4ACF-A30B-5FB97EA152DA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637A16-8EFD-4481-9F87-81A994074B7B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0A88BF-AA2E-4146-8B83-440D42E889E9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5BFF54-1F5B-427A-9D1D-9FDA94993030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570A60-D8DD-4167-ACB5-B2140289A5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56440E-E519-4E2A-9E9F-11FDB275B3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B162F9-4FF9-45D5-B33E-180D63FEA1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0C2A1F-EAB0-4119-A9FF-B54763EA72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688BC6-BEFC-48BA-8FAF-7DC5862F12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83B54C-291B-4A0E-8EED-B435DEC3AD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6324480"/>
            <a:ext cx="9906120" cy="5335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7"/>
          <p:cNvGrpSpPr/>
          <p:nvPr/>
        </p:nvGrpSpPr>
        <p:grpSpPr>
          <a:xfrm>
            <a:off x="8610480" y="5791320"/>
            <a:ext cx="941400" cy="914400"/>
            <a:chOff x="8610480" y="5791320"/>
            <a:chExt cx="941400" cy="914400"/>
          </a:xfrm>
        </p:grpSpPr>
        <p:sp>
          <p:nvSpPr>
            <p:cNvPr id="2" name="Oval 8"/>
            <p:cNvSpPr/>
            <p:nvPr/>
          </p:nvSpPr>
          <p:spPr>
            <a:xfrm>
              <a:off x="8645400" y="5813280"/>
              <a:ext cx="87480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8610480" y="5791320"/>
              <a:ext cx="94140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Rectangle 10"/>
          <p:cNvSpPr/>
          <p:nvPr/>
        </p:nvSpPr>
        <p:spPr>
          <a:xfrm>
            <a:off x="388800" y="6372360"/>
            <a:ext cx="250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 [        ]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E9488-AD45-4D64-8B17-6023CB06F3A8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6"/>
          <p:cNvSpPr/>
          <p:nvPr/>
        </p:nvSpPr>
        <p:spPr>
          <a:xfrm>
            <a:off x="0" y="6324480"/>
            <a:ext cx="9906120" cy="5335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Group 7"/>
          <p:cNvGrpSpPr/>
          <p:nvPr/>
        </p:nvGrpSpPr>
        <p:grpSpPr>
          <a:xfrm>
            <a:off x="8610480" y="5791320"/>
            <a:ext cx="941400" cy="914400"/>
            <a:chOff x="8610480" y="5791320"/>
            <a:chExt cx="941400" cy="914400"/>
          </a:xfrm>
        </p:grpSpPr>
        <p:sp>
          <p:nvSpPr>
            <p:cNvPr id="46" name="Oval 8"/>
            <p:cNvSpPr/>
            <p:nvPr/>
          </p:nvSpPr>
          <p:spPr>
            <a:xfrm>
              <a:off x="8645400" y="5813280"/>
              <a:ext cx="87480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7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8610480" y="5791320"/>
              <a:ext cx="94140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Rectangle 10"/>
          <p:cNvSpPr/>
          <p:nvPr/>
        </p:nvSpPr>
        <p:spPr>
          <a:xfrm>
            <a:off x="388800" y="6372360"/>
            <a:ext cx="250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 [        ]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9"/>
          <p:cNvSpPr/>
          <p:nvPr/>
        </p:nvSpPr>
        <p:spPr>
          <a:xfrm>
            <a:off x="0" y="2133720"/>
            <a:ext cx="2666880" cy="144756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1"/>
          <p:cNvSpPr/>
          <p:nvPr/>
        </p:nvSpPr>
        <p:spPr>
          <a:xfrm>
            <a:off x="7238880" y="2133720"/>
            <a:ext cx="2667240" cy="144756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Num" idx="2"/>
          </p:nvPr>
        </p:nvSpPr>
        <p:spPr>
          <a:xfrm>
            <a:off x="2185560" y="6356520"/>
            <a:ext cx="482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442CC-E0B5-4D36-AAEE-55C6B0002FB8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0" y="6324480"/>
            <a:ext cx="9906120" cy="5335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Group 7"/>
          <p:cNvGrpSpPr/>
          <p:nvPr/>
        </p:nvGrpSpPr>
        <p:grpSpPr>
          <a:xfrm>
            <a:off x="8610480" y="5791320"/>
            <a:ext cx="941400" cy="914400"/>
            <a:chOff x="8610480" y="5791320"/>
            <a:chExt cx="941400" cy="914400"/>
          </a:xfrm>
        </p:grpSpPr>
        <p:sp>
          <p:nvSpPr>
            <p:cNvPr id="92" name="Oval 8"/>
            <p:cNvSpPr/>
            <p:nvPr/>
          </p:nvSpPr>
          <p:spPr>
            <a:xfrm>
              <a:off x="8645400" y="5813280"/>
              <a:ext cx="87480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3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8610480" y="5791320"/>
              <a:ext cx="94140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4" name="Rectangle 10"/>
          <p:cNvSpPr/>
          <p:nvPr/>
        </p:nvSpPr>
        <p:spPr>
          <a:xfrm>
            <a:off x="388800" y="6372360"/>
            <a:ext cx="250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 [        ]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9"/>
          <p:cNvSpPr/>
          <p:nvPr/>
        </p:nvSpPr>
        <p:spPr>
          <a:xfrm>
            <a:off x="9425160" y="281160"/>
            <a:ext cx="304560" cy="10904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traight Connector 11"/>
          <p:cNvSpPr/>
          <p:nvPr/>
        </p:nvSpPr>
        <p:spPr>
          <a:xfrm>
            <a:off x="415800" y="1365120"/>
            <a:ext cx="9296640" cy="64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2"/>
          <p:cNvSpPr/>
          <p:nvPr/>
        </p:nvSpPr>
        <p:spPr>
          <a:xfrm>
            <a:off x="9425160" y="0"/>
            <a:ext cx="304560" cy="301680"/>
          </a:xfrm>
          <a:prstGeom prst="rect">
            <a:avLst/>
          </a:prstGeom>
          <a:solidFill>
            <a:srgbClr val="f79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Num" idx="3"/>
          </p:nvPr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A686B-E2B7-411D-84D7-C141B4F51145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6"/>
          <p:cNvSpPr/>
          <p:nvPr/>
        </p:nvSpPr>
        <p:spPr>
          <a:xfrm>
            <a:off x="0" y="6324480"/>
            <a:ext cx="9906120" cy="5335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Group 7"/>
          <p:cNvGrpSpPr/>
          <p:nvPr/>
        </p:nvGrpSpPr>
        <p:grpSpPr>
          <a:xfrm>
            <a:off x="8610480" y="5791320"/>
            <a:ext cx="941400" cy="914400"/>
            <a:chOff x="8610480" y="5791320"/>
            <a:chExt cx="941400" cy="914400"/>
          </a:xfrm>
        </p:grpSpPr>
        <p:sp>
          <p:nvSpPr>
            <p:cNvPr id="139" name="Oval 8"/>
            <p:cNvSpPr/>
            <p:nvPr/>
          </p:nvSpPr>
          <p:spPr>
            <a:xfrm>
              <a:off x="8645400" y="5813280"/>
              <a:ext cx="87480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0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8610480" y="5791320"/>
              <a:ext cx="94140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1" name="Rectangle 10"/>
          <p:cNvSpPr/>
          <p:nvPr/>
        </p:nvSpPr>
        <p:spPr>
          <a:xfrm>
            <a:off x="388800" y="6372360"/>
            <a:ext cx="250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 [        ]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9"/>
          <p:cNvSpPr/>
          <p:nvPr/>
        </p:nvSpPr>
        <p:spPr>
          <a:xfrm>
            <a:off x="9425160" y="281160"/>
            <a:ext cx="304560" cy="10904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traight Connector 11"/>
          <p:cNvSpPr/>
          <p:nvPr/>
        </p:nvSpPr>
        <p:spPr>
          <a:xfrm>
            <a:off x="415800" y="1365120"/>
            <a:ext cx="9296640" cy="64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2"/>
          <p:cNvSpPr/>
          <p:nvPr/>
        </p:nvSpPr>
        <p:spPr>
          <a:xfrm>
            <a:off x="9425160" y="0"/>
            <a:ext cx="304560" cy="301680"/>
          </a:xfrm>
          <a:prstGeom prst="rect">
            <a:avLst/>
          </a:prstGeom>
          <a:solidFill>
            <a:srgbClr val="f79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sldNum" idx="4"/>
          </p:nvPr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1CD2A-F50D-416D-B933-AC376D6B7E9E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mymedina.com/" TargetMode="External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infofranchising.it/" TargetMode="External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42680" y="2130120"/>
            <a:ext cx="84200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1485720" y="38862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193" name="Slide Number Placeholder 3"/>
          <p:cNvSpPr/>
          <p:nvPr/>
        </p:nvSpPr>
        <p:spPr>
          <a:xfrm>
            <a:off x="2185920" y="6356520"/>
            <a:ext cx="482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7151A-7051-4AA0-A681-8BD3231E41BA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4"/>
          <p:cNvSpPr/>
          <p:nvPr/>
        </p:nvSpPr>
        <p:spPr>
          <a:xfrm>
            <a:off x="0" y="0"/>
            <a:ext cx="99061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5"/>
          <p:cNvSpPr/>
          <p:nvPr/>
        </p:nvSpPr>
        <p:spPr>
          <a:xfrm>
            <a:off x="0" y="0"/>
            <a:ext cx="9906120" cy="3429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Subtitle 2"/>
          <p:cNvSpPr/>
          <p:nvPr/>
        </p:nvSpPr>
        <p:spPr>
          <a:xfrm>
            <a:off x="5562720" y="4800600"/>
            <a:ext cx="40068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e46c0a"/>
                </a:solidFill>
                <a:latin typeface="Calibri"/>
              </a:rPr>
              <a:t>نظام التعليم المطور للانتسا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400" spc="-1" strike="noStrike">
                <a:solidFill>
                  <a:srgbClr val="e46c0a"/>
                </a:solidFill>
                <a:latin typeface="Calibri"/>
              </a:rPr>
              <a:t>كلية </a:t>
            </a:r>
            <a:r>
              <a:rPr b="0" lang="ar-SA" sz="2400" spc="-1" strike="noStrike">
                <a:solidFill>
                  <a:srgbClr val="e46c0a"/>
                </a:solidFill>
                <a:latin typeface="Calibri"/>
              </a:rPr>
              <a:t>الآدا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Group 7"/>
          <p:cNvGrpSpPr/>
          <p:nvPr/>
        </p:nvGrpSpPr>
        <p:grpSpPr>
          <a:xfrm>
            <a:off x="6494400" y="1981080"/>
            <a:ext cx="2600280" cy="2524320"/>
            <a:chOff x="6494400" y="1981080"/>
            <a:chExt cx="2600280" cy="2524320"/>
          </a:xfrm>
        </p:grpSpPr>
        <p:sp>
          <p:nvSpPr>
            <p:cNvPr id="198" name="Oval 8"/>
            <p:cNvSpPr/>
            <p:nvPr/>
          </p:nvSpPr>
          <p:spPr>
            <a:xfrm>
              <a:off x="6591240" y="2043000"/>
              <a:ext cx="2417760" cy="2397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9" name="Picture 2" descr="http://kfu.files.googlepages.com/newKFUlogo.jpg"/>
            <p:cNvPicPr/>
            <p:nvPr/>
          </p:nvPicPr>
          <p:blipFill>
            <a:blip r:embed="rId1"/>
            <a:stretch/>
          </p:blipFill>
          <p:spPr>
            <a:xfrm>
              <a:off x="6494400" y="1981080"/>
              <a:ext cx="2600280" cy="252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0" name="Freeform 10"/>
          <p:cNvSpPr/>
          <p:nvPr/>
        </p:nvSpPr>
        <p:spPr>
          <a:xfrm>
            <a:off x="0" y="2666880"/>
            <a:ext cx="6091200" cy="1447920"/>
          </a:xfrm>
          <a:custGeom>
            <a:avLst/>
            <a:gdLst/>
            <a:ahLst/>
            <a:rect l="l" t="t" r="r" b="b"/>
            <a:pathLst>
              <a:path w="6090557" h="1447800">
                <a:moveTo>
                  <a:pt x="1" y="0"/>
                </a:moveTo>
                <a:lnTo>
                  <a:pt x="5366657" y="0"/>
                </a:lnTo>
                <a:cubicBezTo>
                  <a:pt x="5558647" y="0"/>
                  <a:pt x="5742774" y="76268"/>
                  <a:pt x="5878532" y="212026"/>
                </a:cubicBezTo>
                <a:cubicBezTo>
                  <a:pt x="6014289" y="347784"/>
                  <a:pt x="6090557" y="531911"/>
                  <a:pt x="6090557" y="723901"/>
                </a:cubicBezTo>
                <a:lnTo>
                  <a:pt x="6090557" y="723900"/>
                </a:lnTo>
                <a:cubicBezTo>
                  <a:pt x="6090557" y="915890"/>
                  <a:pt x="6014289" y="1100017"/>
                  <a:pt x="5878531" y="1235775"/>
                </a:cubicBezTo>
                <a:cubicBezTo>
                  <a:pt x="5742773" y="1371533"/>
                  <a:pt x="5558646" y="1447800"/>
                  <a:pt x="5366656" y="1447800"/>
                </a:cubicBezTo>
                <a:lnTo>
                  <a:pt x="0" y="144780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itle 1"/>
          <p:cNvSpPr/>
          <p:nvPr/>
        </p:nvSpPr>
        <p:spPr>
          <a:xfrm>
            <a:off x="457200" y="2895480"/>
            <a:ext cx="509904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200" spc="-1" strike="noStrike">
                <a:solidFill>
                  <a:srgbClr val="e46c0a"/>
                </a:solidFill>
                <a:latin typeface="Calibri"/>
                <a:cs typeface="Times New Roman"/>
              </a:rPr>
              <a:t>اسم المقرر ورقمه</a:t>
            </a:r>
            <a:r>
              <a:rPr b="1" lang="ar-SA" sz="2200" spc="-1" strike="noStrike">
                <a:solidFill>
                  <a:srgbClr val="e46c0a"/>
                </a:solidFill>
                <a:latin typeface="Calibri"/>
                <a:ea typeface="Times New Roman"/>
              </a:rPr>
              <a:t>: مبادئ الإدارة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200" spc="-1" strike="noStrike">
                <a:solidFill>
                  <a:srgbClr val="e46c0a"/>
                </a:solidFill>
                <a:latin typeface="Calibri"/>
                <a:cs typeface="Times New Roman"/>
              </a:rPr>
              <a:t>الفصل الدراسي </a:t>
            </a:r>
            <a:r>
              <a:rPr b="1" lang="ar-SA" sz="2200" spc="-1" strike="noStrike">
                <a:solidFill>
                  <a:srgbClr val="e46c0a"/>
                </a:solidFill>
                <a:latin typeface="Calibri"/>
                <a:cs typeface="Times New Roman"/>
              </a:rPr>
              <a:t>الأول</a:t>
            </a:r>
            <a:br>
              <a:rPr sz="2200"/>
            </a:br>
            <a:r>
              <a:rPr b="1" lang="ar-EG" sz="2200" spc="-1" strike="noStrike">
                <a:solidFill>
                  <a:srgbClr val="e46c0a"/>
                </a:solidFill>
                <a:latin typeface="Calibri"/>
                <a:cs typeface="Times New Roman"/>
              </a:rPr>
              <a:t>العام الدراسي </a:t>
            </a:r>
            <a:r>
              <a:rPr b="1" lang="ar-EG" sz="2200" spc="-1" strike="noStrike">
                <a:solidFill>
                  <a:srgbClr val="e46c0a"/>
                </a:solidFill>
                <a:latin typeface="Calibri"/>
                <a:ea typeface="Times New Roman"/>
              </a:rPr>
              <a:t>143</a:t>
            </a:r>
            <a:r>
              <a:rPr b="1" lang="ar-SA" sz="2200" spc="-1" strike="noStrike">
                <a:solidFill>
                  <a:srgbClr val="e46c0a"/>
                </a:solidFill>
                <a:latin typeface="Calibri"/>
                <a:ea typeface="Times New Roman"/>
              </a:rPr>
              <a:t>0</a:t>
            </a:r>
            <a:r>
              <a:rPr b="1" lang="ar-EG" sz="2200" spc="-1" strike="noStrike">
                <a:solidFill>
                  <a:srgbClr val="e46c0a"/>
                </a:solidFill>
                <a:latin typeface="Calibri"/>
                <a:ea typeface="Times New Roman"/>
              </a:rPr>
              <a:t> – </a:t>
            </a:r>
            <a:r>
              <a:rPr b="1" lang="ar-EG" sz="2200" spc="-1" strike="noStrike">
                <a:solidFill>
                  <a:srgbClr val="e46c0a"/>
                </a:solidFill>
                <a:latin typeface="Calibri"/>
                <a:ea typeface="Times New Roman"/>
              </a:rPr>
              <a:t>143</a:t>
            </a:r>
            <a:r>
              <a:rPr b="1" lang="ar-SA" sz="2200" spc="-1" strike="noStrike">
                <a:solidFill>
                  <a:srgbClr val="e46c0a"/>
                </a:solidFill>
                <a:latin typeface="Calibri"/>
                <a:ea typeface="Times New Roman"/>
              </a:rPr>
              <a:t>1</a:t>
            </a:r>
            <a:r>
              <a:rPr b="1" lang="ar-SA" sz="2200" spc="-1" strike="noStrike">
                <a:solidFill>
                  <a:srgbClr val="e46c0a"/>
                </a:solidFill>
                <a:latin typeface="Calibri"/>
                <a:cs typeface="Times New Roman"/>
              </a:rPr>
              <a:t>هـ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e46c0a"/>
                </a:solidFill>
                <a:latin typeface="Calibri"/>
                <a:cs typeface="Times New Roman"/>
              </a:rPr>
              <a:t>د. ندير عليا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Slide Number Placeholder 10"/>
          <p:cNvSpPr/>
          <p:nvPr/>
        </p:nvSpPr>
        <p:spPr>
          <a:xfrm>
            <a:off x="380880" y="6405480"/>
            <a:ext cx="2311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5FB5B-78B7-4A62-BE98-23AC14921AB5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3200" spc="-1" strike="noStrike">
                <a:solidFill>
                  <a:srgbClr val="e46c0a"/>
                </a:solidFill>
                <a:latin typeface="Times New Roman"/>
                <a:cs typeface="Times New Roman"/>
              </a:rPr>
              <a:t>ـ الأعمال العائلية </a:t>
            </a:r>
            <a:r>
              <a:rPr b="1" lang="it-IT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Family Business</a:t>
            </a:r>
            <a:r>
              <a:rPr b="1" lang="ar-QA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3200" spc="-1" strike="noStrike">
                <a:solidFill>
                  <a:srgbClr val="e46c0a"/>
                </a:solidFill>
                <a:latin typeface="Times New Roman"/>
                <a:cs typeface="Times New Roman"/>
              </a:rPr>
              <a:t>وهي تلك الأعمال الصغيرة التي تمتلك من طرف افراد عائلة واحدة لتوفير مصدر رزق لها (محلات تجارية، صيدليات،...)</a:t>
            </a:r>
            <a:r>
              <a:rPr b="1" lang="ar-SA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3200" spc="-1" strike="noStrike">
                <a:solidFill>
                  <a:srgbClr val="e46c0a"/>
                </a:solidFill>
                <a:latin typeface="Times New Roman"/>
                <a:cs typeface="Times New Roman"/>
              </a:rPr>
              <a:t>ـ الأعمال المنزلية </a:t>
            </a:r>
            <a:r>
              <a:rPr b="1" lang="it-IT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Home-Based Business</a:t>
            </a:r>
            <a:r>
              <a:rPr b="1" lang="ar-QA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3200" spc="-1" strike="noStrike">
                <a:solidFill>
                  <a:srgbClr val="e46c0a"/>
                </a:solidFill>
                <a:latin typeface="Times New Roman"/>
                <a:cs typeface="Times New Roman"/>
              </a:rPr>
              <a:t>وهي أعمال تمارس في المنزل ومملوكة مباشرة من قبل فرد أو </a:t>
            </a:r>
            <a:r>
              <a:rPr b="1" lang="ar-SA" sz="3200" spc="-1" strike="noStrike">
                <a:solidFill>
                  <a:srgbClr val="e46c0a"/>
                </a:solidFill>
                <a:latin typeface="Times New Roman"/>
                <a:cs typeface="Times New Roman"/>
              </a:rPr>
              <a:t>أكثر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عنصر نائب لرقم الشريحة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0A5CE-289E-4BAA-B885-1D3073F28C1C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376092"/>
                </a:solidFill>
                <a:latin typeface="Calibri"/>
              </a:rPr>
              <a:t>معايير تصنيف الأعمال الصغيرة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31" name="عنصر نائب لرقم الشريحة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6A248-5B68-431E-A8AE-0B03ED12263D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1500120" y="1785960"/>
          <a:ext cx="7120080" cy="3627360"/>
        </p:xfrm>
        <a:graphic>
          <a:graphicData uri="http://schemas.openxmlformats.org/drawingml/2006/table">
            <a:tbl>
              <a:tblPr/>
              <a:tblGrid>
                <a:gridCol w="3560760"/>
                <a:gridCol w="35593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QA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معيار عدد العمال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1224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QA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الدول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1224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QA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r>
                        <a:rPr b="0" lang="ar-QA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افراد ـ اقل من </a:t>
                      </a:r>
                      <a:r>
                        <a:rPr b="0" lang="ar-QA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1224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9bbb5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QA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امريكا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1224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9bbb59">
                        <a:alpha val="20000"/>
                      </a:srgbClr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QA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اقل من </a:t>
                      </a:r>
                      <a:r>
                        <a:rPr b="0" lang="ar-QA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QA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المملكة العربية السعودي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QA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0" lang="ar-QA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r>
                        <a:rPr b="0" lang="ar-QA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ـ </a:t>
                      </a:r>
                      <a:r>
                        <a:rPr b="0" lang="ar-QA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r>
                        <a:rPr b="0" lang="ar-QA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9bbb5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QA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بريطانيا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9bbb59">
                        <a:alpha val="20000"/>
                      </a:srgbClr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QA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r>
                        <a:rPr b="0" lang="ar-QA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ـ اقل من </a:t>
                      </a:r>
                      <a:r>
                        <a:rPr b="0" lang="ar-QA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9</a:t>
                      </a:r>
                      <a:r>
                        <a:rPr b="0" lang="ar-QA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QA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الاتحاد الاوروبي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QA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اقل من </a:t>
                      </a:r>
                      <a:r>
                        <a:rPr b="0" lang="ar-QA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9bbb5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QA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ماليزيا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9bbb59">
                        <a:alpha val="20000"/>
                      </a:srgbClr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QA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اقل من </a:t>
                      </a:r>
                      <a:r>
                        <a:rPr b="0" lang="ar-QA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QA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الجزائر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376092"/>
                </a:solidFill>
                <a:latin typeface="Calibri"/>
              </a:rPr>
              <a:t>مجالات نشاط الأعمال الصغيرة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3200" spc="-1" strike="noStrike">
                <a:solidFill>
                  <a:srgbClr val="e46c0a"/>
                </a:solidFill>
                <a:latin typeface="Times New Roman"/>
                <a:cs typeface="Times New Roman"/>
              </a:rPr>
              <a:t>ـ أعمال التوزيع بكافة أشكالها (مثل تجارة الجملة والتجزئة والنقل)</a:t>
            </a:r>
            <a:r>
              <a:rPr b="1" lang="ar-SA" sz="3200" spc="-1" strike="noStrike">
                <a:solidFill>
                  <a:srgbClr val="e46c0a"/>
                </a:solidFill>
                <a:latin typeface="Times New Roman"/>
                <a:cs typeface="Times New Roman"/>
              </a:rPr>
              <a:t>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r" rtl="1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3200" spc="-1" strike="noStrike">
                <a:solidFill>
                  <a:srgbClr val="e46c0a"/>
                </a:solidFill>
                <a:latin typeface="Times New Roman"/>
                <a:cs typeface="Times New Roman"/>
              </a:rPr>
              <a:t>ـ الخدمات الأخرى غير المادية (مثل الخدمات الطبية، المطاعم، التنظيف، ...)</a:t>
            </a:r>
            <a:r>
              <a:rPr b="1" lang="ar-SA" sz="3200" spc="-1" strike="noStrike">
                <a:solidFill>
                  <a:srgbClr val="e46c0a"/>
                </a:solidFill>
                <a:latin typeface="Times New Roman"/>
                <a:cs typeface="Times New Roman"/>
              </a:rPr>
              <a:t>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r" rtl="1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3200" spc="-1" strike="noStrike">
                <a:solidFill>
                  <a:srgbClr val="e46c0a"/>
                </a:solidFill>
                <a:latin typeface="Times New Roman"/>
                <a:cs typeface="Times New Roman"/>
              </a:rPr>
              <a:t>ـ أعمال البناء (البناء، الكهرباء ،...)</a:t>
            </a:r>
            <a:r>
              <a:rPr b="1" lang="ar-SA" sz="3200" spc="-1" strike="noStrike">
                <a:solidFill>
                  <a:srgbClr val="e46c0a"/>
                </a:solidFill>
                <a:latin typeface="Times New Roman"/>
                <a:cs typeface="Times New Roman"/>
              </a:rPr>
              <a:t>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r" rtl="1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3200" spc="-1" strike="noStrike">
                <a:solidFill>
                  <a:srgbClr val="e46c0a"/>
                </a:solidFill>
                <a:latin typeface="Times New Roman"/>
                <a:cs typeface="Times New Roman"/>
              </a:rPr>
              <a:t>ـ التصنيع (مثل الحرفيين)</a:t>
            </a:r>
            <a:r>
              <a:rPr b="1" lang="ar-SA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عنصر نائب لرقم الشريحة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ECBD8-091D-4294-ACF5-34F915683481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376092"/>
                </a:solidFill>
                <a:latin typeface="Calibri"/>
              </a:rPr>
              <a:t>أهمية الأعمال الصغيرة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4000" indent="-32400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800" spc="-1" strike="noStrike">
                <a:solidFill>
                  <a:srgbClr val="e46c0a"/>
                </a:solidFill>
                <a:latin typeface="Times New Roman"/>
                <a:cs typeface="Times New Roman"/>
              </a:rPr>
              <a:t>ـ خلق وظائف (في الكثير من الدول هي المحرك الاقتصادي الاساسي لخلق الوظائف)</a:t>
            </a:r>
            <a:r>
              <a:rPr b="1" lang="ar-SA" sz="2800" spc="-1" strike="noStrike">
                <a:solidFill>
                  <a:srgbClr val="e46c0a"/>
                </a:solidFill>
                <a:latin typeface="Times New Roman"/>
                <a:cs typeface="Times New Roman"/>
              </a:rPr>
              <a:t>؛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4000" indent="-324000" algn="r" rtl="1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24000" indent="-32400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800" spc="-1" strike="noStrike">
                <a:solidFill>
                  <a:srgbClr val="e46c0a"/>
                </a:solidFill>
                <a:latin typeface="Times New Roman"/>
                <a:cs typeface="Times New Roman"/>
              </a:rPr>
              <a:t>ـ مصدر للإبداع التكنولوجي (تلعب دور كبير في تحسين وابتكار المنتجات وعمليات انتاجية جديدة)</a:t>
            </a:r>
            <a:r>
              <a:rPr b="1" lang="ar-SA" sz="2800" spc="-1" strike="noStrike">
                <a:solidFill>
                  <a:srgbClr val="e46c0a"/>
                </a:solidFill>
                <a:latin typeface="Times New Roman"/>
                <a:cs typeface="Times New Roman"/>
              </a:rPr>
              <a:t>؛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4000" indent="-324000" algn="r" rtl="1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24000" indent="-32400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800" spc="-1" strike="noStrike">
                <a:solidFill>
                  <a:srgbClr val="e46c0a"/>
                </a:solidFill>
                <a:latin typeface="Times New Roman"/>
                <a:cs typeface="Times New Roman"/>
              </a:rPr>
              <a:t>ـ المنافسة (تلعب دور ايجابي لخلق ودفع روح المنافسة في السوق وهذا يعد شيئ ايجابي للمستهلك)</a:t>
            </a:r>
            <a:r>
              <a:rPr b="1" lang="ar-SA" sz="2800" spc="-1" strike="noStrike">
                <a:solidFill>
                  <a:srgbClr val="e46c0a"/>
                </a:solidFill>
                <a:latin typeface="Times New Roman"/>
                <a:cs typeface="Times New Roman"/>
              </a:rPr>
              <a:t>؛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4000" indent="-324000" algn="r" rtl="1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24000" indent="-32400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800" spc="-1" strike="noStrike">
                <a:solidFill>
                  <a:srgbClr val="e46c0a"/>
                </a:solidFill>
                <a:latin typeface="Times New Roman"/>
                <a:cs typeface="Times New Roman"/>
              </a:rPr>
              <a:t>ـ إشباع حاجات المجتمع وقطاع الأعمال (مثل صناعة الجواهر)</a:t>
            </a:r>
            <a:r>
              <a:rPr b="1" lang="ar-SA" sz="28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4000" indent="-32400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عنصر نائب لرقم الشريحة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8CB2B-2E3E-4B17-9B0B-22747D97F1F0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376092"/>
                </a:solidFill>
                <a:latin typeface="Calibri"/>
              </a:rPr>
              <a:t>المبادرة عبر الانترنت والأعمال الصغيرة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3200" spc="-1" strike="noStrike">
                <a:solidFill>
                  <a:srgbClr val="e46c0a"/>
                </a:solidFill>
                <a:latin typeface="Times New Roman"/>
                <a:cs typeface="Times New Roman"/>
              </a:rPr>
              <a:t>لقد فتح الانترنت آفاقا كبيرة أمام المبادرة في إطار الأعمال، فهناك الكثير من الأعمال الناجحة التي كانت بفضل جهود عدد قليل من الأفراد (مثل </a:t>
            </a:r>
            <a:r>
              <a:rPr b="1" lang="it-IT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Google</a:t>
            </a:r>
            <a:r>
              <a:rPr b="1" lang="ar-QA" sz="3200" spc="-1" strike="noStrike">
                <a:solidFill>
                  <a:srgbClr val="e46c0a"/>
                </a:solidFill>
                <a:latin typeface="Times New Roman"/>
                <a:cs typeface="Times New Roman"/>
              </a:rPr>
              <a:t>، </a:t>
            </a:r>
            <a:r>
              <a:rPr b="1" lang="it-IT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e-Bay</a:t>
            </a:r>
            <a:r>
              <a:rPr b="1" lang="ar-QA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)</a:t>
            </a:r>
            <a:r>
              <a:rPr b="1" lang="ar-SA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     يمكنكم مراجعة موقع انترنت هذه منظمة الأعمال الصغيرة: 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"/>
              </a:rPr>
              <a:t>www.mymedina.com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    كمثال لمبادرات ناجحة في مجال الخدمات السياحة عبر الانترنت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عنصر نائب لرقم الشريحة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36A68-2B79-46D1-A081-D5D2FB17EC25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376092"/>
                </a:solidFill>
                <a:latin typeface="Calibri"/>
              </a:rPr>
              <a:t>أسباب نجاح الأعمال الصغيرة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0760" indent="-32076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3200" spc="-1" strike="noStrike">
                <a:solidFill>
                  <a:srgbClr val="e46c0a"/>
                </a:solidFill>
                <a:latin typeface="Times New Roman"/>
                <a:cs typeface="Times New Roman"/>
              </a:rPr>
              <a:t>ـ فكرة جيدة</a:t>
            </a:r>
            <a:r>
              <a:rPr b="1" lang="ar-SA" sz="3200" spc="-1" strike="noStrike">
                <a:solidFill>
                  <a:srgbClr val="e46c0a"/>
                </a:solidFill>
                <a:latin typeface="Times New Roman"/>
                <a:cs typeface="Times New Roman"/>
              </a:rPr>
              <a:t>؛</a:t>
            </a:r>
            <a:r>
              <a:rPr b="1" lang="ar-QA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0760" indent="-320760" algn="r" rtl="1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20760" indent="-32076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3200" spc="-1" strike="noStrike">
                <a:solidFill>
                  <a:srgbClr val="e46c0a"/>
                </a:solidFill>
                <a:latin typeface="Times New Roman"/>
                <a:cs typeface="Times New Roman"/>
              </a:rPr>
              <a:t>ـ خطة واضحة</a:t>
            </a:r>
            <a:r>
              <a:rPr b="1" lang="ar-SA" sz="3200" spc="-1" strike="noStrike">
                <a:solidFill>
                  <a:srgbClr val="e46c0a"/>
                </a:solidFill>
                <a:latin typeface="Times New Roman"/>
                <a:cs typeface="Times New Roman"/>
              </a:rPr>
              <a:t>؛</a:t>
            </a:r>
            <a:r>
              <a:rPr b="1" lang="ar-QA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0760" indent="-320760" algn="r" rtl="1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20760" indent="-32076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3200" spc="-1" strike="noStrike">
                <a:solidFill>
                  <a:srgbClr val="e46c0a"/>
                </a:solidFill>
                <a:latin typeface="Times New Roman"/>
                <a:cs typeface="Times New Roman"/>
              </a:rPr>
              <a:t>ـ شجاعة وجرأة في التنفيذ</a:t>
            </a:r>
            <a:r>
              <a:rPr b="1" lang="ar-SA" sz="3200" spc="-1" strike="noStrike">
                <a:solidFill>
                  <a:srgbClr val="e46c0a"/>
                </a:solidFill>
                <a:latin typeface="Times New Roman"/>
                <a:cs typeface="Times New Roman"/>
              </a:rPr>
              <a:t>؛</a:t>
            </a:r>
            <a:r>
              <a:rPr b="1" lang="ar-QA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0760" indent="-320760" algn="r" rtl="1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20760" indent="-32076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3200" spc="-1" strike="noStrike">
                <a:solidFill>
                  <a:srgbClr val="e46c0a"/>
                </a:solidFill>
                <a:latin typeface="Times New Roman"/>
                <a:cs typeface="Times New Roman"/>
              </a:rPr>
              <a:t>ـ إتباع إستراتيجية إبداعية قادرة على خلق ميزات تنافسية للمشروع</a:t>
            </a:r>
            <a:r>
              <a:rPr b="1" lang="ar-SA" sz="3200" spc="-1" strike="noStrike">
                <a:solidFill>
                  <a:srgbClr val="e46c0a"/>
                </a:solidFill>
                <a:latin typeface="Times New Roman"/>
                <a:cs typeface="Times New Roman"/>
              </a:rPr>
              <a:t>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0760" indent="-320760" algn="r" rtl="1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20760" indent="-32076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3200" spc="-1" strike="noStrike">
                <a:solidFill>
                  <a:srgbClr val="e46c0a"/>
                </a:solidFill>
                <a:latin typeface="Times New Roman"/>
                <a:cs typeface="Times New Roman"/>
              </a:rPr>
              <a:t>ـ تشخيص جزء من السوق الذي لم يخدم بشكل جيد</a:t>
            </a:r>
            <a:r>
              <a:rPr b="1" lang="ar-SA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.</a:t>
            </a:r>
            <a:r>
              <a:rPr b="1" lang="ar-QA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0760" indent="-320760"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عنصر نائب لرقم الشريحة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25E94-200F-4633-8C25-B36CB9A941EF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376092"/>
                </a:solidFill>
                <a:latin typeface="Calibri"/>
              </a:rPr>
              <a:t>أسباب فشل الأعمال الصغيرة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800" spc="-1" strike="noStrike">
                <a:solidFill>
                  <a:srgbClr val="e46c0a"/>
                </a:solidFill>
                <a:latin typeface="Times New Roman"/>
                <a:cs typeface="Times New Roman"/>
              </a:rPr>
              <a:t>ـ نقص الخبرة</a:t>
            </a:r>
            <a:r>
              <a:rPr b="1" lang="ar-SA" sz="2800" spc="-1" strike="noStrike">
                <a:solidFill>
                  <a:srgbClr val="e46c0a"/>
                </a:solidFill>
                <a:latin typeface="Times New Roman"/>
                <a:cs typeface="Times New Roman"/>
              </a:rPr>
              <a:t>؛</a:t>
            </a:r>
            <a:r>
              <a:rPr b="1" lang="ar-QA" sz="28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r" rtl="1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800" spc="-1" strike="noStrike">
                <a:solidFill>
                  <a:srgbClr val="e46c0a"/>
                </a:solidFill>
                <a:latin typeface="Times New Roman"/>
                <a:cs typeface="Times New Roman"/>
              </a:rPr>
              <a:t>ـ نقص التجربة</a:t>
            </a:r>
            <a:r>
              <a:rPr b="1" lang="ar-SA" sz="2800" spc="-1" strike="noStrike">
                <a:solidFill>
                  <a:srgbClr val="e46c0a"/>
                </a:solidFill>
                <a:latin typeface="Times New Roman"/>
                <a:cs typeface="Times New Roman"/>
              </a:rPr>
              <a:t>؛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r" rtl="1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800" spc="-1" strike="noStrike">
                <a:solidFill>
                  <a:srgbClr val="e46c0a"/>
                </a:solidFill>
                <a:latin typeface="Times New Roman"/>
                <a:cs typeface="Times New Roman"/>
              </a:rPr>
              <a:t>ـ عدم وجود إستراتيجية واضحة للعمل</a:t>
            </a:r>
            <a:r>
              <a:rPr b="1" lang="ar-SA" sz="2800" spc="-1" strike="noStrike">
                <a:solidFill>
                  <a:srgbClr val="e46c0a"/>
                </a:solidFill>
                <a:latin typeface="Times New Roman"/>
                <a:cs typeface="Times New Roman"/>
              </a:rPr>
              <a:t>؛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r" rtl="1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800" spc="-1" strike="noStrike">
                <a:solidFill>
                  <a:srgbClr val="e46c0a"/>
                </a:solidFill>
                <a:latin typeface="Times New Roman"/>
                <a:cs typeface="Times New Roman"/>
              </a:rPr>
              <a:t>ـ عدم وجود قيادة الواعية للمحيط البيئي</a:t>
            </a:r>
            <a:r>
              <a:rPr b="1" lang="ar-SA" sz="2800" spc="-1" strike="noStrike">
                <a:solidFill>
                  <a:srgbClr val="e46c0a"/>
                </a:solidFill>
                <a:latin typeface="Times New Roman"/>
                <a:cs typeface="Times New Roman"/>
              </a:rPr>
              <a:t>؛</a:t>
            </a:r>
            <a:r>
              <a:rPr b="1" lang="ar-QA" sz="28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r" rtl="1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800" spc="-1" strike="noStrike">
                <a:solidFill>
                  <a:srgbClr val="e46c0a"/>
                </a:solidFill>
                <a:latin typeface="Times New Roman"/>
                <a:cs typeface="Times New Roman"/>
              </a:rPr>
              <a:t>ـ رقابة مالية غير كافية</a:t>
            </a:r>
            <a:r>
              <a:rPr b="1" lang="ar-SA" sz="2800" spc="-1" strike="noStrike">
                <a:solidFill>
                  <a:srgbClr val="e46c0a"/>
                </a:solidFill>
                <a:latin typeface="Times New Roman"/>
                <a:cs typeface="Times New Roman"/>
              </a:rPr>
              <a:t>؛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r" rtl="1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800" spc="-1" strike="noStrike">
                <a:solidFill>
                  <a:srgbClr val="e46c0a"/>
                </a:solidFill>
                <a:latin typeface="Times New Roman"/>
                <a:cs typeface="Times New Roman"/>
              </a:rPr>
              <a:t>ـ قلة الالتزام بالعمل</a:t>
            </a:r>
            <a:r>
              <a:rPr b="1" lang="ar-SA" sz="28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عنصر نائب لرقم الشريحة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E502B-55FF-41FB-8829-58761401E089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376092"/>
                </a:solidFill>
                <a:latin typeface="Calibri"/>
              </a:rPr>
              <a:t>آليات إقامة الأعمال الصغيرة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800" spc="-1" strike="noStrike">
                <a:solidFill>
                  <a:srgbClr val="e46c0a"/>
                </a:solidFill>
                <a:latin typeface="Times New Roman"/>
                <a:cs typeface="Times New Roman"/>
              </a:rPr>
              <a:t>ـ البدء بعمل جديد تماما</a:t>
            </a:r>
            <a:r>
              <a:rPr b="1" lang="ar-SA" sz="2800" spc="-1" strike="noStrike">
                <a:solidFill>
                  <a:srgbClr val="e46c0a"/>
                </a:solidFill>
                <a:latin typeface="Times New Roman"/>
                <a:cs typeface="Times New Roman"/>
              </a:rPr>
              <a:t>؛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800" spc="-1" strike="noStrike">
                <a:solidFill>
                  <a:srgbClr val="e46c0a"/>
                </a:solidFill>
                <a:latin typeface="Times New Roman"/>
                <a:cs typeface="Times New Roman"/>
              </a:rPr>
              <a:t>ـ شراء </a:t>
            </a:r>
            <a:r>
              <a:rPr b="1" lang="ar-SA" sz="2800" spc="-1" strike="noStrike">
                <a:solidFill>
                  <a:srgbClr val="e46c0a"/>
                </a:solidFill>
                <a:latin typeface="Times New Roman"/>
                <a:cs typeface="Times New Roman"/>
              </a:rPr>
              <a:t>نشاط</a:t>
            </a:r>
            <a:r>
              <a:rPr b="1" lang="ar-QA" sz="28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 قائم</a:t>
            </a:r>
            <a:r>
              <a:rPr b="1" lang="ar-SA" sz="2800" spc="-1" strike="noStrike">
                <a:solidFill>
                  <a:srgbClr val="e46c0a"/>
                </a:solidFill>
                <a:latin typeface="Times New Roman"/>
                <a:cs typeface="Times New Roman"/>
              </a:rPr>
              <a:t>؛</a:t>
            </a:r>
            <a:r>
              <a:rPr b="1" lang="ar-QA" sz="28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800" spc="-1" strike="noStrike">
                <a:solidFill>
                  <a:srgbClr val="e46c0a"/>
                </a:solidFill>
                <a:latin typeface="Times New Roman"/>
                <a:cs typeface="Times New Roman"/>
              </a:rPr>
              <a:t>ـ تغيير اختصاص عمل</a:t>
            </a:r>
            <a:r>
              <a:rPr b="1" lang="ar-SA" sz="2800" spc="-1" strike="noStrike">
                <a:solidFill>
                  <a:srgbClr val="e46c0a"/>
                </a:solidFill>
                <a:latin typeface="Times New Roman"/>
                <a:cs typeface="Times New Roman"/>
              </a:rPr>
              <a:t>؛</a:t>
            </a:r>
            <a:r>
              <a:rPr b="1" lang="ar-QA" sz="28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800" spc="-1" strike="noStrike">
                <a:solidFill>
                  <a:srgbClr val="e46c0a"/>
                </a:solidFill>
                <a:latin typeface="Times New Roman"/>
                <a:cs typeface="Times New Roman"/>
              </a:rPr>
              <a:t>ـ الشراكة مع الآخرين</a:t>
            </a:r>
            <a:r>
              <a:rPr b="1" lang="ar-SA" sz="2800" spc="-1" strike="noStrike">
                <a:solidFill>
                  <a:srgbClr val="e46c0a"/>
                </a:solidFill>
                <a:latin typeface="Times New Roman"/>
                <a:cs typeface="Times New Roman"/>
              </a:rPr>
              <a:t>؛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800" spc="-1" strike="noStrike">
                <a:solidFill>
                  <a:srgbClr val="e46c0a"/>
                </a:solidFill>
                <a:latin typeface="Times New Roman"/>
                <a:cs typeface="Times New Roman"/>
              </a:rPr>
              <a:t>ـ الامتياز </a:t>
            </a:r>
            <a:r>
              <a:rPr b="1" lang="it-IT" sz="28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Franchising</a:t>
            </a:r>
            <a:r>
              <a:rPr b="1" lang="ar-QA" sz="28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 (</a:t>
            </a:r>
            <a:r>
              <a:rPr b="0" lang="it-CH" sz="2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"/>
              </a:rPr>
              <a:t>www.infofranchising.it</a:t>
            </a:r>
            <a:r>
              <a:rPr b="1" lang="ar-QA" sz="28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)</a:t>
            </a:r>
            <a:r>
              <a:rPr b="1" lang="ar-SA" sz="28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عنصر نائب لرقم الشريحة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33E53-47E8-4F0B-ADD3-4FD725904FDB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376092"/>
                </a:solidFill>
                <a:latin typeface="Calibri"/>
              </a:rPr>
              <a:t>شخصيات ناجحة  بدأت من أعمال صغيرة 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52" name="عنصر نائب لرقم الشريحة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69C0C-20D8-4A6C-80FD-C351B3A44BC4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9" descr=""/>
          <p:cNvPicPr/>
          <p:nvPr/>
        </p:nvPicPr>
        <p:blipFill>
          <a:blip r:embed="rId1"/>
          <a:stretch/>
        </p:blipFill>
        <p:spPr>
          <a:xfrm>
            <a:off x="762120" y="1523880"/>
            <a:ext cx="3047760" cy="2397240"/>
          </a:xfrm>
          <a:prstGeom prst="rect">
            <a:avLst/>
          </a:prstGeom>
          <a:ln w="0">
            <a:noFill/>
          </a:ln>
        </p:spPr>
      </p:pic>
      <p:sp>
        <p:nvSpPr>
          <p:cNvPr id="254" name="CasellaDiTesto 11"/>
          <p:cNvSpPr/>
          <p:nvPr/>
        </p:nvSpPr>
        <p:spPr>
          <a:xfrm>
            <a:off x="304920" y="3962520"/>
            <a:ext cx="3733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e46c0a"/>
                </a:solidFill>
                <a:latin typeface="Arial"/>
              </a:rPr>
              <a:t>Bill G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e46c0a"/>
                </a:solidFill>
                <a:latin typeface="Arial"/>
              </a:rPr>
              <a:t>Microsoft</a:t>
            </a:r>
            <a:r>
              <a:rPr b="1" lang="it-IT" sz="2800" spc="-1" strike="noStrike">
                <a:solidFill>
                  <a:srgbClr val="e46c0a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2" descr=""/>
          <p:cNvPicPr/>
          <p:nvPr/>
        </p:nvPicPr>
        <p:blipFill>
          <a:blip r:embed="rId2"/>
          <a:stretch/>
        </p:blipFill>
        <p:spPr>
          <a:xfrm>
            <a:off x="5486400" y="1523880"/>
            <a:ext cx="3657600" cy="2386080"/>
          </a:xfrm>
          <a:prstGeom prst="rect">
            <a:avLst/>
          </a:prstGeom>
          <a:ln w="0">
            <a:noFill/>
          </a:ln>
        </p:spPr>
      </p:pic>
      <p:sp>
        <p:nvSpPr>
          <p:cNvPr id="256" name="CasellaDiTesto 5"/>
          <p:cNvSpPr/>
          <p:nvPr/>
        </p:nvSpPr>
        <p:spPr>
          <a:xfrm>
            <a:off x="5105520" y="3962520"/>
            <a:ext cx="4500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46c0a"/>
                </a:solidFill>
                <a:latin typeface="Arial"/>
              </a:rPr>
              <a:t>Sergey Brin </a:t>
            </a:r>
            <a:r>
              <a:rPr b="1" lang="ar-QA" sz="2800" spc="-1" strike="noStrike">
                <a:solidFill>
                  <a:srgbClr val="e46c0a"/>
                </a:solidFill>
                <a:latin typeface="Arial"/>
              </a:rPr>
              <a:t>- </a:t>
            </a:r>
            <a:r>
              <a:rPr b="1" lang="en-US" sz="2800" spc="-1" strike="noStrike">
                <a:solidFill>
                  <a:srgbClr val="e46c0a"/>
                </a:solidFill>
                <a:latin typeface="Arial"/>
              </a:rPr>
              <a:t> Larry P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e46c0a"/>
                </a:solidFill>
                <a:latin typeface="Arial"/>
              </a:rPr>
              <a:t>Google</a:t>
            </a:r>
            <a:r>
              <a:rPr b="1" lang="ar-QA" sz="2800" spc="-1" strike="noStrike">
                <a:solidFill>
                  <a:srgbClr val="e46c0a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58" name="عنصر نائب لرقم الشريحة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FB353-3488-4A3F-83BF-D9BAB127A6EF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2" descr=""/>
          <p:cNvPicPr/>
          <p:nvPr/>
        </p:nvPicPr>
        <p:blipFill>
          <a:blip r:embed="rId1"/>
          <a:stretch/>
        </p:blipFill>
        <p:spPr>
          <a:xfrm>
            <a:off x="838080" y="1523880"/>
            <a:ext cx="1743120" cy="2781360"/>
          </a:xfrm>
          <a:prstGeom prst="rect">
            <a:avLst/>
          </a:prstGeom>
          <a:ln w="0">
            <a:noFill/>
          </a:ln>
        </p:spPr>
      </p:pic>
      <p:sp>
        <p:nvSpPr>
          <p:cNvPr id="260" name="CasellaDiTesto 5"/>
          <p:cNvSpPr/>
          <p:nvPr/>
        </p:nvSpPr>
        <p:spPr>
          <a:xfrm>
            <a:off x="228600" y="4343400"/>
            <a:ext cx="297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e46c0a"/>
                </a:solidFill>
                <a:latin typeface="Arial"/>
              </a:rPr>
              <a:t>Enzo Ferrari</a:t>
            </a:r>
            <a:r>
              <a:rPr b="1" lang="ar-QA" sz="2800" spc="-1" strike="noStrike">
                <a:solidFill>
                  <a:srgbClr val="e46c0a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2" descr="http://t3.gstatic.com/images?q=tbn:Ia63lG06pgZcBM:http://kingdom.com.sa/sysadmin/NewsManagment/articlefiles/280-HRH%2520Prince%2520Alwaleed%2520bin%2520Talal,%2520Apr%252009.JPG"/>
          <p:cNvPicPr/>
          <p:nvPr/>
        </p:nvPicPr>
        <p:blipFill>
          <a:blip r:embed="rId2"/>
          <a:stretch/>
        </p:blipFill>
        <p:spPr>
          <a:xfrm>
            <a:off x="6629400" y="1600200"/>
            <a:ext cx="1847880" cy="2771640"/>
          </a:xfrm>
          <a:prstGeom prst="rect">
            <a:avLst/>
          </a:prstGeom>
          <a:ln w="0">
            <a:noFill/>
          </a:ln>
        </p:spPr>
      </p:pic>
      <p:sp>
        <p:nvSpPr>
          <p:cNvPr id="262" name="CasellaDiTesto 5"/>
          <p:cNvSpPr/>
          <p:nvPr/>
        </p:nvSpPr>
        <p:spPr>
          <a:xfrm>
            <a:off x="5562720" y="4419720"/>
            <a:ext cx="395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e46c0a"/>
                </a:solidFill>
                <a:latin typeface="Arial"/>
              </a:rPr>
              <a:t>Al-Walīd bin Ṭalā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761760" y="2133360"/>
            <a:ext cx="842004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DZ" sz="4400" spc="-1" strike="noStrike">
                <a:solidFill>
                  <a:srgbClr val="e46c0a"/>
                </a:solidFill>
                <a:latin typeface="Calibri"/>
              </a:rPr>
              <a:t>ال</a:t>
            </a:r>
            <a:r>
              <a:rPr b="1" lang="ar-SA" sz="4400" spc="-1" strike="noStrike">
                <a:solidFill>
                  <a:srgbClr val="e46c0a"/>
                </a:solidFill>
                <a:latin typeface="Calibri"/>
              </a:rPr>
              <a:t>محاضرة الثانية عشرة</a:t>
            </a:r>
            <a:r>
              <a:rPr b="1" lang="ar-DZ" sz="4400" spc="-1" strike="noStrike">
                <a:solidFill>
                  <a:srgbClr val="e46c0a"/>
                </a:solidFill>
                <a:latin typeface="Calibri"/>
              </a:rPr>
              <a:t>: </a:t>
            </a:r>
            <a:br>
              <a:rPr sz="3200"/>
            </a:b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7429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e46c0a"/>
                </a:solidFill>
                <a:latin typeface="Calibri"/>
                <a:ea typeface="Calibri"/>
              </a:rPr>
              <a:t> </a:t>
            </a:r>
            <a:r>
              <a:rPr b="1" lang="ar-SA" sz="5400" spc="-1" strike="noStrike">
                <a:solidFill>
                  <a:srgbClr val="e46c0a"/>
                </a:solidFill>
                <a:latin typeface="Calibri"/>
                <a:cs typeface="Calibri"/>
              </a:rPr>
              <a:t>الريادة </a:t>
            </a:r>
            <a:br>
              <a:rPr sz="5400"/>
            </a:br>
            <a:r>
              <a:rPr b="1" lang="ar-SA" sz="5400" spc="-1" strike="noStrike">
                <a:solidFill>
                  <a:srgbClr val="e46c0a"/>
                </a:solidFill>
                <a:latin typeface="Calibri"/>
                <a:cs typeface="Calibri"/>
              </a:rPr>
              <a:t>والمشروعات الصغيرة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2185920" y="6356520"/>
            <a:ext cx="482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4B6E0-2D0D-4C1D-9B83-6026EAFF2243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Slide Number Placeholder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DA925-758B-4182-BBDA-0F628A5B018F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4"/>
          <p:cNvSpPr/>
          <p:nvPr/>
        </p:nvSpPr>
        <p:spPr>
          <a:xfrm>
            <a:off x="0" y="0"/>
            <a:ext cx="9906120" cy="6858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5" name="Group 5"/>
          <p:cNvGrpSpPr/>
          <p:nvPr/>
        </p:nvGrpSpPr>
        <p:grpSpPr>
          <a:xfrm>
            <a:off x="5181480" y="1981080"/>
            <a:ext cx="2600280" cy="2524320"/>
            <a:chOff x="5181480" y="1981080"/>
            <a:chExt cx="2600280" cy="2524320"/>
          </a:xfrm>
        </p:grpSpPr>
        <p:sp>
          <p:nvSpPr>
            <p:cNvPr id="266" name="Oval 6"/>
            <p:cNvSpPr/>
            <p:nvPr/>
          </p:nvSpPr>
          <p:spPr>
            <a:xfrm>
              <a:off x="5278320" y="2043000"/>
              <a:ext cx="2417760" cy="2397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67" name="Picture 2" descr="http://kfu.files.googlepages.com/newKFUlogo.jpg"/>
            <p:cNvPicPr/>
            <p:nvPr/>
          </p:nvPicPr>
          <p:blipFill>
            <a:blip r:embed="rId1"/>
            <a:stretch/>
          </p:blipFill>
          <p:spPr>
            <a:xfrm>
              <a:off x="5181480" y="1981080"/>
              <a:ext cx="2600280" cy="252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8" name="Rectangle 8"/>
          <p:cNvSpPr/>
          <p:nvPr/>
        </p:nvSpPr>
        <p:spPr>
          <a:xfrm>
            <a:off x="2362320" y="3352680"/>
            <a:ext cx="281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7200" spc="-1" strike="noStrike">
                <a:solidFill>
                  <a:srgbClr val="ffffff"/>
                </a:solidFill>
                <a:latin typeface="Calibri"/>
              </a:rPr>
              <a:t>بحمد الله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Freeform 6"/>
          <p:cNvSpPr/>
          <p:nvPr/>
        </p:nvSpPr>
        <p:spPr>
          <a:xfrm>
            <a:off x="2362320" y="2209680"/>
            <a:ext cx="2689200" cy="1236960"/>
          </a:xfrm>
          <a:custGeom>
            <a:avLst/>
            <a:gdLst>
              <a:gd name="textAreaLeft" fmla="*/ 0 w 2689200"/>
              <a:gd name="textAreaRight" fmla="*/ 2689560 w 2689200"/>
              <a:gd name="textAreaTop" fmla="*/ 0 h 1236960"/>
              <a:gd name="textAreaBottom" fmla="*/ 1237320 h 1236960"/>
            </a:gdLst>
            <a:ahLst/>
            <a:rect l="textAreaLeft" t="textAreaTop" r="textAreaRight" b="textAreaBottom"/>
            <a:pathLst>
              <a:path w="1687" h="775">
                <a:moveTo>
                  <a:pt x="1374" y="74"/>
                </a:moveTo>
                <a:lnTo>
                  <a:pt x="1308" y="141"/>
                </a:lnTo>
                <a:lnTo>
                  <a:pt x="1248" y="80"/>
                </a:lnTo>
                <a:lnTo>
                  <a:pt x="1177" y="152"/>
                </a:lnTo>
                <a:lnTo>
                  <a:pt x="1100" y="75"/>
                </a:lnTo>
                <a:lnTo>
                  <a:pt x="1169" y="8"/>
                </a:lnTo>
                <a:lnTo>
                  <a:pt x="1229" y="68"/>
                </a:lnTo>
                <a:lnTo>
                  <a:pt x="1298" y="0"/>
                </a:lnTo>
                <a:lnTo>
                  <a:pt x="1374" y="74"/>
                </a:lnTo>
                <a:close/>
                <a:moveTo>
                  <a:pt x="1687" y="612"/>
                </a:moveTo>
                <a:lnTo>
                  <a:pt x="1686" y="635"/>
                </a:lnTo>
                <a:lnTo>
                  <a:pt x="1683" y="657"/>
                </a:lnTo>
                <a:lnTo>
                  <a:pt x="1677" y="678"/>
                </a:lnTo>
                <a:lnTo>
                  <a:pt x="1669" y="698"/>
                </a:lnTo>
                <a:lnTo>
                  <a:pt x="1656" y="723"/>
                </a:lnTo>
                <a:lnTo>
                  <a:pt x="1649" y="731"/>
                </a:lnTo>
                <a:lnTo>
                  <a:pt x="1641" y="739"/>
                </a:lnTo>
                <a:lnTo>
                  <a:pt x="1633" y="745"/>
                </a:lnTo>
                <a:lnTo>
                  <a:pt x="1623" y="750"/>
                </a:lnTo>
                <a:lnTo>
                  <a:pt x="1603" y="753"/>
                </a:lnTo>
                <a:lnTo>
                  <a:pt x="1583" y="751"/>
                </a:lnTo>
                <a:lnTo>
                  <a:pt x="1561" y="743"/>
                </a:lnTo>
                <a:lnTo>
                  <a:pt x="1542" y="731"/>
                </a:lnTo>
                <a:lnTo>
                  <a:pt x="1523" y="715"/>
                </a:lnTo>
                <a:lnTo>
                  <a:pt x="1504" y="695"/>
                </a:lnTo>
                <a:lnTo>
                  <a:pt x="1488" y="672"/>
                </a:lnTo>
                <a:lnTo>
                  <a:pt x="1474" y="646"/>
                </a:lnTo>
                <a:lnTo>
                  <a:pt x="1462" y="619"/>
                </a:lnTo>
                <a:lnTo>
                  <a:pt x="1425" y="640"/>
                </a:lnTo>
                <a:lnTo>
                  <a:pt x="1387" y="660"/>
                </a:lnTo>
                <a:lnTo>
                  <a:pt x="1346" y="678"/>
                </a:lnTo>
                <a:lnTo>
                  <a:pt x="1305" y="694"/>
                </a:lnTo>
                <a:lnTo>
                  <a:pt x="1251" y="710"/>
                </a:lnTo>
                <a:lnTo>
                  <a:pt x="1198" y="722"/>
                </a:lnTo>
                <a:lnTo>
                  <a:pt x="1146" y="729"/>
                </a:lnTo>
                <a:lnTo>
                  <a:pt x="1095" y="731"/>
                </a:lnTo>
                <a:lnTo>
                  <a:pt x="1060" y="728"/>
                </a:lnTo>
                <a:lnTo>
                  <a:pt x="1025" y="719"/>
                </a:lnTo>
                <a:lnTo>
                  <a:pt x="1008" y="711"/>
                </a:lnTo>
                <a:lnTo>
                  <a:pt x="991" y="702"/>
                </a:lnTo>
                <a:lnTo>
                  <a:pt x="974" y="691"/>
                </a:lnTo>
                <a:lnTo>
                  <a:pt x="957" y="678"/>
                </a:lnTo>
                <a:lnTo>
                  <a:pt x="929" y="653"/>
                </a:lnTo>
                <a:lnTo>
                  <a:pt x="908" y="627"/>
                </a:lnTo>
                <a:lnTo>
                  <a:pt x="900" y="615"/>
                </a:lnTo>
                <a:lnTo>
                  <a:pt x="895" y="603"/>
                </a:lnTo>
                <a:lnTo>
                  <a:pt x="889" y="577"/>
                </a:lnTo>
                <a:lnTo>
                  <a:pt x="780" y="628"/>
                </a:lnTo>
                <a:lnTo>
                  <a:pt x="659" y="683"/>
                </a:lnTo>
                <a:lnTo>
                  <a:pt x="603" y="706"/>
                </a:lnTo>
                <a:lnTo>
                  <a:pt x="552" y="724"/>
                </a:lnTo>
                <a:lnTo>
                  <a:pt x="481" y="746"/>
                </a:lnTo>
                <a:lnTo>
                  <a:pt x="415" y="762"/>
                </a:lnTo>
                <a:lnTo>
                  <a:pt x="355" y="772"/>
                </a:lnTo>
                <a:lnTo>
                  <a:pt x="302" y="775"/>
                </a:lnTo>
                <a:lnTo>
                  <a:pt x="268" y="774"/>
                </a:lnTo>
                <a:lnTo>
                  <a:pt x="236" y="772"/>
                </a:lnTo>
                <a:lnTo>
                  <a:pt x="206" y="769"/>
                </a:lnTo>
                <a:lnTo>
                  <a:pt x="178" y="764"/>
                </a:lnTo>
                <a:lnTo>
                  <a:pt x="153" y="758"/>
                </a:lnTo>
                <a:lnTo>
                  <a:pt x="129" y="751"/>
                </a:lnTo>
                <a:lnTo>
                  <a:pt x="107" y="741"/>
                </a:lnTo>
                <a:lnTo>
                  <a:pt x="88" y="731"/>
                </a:lnTo>
                <a:lnTo>
                  <a:pt x="68" y="717"/>
                </a:lnTo>
                <a:lnTo>
                  <a:pt x="50" y="701"/>
                </a:lnTo>
                <a:lnTo>
                  <a:pt x="35" y="681"/>
                </a:lnTo>
                <a:lnTo>
                  <a:pt x="22" y="661"/>
                </a:lnTo>
                <a:lnTo>
                  <a:pt x="12" y="639"/>
                </a:lnTo>
                <a:lnTo>
                  <a:pt x="8" y="626"/>
                </a:lnTo>
                <a:lnTo>
                  <a:pt x="5" y="613"/>
                </a:lnTo>
                <a:lnTo>
                  <a:pt x="1" y="587"/>
                </a:lnTo>
                <a:lnTo>
                  <a:pt x="0" y="558"/>
                </a:lnTo>
                <a:lnTo>
                  <a:pt x="2" y="523"/>
                </a:lnTo>
                <a:lnTo>
                  <a:pt x="6" y="491"/>
                </a:lnTo>
                <a:lnTo>
                  <a:pt x="13" y="459"/>
                </a:lnTo>
                <a:lnTo>
                  <a:pt x="23" y="428"/>
                </a:lnTo>
                <a:lnTo>
                  <a:pt x="34" y="407"/>
                </a:lnTo>
                <a:lnTo>
                  <a:pt x="48" y="381"/>
                </a:lnTo>
                <a:lnTo>
                  <a:pt x="66" y="379"/>
                </a:lnTo>
                <a:lnTo>
                  <a:pt x="52" y="411"/>
                </a:lnTo>
                <a:lnTo>
                  <a:pt x="45" y="432"/>
                </a:lnTo>
                <a:lnTo>
                  <a:pt x="41" y="455"/>
                </a:lnTo>
                <a:lnTo>
                  <a:pt x="38" y="478"/>
                </a:lnTo>
                <a:lnTo>
                  <a:pt x="37" y="502"/>
                </a:lnTo>
                <a:lnTo>
                  <a:pt x="38" y="522"/>
                </a:lnTo>
                <a:lnTo>
                  <a:pt x="42" y="540"/>
                </a:lnTo>
                <a:lnTo>
                  <a:pt x="47" y="557"/>
                </a:lnTo>
                <a:lnTo>
                  <a:pt x="55" y="573"/>
                </a:lnTo>
                <a:lnTo>
                  <a:pt x="66" y="588"/>
                </a:lnTo>
                <a:lnTo>
                  <a:pt x="78" y="603"/>
                </a:lnTo>
                <a:lnTo>
                  <a:pt x="93" y="616"/>
                </a:lnTo>
                <a:lnTo>
                  <a:pt x="110" y="629"/>
                </a:lnTo>
                <a:lnTo>
                  <a:pt x="128" y="641"/>
                </a:lnTo>
                <a:lnTo>
                  <a:pt x="149" y="650"/>
                </a:lnTo>
                <a:lnTo>
                  <a:pt x="171" y="659"/>
                </a:lnTo>
                <a:lnTo>
                  <a:pt x="183" y="662"/>
                </a:lnTo>
                <a:lnTo>
                  <a:pt x="194" y="665"/>
                </a:lnTo>
                <a:lnTo>
                  <a:pt x="220" y="671"/>
                </a:lnTo>
                <a:lnTo>
                  <a:pt x="245" y="675"/>
                </a:lnTo>
                <a:lnTo>
                  <a:pt x="274" y="677"/>
                </a:lnTo>
                <a:lnTo>
                  <a:pt x="304" y="678"/>
                </a:lnTo>
                <a:lnTo>
                  <a:pt x="352" y="676"/>
                </a:lnTo>
                <a:lnTo>
                  <a:pt x="379" y="673"/>
                </a:lnTo>
                <a:lnTo>
                  <a:pt x="405" y="669"/>
                </a:lnTo>
                <a:lnTo>
                  <a:pt x="462" y="657"/>
                </a:lnTo>
                <a:lnTo>
                  <a:pt x="522" y="641"/>
                </a:lnTo>
                <a:lnTo>
                  <a:pt x="571" y="625"/>
                </a:lnTo>
                <a:lnTo>
                  <a:pt x="623" y="606"/>
                </a:lnTo>
                <a:lnTo>
                  <a:pt x="738" y="559"/>
                </a:lnTo>
                <a:lnTo>
                  <a:pt x="923" y="476"/>
                </a:lnTo>
                <a:lnTo>
                  <a:pt x="927" y="494"/>
                </a:lnTo>
                <a:lnTo>
                  <a:pt x="932" y="512"/>
                </a:lnTo>
                <a:lnTo>
                  <a:pt x="940" y="529"/>
                </a:lnTo>
                <a:lnTo>
                  <a:pt x="949" y="545"/>
                </a:lnTo>
                <a:lnTo>
                  <a:pt x="961" y="561"/>
                </a:lnTo>
                <a:lnTo>
                  <a:pt x="975" y="575"/>
                </a:lnTo>
                <a:lnTo>
                  <a:pt x="990" y="588"/>
                </a:lnTo>
                <a:lnTo>
                  <a:pt x="1007" y="600"/>
                </a:lnTo>
                <a:lnTo>
                  <a:pt x="1035" y="617"/>
                </a:lnTo>
                <a:lnTo>
                  <a:pt x="1049" y="624"/>
                </a:lnTo>
                <a:lnTo>
                  <a:pt x="1064" y="629"/>
                </a:lnTo>
                <a:lnTo>
                  <a:pt x="1092" y="637"/>
                </a:lnTo>
                <a:lnTo>
                  <a:pt x="1106" y="639"/>
                </a:lnTo>
                <a:lnTo>
                  <a:pt x="1120" y="639"/>
                </a:lnTo>
                <a:lnTo>
                  <a:pt x="1164" y="638"/>
                </a:lnTo>
                <a:lnTo>
                  <a:pt x="1210" y="631"/>
                </a:lnTo>
                <a:lnTo>
                  <a:pt x="1256" y="622"/>
                </a:lnTo>
                <a:lnTo>
                  <a:pt x="1304" y="608"/>
                </a:lnTo>
                <a:lnTo>
                  <a:pt x="1343" y="593"/>
                </a:lnTo>
                <a:lnTo>
                  <a:pt x="1379" y="578"/>
                </a:lnTo>
                <a:lnTo>
                  <a:pt x="1411" y="561"/>
                </a:lnTo>
                <a:lnTo>
                  <a:pt x="1439" y="543"/>
                </a:lnTo>
                <a:lnTo>
                  <a:pt x="1429" y="509"/>
                </a:lnTo>
                <a:lnTo>
                  <a:pt x="1415" y="445"/>
                </a:lnTo>
                <a:lnTo>
                  <a:pt x="1409" y="413"/>
                </a:lnTo>
                <a:lnTo>
                  <a:pt x="1406" y="365"/>
                </a:lnTo>
                <a:lnTo>
                  <a:pt x="1403" y="317"/>
                </a:lnTo>
                <a:lnTo>
                  <a:pt x="1385" y="251"/>
                </a:lnTo>
                <a:lnTo>
                  <a:pt x="1411" y="149"/>
                </a:lnTo>
                <a:lnTo>
                  <a:pt x="1507" y="340"/>
                </a:lnTo>
                <a:lnTo>
                  <a:pt x="1507" y="365"/>
                </a:lnTo>
                <a:lnTo>
                  <a:pt x="1465" y="336"/>
                </a:lnTo>
                <a:lnTo>
                  <a:pt x="1461" y="341"/>
                </a:lnTo>
                <a:lnTo>
                  <a:pt x="1458" y="347"/>
                </a:lnTo>
                <a:lnTo>
                  <a:pt x="1461" y="381"/>
                </a:lnTo>
                <a:lnTo>
                  <a:pt x="1469" y="424"/>
                </a:lnTo>
                <a:lnTo>
                  <a:pt x="1475" y="451"/>
                </a:lnTo>
                <a:lnTo>
                  <a:pt x="1483" y="475"/>
                </a:lnTo>
                <a:lnTo>
                  <a:pt x="1491" y="495"/>
                </a:lnTo>
                <a:lnTo>
                  <a:pt x="1501" y="511"/>
                </a:lnTo>
                <a:lnTo>
                  <a:pt x="1525" y="498"/>
                </a:lnTo>
                <a:lnTo>
                  <a:pt x="1549" y="490"/>
                </a:lnTo>
                <a:lnTo>
                  <a:pt x="1571" y="483"/>
                </a:lnTo>
                <a:lnTo>
                  <a:pt x="1592" y="481"/>
                </a:lnTo>
                <a:lnTo>
                  <a:pt x="1616" y="484"/>
                </a:lnTo>
                <a:lnTo>
                  <a:pt x="1626" y="488"/>
                </a:lnTo>
                <a:lnTo>
                  <a:pt x="1636" y="494"/>
                </a:lnTo>
                <a:lnTo>
                  <a:pt x="1651" y="506"/>
                </a:lnTo>
                <a:lnTo>
                  <a:pt x="1663" y="518"/>
                </a:lnTo>
                <a:lnTo>
                  <a:pt x="1672" y="532"/>
                </a:lnTo>
                <a:lnTo>
                  <a:pt x="1680" y="548"/>
                </a:lnTo>
                <a:lnTo>
                  <a:pt x="1685" y="576"/>
                </a:lnTo>
                <a:lnTo>
                  <a:pt x="1687" y="612"/>
                </a:lnTo>
                <a:close/>
                <a:moveTo>
                  <a:pt x="553" y="364"/>
                </a:moveTo>
                <a:lnTo>
                  <a:pt x="487" y="431"/>
                </a:lnTo>
                <a:lnTo>
                  <a:pt x="428" y="370"/>
                </a:lnTo>
                <a:lnTo>
                  <a:pt x="356" y="441"/>
                </a:lnTo>
                <a:lnTo>
                  <a:pt x="280" y="365"/>
                </a:lnTo>
                <a:lnTo>
                  <a:pt x="347" y="297"/>
                </a:lnTo>
                <a:lnTo>
                  <a:pt x="409" y="359"/>
                </a:lnTo>
                <a:lnTo>
                  <a:pt x="479" y="289"/>
                </a:lnTo>
                <a:lnTo>
                  <a:pt x="553" y="364"/>
                </a:lnTo>
                <a:close/>
                <a:moveTo>
                  <a:pt x="1636" y="637"/>
                </a:moveTo>
                <a:lnTo>
                  <a:pt x="1622" y="613"/>
                </a:lnTo>
                <a:lnTo>
                  <a:pt x="1605" y="593"/>
                </a:lnTo>
                <a:lnTo>
                  <a:pt x="1597" y="587"/>
                </a:lnTo>
                <a:lnTo>
                  <a:pt x="1589" y="583"/>
                </a:lnTo>
                <a:lnTo>
                  <a:pt x="1577" y="582"/>
                </a:lnTo>
                <a:lnTo>
                  <a:pt x="1561" y="584"/>
                </a:lnTo>
                <a:lnTo>
                  <a:pt x="1543" y="591"/>
                </a:lnTo>
                <a:lnTo>
                  <a:pt x="1536" y="595"/>
                </a:lnTo>
                <a:lnTo>
                  <a:pt x="1556" y="624"/>
                </a:lnTo>
                <a:lnTo>
                  <a:pt x="1568" y="636"/>
                </a:lnTo>
                <a:lnTo>
                  <a:pt x="1580" y="644"/>
                </a:lnTo>
                <a:lnTo>
                  <a:pt x="1590" y="649"/>
                </a:lnTo>
                <a:lnTo>
                  <a:pt x="1601" y="652"/>
                </a:lnTo>
                <a:lnTo>
                  <a:pt x="1611" y="649"/>
                </a:lnTo>
                <a:lnTo>
                  <a:pt x="1625" y="644"/>
                </a:lnTo>
                <a:lnTo>
                  <a:pt x="1636" y="637"/>
                </a:lnTo>
                <a:close/>
                <a:moveTo>
                  <a:pt x="1288" y="458"/>
                </a:moveTo>
                <a:lnTo>
                  <a:pt x="1287" y="475"/>
                </a:lnTo>
                <a:lnTo>
                  <a:pt x="1285" y="489"/>
                </a:lnTo>
                <a:lnTo>
                  <a:pt x="1280" y="500"/>
                </a:lnTo>
                <a:lnTo>
                  <a:pt x="1275" y="509"/>
                </a:lnTo>
                <a:lnTo>
                  <a:pt x="1268" y="516"/>
                </a:lnTo>
                <a:lnTo>
                  <a:pt x="1259" y="522"/>
                </a:lnTo>
                <a:lnTo>
                  <a:pt x="1248" y="525"/>
                </a:lnTo>
                <a:lnTo>
                  <a:pt x="1237" y="526"/>
                </a:lnTo>
                <a:lnTo>
                  <a:pt x="1222" y="523"/>
                </a:lnTo>
                <a:lnTo>
                  <a:pt x="1214" y="518"/>
                </a:lnTo>
                <a:lnTo>
                  <a:pt x="1208" y="513"/>
                </a:lnTo>
                <a:lnTo>
                  <a:pt x="1198" y="499"/>
                </a:lnTo>
                <a:lnTo>
                  <a:pt x="1191" y="483"/>
                </a:lnTo>
                <a:lnTo>
                  <a:pt x="1183" y="505"/>
                </a:lnTo>
                <a:lnTo>
                  <a:pt x="1179" y="513"/>
                </a:lnTo>
                <a:lnTo>
                  <a:pt x="1173" y="523"/>
                </a:lnTo>
                <a:lnTo>
                  <a:pt x="1165" y="529"/>
                </a:lnTo>
                <a:lnTo>
                  <a:pt x="1158" y="534"/>
                </a:lnTo>
                <a:lnTo>
                  <a:pt x="1150" y="538"/>
                </a:lnTo>
                <a:lnTo>
                  <a:pt x="1142" y="539"/>
                </a:lnTo>
                <a:lnTo>
                  <a:pt x="1134" y="538"/>
                </a:lnTo>
                <a:lnTo>
                  <a:pt x="1123" y="534"/>
                </a:lnTo>
                <a:lnTo>
                  <a:pt x="1114" y="529"/>
                </a:lnTo>
                <a:lnTo>
                  <a:pt x="1107" y="522"/>
                </a:lnTo>
                <a:lnTo>
                  <a:pt x="1101" y="513"/>
                </a:lnTo>
                <a:lnTo>
                  <a:pt x="1097" y="504"/>
                </a:lnTo>
                <a:lnTo>
                  <a:pt x="1094" y="492"/>
                </a:lnTo>
                <a:lnTo>
                  <a:pt x="1092" y="466"/>
                </a:lnTo>
                <a:lnTo>
                  <a:pt x="1095" y="430"/>
                </a:lnTo>
                <a:lnTo>
                  <a:pt x="1098" y="407"/>
                </a:lnTo>
                <a:lnTo>
                  <a:pt x="1070" y="439"/>
                </a:lnTo>
                <a:lnTo>
                  <a:pt x="1070" y="427"/>
                </a:lnTo>
                <a:lnTo>
                  <a:pt x="1079" y="408"/>
                </a:lnTo>
                <a:lnTo>
                  <a:pt x="1094" y="387"/>
                </a:lnTo>
                <a:lnTo>
                  <a:pt x="1113" y="373"/>
                </a:lnTo>
                <a:lnTo>
                  <a:pt x="1112" y="399"/>
                </a:lnTo>
                <a:lnTo>
                  <a:pt x="1112" y="424"/>
                </a:lnTo>
                <a:lnTo>
                  <a:pt x="1113" y="455"/>
                </a:lnTo>
                <a:lnTo>
                  <a:pt x="1117" y="476"/>
                </a:lnTo>
                <a:lnTo>
                  <a:pt x="1122" y="483"/>
                </a:lnTo>
                <a:lnTo>
                  <a:pt x="1127" y="490"/>
                </a:lnTo>
                <a:lnTo>
                  <a:pt x="1133" y="493"/>
                </a:lnTo>
                <a:lnTo>
                  <a:pt x="1142" y="494"/>
                </a:lnTo>
                <a:lnTo>
                  <a:pt x="1157" y="490"/>
                </a:lnTo>
                <a:lnTo>
                  <a:pt x="1164" y="485"/>
                </a:lnTo>
                <a:lnTo>
                  <a:pt x="1172" y="480"/>
                </a:lnTo>
                <a:lnTo>
                  <a:pt x="1181" y="467"/>
                </a:lnTo>
                <a:lnTo>
                  <a:pt x="1186" y="455"/>
                </a:lnTo>
                <a:lnTo>
                  <a:pt x="1182" y="433"/>
                </a:lnTo>
                <a:lnTo>
                  <a:pt x="1175" y="403"/>
                </a:lnTo>
                <a:lnTo>
                  <a:pt x="1171" y="387"/>
                </a:lnTo>
                <a:lnTo>
                  <a:pt x="1191" y="359"/>
                </a:lnTo>
                <a:lnTo>
                  <a:pt x="1196" y="376"/>
                </a:lnTo>
                <a:lnTo>
                  <a:pt x="1203" y="399"/>
                </a:lnTo>
                <a:lnTo>
                  <a:pt x="1206" y="425"/>
                </a:lnTo>
                <a:lnTo>
                  <a:pt x="1210" y="448"/>
                </a:lnTo>
                <a:lnTo>
                  <a:pt x="1214" y="464"/>
                </a:lnTo>
                <a:lnTo>
                  <a:pt x="1221" y="473"/>
                </a:lnTo>
                <a:lnTo>
                  <a:pt x="1227" y="480"/>
                </a:lnTo>
                <a:lnTo>
                  <a:pt x="1236" y="483"/>
                </a:lnTo>
                <a:lnTo>
                  <a:pt x="1246" y="484"/>
                </a:lnTo>
                <a:lnTo>
                  <a:pt x="1255" y="483"/>
                </a:lnTo>
                <a:lnTo>
                  <a:pt x="1261" y="479"/>
                </a:lnTo>
                <a:lnTo>
                  <a:pt x="1265" y="473"/>
                </a:lnTo>
                <a:lnTo>
                  <a:pt x="1268" y="464"/>
                </a:lnTo>
                <a:lnTo>
                  <a:pt x="1263" y="444"/>
                </a:lnTo>
                <a:lnTo>
                  <a:pt x="1260" y="431"/>
                </a:lnTo>
                <a:lnTo>
                  <a:pt x="1254" y="415"/>
                </a:lnTo>
                <a:lnTo>
                  <a:pt x="1239" y="384"/>
                </a:lnTo>
                <a:lnTo>
                  <a:pt x="1261" y="353"/>
                </a:lnTo>
                <a:lnTo>
                  <a:pt x="1279" y="401"/>
                </a:lnTo>
                <a:lnTo>
                  <a:pt x="1286" y="429"/>
                </a:lnTo>
                <a:lnTo>
                  <a:pt x="1288" y="458"/>
                </a:lnTo>
                <a:close/>
                <a:moveTo>
                  <a:pt x="846" y="364"/>
                </a:moveTo>
                <a:lnTo>
                  <a:pt x="1275" y="242"/>
                </a:lnTo>
                <a:lnTo>
                  <a:pt x="1222" y="284"/>
                </a:lnTo>
                <a:lnTo>
                  <a:pt x="792" y="406"/>
                </a:lnTo>
                <a:lnTo>
                  <a:pt x="846" y="364"/>
                </a:lnTo>
                <a:close/>
                <a:moveTo>
                  <a:pt x="892" y="106"/>
                </a:moveTo>
                <a:lnTo>
                  <a:pt x="881" y="110"/>
                </a:lnTo>
                <a:lnTo>
                  <a:pt x="875" y="101"/>
                </a:lnTo>
                <a:lnTo>
                  <a:pt x="869" y="95"/>
                </a:lnTo>
                <a:lnTo>
                  <a:pt x="863" y="92"/>
                </a:lnTo>
                <a:lnTo>
                  <a:pt x="859" y="95"/>
                </a:lnTo>
                <a:lnTo>
                  <a:pt x="853" y="100"/>
                </a:lnTo>
                <a:lnTo>
                  <a:pt x="844" y="125"/>
                </a:lnTo>
                <a:lnTo>
                  <a:pt x="834" y="162"/>
                </a:lnTo>
                <a:lnTo>
                  <a:pt x="825" y="205"/>
                </a:lnTo>
                <a:lnTo>
                  <a:pt x="813" y="205"/>
                </a:lnTo>
                <a:lnTo>
                  <a:pt x="805" y="178"/>
                </a:lnTo>
                <a:lnTo>
                  <a:pt x="797" y="156"/>
                </a:lnTo>
                <a:lnTo>
                  <a:pt x="787" y="144"/>
                </a:lnTo>
                <a:lnTo>
                  <a:pt x="780" y="140"/>
                </a:lnTo>
                <a:lnTo>
                  <a:pt x="762" y="140"/>
                </a:lnTo>
                <a:lnTo>
                  <a:pt x="754" y="138"/>
                </a:lnTo>
                <a:lnTo>
                  <a:pt x="748" y="134"/>
                </a:lnTo>
                <a:lnTo>
                  <a:pt x="743" y="128"/>
                </a:lnTo>
                <a:lnTo>
                  <a:pt x="738" y="121"/>
                </a:lnTo>
                <a:lnTo>
                  <a:pt x="736" y="115"/>
                </a:lnTo>
                <a:lnTo>
                  <a:pt x="736" y="106"/>
                </a:lnTo>
                <a:lnTo>
                  <a:pt x="737" y="96"/>
                </a:lnTo>
                <a:lnTo>
                  <a:pt x="741" y="88"/>
                </a:lnTo>
                <a:lnTo>
                  <a:pt x="747" y="84"/>
                </a:lnTo>
                <a:lnTo>
                  <a:pt x="755" y="83"/>
                </a:lnTo>
                <a:lnTo>
                  <a:pt x="769" y="85"/>
                </a:lnTo>
                <a:lnTo>
                  <a:pt x="781" y="94"/>
                </a:lnTo>
                <a:lnTo>
                  <a:pt x="793" y="106"/>
                </a:lnTo>
                <a:lnTo>
                  <a:pt x="802" y="125"/>
                </a:lnTo>
                <a:lnTo>
                  <a:pt x="820" y="165"/>
                </a:lnTo>
                <a:lnTo>
                  <a:pt x="828" y="129"/>
                </a:lnTo>
                <a:lnTo>
                  <a:pt x="834" y="103"/>
                </a:lnTo>
                <a:lnTo>
                  <a:pt x="842" y="83"/>
                </a:lnTo>
                <a:lnTo>
                  <a:pt x="846" y="74"/>
                </a:lnTo>
                <a:lnTo>
                  <a:pt x="850" y="68"/>
                </a:lnTo>
                <a:lnTo>
                  <a:pt x="854" y="63"/>
                </a:lnTo>
                <a:lnTo>
                  <a:pt x="859" y="59"/>
                </a:lnTo>
                <a:lnTo>
                  <a:pt x="867" y="56"/>
                </a:lnTo>
                <a:lnTo>
                  <a:pt x="874" y="57"/>
                </a:lnTo>
                <a:lnTo>
                  <a:pt x="880" y="61"/>
                </a:lnTo>
                <a:lnTo>
                  <a:pt x="893" y="75"/>
                </a:lnTo>
                <a:lnTo>
                  <a:pt x="892" y="106"/>
                </a:lnTo>
                <a:close/>
                <a:moveTo>
                  <a:pt x="500" y="84"/>
                </a:moveTo>
                <a:lnTo>
                  <a:pt x="500" y="92"/>
                </a:lnTo>
                <a:lnTo>
                  <a:pt x="497" y="101"/>
                </a:lnTo>
                <a:lnTo>
                  <a:pt x="487" y="117"/>
                </a:lnTo>
                <a:lnTo>
                  <a:pt x="481" y="123"/>
                </a:lnTo>
                <a:lnTo>
                  <a:pt x="472" y="131"/>
                </a:lnTo>
                <a:lnTo>
                  <a:pt x="450" y="143"/>
                </a:lnTo>
                <a:lnTo>
                  <a:pt x="389" y="167"/>
                </a:lnTo>
                <a:lnTo>
                  <a:pt x="356" y="167"/>
                </a:lnTo>
                <a:lnTo>
                  <a:pt x="398" y="148"/>
                </a:lnTo>
                <a:lnTo>
                  <a:pt x="420" y="136"/>
                </a:lnTo>
                <a:lnTo>
                  <a:pt x="440" y="123"/>
                </a:lnTo>
                <a:lnTo>
                  <a:pt x="471" y="98"/>
                </a:lnTo>
                <a:lnTo>
                  <a:pt x="395" y="98"/>
                </a:lnTo>
                <a:lnTo>
                  <a:pt x="387" y="99"/>
                </a:lnTo>
                <a:lnTo>
                  <a:pt x="370" y="112"/>
                </a:lnTo>
                <a:lnTo>
                  <a:pt x="370" y="91"/>
                </a:lnTo>
                <a:lnTo>
                  <a:pt x="383" y="72"/>
                </a:lnTo>
                <a:lnTo>
                  <a:pt x="393" y="64"/>
                </a:lnTo>
                <a:lnTo>
                  <a:pt x="404" y="62"/>
                </a:lnTo>
                <a:lnTo>
                  <a:pt x="500" y="62"/>
                </a:lnTo>
                <a:lnTo>
                  <a:pt x="502" y="69"/>
                </a:lnTo>
                <a:lnTo>
                  <a:pt x="500" y="84"/>
                </a:lnTo>
                <a:close/>
                <a:moveTo>
                  <a:pt x="117" y="259"/>
                </a:moveTo>
                <a:lnTo>
                  <a:pt x="113" y="276"/>
                </a:lnTo>
                <a:lnTo>
                  <a:pt x="105" y="294"/>
                </a:lnTo>
                <a:lnTo>
                  <a:pt x="96" y="303"/>
                </a:lnTo>
                <a:lnTo>
                  <a:pt x="88" y="310"/>
                </a:lnTo>
                <a:lnTo>
                  <a:pt x="78" y="314"/>
                </a:lnTo>
                <a:lnTo>
                  <a:pt x="68" y="315"/>
                </a:lnTo>
                <a:lnTo>
                  <a:pt x="58" y="314"/>
                </a:lnTo>
                <a:lnTo>
                  <a:pt x="48" y="310"/>
                </a:lnTo>
                <a:lnTo>
                  <a:pt x="41" y="303"/>
                </a:lnTo>
                <a:lnTo>
                  <a:pt x="35" y="294"/>
                </a:lnTo>
                <a:lnTo>
                  <a:pt x="29" y="282"/>
                </a:lnTo>
                <a:lnTo>
                  <a:pt x="25" y="270"/>
                </a:lnTo>
                <a:lnTo>
                  <a:pt x="23" y="259"/>
                </a:lnTo>
                <a:lnTo>
                  <a:pt x="22" y="246"/>
                </a:lnTo>
                <a:lnTo>
                  <a:pt x="23" y="227"/>
                </a:lnTo>
                <a:lnTo>
                  <a:pt x="26" y="205"/>
                </a:lnTo>
                <a:lnTo>
                  <a:pt x="33" y="182"/>
                </a:lnTo>
                <a:lnTo>
                  <a:pt x="40" y="156"/>
                </a:lnTo>
                <a:lnTo>
                  <a:pt x="50" y="131"/>
                </a:lnTo>
                <a:lnTo>
                  <a:pt x="60" y="107"/>
                </a:lnTo>
                <a:lnTo>
                  <a:pt x="71" y="86"/>
                </a:lnTo>
                <a:lnTo>
                  <a:pt x="84" y="67"/>
                </a:lnTo>
                <a:lnTo>
                  <a:pt x="83" y="80"/>
                </a:lnTo>
                <a:lnTo>
                  <a:pt x="79" y="97"/>
                </a:lnTo>
                <a:lnTo>
                  <a:pt x="74" y="117"/>
                </a:lnTo>
                <a:lnTo>
                  <a:pt x="68" y="140"/>
                </a:lnTo>
                <a:lnTo>
                  <a:pt x="55" y="184"/>
                </a:lnTo>
                <a:lnTo>
                  <a:pt x="52" y="202"/>
                </a:lnTo>
                <a:lnTo>
                  <a:pt x="51" y="217"/>
                </a:lnTo>
                <a:lnTo>
                  <a:pt x="53" y="231"/>
                </a:lnTo>
                <a:lnTo>
                  <a:pt x="57" y="245"/>
                </a:lnTo>
                <a:lnTo>
                  <a:pt x="64" y="256"/>
                </a:lnTo>
                <a:lnTo>
                  <a:pt x="70" y="260"/>
                </a:lnTo>
                <a:lnTo>
                  <a:pt x="75" y="261"/>
                </a:lnTo>
                <a:lnTo>
                  <a:pt x="84" y="258"/>
                </a:lnTo>
                <a:lnTo>
                  <a:pt x="91" y="249"/>
                </a:lnTo>
                <a:lnTo>
                  <a:pt x="100" y="234"/>
                </a:lnTo>
                <a:lnTo>
                  <a:pt x="109" y="212"/>
                </a:lnTo>
                <a:lnTo>
                  <a:pt x="112" y="217"/>
                </a:lnTo>
                <a:lnTo>
                  <a:pt x="116" y="225"/>
                </a:lnTo>
                <a:lnTo>
                  <a:pt x="117" y="242"/>
                </a:lnTo>
                <a:lnTo>
                  <a:pt x="117" y="25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DZ" sz="4400" spc="-1" strike="noStrike">
                <a:solidFill>
                  <a:srgbClr val="376092"/>
                </a:solidFill>
                <a:latin typeface="Calibri"/>
              </a:rPr>
              <a:t>الأهداف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07" name="ZoneTexte 3"/>
          <p:cNvSpPr/>
          <p:nvPr/>
        </p:nvSpPr>
        <p:spPr>
          <a:xfrm>
            <a:off x="228600" y="1600200"/>
            <a:ext cx="914400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e46c0a"/>
                </a:solidFill>
                <a:latin typeface="Arial"/>
              </a:rPr>
              <a:t>ت</a:t>
            </a:r>
            <a:r>
              <a:rPr b="1" lang="ar-DZ" sz="4000" spc="-1" strike="noStrike">
                <a:solidFill>
                  <a:srgbClr val="e46c0a"/>
                </a:solidFill>
                <a:latin typeface="Arial"/>
              </a:rPr>
              <a:t>هدف هذ</a:t>
            </a:r>
            <a:r>
              <a:rPr b="1" lang="ar-SA" sz="4000" spc="-1" strike="noStrike">
                <a:solidFill>
                  <a:srgbClr val="e46c0a"/>
                </a:solidFill>
                <a:latin typeface="Arial"/>
              </a:rPr>
              <a:t>ه المحاضرة</a:t>
            </a:r>
            <a:r>
              <a:rPr b="1" lang="ar-DZ" sz="4000" spc="-1" strike="noStrike">
                <a:solidFill>
                  <a:srgbClr val="e46c0a"/>
                </a:solidFill>
                <a:latin typeface="Arial"/>
              </a:rPr>
              <a:t> </a:t>
            </a:r>
            <a:r>
              <a:rPr b="1" lang="ar-SA" sz="4000" spc="-1" strike="noStrike">
                <a:solidFill>
                  <a:srgbClr val="e46c0a"/>
                </a:solidFill>
                <a:latin typeface="Arial"/>
              </a:rPr>
              <a:t>إلى التعريف بـ</a:t>
            </a:r>
            <a:r>
              <a:rPr b="1" lang="ar-DZ" sz="4000" spc="-1" strike="noStrike">
                <a:solidFill>
                  <a:srgbClr val="e46c0a"/>
                </a:solidFill>
                <a:latin typeface="Arial"/>
              </a:rPr>
              <a:t>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4000" spc="-1" strike="noStrike">
                <a:solidFill>
                  <a:srgbClr val="e46c0a"/>
                </a:solidFill>
                <a:latin typeface="Arial"/>
              </a:rPr>
              <a:t>ـ مفهوم </a:t>
            </a:r>
            <a:r>
              <a:rPr b="1" lang="ar-SA" sz="4000" spc="-1" strike="noStrike">
                <a:solidFill>
                  <a:srgbClr val="e46c0a"/>
                </a:solidFill>
                <a:latin typeface="Arial"/>
              </a:rPr>
              <a:t>المبادر والريادة والمشروعات الصغيرة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e46c0a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e46c0a"/>
                </a:solidFill>
                <a:latin typeface="Arial"/>
              </a:rPr>
              <a:t>خصائص الشخصية المبادرة اوالرائدة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e46c0a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e46c0a"/>
                </a:solidFill>
                <a:latin typeface="Arial"/>
              </a:rPr>
              <a:t> معايير تصنيف الأعمال 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عنصر نائب لرقم الشريحة 4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8089C-EAD3-4BED-9EBA-47A3FD3C0811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376092"/>
                </a:solidFill>
                <a:latin typeface="Calibri"/>
              </a:rPr>
              <a:t>المحتوى 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95000" y="1447560"/>
            <a:ext cx="89154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e46c0a"/>
                </a:solidFill>
                <a:latin typeface="Arial"/>
              </a:rPr>
              <a:t>مفهوم المبادرات الخاص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e46c0a"/>
                </a:solidFill>
                <a:latin typeface="Arial"/>
              </a:rPr>
              <a:t>خصائص الشخصية المبادرة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e46c0a"/>
                </a:solidFill>
                <a:latin typeface="Arial"/>
              </a:rPr>
              <a:t>مفاهيم خاطئة عن الشخصية المبادر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e46c0a"/>
                </a:solidFill>
                <a:latin typeface="Arial"/>
              </a:rPr>
              <a:t>أنواع المبادرات الخاص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e46c0a"/>
                </a:solidFill>
                <a:latin typeface="Arial"/>
              </a:rPr>
              <a:t>معايير تصنيف الأعمال الصغير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e46c0a"/>
                </a:solidFill>
                <a:latin typeface="Arial"/>
              </a:rPr>
              <a:t>مجالات نشاط الأعمال الصغير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e46c0a"/>
                </a:solidFill>
                <a:latin typeface="Arial"/>
              </a:rPr>
              <a:t>المبادرة عبر الانترنت والأعمال الصغير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e46c0a"/>
                </a:solidFill>
                <a:latin typeface="Arial"/>
              </a:rPr>
              <a:t>أسباب نجاح وفشل الأعمال الصغير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e46c0a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عنصر نائب لرقم الشريحة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16009-BAED-4D00-9D2B-02E533A60F49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376092"/>
                </a:solidFill>
                <a:latin typeface="Calibri"/>
              </a:rPr>
              <a:t>مفهوم المبادرات الخاصة </a:t>
            </a:r>
            <a:r>
              <a:rPr b="1" lang="it-IT" sz="40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Entrepreneurship</a:t>
            </a:r>
            <a:endParaRPr b="0" lang="en-US" sz="40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e46c0a"/>
                </a:solidFill>
                <a:latin typeface="Calibri"/>
                <a:ea typeface="Times New Roman"/>
              </a:rPr>
              <a:t>   </a:t>
            </a:r>
            <a:r>
              <a:rPr b="1" lang="ar-SA" sz="3200" spc="-1" strike="noStrike">
                <a:solidFill>
                  <a:srgbClr val="e46c0a"/>
                </a:solidFill>
                <a:latin typeface="Calibri"/>
                <a:ea typeface="Times New Roman"/>
              </a:rPr>
              <a:t>	</a:t>
            </a:r>
            <a:r>
              <a:rPr b="1" lang="ar-SA" sz="3200" spc="-1" strike="noStrike">
                <a:solidFill>
                  <a:srgbClr val="e46c0a"/>
                </a:solidFill>
                <a:latin typeface="Calibri"/>
                <a:ea typeface="Times New Roman"/>
              </a:rPr>
              <a:t>	</a:t>
            </a:r>
            <a:r>
              <a:rPr b="1" lang="ar-SA" sz="3200" spc="-1" strike="noStrike">
                <a:solidFill>
                  <a:srgbClr val="e46c0a"/>
                </a:solidFill>
                <a:latin typeface="Calibri"/>
                <a:cs typeface="Times New Roman"/>
              </a:rPr>
              <a:t>هي خصائص وسلوكات تتعلق بالابتداء بعمل والتخطيط له </a:t>
            </a:r>
            <a:r>
              <a:rPr b="1" lang="ar-SA" sz="3200" spc="-1" strike="noStrike">
                <a:solidFill>
                  <a:srgbClr val="e46c0a"/>
                </a:solidFill>
                <a:latin typeface="Calibri"/>
                <a:ea typeface="Times New Roman"/>
              </a:rPr>
              <a:t>	</a:t>
            </a:r>
            <a:r>
              <a:rPr b="1" lang="ar-SA" sz="3200" spc="-1" strike="noStrike">
                <a:solidFill>
                  <a:srgbClr val="e46c0a"/>
                </a:solidFill>
                <a:latin typeface="Calibri"/>
                <a:cs typeface="Times New Roman"/>
              </a:rPr>
              <a:t>وتنظيمه وتحمل  مخاطره والإبداع في إدارته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	</a:t>
            </a:r>
            <a:r>
              <a:rPr b="1" lang="ar-SA" sz="32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	</a:t>
            </a:r>
            <a:r>
              <a:rPr b="1" lang="ar-QA" sz="3200" spc="-1" strike="noStrike">
                <a:solidFill>
                  <a:srgbClr val="376092"/>
                </a:solidFill>
                <a:latin typeface="Times New Roman"/>
                <a:cs typeface="Times New Roman"/>
              </a:rPr>
              <a:t>المبادر</a:t>
            </a:r>
            <a:r>
              <a:rPr b="1" lang="ar-SA" sz="32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	</a:t>
            </a:r>
            <a:r>
              <a:rPr b="1" lang="ar-SA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	</a:t>
            </a:r>
            <a:r>
              <a:rPr b="1" lang="ar-QA" sz="3200" spc="-1" strike="noStrike">
                <a:solidFill>
                  <a:srgbClr val="e46c0a"/>
                </a:solidFill>
                <a:latin typeface="Times New Roman"/>
                <a:cs typeface="Times New Roman"/>
              </a:rPr>
              <a:t>هو فرد يتمتع بقدرات على تحمل المخاطر ورؤية الفرص </a:t>
            </a:r>
            <a:r>
              <a:rPr b="1" lang="ar-SA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	</a:t>
            </a:r>
            <a:r>
              <a:rPr b="1" lang="ar-QA" sz="3200" spc="-1" strike="noStrike">
                <a:solidFill>
                  <a:srgbClr val="e46c0a"/>
                </a:solidFill>
                <a:latin typeface="Times New Roman"/>
                <a:cs typeface="Times New Roman"/>
              </a:rPr>
              <a:t>والتخطيط والإدارة الإبداعية لعمل خاص به</a:t>
            </a:r>
            <a:r>
              <a:rPr b="1" lang="ar-SA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.</a:t>
            </a:r>
            <a:r>
              <a:rPr b="1" lang="ar-QA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عنصر نائب لرقم الشريحة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A698A-5C8A-4D77-BA2C-C71E9F952127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376092"/>
                </a:solidFill>
                <a:latin typeface="Calibri"/>
              </a:rPr>
              <a:t>خصائص الشخصية المبادرة 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95000" y="1447560"/>
            <a:ext cx="89154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4000" indent="-32400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800" spc="-1" strike="noStrike">
                <a:solidFill>
                  <a:srgbClr val="e46c0a"/>
                </a:solidFill>
                <a:latin typeface="Times New Roman"/>
                <a:cs typeface="Times New Roman"/>
              </a:rPr>
              <a:t>ـ القدرة على التحكم الذاتي والاعتقاد بأن مصيرهم يحددونه بأنفسهم ويحبون الاستقلالية</a:t>
            </a:r>
            <a:r>
              <a:rPr b="1" lang="ar-SA" sz="2800" spc="-1" strike="noStrike">
                <a:solidFill>
                  <a:srgbClr val="e46c0a"/>
                </a:solidFill>
                <a:latin typeface="Times New Roman"/>
                <a:cs typeface="Times New Roman"/>
              </a:rPr>
              <a:t>؛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4000" indent="-32400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4000" indent="-32400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800" spc="-1" strike="noStrike">
                <a:solidFill>
                  <a:srgbClr val="e46c0a"/>
                </a:solidFill>
                <a:latin typeface="Times New Roman"/>
                <a:cs typeface="Times New Roman"/>
              </a:rPr>
              <a:t>ـ يتمتعون بطاقة عمل هائلة ويعملون بجد واجتهاد ومثابرة ورغبة بالتميز والنجاح</a:t>
            </a:r>
            <a:r>
              <a:rPr b="1" lang="ar-SA" sz="2800" spc="-1" strike="noStrike">
                <a:solidFill>
                  <a:srgbClr val="e46c0a"/>
                </a:solidFill>
                <a:latin typeface="Times New Roman"/>
                <a:cs typeface="Times New Roman"/>
              </a:rPr>
              <a:t>؛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4000" indent="-32400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4000" indent="-32400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800" spc="-1" strike="noStrike">
                <a:solidFill>
                  <a:srgbClr val="e46c0a"/>
                </a:solidFill>
                <a:latin typeface="Times New Roman"/>
                <a:cs typeface="Times New Roman"/>
              </a:rPr>
              <a:t>ـ يشعرون بالحاجة إلى تحقيق انجازات متميزة</a:t>
            </a:r>
            <a:r>
              <a:rPr b="1" lang="ar-SA" sz="2800" spc="-1" strike="noStrike">
                <a:solidFill>
                  <a:srgbClr val="e46c0a"/>
                </a:solidFill>
                <a:latin typeface="Times New Roman"/>
                <a:cs typeface="Times New Roman"/>
              </a:rPr>
              <a:t>؛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4000" indent="-32400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4000" indent="-32400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800" spc="-1" strike="noStrike">
                <a:solidFill>
                  <a:srgbClr val="e46c0a"/>
                </a:solidFill>
                <a:latin typeface="Times New Roman"/>
                <a:cs typeface="Times New Roman"/>
              </a:rPr>
              <a:t>ـ يسعون وراء تحقيق أهداف فيها نسبة كبيرة من التحدي</a:t>
            </a:r>
            <a:r>
              <a:rPr b="1" lang="ar-SA" sz="28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4000" indent="-32400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عنصر نائب لرقم الشريحة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EAEB6-0B61-4ACA-8527-6187C37C088E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95000" y="1523880"/>
            <a:ext cx="891540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3200" spc="-1" strike="noStrike">
                <a:solidFill>
                  <a:srgbClr val="e46c0a"/>
                </a:solidFill>
                <a:latin typeface="Times New Roman"/>
                <a:cs typeface="Times New Roman"/>
              </a:rPr>
              <a:t>ـ يتقبلون حالات الغموض ويتحملون المخاطر</a:t>
            </a:r>
            <a:r>
              <a:rPr b="1" lang="ar-SA" sz="3200" spc="-1" strike="noStrike">
                <a:solidFill>
                  <a:srgbClr val="e46c0a"/>
                </a:solidFill>
                <a:latin typeface="Times New Roman"/>
                <a:cs typeface="Times New Roman"/>
              </a:rPr>
              <a:t>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r" rtl="1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3200" spc="-1" strike="noStrike">
                <a:solidFill>
                  <a:srgbClr val="e46c0a"/>
                </a:solidFill>
                <a:latin typeface="Times New Roman"/>
                <a:cs typeface="Times New Roman"/>
              </a:rPr>
              <a:t>ـ ثقة عالية بالنفس</a:t>
            </a:r>
            <a:r>
              <a:rPr b="1" lang="ar-SA" sz="3200" spc="-1" strike="noStrike">
                <a:solidFill>
                  <a:srgbClr val="e46c0a"/>
                </a:solidFill>
                <a:latin typeface="Times New Roman"/>
                <a:cs typeface="Times New Roman"/>
              </a:rPr>
              <a:t>؛</a:t>
            </a:r>
            <a:r>
              <a:rPr b="1" lang="ar-QA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r" rtl="1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3200" spc="-1" strike="noStrike">
                <a:solidFill>
                  <a:srgbClr val="e46c0a"/>
                </a:solidFill>
                <a:latin typeface="Times New Roman"/>
                <a:cs typeface="Times New Roman"/>
              </a:rPr>
              <a:t>ـ ي</a:t>
            </a:r>
            <a:r>
              <a:rPr b="1" lang="ar-SA" sz="3200" spc="-1" strike="noStrike">
                <a:solidFill>
                  <a:srgbClr val="e46c0a"/>
                </a:solidFill>
                <a:latin typeface="Times New Roman"/>
                <a:cs typeface="Times New Roman"/>
              </a:rPr>
              <a:t>ت</a:t>
            </a:r>
            <a:r>
              <a:rPr b="1" lang="ar-QA" sz="3200" spc="-1" strike="noStrike">
                <a:solidFill>
                  <a:srgbClr val="e46c0a"/>
                </a:solidFill>
                <a:latin typeface="Times New Roman"/>
                <a:cs typeface="Times New Roman"/>
              </a:rPr>
              <a:t>حلون بالصبر</a:t>
            </a:r>
            <a:r>
              <a:rPr b="1" lang="ar-SA" sz="3200" spc="-1" strike="noStrike">
                <a:solidFill>
                  <a:srgbClr val="e46c0a"/>
                </a:solidFill>
                <a:latin typeface="Times New Roman"/>
                <a:cs typeface="Times New Roman"/>
              </a:rPr>
              <a:t>؛</a:t>
            </a:r>
            <a:r>
              <a:rPr b="1" lang="ar-QA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r" rtl="1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3200" spc="-1" strike="noStrike">
                <a:solidFill>
                  <a:srgbClr val="e46c0a"/>
                </a:solidFill>
                <a:latin typeface="Times New Roman"/>
                <a:cs typeface="Times New Roman"/>
              </a:rPr>
              <a:t>ـ الاستقلالية وعدم الاتكال على الغير</a:t>
            </a:r>
            <a:r>
              <a:rPr b="1" lang="ar-SA" sz="3200" spc="-1" strike="noStrike">
                <a:solidFill>
                  <a:srgbClr val="e46c0a"/>
                </a:solidFill>
                <a:latin typeface="Times New Roman"/>
                <a:cs typeface="Times New Roman"/>
              </a:rPr>
              <a:t>؛</a:t>
            </a:r>
            <a:r>
              <a:rPr b="1" lang="ar-QA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r" rtl="1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3200" spc="-1" strike="noStrike">
                <a:solidFill>
                  <a:srgbClr val="e46c0a"/>
                </a:solidFill>
                <a:latin typeface="Times New Roman"/>
                <a:cs typeface="Times New Roman"/>
              </a:rPr>
              <a:t>ـ القدرة على تقبل الفشل ومن ثم تصحيح الأخطاء</a:t>
            </a:r>
            <a:r>
              <a:rPr b="1" lang="ar-SA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عنصر نائب لرقم الشريحة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375C3-947C-4073-BD8A-BF9B131501EC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376092"/>
                </a:solidFill>
                <a:latin typeface="Calibri"/>
              </a:rPr>
              <a:t>مفاهيم خاطئة عن الشخصية المبادرة  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3200" spc="-1" strike="noStrike">
                <a:solidFill>
                  <a:srgbClr val="e46c0a"/>
                </a:solidFill>
                <a:latin typeface="Times New Roman"/>
                <a:cs typeface="Times New Roman"/>
              </a:rPr>
              <a:t>ـ يولدون بموهبة</a:t>
            </a:r>
            <a:r>
              <a:rPr b="1" lang="ar-SA" sz="3200" spc="-1" strike="noStrike">
                <a:solidFill>
                  <a:srgbClr val="e46c0a"/>
                </a:solidFill>
                <a:latin typeface="Times New Roman"/>
                <a:cs typeface="Times New Roman"/>
              </a:rPr>
              <a:t>؛</a:t>
            </a:r>
            <a:r>
              <a:rPr b="1" lang="ar-QA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r" rtl="1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3200" spc="-1" strike="noStrike">
                <a:solidFill>
                  <a:srgbClr val="e46c0a"/>
                </a:solidFill>
                <a:latin typeface="Times New Roman"/>
                <a:cs typeface="Times New Roman"/>
              </a:rPr>
              <a:t>ـ المبادر هو شخص مغامر</a:t>
            </a:r>
            <a:r>
              <a:rPr b="1" lang="ar-SA" sz="3200" spc="-1" strike="noStrike">
                <a:solidFill>
                  <a:srgbClr val="e46c0a"/>
                </a:solidFill>
                <a:latin typeface="Times New Roman"/>
                <a:cs typeface="Times New Roman"/>
              </a:rPr>
              <a:t>؛</a:t>
            </a:r>
            <a:r>
              <a:rPr b="1" lang="ar-QA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r" rtl="1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3200" spc="-1" strike="noStrike">
                <a:solidFill>
                  <a:srgbClr val="e46c0a"/>
                </a:solidFill>
                <a:latin typeface="Times New Roman"/>
                <a:cs typeface="Times New Roman"/>
              </a:rPr>
              <a:t>ـ المال هو مفتاح نجاح المبادر</a:t>
            </a:r>
            <a:r>
              <a:rPr b="1" lang="ar-SA" sz="3200" spc="-1" strike="noStrike">
                <a:solidFill>
                  <a:srgbClr val="e46c0a"/>
                </a:solidFill>
                <a:latin typeface="Times New Roman"/>
                <a:cs typeface="Times New Roman"/>
              </a:rPr>
              <a:t>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r" rtl="1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3200" spc="-1" strike="noStrike">
                <a:solidFill>
                  <a:srgbClr val="e46c0a"/>
                </a:solidFill>
                <a:latin typeface="Times New Roman"/>
                <a:cs typeface="Times New Roman"/>
              </a:rPr>
              <a:t>ـ المبادر هو شاب</a:t>
            </a:r>
            <a:r>
              <a:rPr b="1" lang="ar-SA" sz="3200" spc="-1" strike="noStrike">
                <a:solidFill>
                  <a:srgbClr val="e46c0a"/>
                </a:solidFill>
                <a:latin typeface="Times New Roman"/>
                <a:cs typeface="Times New Roman"/>
              </a:rPr>
              <a:t>؛</a:t>
            </a:r>
            <a:r>
              <a:rPr b="1" lang="ar-QA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r" rtl="1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3200" spc="-1" strike="noStrike">
                <a:solidFill>
                  <a:srgbClr val="e46c0a"/>
                </a:solidFill>
                <a:latin typeface="Times New Roman"/>
                <a:cs typeface="Times New Roman"/>
              </a:rPr>
              <a:t>ـ يحمل شهادة جامعية</a:t>
            </a:r>
            <a:r>
              <a:rPr b="1" lang="ar-SA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.</a:t>
            </a:r>
            <a:r>
              <a:rPr b="1" lang="ar-QA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عنصر نائب لرقم الشريحة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6F8CC-1CE0-44AA-9002-8C070E535961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376092"/>
                </a:solidFill>
                <a:latin typeface="Calibri"/>
              </a:rPr>
              <a:t>أنواع المبادرات الخاصة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   - </a:t>
            </a:r>
            <a:r>
              <a:rPr b="1" lang="ar-SA" sz="3200" spc="-1" strike="noStrike">
                <a:solidFill>
                  <a:srgbClr val="e46c0a"/>
                </a:solidFill>
                <a:latin typeface="Calibri"/>
                <a:cs typeface="Times New Roman"/>
              </a:rPr>
              <a:t>الأعمال الصغيرة </a:t>
            </a:r>
            <a:r>
              <a:rPr b="1" lang="en-US" sz="3200" spc="-1" strike="noStrike">
                <a:solidFill>
                  <a:srgbClr val="e46c0a"/>
                </a:solidFill>
                <a:latin typeface="Calibri"/>
              </a:rPr>
              <a:t>Small Busi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3200" spc="-1" strike="noStrike">
                <a:solidFill>
                  <a:srgbClr val="e46c0a"/>
                </a:solidFill>
                <a:latin typeface="Times New Roman"/>
                <a:cs typeface="Times New Roman"/>
              </a:rPr>
              <a:t>وهو </a:t>
            </a:r>
            <a:r>
              <a:rPr b="1" lang="ar-SA" sz="3200" spc="-1" strike="noStrike">
                <a:solidFill>
                  <a:srgbClr val="e46c0a"/>
                </a:solidFill>
                <a:latin typeface="Times New Roman"/>
                <a:cs typeface="Times New Roman"/>
              </a:rPr>
              <a:t>مشروع </a:t>
            </a:r>
            <a:r>
              <a:rPr b="1" lang="ar-QA" sz="3200" spc="-1" strike="noStrike">
                <a:solidFill>
                  <a:srgbClr val="e46c0a"/>
                </a:solidFill>
                <a:latin typeface="Times New Roman"/>
                <a:cs typeface="Times New Roman"/>
              </a:rPr>
              <a:t>يمتلك ويدار من قبل فرد أو أفراد معدودين وبشكل مستقل ويعمل فيه عدد قليل من العاملين ولا يهيمن بأي شكل من الأشكال على القطاع الذي ينشط فيه</a:t>
            </a:r>
            <a:r>
              <a:rPr b="1" lang="ar-SA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  </a:t>
            </a:r>
            <a:r>
              <a:rPr b="1" lang="ar-QA" sz="3200" spc="-1" strike="noStrike">
                <a:solidFill>
                  <a:srgbClr val="e46c0a"/>
                </a:solidFill>
                <a:latin typeface="Times New Roman"/>
                <a:cs typeface="Times New Roman"/>
              </a:rPr>
              <a:t>ـ الإعمال الصغيرة جدا </a:t>
            </a:r>
            <a:r>
              <a:rPr b="1" lang="it-IT" sz="3200" spc="-1" strike="noStrike">
                <a:solidFill>
                  <a:srgbClr val="e46c0a"/>
                </a:solidFill>
                <a:latin typeface="Times New Roman"/>
              </a:rPr>
              <a:t>Micro Business</a:t>
            </a:r>
            <a:r>
              <a:rPr b="1" lang="ar-QA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  </a:t>
            </a:r>
            <a:r>
              <a:rPr b="1" lang="ar-QA" sz="3200" spc="-1" strike="noStrike">
                <a:solidFill>
                  <a:srgbClr val="e46c0a"/>
                </a:solidFill>
                <a:latin typeface="Times New Roman"/>
                <a:cs typeface="Times New Roman"/>
              </a:rPr>
              <a:t>وهي أعمال توجد في مكان واحد ويعمل فيها اقل من خمسة أفراد </a:t>
            </a:r>
            <a:r>
              <a:rPr b="1" lang="ar-SA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  </a:t>
            </a:r>
            <a:r>
              <a:rPr b="1" lang="ar-QA" sz="3200" spc="-1" strike="noStrike">
                <a:solidFill>
                  <a:srgbClr val="e46c0a"/>
                </a:solidFill>
                <a:latin typeface="Times New Roman"/>
                <a:cs typeface="Times New Roman"/>
              </a:rPr>
              <a:t>وغالبا ما تكون أعمالا حرفية</a:t>
            </a:r>
            <a:r>
              <a:rPr b="1" lang="ar-SA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. </a:t>
            </a:r>
            <a:r>
              <a:rPr b="1" lang="ar-QA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عنصر نائب لرقم الشريحة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903BF-BF72-48A7-8046-5D532F4F6F30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4T19:14:34Z</dcterms:created>
  <dc:creator>dr. nadir aliane</dc:creator>
  <dc:description/>
  <dc:language>en-US</dc:language>
  <cp:lastModifiedBy>kfu</cp:lastModifiedBy>
  <dcterms:modified xsi:type="dcterms:W3CDTF">2010-12-12T13:17:52Z</dcterms:modified>
  <cp:revision>152</cp:revision>
  <dc:subject/>
  <dc:title>Slide 1</dc:title>
</cp:coreProperties>
</file>