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49C0-94E5-414C-ABB0-077BA6BA5EF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873B-A583-41C4-9BE4-8F7AC8C69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A454-DA56-4604-9898-85843A71C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1075-9006-4BF4-8A92-6E3E54A04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5EA5-FE20-4B77-B038-A2EA2B93D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62DD-2083-4E53-A0AD-108CC55FC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DBFD-3652-4182-BD21-8643918473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9F4C-2C5D-45FA-A545-DA3F7A9F2C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14F6-29C7-4A9E-BBA4-1CED668E71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51DD8-BFAA-4437-8167-B9510AD44C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3D42A-A7EF-4938-976A-A750DE8214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7AAB-165F-422C-9E04-1439CBDA6A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21D4-4457-42C7-9DB8-6A3F8A506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9C00-BC93-4C55-B2E5-78507E642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57B8-9740-4F24-927C-07F65368D1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004C-9213-49C1-B194-FD287CBB8E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8C52-7980-44BA-A499-B3A1609B2D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573F-C3B7-4EB9-9274-42AC2AA02F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05B7-AB8D-42CD-865A-742D33189F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EAA-74CE-4BBD-B914-66330D2D52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06F-F3DA-46B7-9CE0-DCC7909E42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CE8-AEA3-4EA6-A549-422CDF364E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024-87AE-43F4-A2E7-B3A9F9DEE6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C98-5AA8-479B-9551-DDB698ACA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B8C4-E594-4016-95FA-315A4A4116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072-81C3-4200-A34D-C49C7C9182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05F-FE27-43E5-8071-C365170B32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CA3-9B68-4BC4-A209-468D0FB694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415-CA8A-42EA-A771-1930A8E35C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F88-6339-4674-AFE6-43ABB319DB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899-F9E0-47AF-A399-36940866D5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C29-5876-4035-9CED-90177B440F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9823A-7ECC-4259-A9C7-F0E14C97F5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32D48-BCE4-4F40-B5FD-F493FFC167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F84DE-17C9-4F8D-AAE5-3C992FD3D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4EE3-C74B-4B32-8B0E-2F4FEB4612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B9ABD-6027-4ABC-9CFD-23CF4FCA20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79872-9FF0-43FB-915F-44150FB7C6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19173-0865-4D61-874D-1A2076EE8A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3ACA2-4691-499C-9449-22DCFBA9FC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71015-A87C-4B23-B1E8-0073B22E45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3297F-2F2D-42E4-A0B0-7D3DF6AA28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0513D-3FA3-49D7-9EF2-AA4B132802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2FFEC-F138-431B-836D-50DF83142E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4319B-FAE7-40D0-BC88-57C5FF1CD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E3BA-2CD0-4362-A78A-385A78E4D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8D99-FE58-4A1D-BB43-97B2EEB07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A20F-183F-4F30-923D-9696D585B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64E0-1CA9-4099-88F6-069F977D1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5B94-426B-49AB-934A-A4736D9B9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9DAA-A9F6-44E6-850C-B3E925FDB9C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95CB-5CA8-4719-8A8A-A316CEA2934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5E72-CA53-4CDB-B83C-2493180935C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8E39-C542-4CF1-9D6C-AB369318949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82B6-C20C-47F1-B826-EE4C0FD09FE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5562720" y="4800600"/>
            <a:ext cx="400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e46c0a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e46c0a"/>
                </a:solidFill>
                <a:latin typeface="Calibri"/>
              </a:rPr>
              <a:t>كلية </a:t>
            </a:r>
            <a:r>
              <a:rPr b="0" lang="ar-SA" sz="2400" spc="-1" strike="noStrike">
                <a:solidFill>
                  <a:srgbClr val="e46c0a"/>
                </a:solidFill>
                <a:latin typeface="Calibri"/>
              </a:rPr>
              <a:t>الآد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8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457200" y="2895480"/>
            <a:ext cx="5099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سم المقرر ورقمه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: مبادئ الإدار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أول</a:t>
            </a:r>
            <a:br>
              <a:rPr sz="2200"/>
            </a:b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0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 –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ه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د. ندير علي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0749-6599-41DF-8AB2-2AE50C1F8E0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المعايير نوعان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 معايير كمية يمكن التعبير عنها في صورة رق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مثال: زيادة معدل الإنتاج بــ 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3000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 وحدة، تخفيض زمن الانتظار إلى ساعة واحدة في إدارة الجوازات للحصول على جواز سفر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 معايير نوعية لا يمكن التعبير عنها بصورة رق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just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مثال: تحسين جودة استقبال العملاء ضمن الخدمات الفندقية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6EDB-5CBE-4787-8340-AB9E39AABDA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قياس الأداء الفعلي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يتمثل في القياس الدقيق والفعلي لما تم فعلا في الواقع من إنجاز على مستوى معين (الأقسام، الأفراد، المنظمة ...)؛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غالبا ما يكون القياس كميا (وفي بعض الحالات قد يكون نوعيا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C21F-1CC4-4080-BDB5-20C486EF817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مقارنة النتائج بالمعايير والأهداف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160" y="1447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تتمثل هذه المرحلة في مقارنة ما تم فعلا بالمعايير والأهداف المحددة مسبق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تستهدف هذه المقارنة معرفة مستوى الإنجاز بالنسبة للمنتظ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نتيجة هذه المرحلة قد تكو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B09D-807E-4F8D-846C-A1DBE0334FD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رابط مستقيم 5"/>
          <p:cNvSpPr/>
          <p:nvPr/>
        </p:nvSpPr>
        <p:spPr>
          <a:xfrm>
            <a:off x="5410080" y="3733920"/>
            <a:ext cx="0" cy="2057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رابط كسهم مستقيم 7"/>
          <p:cNvCxnSpPr/>
          <p:nvPr/>
        </p:nvCxnSpPr>
        <p:spPr>
          <a:xfrm flipH="1" flipV="1">
            <a:off x="4495320" y="3733560"/>
            <a:ext cx="9151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8" name="رابط كسهم مستقيم 8"/>
          <p:cNvCxnSpPr/>
          <p:nvPr/>
        </p:nvCxnSpPr>
        <p:spPr>
          <a:xfrm flipH="1" flipV="1">
            <a:off x="4495320" y="4800240"/>
            <a:ext cx="91512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9" name="رابط كسهم مستقيم 9"/>
          <p:cNvCxnSpPr/>
          <p:nvPr/>
        </p:nvCxnSpPr>
        <p:spPr>
          <a:xfrm flipH="1" flipV="1">
            <a:off x="4495320" y="5790960"/>
            <a:ext cx="9151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0" name="مربع نص 7"/>
          <p:cNvSpPr/>
          <p:nvPr/>
        </p:nvSpPr>
        <p:spPr>
          <a:xfrm>
            <a:off x="304920" y="3505320"/>
            <a:ext cx="422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Tw Cen MT"/>
              </a:rPr>
              <a:t>الإنجاز أدنى من المعايير و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ربع نص 8"/>
          <p:cNvSpPr/>
          <p:nvPr/>
        </p:nvSpPr>
        <p:spPr>
          <a:xfrm>
            <a:off x="304920" y="4495680"/>
            <a:ext cx="415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Tw Cen MT"/>
              </a:rPr>
              <a:t>مطابقة الإنجاز للمعايير و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مربع نص 9"/>
          <p:cNvSpPr/>
          <p:nvPr/>
        </p:nvSpPr>
        <p:spPr>
          <a:xfrm>
            <a:off x="152280" y="54864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Tw Cen MT"/>
              </a:rPr>
              <a:t>الإنجاز أحسن من المعايير و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اتخاذ الإجراءات التصحيح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لا فائدة من الرقابة إن لم تؤدي إلى تصحيح الانحرافات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في المنظمة تسعى الرقابة إلى تصحيح الأخطاء والانحرافات وهذا بالاهتمام بكل أنواع الانحرافات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4F56-74C5-45F9-B811-69CDE8E22A8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أنواع 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5000" y="137124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المستو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موعد اجرائ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المصد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الجهة القائمة بالرقا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حسب الم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AD89-2241-4A68-8D9B-23D1DE96257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مستوى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3BFA-357F-4B4E-AD14-4E1B6F4B298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riangolo isoscele 8"/>
          <p:cNvSpPr/>
          <p:nvPr/>
        </p:nvSpPr>
        <p:spPr>
          <a:xfrm>
            <a:off x="1071720" y="1643040"/>
            <a:ext cx="7358040" cy="428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asellaDiTesto 22"/>
          <p:cNvSpPr/>
          <p:nvPr/>
        </p:nvSpPr>
        <p:spPr>
          <a:xfrm>
            <a:off x="3048120" y="22096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رقا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إستراتيج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asellaDiTesto 21"/>
          <p:cNvSpPr/>
          <p:nvPr/>
        </p:nvSpPr>
        <p:spPr>
          <a:xfrm>
            <a:off x="3000240" y="3786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رقابة الهيكل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onnettore 1 19"/>
          <p:cNvSpPr/>
          <p:nvPr/>
        </p:nvSpPr>
        <p:spPr>
          <a:xfrm>
            <a:off x="3200400" y="3429000"/>
            <a:ext cx="3071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nettore 1 16"/>
          <p:cNvSpPr/>
          <p:nvPr/>
        </p:nvSpPr>
        <p:spPr>
          <a:xfrm>
            <a:off x="2133720" y="4724280"/>
            <a:ext cx="5286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asellaDiTesto 20"/>
          <p:cNvSpPr/>
          <p:nvPr/>
        </p:nvSpPr>
        <p:spPr>
          <a:xfrm>
            <a:off x="1571760" y="4857840"/>
            <a:ext cx="607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رقابة المالية                  الرقابة على العملي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مستوى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ـ الرقابة الإستراتيجية: 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تركز على فاعلية المنظمة في إطارها الكلي والأعمال والوظائف الرئيسية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ـ الرقابة الهيكلية: 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ت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ركز 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على 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كيفية انجاز كافة عناصر الهيكل التنظيمي ل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ل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مهام و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ال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وظائف للوصول إلى أهدافها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؛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ـ الرقابة المالية: 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تتعلق بالرقابة على الموارد المالية للمنظمة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ـ رقابة العمليات: 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تركز على رقابة عمليات تحويل الموارد والمدخلات إلى منتجات في شكل سلع أو خدمات</a:t>
            </a:r>
            <a:r>
              <a:rPr b="1" lang="ar-SA" sz="2400" spc="-1" strike="noStrike">
                <a:solidFill>
                  <a:srgbClr val="e46c0a"/>
                </a:solidFill>
                <a:latin typeface="Arial"/>
              </a:rPr>
              <a:t>.</a:t>
            </a:r>
            <a:r>
              <a:rPr b="1" lang="ar-QA" sz="2400" spc="-1" strike="noStrike">
                <a:solidFill>
                  <a:srgbClr val="e46c0a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88FC-1884-4B52-82B1-78B90668CDE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موعد اجرائها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قبل الانجاز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و التأكد من ان الموارد والاتجاهات صحيحة قبل ان يبدأ التنفيذ (مثل الاختيار الجيد للعاملين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المتزامنة مع التنفيذ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تي تركز على ما يحدث اثناء تنفيذ العمل والانجاز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(مثال: التكنولوجية المستخدمة في مراقبة سائقي الشاحنات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بعد الانجاز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تركز على المخرجات او العمل بعد تنفيذه وانتهائه (مثال: فهم رأي الزبائن بعد حصولهم على السلعة او الخدمة)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5D7F-30B4-4DD3-B371-96F9C0CD780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مصدر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95000" y="1523880"/>
            <a:ext cx="8915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ـ الرقابة الداخلية: </a:t>
            </a: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وهي عبارة عن رقابة نابعة من ذات الفرد بحيث يمارس رقابة ذاتية على سلوكه و تصرفات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ـ الرقابة الخارجية: </a:t>
            </a: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وهي الرقابة التي تمارس من قبل المشرفين والمدراء على سلوكيات وتصرفات الآخر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39F0-2CE8-419A-9207-8D4180FB35B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جهة القائمة ب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يب الداخلي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و عبارة عن فرد (او جهة) يمارس العملية الرقابية على انشطة المنظمة في اطار نظام الرقابة الداخلي للمنظمة (مثال: نظام الرقابة المالية الداخلي الذي يراقب العمليات المالي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يب الخارجي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و فرد او هيئة من خارج المنظمة يمارس العملية الرقابية بناء على عقد مبرم معها او بتخويل من القانون (مثال: مكاتب الاستشارات </a:t>
            </a: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Ernest &amp; Young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التي تقوم بأداء خدمات الرقابة المالية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A7A5-F761-41CD-BB43-D7FE6215C1A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ال</a:t>
            </a: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محاضرة الحادية عشر</a:t>
            </a: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: </a:t>
            </a:r>
            <a:br>
              <a:rPr sz="3200"/>
            </a:b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46c0a"/>
                </a:solidFill>
                <a:latin typeface="Calibri"/>
                <a:ea typeface="Calibri"/>
              </a:rPr>
              <a:t> </a:t>
            </a:r>
            <a:r>
              <a:rPr b="1" lang="ar-SA" sz="5400" spc="-1" strike="noStrike">
                <a:solidFill>
                  <a:srgbClr val="e46c0a"/>
                </a:solidFill>
                <a:latin typeface="Calibri"/>
                <a:cs typeface="Calibri"/>
              </a:rPr>
              <a:t>الرقابة</a:t>
            </a:r>
            <a:r>
              <a:rPr b="1" lang="ar-SA" sz="5400" spc="-1" strike="noStrike">
                <a:solidFill>
                  <a:srgbClr val="e46c0a"/>
                </a:solidFill>
                <a:latin typeface="Calibri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C188-E503-4640-8C18-25423FB70FA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لرقابة حسب المجال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على الموارد المادية 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تي تمارس على الموارد المادية للعمل (مثال: المخزون او التجهيزات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على الموارد البشرية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رقابة على العاملين في منظمة الأعمال سواء ما يتعلق بالتعيين أو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التدريب أو الأجو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على المعلومات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رقابة على جميع ما يرتبط بالمعلومات في المنظم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رقابة المالية: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وهي الرقابة المتعلقة بالجوانب الما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09CE-52AE-4D08-A494-70344B8F63E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BD08-5390-4903-9FA8-B30452332CB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75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376092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7" name="ZoneTexte 3"/>
          <p:cNvSpPr/>
          <p:nvPr/>
        </p:nvSpPr>
        <p:spPr>
          <a:xfrm>
            <a:off x="228600" y="1600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يهدف هذا الفصل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 إلى التعريف بـ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ـ مفهوم الرقابة والعملية الرقابية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e46c0a"/>
                </a:solidFill>
                <a:latin typeface="Tw Cen MT"/>
              </a:rPr>
              <a:t>مراحل الرقابة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ـ أنواع الرقابة في 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ال</a:t>
            </a: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منظ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عنصر نائب لرقم الشريحة 4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F4C8-8897-400A-97A8-6E1F09E3ACD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المحتوى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مفهوم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ar-QA" sz="3200" spc="-1" strike="noStrike">
                <a:solidFill>
                  <a:srgbClr val="e46c0a"/>
                </a:solidFill>
                <a:latin typeface="Arial"/>
              </a:rPr>
              <a:t>مفهوم العملية الرقا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- </a:t>
            </a:r>
            <a:r>
              <a:rPr b="1" lang="ar-QA" sz="3200" spc="-1" strike="noStrike">
                <a:solidFill>
                  <a:srgbClr val="e46c0a"/>
                </a:solidFill>
                <a:latin typeface="Calibri"/>
              </a:rPr>
              <a:t>ا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هداف</a:t>
            </a:r>
            <a:r>
              <a:rPr b="1" lang="ar-QA" sz="3200" spc="-1" strike="noStrike">
                <a:solidFill>
                  <a:srgbClr val="e46c0a"/>
                </a:solidFill>
                <a:latin typeface="Calibri"/>
              </a:rPr>
              <a:t>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- مراحل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- </a:t>
            </a:r>
            <a:r>
              <a:rPr b="1" lang="ar-QA" sz="3200" spc="-1" strike="noStrike">
                <a:solidFill>
                  <a:srgbClr val="e46c0a"/>
                </a:solidFill>
                <a:latin typeface="Calibri"/>
              </a:rPr>
              <a:t>أنواع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1D50-BC24-4661-BC7F-7E15E5C08A7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Arial"/>
              </a:rPr>
              <a:t>مفهوم 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600200"/>
            <a:ext cx="9105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ar-QA" sz="3600" spc="-1" strike="noStrike">
                <a:solidFill>
                  <a:srgbClr val="e46c0a"/>
                </a:solidFill>
                <a:latin typeface="Arial"/>
              </a:rPr>
              <a:t>هي مجموعة من الأنشطة التي تهدف إلى جعل الخطط والنتائج منسجمة مع التوقعات والمعايير المستخدمة</a:t>
            </a: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- </a:t>
            </a:r>
            <a:r>
              <a:rPr b="1" lang="ar-SA" sz="3600" spc="-1" strike="noStrike">
                <a:solidFill>
                  <a:srgbClr val="e46c0a"/>
                </a:solidFill>
                <a:latin typeface="Calibri"/>
              </a:rPr>
              <a:t>عملية قياس النتائج الفعلية ومقارنتها بالمعايير أو الخطط الموضوعة ومعرفة أسباب الانحرافات بين النتائج المتحققة والنتائج المطلوبة واتخاذ فعل تصحيحي إن اقتضت الضرور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8C90-6399-4AE5-8F08-278038B23A6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Arial"/>
              </a:rPr>
              <a:t>مفهوم العملية الرقاب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1" lang="ar-QA" sz="4400" spc="-1" strike="noStrike">
                <a:solidFill>
                  <a:srgbClr val="e46c0a"/>
                </a:solidFill>
                <a:latin typeface="Arial"/>
              </a:rPr>
              <a:t>هي عبارة عن عمليات مستمرة لقياس الأداء واتخاذ الإجراءات لضمان النتائج المرغوب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5D2C-8904-4BBE-A3D5-CE3E61DEA97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ا</a:t>
            </a:r>
            <a:r>
              <a:rPr b="1" lang="ar-SA" sz="4400" spc="-1" strike="noStrike">
                <a:solidFill>
                  <a:srgbClr val="11488b"/>
                </a:solidFill>
                <a:latin typeface="Calibri"/>
              </a:rPr>
              <a:t>هداف</a:t>
            </a:r>
            <a:r>
              <a:rPr b="1" lang="ar-QA" sz="4400" spc="-1" strike="noStrike">
                <a:solidFill>
                  <a:srgbClr val="11488b"/>
                </a:solidFill>
                <a:latin typeface="Calibri"/>
              </a:rPr>
              <a:t> 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تكيف مع تغيرات البيئة (استباق تغيرات البيئة المعقدة)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تقليل تراكم الأخطاء (معالجة الانحرافات)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المواكبة والانسجام مع التعقيد التنظيمي (بازدياد حجم المنظمة تزداد اهمية الرقابة)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ـ تخفيض التكاليف</a:t>
            </a: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.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EDA2-966F-44B1-A22C-6FC60B95D97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 مراحل الرقا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ضمن العملية الرقابية هناك أربعة مراح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1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تحديد الأهداف والمعايير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2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قياس الأداء الفعلي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3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مقارنة النتائج بالمعايير والأهداف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4</a:t>
            </a: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اتخاذ الإجراءات التصحيحي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53F2-5808-4E02-AC0F-098B69D6994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1</a:t>
            </a: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- </a:t>
            </a:r>
            <a:r>
              <a:rPr b="1" lang="ar-SA" sz="4400" spc="-1" strike="noStrike">
                <a:solidFill>
                  <a:srgbClr val="376092"/>
                </a:solidFill>
                <a:latin typeface="Tw Cen MT"/>
              </a:rPr>
              <a:t>تحديد الأهداف والمعايير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ليس تحديد الأهداف والمعايير من مهام الرقابة، بل هو من مها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التخطيط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لكن الرقابة تعتمد على الأهداف والمعايير اعتمادا كليا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w Cen MT"/>
              </a:rPr>
              <a:t>- المعيار هو مستوى معين قد يكون رقما، أو حالة نوعية تسعى المنظمة الوصول إليها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8CE0-7FCD-413A-9763-B33E0C3B8D0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dr. nadir aliane</dc:creator>
  <dc:description/>
  <dc:language>en-US</dc:language>
  <cp:lastModifiedBy>user</cp:lastModifiedBy>
  <dcterms:modified xsi:type="dcterms:W3CDTF">2010-12-09T04:34:51Z</dcterms:modified>
  <cp:revision>135</cp:revision>
  <dc:subject/>
  <dc:title>Slide 1</dc:title>
</cp:coreProperties>
</file>