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74AD-E61D-46F7-8D08-A2B025F4F6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92C2-CF64-453F-BDE5-949987729F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F666-B730-42FA-83A3-1B85025A1D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F3F0-0C3B-4F6D-97EA-8CD15373B5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E68D-6169-43D8-9149-A4F1545F8E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06D8-D16D-4CEE-8180-5B466E6225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9882-95A9-4B4B-B2AB-D9913082A4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E15E-D04F-4FF1-A558-9B486626C2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D50A-CE71-4512-865D-D25D97E5A6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DA76-94BF-4616-832B-6F33C3857D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BEB9-544D-4DEB-8620-0C09B027FF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320B-0E34-4B1F-9D90-EF0FE9031C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07E-3509-4A77-AD3A-59518F5A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E01-202D-4AAF-80EC-1B1D97F7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A13-CA53-40FF-A311-572A4578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9F9-52F9-4A2E-A785-5C630FD8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3DED-1AE4-44EF-9A0E-D52574B4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3746-127F-490A-9992-E1E202CA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62F5-B851-4D74-9223-E10CF952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6198-E8CB-4FE7-9DFE-9E4799D7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0BC0-C99A-47D8-A417-F3B9E1BA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1576-3D83-45B3-A131-51DF767B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EB96-23E5-420D-A4A9-C04ED034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BB3-10B8-477B-AE27-5D04139D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48DB-F973-4E12-9F31-946B5DF3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101F-5220-4C70-814F-23C82D8E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CC1B-A173-434E-8B90-550B8B92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09A4-E6D3-4AF9-B633-9C60E3EA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578F-9E21-42F5-AA4F-CEFAD2E1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C381-A916-4BED-8ECB-4437D2B0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0B8A-7519-48E0-80A8-68DB55E4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7A28-C7C3-40F7-A7C9-F1D0C179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0A30-9B7F-4A5A-9ED6-9C613746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B72D-1E75-4836-BC55-40BEEE3A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036-E6CC-4FD2-A22C-8A549666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F64B-7646-4475-87A9-9665755D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518B4-C8F8-4928-A897-39C1DF9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60D3-4F99-438C-B80D-F6037B6C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88928-0D20-46B3-B845-529C8156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BD44-8547-4DAC-BCB1-CDBEFC7E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FD1B3-8D65-41E1-A960-381D2C80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5C2B-865D-4436-842A-2C2DE0BB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0C7-2F7A-4B64-9873-9BEDC8DB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E0B-D212-4B1E-8964-EFA61C8F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41D-BB96-4236-970A-AC455895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286-BDF0-4AEE-8AB3-68940E5D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855-EA91-4352-A759-0E11F669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5D6-FE5B-4B8F-A0C6-E02ECEFA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87FA-E6D2-412D-8607-4221721C81D3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صورة 6" descr="normal slid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صورة 6" descr="normal slid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صورة 7" descr="normal slides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C298-E8AD-49AA-9786-6856B022620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صورة 6" descr="normal slid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صورة 7" descr="normal slides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A26C-1972-4991-987C-756B94304902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3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itle 1"/>
          <p:cNvSpPr/>
          <p:nvPr/>
        </p:nvSpPr>
        <p:spPr>
          <a:xfrm>
            <a:off x="-428760" y="378612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تذوق الأدبي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د. عادل عثمان الهاد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ar-EG" sz="13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الأول </a:t>
            </a:r>
            <a:br>
              <a:rPr sz="1900"/>
            </a:br>
            <a:r>
              <a:rPr b="1" lang="ar-EG" sz="10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0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000" spc="-1" strike="noStrike">
                <a:solidFill>
                  <a:srgbClr val="7f7f7f"/>
                </a:solidFill>
                <a:latin typeface="Calibri"/>
                <a:ea typeface="Times New Roman"/>
              </a:rPr>
              <a:t> - </a:t>
            </a:r>
            <a:r>
              <a:rPr b="1" lang="ar-EG" sz="10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وامل التي تعيق التَّذوُّق الأدب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غلبة الحسّ النقدي ( سيطرة العقل النقدي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دم الصبر والأناة أو الاستجابة لمؤثرات خار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دم التهيؤ النفسي ( اضطراب النفس والمزاج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نقياد لقناعات وأهواء سابق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إلحاح في سرعة الوصول لنتائج تذوقية ( تدخل الآخرين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لة أو انخفاض المخزون الثقاف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غلبة الجانب الفكري وضعف الحس العاطفي الفعَّا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قترحات تمكن من تفادي عوائق التذو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وية الاستعداد الفطري وتنمية موهبة الذوق لدى المتلق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هد ملكة التذوق بالتهذيب والتدريب على النصوص الرفيع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رص على عمق النظرة التأملية للعمل الأد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ليل النص الأدبي إلى عناصره لتسهيل فهم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رص على تناول نصوص يتوافر فيها الانسجام والتراب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إحاطة بكل جوانب النص ومؤلفه وظروفه المختلفة ذات الأث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خطة تربوية تسهم في تطوير الذوق الأدب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راءة النص ّ قراءة جيدة ومتأنية وصولا لفهمه والارتباط بمعاني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ختيار نصوص يتوافر فيها الجمال الموسيقي وعمق الفكرة  وقوة العاطفة  وسهولة الألفا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حث المتلقي( الطالب) على معايشة النص والتحدث عبره مع مبدعه واستحسان ابداعه ومناقشته ونقده وبيان مواضع القصو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فيز الطلاب على جمع المعلومات المتعلقة بالنص وصاحب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صائح لتشجيع حاسَّة التذوق عند الطلا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ضرورة الربط بين موضوعات القراءة والأد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رك مجال للطالب لقراءة النص وفهمه قبل مبادرة المعلم بالش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فيز الطلاب على شرح النص وإبداء الآراء النقدية حول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يل إلى أسئلة الموازنة والمقارنة والبعد عن السطح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شجيع الطلاب على حفظ النصوص التي يجدون نحوها ميل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معرفة مدى استيعاب الطلاب وقدرتهم التذوقية يفضل أن تكون الاختبارات من خلال نصوص مشابهة لم تتم دراست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صورة 3" descr="SLIDE 2.JPG"/>
          <p:cNvPicPr/>
          <p:nvPr/>
        </p:nvPicPr>
        <p:blipFill>
          <a:blip r:embed="rId1"/>
          <a:srcRect l="0" t="0" r="149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376092"/>
                </a:solidFill>
                <a:latin typeface="AYM Wadiy S_U normal."/>
              </a:rPr>
              <a:t>المحاضرة الأولى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مستطيل 5"/>
          <p:cNvSpPr/>
          <p:nvPr/>
        </p:nvSpPr>
        <p:spPr>
          <a:xfrm>
            <a:off x="3000600" y="4214880"/>
            <a:ext cx="3342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مفهوم الذوق والتذوُّ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حاضرة الأول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Calibri"/>
              </a:rPr>
              <a:t>مفهوم الذوق والتذوُّق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التعريف اللغ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عريف الاصطل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ملكة أو حاسَّة فنية لمَّ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التقييم الدقيق لعناصر النص الأد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خبرة تنتج من التجربة وطول النظر والتأ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استجابة وجدانية للقيم الجما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تقدير صحيح ومتكامل للعمل الأد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همية التذوق الأدب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بدايات الأولى للتذوق في التراث الأدبي العرب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داية التذوق متزامنة مع ظهور الأد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ذوق والتذوق عند بعض الأعلا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اقة التذوق بالنق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همية التذوق للمبدع والمتلق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ناصر الذوق ومكوناته ومصادر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ناصر الذوق ه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العاطفة  ـ العقل   ـ الحس والشعور ـ الثقافة و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000000"/>
                </a:solidFill>
                <a:latin typeface="Calibri"/>
              </a:rPr>
              <a:t>* مصادر تكوين الذوق 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الفطرة السليمة فهو ملكة تولد مع الإنسان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الاكتساب عن طريق التعليم والتدريب ومخالطة الصفوة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العقل المتزن والعاطفة المتوقدة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قسام الذوق وأنواع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قسيم الأول :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سلم       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سق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*التقسيم الثان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ايجابي  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سلبي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قسيم الثالث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عام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خاص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أعم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قسيم الرابع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فطري العادي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مثقف المتمرِّ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وامل المساعدة على تنمية الذوق وتطور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طلاع الواسع على نصوص الأدب الجيد وتنمية ملكة الحف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عادة النظر في الأشباه والنظائر من النصوص ومقارنت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رص على إتقان علوم اللغة المختلف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عرف على أمثلة توضح الذوق عند اكتمال عناصر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مثلة تبين الذوق اللمَّاح عند اكتمال عناصره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قول الشاعر: </a:t>
            </a: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تمنانا   ليلقانا  بقوم    تخالُ بيَاضَ لأْمِهمُ السَّراب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                  فقد لاقيتنا فرأيت حربا   عوانا تمنع الشيخَ الشَّراب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وقول الشاعر: </a:t>
            </a: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وقالوا خُراسان أقصى ما يُراد بن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                                          ثُمَّ القفول فقد جئنا خُراسان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وقول الآخر: </a:t>
            </a: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سالت عليه شِعابُ الحيِّ حين دع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                                         أنصاره  بوجوهٍ  كالدنان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وامل المؤثرة في اختلاف الذ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زمان ( العصر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جنس البشري الذي يشكل في مجموعه ذوقا مؤثراً ( الذوق الجماعي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تربية ( الأسرة والتعليم والتنشئة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مزاج الخاص أو مكونات الشخصية الفردية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14:45Z</dcterms:created>
  <dc:creator>amohmad</dc:creator>
  <dc:description/>
  <dc:language>en-US</dc:language>
  <cp:lastModifiedBy>msarhan</cp:lastModifiedBy>
  <dcterms:modified xsi:type="dcterms:W3CDTF">2009-11-04T10:30:25Z</dcterms:modified>
  <cp:revision>35</cp:revision>
  <dc:subject/>
  <dc:title>المحاضرة الأولى</dc:title>
</cp:coreProperties>
</file>