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0E4B-C223-417A-8491-64DC28A11C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F650-7DE1-4398-AFA1-0BD67D955F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D510-F986-4C66-AFD0-DC35062E87B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32C7-9296-4591-A576-639ADC947C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7987-F270-4E38-A726-228F062098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269C-CC77-4752-972A-A5B5DFBD8F2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F5F-74BB-432A-A932-AFB489A1A2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CB46-2A6F-46A6-A34A-AB5E68C25D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CA8-8AF9-4264-9F0F-741C0594F3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9740-8FB6-4DA9-8430-79E37F30BB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3220-D1F6-4644-82F0-16E065334C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2B5E-22F3-45EA-A408-68868FC31E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7D4-E330-450B-827E-B7F8469B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E0D-F467-43F0-A797-7D4E5F4D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454-F76D-4BD8-80D9-1A6CC796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A49-95A6-4FA0-AE94-043D3019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4564-0BC7-4AE8-849B-4D6DD357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C4E2-93C7-4077-9E1B-7F91D939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439E-AF10-4746-93BC-11BF9D8E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4D3F-773E-4DD5-A30C-B6D07B41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532D-5DC5-4A7C-9524-07EF4C9F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1903-D8E0-4DC6-9BC9-5779BC1C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9E1-C32C-4EF7-B110-2D740F0D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518-9DA5-493B-894E-1F6A9641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17FC-E66B-48AF-B1C2-94FA9842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4B25-4041-4C7E-B0A4-B3730E49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3D9B-BD51-4D48-A28B-DBEBB1A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5338-30B0-402E-AD5A-34C3CE08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7753-415D-4A3C-9CDC-F8E3F4B7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EAAB-5E71-4CC2-B59A-E40E35EF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62E5-03D5-4656-B135-9CEB9881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A79D-0B3C-4607-A513-90CF69DC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4AB7-C522-467A-B04E-63618DF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24F1-0274-498D-94F7-11CEE308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6F65-DBAD-43E5-9D27-1EB809CB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68FB-0802-4FB9-9B26-0C0D2E28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3EF4-1BCE-4D2E-A78D-53916DB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5624C-92E4-44AD-AF73-40C93D1A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8E82C-B16E-4608-9628-F368E000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6C515-8B56-4D0D-A35A-1327F996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BD106-68B5-44EC-A9B2-58FC34CB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F6B3-8872-462D-80BC-FF2E3F89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E9E-91D2-4E6C-B2B9-3AEE8BA0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A82-05D5-489A-97D2-290A08FC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F48-8D03-4D38-A28B-3AEE5F9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9F3-AA59-4270-A73D-F7BFF4E5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5DD-1B4F-4653-8873-BED8AB50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7CC-87CE-48AB-8B6C-D49271D1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96BA-29C1-4A3B-8CC1-321C9449942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D1AF-C52A-4AE6-969D-1228C0AABFC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صورة 6" descr="normal slid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صورة 7" descr="normal slides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D13-1315-4566-AE3C-7950516C70E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3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itle 1"/>
          <p:cNvSpPr/>
          <p:nvPr/>
        </p:nvSpPr>
        <p:spPr>
          <a:xfrm>
            <a:off x="-428760" y="3786120"/>
            <a:ext cx="5099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التذوق الأدبي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د. عادل عثمان الهادي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ar-EG" sz="13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فصل الدراسي الأول </a:t>
            </a:r>
            <a:br>
              <a:rPr sz="1900"/>
            </a:br>
            <a:r>
              <a:rPr b="1" lang="ar-EG" sz="1000" spc="-1" strike="noStrike">
                <a:solidFill>
                  <a:srgbClr val="7f7f7f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0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 - </a:t>
            </a:r>
            <a:r>
              <a:rPr b="1" lang="ar-EG" sz="1000" spc="-1" strike="noStrike">
                <a:solidFill>
                  <a:srgbClr val="7f7f7f"/>
                </a:solidFill>
                <a:latin typeface="Calibri"/>
                <a:ea typeface="Times New Roman"/>
              </a:rPr>
              <a:t>143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تي تعيق التَّذوُّ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حسّ النقدي ( سيطرة العقل النقد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صبر والأناة أو الاستجابة لمؤثرات خارج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دم التهيؤ النفسي ( اضطراب النفس والمزاج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نقياد لقناعات وأهواء سابق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لحاح في سرعة الوصول لنتائج تذوقية ( تدخل الآخرين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لة أو انخفاض المخزون الثقاف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غلبة الجانب الفكري وضعف الحس العاطفي الفعَّا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مقترحات تمكن من تفادي عوائق التذو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قوية الاستعداد الفطري وتنمية موهبة الذوق لدى 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هد ملكة التذوق بالتهذيب والتدريب على النصوص الرفيع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عمق النظرة التأملية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ليل النص الأدبي إلى عناصره لتسهيل فهم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تناول نصوص يتوافر فيها الانسجام والتراب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إحاطة بكل جوانب النص ومؤلفه وظروفه المختلفة ذات الأث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خطة تربوية تسهم في تطوير الذوق الأدب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قراءة النص ّ قراءة جيدة ومتأنية وصولا لفهمه والارتباط بمعاني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ختيار نصوص يتوافر فيها الجمال الموسيقي وعمق الفكرة  وقوة العاطفة  وسهولة الألفا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حث المتلقي( الطالب) على معايشة النص والتحدث عبره مع مبدعه واستحسان ابداعه ومناقشته ونقده وبيان مواضع القصور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جمع المعلومات المتعلقة بالنص وصاحب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نصائح لتشجيع حاسَّة التذوق عند الطلا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ضرورة الربط بين موضوعات القراءة والأدب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رك مجال للطالب لقراءة النص وفهمه قبل مبادرة المعلم بالش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حفيز الطلاب على شرح النص وإبداء الآراء النقدية حول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يل إلى أسئلة الموازنة والمقارنة والبعد عن السطح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شجيع الطلاب على حفظ النصوص التي يجدون نحوها ميل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معرفة مدى استيعاب الطلاب وقدرتهم التذوقية يفضل أن تكون الاختبارات من خلال نصوص مشابهة لم تتم دراس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صورة 3" descr="SLIDE 2.JPG"/>
          <p:cNvPicPr/>
          <p:nvPr/>
        </p:nvPicPr>
        <p:blipFill>
          <a:blip r:embed="rId1"/>
          <a:srcRect l="0" t="0" r="149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376092"/>
                </a:solidFill>
                <a:latin typeface="AYM Wadiy S_U normal."/>
              </a:rPr>
              <a:t>المحاضرة الأولى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مستطيل 5"/>
          <p:cNvSpPr/>
          <p:nvPr/>
        </p:nvSpPr>
        <p:spPr>
          <a:xfrm>
            <a:off x="3000600" y="4214880"/>
            <a:ext cx="334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76092"/>
                </a:solidFill>
                <a:latin typeface="AYM Wadiy S_U normal."/>
                <a:cs typeface="Times New Roman"/>
              </a:rPr>
              <a:t>مفهوم الذوق والتذوُّ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محاضرة الأول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000000"/>
                </a:solidFill>
                <a:latin typeface="Calibri"/>
              </a:rPr>
              <a:t>مفهوم الذوق والتذوُّق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التعريف اللغو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يف الاصطل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ملكة أو حاسَّة فنية لمَّا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لتقييم الدقيق لعناصر النص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خبرة تنتج من التجربة وطول النظر والتأم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استجابة وجدانية للقيم الجم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ـ تقدير صحيح ومتكامل للعمل الأدب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همية التذوق الأدبي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بدايات الأولى للتذوق في التراث الأدبي العربي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بداية التذوق متزامنة مع ظهور الأدب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ريف الذوق والتذوق عند بعض الأعل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اقة التذوق بالنقد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أهمية التذوق للمبدع والمتلق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عناصر الذوق ومكوناته ومصاد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ناصر الذوق هي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  العاطفة  ـ العقل   ـ الحس والشعور ـ الثقافة و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300" spc="-1" strike="noStrike">
                <a:solidFill>
                  <a:srgbClr val="000000"/>
                </a:solidFill>
                <a:latin typeface="Calibri"/>
              </a:rPr>
              <a:t>* مصادر تكوين الذوق :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فطرة السليمة فهو ملكة تولد مع الإنسان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اكتساب عن طريق التعليم والتدريب ومخالطة الصفو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Calibri"/>
              </a:rPr>
              <a:t>ـ العقل المتزن والعاطفة المتوقدة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قسام الذوق وأنواع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أول :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سلم     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ق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*التقسيم الثان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ايجابي   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سلبي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ثالث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عام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خاص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أعم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التقسيم الرابع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ـ الذوق الفطري العادي    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ـ الذوق المثقف المتمرِّ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ساعدة على تنمية الذوق وتطور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اطلاع الواسع على نصوص الأدب الجيد وتنمية ملكة الحف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عادة النظر في الأشباه والنظائر من النصوص ومقارنته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حرص على إتقان علوم اللغة المختلف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تعرف على أمثلة توضح الذوق عند اكتمال عناصر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مثلة تبين الذوق اللمَّاح عند اكتمال عناصره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تمنانا   ليلقانا  بقوم    تخالُ بيَاضَ لأْمِهمُ الس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فقد لاقيتنا فرأيت حربا   عوانا تمنع الشيخَ الشَّراب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وقول الشاع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وقالوا خُراسان أقصى ما يُراد ب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 ثُمَّ القفول فقد جئنا خُراسان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وقول الآخر: </a:t>
            </a: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سالت عليه شِعابُ الحيِّ حين دع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c0504d"/>
                </a:solidFill>
                <a:latin typeface="Calibri"/>
              </a:rPr>
              <a:t>                                         أنصاره  بوجوهٍ  كالدنان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العوامل المؤثرة في اختلاف الذو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بيئ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زمان ( العصر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جنس البشري الذي يشكل في مجموعه ذوقا مؤثراً ( الذوق الجماعي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تربية ( الأسرة والتعليم والتنشئة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ـ المزاج الخاص أو مكونات الشخصية الفردية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14:45Z</dcterms:created>
  <dc:creator>amohmad</dc:creator>
  <dc:description/>
  <dc:language>en-US</dc:language>
  <cp:lastModifiedBy>msarhan</cp:lastModifiedBy>
  <dcterms:modified xsi:type="dcterms:W3CDTF">2009-11-04T10:30:25Z</dcterms:modified>
  <cp:revision>35</cp:revision>
  <dc:subject/>
  <dc:title>المحاضرة الأولى</dc:title>
</cp:coreProperties>
</file>