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3BC-C569-4589-A072-4829AFFD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F7D-CD8A-447D-A6A9-BF9D1474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48C-65B4-491D-A048-4E78B462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FCB-A05C-42C4-AF9C-F25F2142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73B0-AD11-4112-873A-9A6B4852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AD7A-5D2A-4276-A2B1-7C7F1332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10AB-6364-45C1-BF04-0F9A38AB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2EB1-2922-4AFE-8ABE-A80FB6FF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2FB4-B768-43D2-9896-BCF47C15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B492-F433-46D8-81DB-508317B6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F597-9E43-4035-81E9-9DF0EC4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002-261C-475F-9D3B-4F30D94E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B351-9D83-4DC1-B4C0-CCEE9559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3912-74CF-471B-877C-A8A3CB98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1B24-FFF6-4670-900C-C3446AFF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F224-2E97-41E5-8341-F628C218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7065-A80F-4668-9E61-9C96F6D8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3F3-5CAF-4695-BCF5-6293FC0E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CDB-E382-483B-A552-618E3625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A56-E50E-4C95-B411-6F1E87A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31B-00A7-48BF-ADF3-E63BF38E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DFC-049E-40DE-BB95-E5748799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424-225B-447E-A50D-B288CB9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F33-76D1-45FA-9280-F3FCD50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97EA-2926-4235-ADE4-528912A11E2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96C9-DB5A-4F00-A7A2-33094CAD88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INTRODUCTION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 CYTOLO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ynecological cytology: abnormal cyt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ory tract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rinary tract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strointestinal tract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ytology of fluids and body effu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e Needle Aspiratio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Ex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s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URSE CONTENTS(PRACTICAL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 to cytology laborato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ing and classifying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 of fixatives and preserv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 and fixation of specim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, Fixation, and Staining(1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ation, Fixation, and Staining(2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mal gynecological cytology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normal non-neoplastic gynecological cytology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normal neoplastic gynecological cytology 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ory tract cytology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ytology of urinary tract, GIT, and body effusions(slide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 Ex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FINI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ientific study of cells obtained from tissues or body secretions to identify disea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YP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sampling techniques, cytology is classified into the followin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foliative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rasive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piration Cytolog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FOLIATIVE CYT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spontaneous shedding of cells derived from the lining of an organ into a cav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ents of the sample are derived from several 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: vaginal smear, sputum, urine, CSF, and body effu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terial is collected spontaneously or by a syringe or a cotton swa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BRASIVE CYT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lls are obtained directly from the surface of the target of intere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es are taken by scraping, brushing, or was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: cervical scraper, endoscopy, and gastric lav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es can be obtained from superficial or deep les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SPIRATION CYT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es are obtained from solid tissues that are not connected to a hollow visc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needle with or without a syringe is u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, safe, rapid, cost effective, and require no special clinical ski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rtually every organ in the body is accessible to this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SIC PRINCIPLES OF CYTOLOGIC DIAGNOSI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ytologic diagnosis must be based on the entire clinical evidence available, rather than on changes in individual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intain satisfactory results, the uniformity of the technical methods employed is import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very important to acquire a thorough knowledge of normal cells originating from a given source before attempting diagnosi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erstanding structural and functional cell changes in health and disea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est quality control is generated by careful follow-up of patients and constant referral to tissue evid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URSE CONTENTS(THEORY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 to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ing and classifying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xation and preservation i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hods of preparation i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ins and staining in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ynecological cytology: methods of coll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ynecological cytology: normal and functional cytolo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7:36:46Z</dcterms:created>
  <dc:creator>user</dc:creator>
  <dc:description/>
  <dc:language>en-US</dc:language>
  <cp:lastModifiedBy>user</cp:lastModifiedBy>
  <dcterms:modified xsi:type="dcterms:W3CDTF">2008-12-19T20:07:03Z</dcterms:modified>
  <cp:revision>56</cp:revision>
  <dc:subject/>
  <dc:title>INTRODUCTION</dc:title>
</cp:coreProperties>
</file>