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72D-5A2D-44C5-BB2D-851173BE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98E-3863-45D7-AE2B-8AFB3676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7AE-EC00-4322-8B43-FE2DB65C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59A-76B3-4E4B-82E7-993FA0AD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9587-1BF9-45BB-A623-98CB8A5A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0949-B7E3-4986-8D8B-6D8DC756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6BD5-D6AD-4336-BE6C-B4FE8835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39E6-D4FD-4ECD-8320-FCAE525A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F5F8-F997-4EDE-84DD-04A6CBF1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02EA-F5F3-41A0-A15D-C5F1798C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70E8-469E-492D-863D-AA5C96BE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E2F-60E7-4253-8FE4-FFBF0E24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0640-7CC7-4F47-A0A4-D05D006E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9B97-BFEB-4554-AA23-A9BF3859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4A3A-9125-42AE-BF01-3EFB0418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5D04-8854-4991-8EFA-05B1130C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26DE-C832-42CA-B1D8-FB4259E7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D36-A01B-4142-94A3-FF29E7B9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622-5D68-40C8-9DCF-02CD17E4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77A-F644-4E0B-9E71-F5BF0C57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7DC-C0B7-4151-A03D-E7B06DA1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60C-F30B-482A-8949-0707975E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FA4-A31D-412E-9460-CC2E68C6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F15-F456-4089-83DB-DC2F70CB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8950-9D08-4CFA-916C-D3364E8A7D0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C71A-5F57-4ACC-8E82-4C414B88B66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Arial"/>
              </a:rPr>
              <a:t>Leprosy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Arial"/>
              </a:rPr>
              <a:t>Hansen’s diseas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enolic glycolipid I (PGL-I)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tropism for Schwann ce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isaccharide terminal of PGL-I »»» G domain of </a:t>
            </a:r>
            <a:r>
              <a:rPr b="0" lang="el-GR" sz="24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2 chain of laminin 2, a basal component of lamina of Schwann cells restricted to peripheral ner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imulates host immune respon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tent IgM antibody response, that is proportional to bacterial load and fall with thera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Sridharan, et al. 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2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poarabinomann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dulates macrophages phagocytic activity, &amp; proteins involved in cell wall syn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cell wall proteins purified from glycolipid component of cell wal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t as potent T-cell antigens, stimulate protective immunity in murine M. leprae inf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(Britton &amp; Lockwood,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val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past 20 years more than 14 million patients have been cu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1985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»»»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12/10 000, dropped in 2000 »» &gt; 1/10 000, with a 20% annual decrease in new cases detected globally since 200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prosy is eliminated from 113 countries of 122 where leprosy was considered a public health problem in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7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9 countries in Africa, Asia &amp; Latin America »»» more than 1/10 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ighty three % of cases are present in 6 countries: India, Brazil, Burma, Indonesia, Madagascar &amp; Nep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a account for 64% of cases world w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(WHO, 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781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O African region leprosy elimination program meeting in 2003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757520"/>
            <a:ext cx="70866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mary host is human. Naturally occurring infection is also reported armadillos in America &amp; African chimpanz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x: Male more affected than females (M/F ratio 1.5-2 to 1) except in some areas of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ge: All ages, about 20% of cases occur in children below 10 years, but it is extremely rare in inf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ransmission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erosol spread of nasal secretion, &amp; uptake through nasal or respiratory muco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. Leprae in nasal secretion can survive up to 36 hours, or as much as nine days in tropical ar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ximity is an important determinant of transmission, &amp; incidence among houses hold conta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-10 for lepromatous lepros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-4 for tuberculoid lepro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(Sridharan, et al. 200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cubation Perio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es widely from months to 3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th a mean of 4 years for TT and 10 years for 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clinical infection is reported in areas of high prevalence, as M. leprae DNA was detected in 5% of nasal swabs from normal individu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(Britton &amp; Lockwood,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Host susceptibility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tic factors can affect both the development and the pattern of the dise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sceptibility loci on chromosomes 10 &amp; 6 »» Indian pati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lymorphism TNF- promoter genes »» multibacillary leprosy in Brazilian pati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LA DR2 &amp; DR3 »» »» tuberculoid diseases, while HLA DQ1with lepromatous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tation in toll-like receptor-2 gene »» »» lepromatous leprosy in Korea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(Britton &amp; Lockwood,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thogenesi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nical forms of the diseases depend on the ability to mount a cell mediated immune respon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e pole (TT) »»vigorous CMI »» lesions infiltrated with Th1-like Tcell » » IF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, TNF </a:t>
            </a:r>
            <a:r>
              <a:rPr b="0" lang="el-GR" sz="24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IL-2 and IL-15 »»well demarcated granulomas with few mycobacteria found in the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eases is limited to few well defined skin patchs or nerve trun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6477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8040" y="277920"/>
            <a:ext cx="79581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troduction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prosy is a chronic granulomatous infection of the skin and the peripheral nerves, with an intracellular bacterium Mycobacterium Le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prosy was recognized in the ancient civilization of China, Egypt, and India. The first known written mention of leprosy is dated 600B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ther pole (LL)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bsent specific cellular immunity,»»  uncontrolled proliferation of bacilli with many lesions and extensive infiltration of the skin and ner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is no organized granuloma, foamy macrophages, and high antibody titer to PGL-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viation of CD4+ve T cells, with Th2 like cytokines IL-4 and IL-10, deletion of T cells, or suppressor T cell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6477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athogenesi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st of the patients have the intermediate form (BT,BB, and B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are unstable and either progr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lowly toward lepromatous pole,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ype 1 leprosy reaction (reversal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ontaneous increased T cell reactivity &amp; in cytokines IF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, TNF 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ype 2 reaction (erythema nodosum lepros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ystemic inflammatory immune response»» extravascular immune complexes »» neutrophil infiltration, complement activation and high concentration of TNF 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nical features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kin involve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only macules or plaques rarely papules or nodules are s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tuberculoid and BT, lesions are few, hypopigmented with raised edges, and with reduced s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3047760" cy="2187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971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promatous form, many skin lesion, symmetrical, confluent in some cases, and many of them are not hypoaesthe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2666880" cy="2409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191120" y="3657600"/>
            <a:ext cx="41241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nical featu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581280" cy="3876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989600" y="1600200"/>
            <a:ext cx="3355920" cy="21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029200" y="3938760"/>
            <a:ext cx="3352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rve damage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ipheral nerve trunk dam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terior tibial, ulnar, median, lateral popliteal and fac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volved nerves are enlarged, and with regional sensory and motor lo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all dermal sensory &amp; autonomic nerv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ypoaesthesia »» TT and 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love &amp; stocking »» lepromatous for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re neuritic lepros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795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248520" y="1905120"/>
            <a:ext cx="2895480" cy="1981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40226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5334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ye involve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lindness »»» nerve damage &amp; direct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gophthalmus »»» orbicularis oculi »»» zygomatic &amp; temporal branches of faci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neal ulceration »»»  anaesthesia »»» ophthalmic branch of trigemin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stemic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sal mucosa »»» cartilage »»» saddle sha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one destruction »»» osteomyli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sticular atrophy »»» loss of testosteron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nal involvement and amyloido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4114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agnosis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promin te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radermal inoculation of killed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 lepra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arly reactions (48 h, Fernandez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te reactions (3-4 wk, Mitsuda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ongly positive responses (&gt;5 mm) in TT or BT, while patients with LL do not respon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agnosi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it smear techni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kin incision in 6 sites ( ear lobes, elbow, knee and a le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lit is smeared on a slide and stained with Ziehl-Neels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croscopic score (1+ to 6+), reflect number of bacilli by HP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ful to quantitate bacterial 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gh specificity but low sensitivity 7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prosy shows a wide range of clinical presentation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uberculoid leprosy (T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rderline leprosy: borderline tuberculoid (BT), midborderline (BB), borderline lepromatous (B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promatous leprosy (L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(Classified by Ridley &amp; Jopling 1966)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agnosi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r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ISA: to detect antibodies against carbohydrate portion of the PGL-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ive in lepromatous but not the tuberculoid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tibody titer decreases with effective thera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ymarase chain reaction (PCR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mplify the DNA of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 lepra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w bacterial loads (&lt;10 bacilli) can be detec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0-75% of smear -ve patients with TT leprosy have positive results on PC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agnosi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stologic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TT: Noncaseating granuloma, bacilli are few or absent, dermal nerve involvement, with normal skin org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LL: Diffuse granulomatous reaction, foamy macrophages, more common around blood vessels and ne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254400" cy="2185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038560" y="3938760"/>
            <a:ext cx="3257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reatment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emotherap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patient should receive multi-drug therapy (MD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 line drugs: Rifampicin, Clofazimine, and Daps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7924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reatme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line therapy: Minocycline, clarithromycin, and ofloxacin, are highly effective against M. lepr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ersal re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ak time: during the first 2 month of therapy, even up 12 months, and after (MDT) is comp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ticosteroids 40-60mg daily, taper 5 mg every 2-4 weeks, duration of therapy 3-4 mon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covery rate for nerve function 60-70%, less with pre-existing nerve damage or recurrent re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reatme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ype 2 reaction (ENL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velop during 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r 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year  of MDT, and can relapse over several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ti- inflammatory: Clofazimine 300mg daily.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ug that target overproduction of TNF-</a:t>
            </a:r>
            <a:r>
              <a:rPr b="0" lang="el-GR" sz="24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Thalidomide 400mg daily, or pentoxifylline.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utralization of TNF-</a:t>
            </a:r>
            <a:r>
              <a:rPr b="0" lang="el-GR" sz="24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with monoclonal antibodies, or soluble inhibi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rophylaxis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mmunoprophylax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CG offer variable protection against leprosy (34-80%) in different countries, adding heat –killed M. leprae increases the protective effect to 6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demicity of leprosy, background saprophytic mycobacterial flora, and the age at vaccine may affect the response to vacci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accination may precipitate TT leprosy in apparently healthy contacts, thus immunoprophylaxis is best carried out at an early ag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moprophylax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ifampicin, to close contact of a case, and can be give to children under the age 12 years (15mg/kg monthly for 6 month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regnancy &amp; lepros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ittle evidence that pregnancy can cause new diseases  or relap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ever, pregnant BL patients may experience type 1 reaction in the post partum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so lepromatous leprosy patients can experience ENL during pregnancy and lactation, with early loss of nerve function than non-pregnant pati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DT (Rifampicin, Clofazimine, and Dapsone) is sa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HIV infection &amp; lepros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like tuberculosis, leprosy is not significantly associated with HIV infectio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V-associated neuropathy might be confused with leprosy neuritis, also neuropathy due to antiretroviral chemotherapy might be confused with leprosy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is difference in treatment strategy for patients with leprosy and HIV, icluding treatment of re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comic"/>
              </a:rPr>
              <a:t>Thank you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simpler field classifications depending on the number of skin les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ngle skin lesion (one patch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ucibacillary ( 2-5 patch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bacillary more than 5 patc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tiologic age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ycobacterium Leprae, discovered in 1873 by G.A. Hans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racellular parasite with tropism for macrophages and Schwann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ble bacilli stained with carbol-fuchsin appear as solid rods with rounded ends, while those is irregular stain are de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2685960"/>
            <a:ext cx="40384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8040" y="277560"/>
            <a:ext cx="795816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tiologic agent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. leprae is an acid &amp; alcohol fast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(Ziehl-Neelsen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 gram positive bacil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fer to grow in cooler regions of the body &lt; 37º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has never been cultivated extracellularly, but organism can replicate in mouse footpad &amp; 9-banded armad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40384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tiologic age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ome include 1605 genes encoding proteins &amp; 50 genes for stable RNA molec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re than half of the functional genes are replaced by inactive or pseudogenes, retaining the genes essential for Mycobacterial cell wall 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us M. leprae depend on host metabolic products, and this explain it’s slow rate of replication and inability to grow in cul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(Shin Y,et al. 2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tiologic age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ycobacterial cell wall contain several targets for host immune respon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enolic glycolipid I (PGL-I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poarabinomann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cell wall proteins purified from glycolipid component of cell 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10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enolic glycolipid I (PGL-I)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minent surface lipid specific for M. lepra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st characterized virulent fa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nds to C3,»»» phagocytosis of the bacterium by mononuclear phagocy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tect against oxidative killing by hydroxyl radicals and superoxide an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7:02:09Z</dcterms:created>
  <dc:creator>Yahya  El-Sherif</dc:creator>
  <dc:description/>
  <dc:language>en-US</dc:language>
  <cp:lastModifiedBy>Prof-Sabry</cp:lastModifiedBy>
  <dcterms:modified xsi:type="dcterms:W3CDTF">2009-03-15T18:37:12Z</dcterms:modified>
  <cp:revision>64</cp:revision>
  <dc:subject/>
  <dc:title>Introduction     </dc:title>
</cp:coreProperties>
</file>