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projctor.wav" ContentType="audio/x-wav"/>
  <Override PartName="/ppt/media/clap.wav" ContentType="audio/x-wav"/>
  <Override PartName="/ppt/media/carbrake.wav" ContentType="audio/x-wav"/>
  <Override PartName="/ppt/media/ricochet.wav" ContentType="audio/x-wav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E78-0C07-489A-A25E-A2496D53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A53-47E1-4B89-A070-9BDA5F6C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52A-E8CF-4AEB-955B-CC2680E1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8DF-A624-4744-8FB9-DB4DE68C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F817-36C8-4EAC-9C3B-701FDFC3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8EE0-0893-465C-BCC7-059A57BE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8D2B-BCA3-4006-8E05-6BB47F26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FDB2-5400-4E7F-8DF2-32D22297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ECFB-DF4C-44D8-9FCA-928C5756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7C97-3F12-4A07-84D1-185AC19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FDF7-0E2C-473F-BC21-006579F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09D-6685-48D9-96F3-BAE6FAB8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F1B-5D8B-4986-97D7-3E2AB8C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0765-C5FA-4921-B3D3-6BAD5C9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C129-2A00-4BF8-8AAA-5E0F915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5377-A4E2-4FA1-8C28-5A6B2795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19DE-331D-48B0-B46C-AF721BC9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B8D-E73C-4B78-8BD5-0EAD0E4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884-3BD4-4E41-9BAD-F1C28D80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278-0E0D-4D0E-988C-DBF9E52E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F66-AD62-48AD-A1D8-1CEEED8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892-014D-4F22-AE78-D37C633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C70-537E-48F4-B60E-4495271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8F2-FD4F-4090-BA65-5405D27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1C46-1803-465E-A698-0AAF18BAFEE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4A5A-C9B5-4364-9887-C5AC6F2396C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أفعال الخمسة</a:t>
            </a:r>
            <a:br>
              <a:rPr sz="7200"/>
            </a:b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ـا هـي 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جزم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676520"/>
            <a:ext cx="2438280" cy="990360"/>
          </a:xfrm>
          <a:prstGeom prst="downArrowCallout">
            <a:avLst>
              <a:gd name="adj1" fmla="val 61556"/>
              <a:gd name="adj2" fmla="val 61550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95480"/>
            <a:ext cx="9144000" cy="39625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م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ذاكر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قبل الاختبار بوقت كافٍ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ا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غير الحق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200" spc="-1" strike="noStrike">
                <a:solidFill>
                  <a:srgbClr val="ffcc66"/>
                </a:solidFill>
                <a:latin typeface="Times New Roman"/>
              </a:rPr>
              <a:t>مثال معرب</a:t>
            </a:r>
            <a:endParaRPr b="0" lang="en-US" sz="1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 u="sng">
                <a:solidFill>
                  <a:srgbClr val="ff0000"/>
                </a:solidFill>
                <a:uFillTx/>
                <a:latin typeface="Times New Roman"/>
              </a:rPr>
              <a:t>لا تتخلفوا عن الدرس</a:t>
            </a:r>
            <a:br>
              <a:rPr sz="10600"/>
            </a:b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لا</a:t>
            </a: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 :حرف نهي وجزم</a:t>
            </a:r>
            <a:br>
              <a:rPr sz="10600"/>
            </a:b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تخلفوا</a:t>
            </a: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 :فعل مضارع مجزوم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بـ ( لا ) وعلامة جزمه حذف النون و واو الجماعة ضمير متصل مبني في محل رفع فاع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cc66"/>
                </a:solidFill>
                <a:latin typeface="Times New Roman"/>
              </a:rPr>
              <a:t>الخلاصة</a:t>
            </a:r>
            <a:endParaRPr b="0" lang="en-US" sz="20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ـ </a:t>
            </a:r>
            <a:r>
              <a:rPr b="0" lang="ar-SA" sz="8000" spc="-1" strike="noStrike">
                <a:solidFill>
                  <a:srgbClr val="ff0000"/>
                </a:solidFill>
                <a:latin typeface="Times New Roman"/>
              </a:rPr>
              <a:t>الأفعال الخمسة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: هي كل فعل مضارع اتصل بآخر ه ألف الاثنين أو واو الجماعة أو ياء المخاطب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cc66"/>
                </a:solidFill>
                <a:latin typeface="Times New Roman"/>
              </a:rPr>
              <a:t>علامة رفع الأفعال الخمسة ثبوت النون   وعلامة نصبها وجزمها حذف النون .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</a:rPr>
              <a:t>يكون الضمير</a:t>
            </a:r>
            <a:r>
              <a:rPr b="0" lang="ar-SA" sz="7200" spc="-1" strike="noStrike">
                <a:solidFill>
                  <a:srgbClr val="ffcc66"/>
                </a:solidFill>
                <a:latin typeface="Times New Roman"/>
              </a:rPr>
              <a:t> :( ألف الاثنين ، و واو الجماعة ،وياء المخاطبة ) في محل رفع فاعل ،أو نائب فاعل ، أو اسم لـ ( كان ) أو إحدى أخواتها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كت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شر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cc66"/>
                </a:solidFill>
                <a:latin typeface="Times New Roman"/>
              </a:rPr>
              <a:t>كيف تعرب الأفعال الخمسة ؟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رفع الأفعال الخمسة بثبوت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75248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743200"/>
            <a:ext cx="7239240" cy="38098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طالب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اكر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دروسهما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تِ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ح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نصب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828800"/>
            <a:ext cx="2438280" cy="1066680"/>
          </a:xfrm>
          <a:prstGeom prst="downArrowCallout">
            <a:avLst>
              <a:gd name="adj1" fmla="val 57152"/>
              <a:gd name="adj2" fmla="val 57146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048120"/>
            <a:ext cx="8382240" cy="35049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جتمع الطالبان كي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كرا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درس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الحق خير ل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0:01:47Z</dcterms:created>
  <dc:creator/>
  <dc:description/>
  <dc:language>en-US</dc:language>
  <cp:lastModifiedBy>Arabic</cp:lastModifiedBy>
  <dcterms:modified xsi:type="dcterms:W3CDTF">2006-02-19T13:16:01Z</dcterms:modified>
  <cp:revision>29</cp:revision>
  <dc:subject>قواعد اللغة العربية</dc:subject>
  <dc:title>الأفعال الخمسة</dc:title>
</cp:coreProperties>
</file>