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projctor.wav" ContentType="audio/x-wav"/>
  <Override PartName="/ppt/media/clap.wav" ContentType="audio/x-wav"/>
  <Override PartName="/ppt/media/carbrake.wav" ContentType="audio/x-wav"/>
  <Override PartName="/ppt/media/ricochet.wav" ContentType="audio/x-wav"/>
  <Override PartName="/ppt/media/cashreg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D4F-5172-468F-8DB0-B9296FEE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84B-8E5A-46E4-AEB1-2D870603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65A-26F0-45F4-98D1-0E2B2D79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422-2E16-4C6F-8C10-7EBB22EE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F2BF-6CAD-43EC-8762-C21A359F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C8A3-2A0E-4AD2-97D2-E0A8801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A1C1-5578-4472-AF3C-0510D4FB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7C67-5ACF-4803-95AD-3C382B7D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41AE-FCD2-41B3-BC7A-D5968DD1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C198-C983-4525-886F-FFD0DFF8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2D7E-E560-4A8F-9721-389FB70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4BC-C7E3-4450-9989-DF689121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7994-B3A5-4077-9380-F4C78C75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1B1-DC01-4103-BFAD-F2283DC0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0797-DE78-4589-A238-08E62443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6083-A1C2-466C-BA48-7B240485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4EE1-5367-4B76-9294-E4225115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B67-F7DB-4394-B373-24B4F3C8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4CF-DC9A-4773-B7AB-7915F74D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C45-FAA3-4D9F-AE34-4D05BD19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1B3-B807-4569-9A94-7632662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5AE-7E83-4617-A923-77256F9C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E3E-609A-4DBE-8A24-66B3496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9FA-E62E-47E7-B9BE-B5066164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D1F4-3C1C-418F-B8CA-F6AD3E84A24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034D-6747-4930-A7B4-6A35582BBEE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أفعال الخمسة</a:t>
            </a:r>
            <a:br>
              <a:rPr sz="7200"/>
            </a:b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ـا هـي ؟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جزم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676520"/>
            <a:ext cx="2438280" cy="990360"/>
          </a:xfrm>
          <a:prstGeom prst="downArrowCallout">
            <a:avLst>
              <a:gd name="adj1" fmla="val 61556"/>
              <a:gd name="adj2" fmla="val 61550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95480"/>
            <a:ext cx="9144000" cy="396252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م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ذاكرا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قبل الاختبار بوقت كافٍ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ا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غير الحق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200" spc="-1" strike="noStrike">
                <a:solidFill>
                  <a:srgbClr val="ffcc66"/>
                </a:solidFill>
                <a:latin typeface="Times New Roman"/>
              </a:rPr>
              <a:t>مثال معرب</a:t>
            </a:r>
            <a:endParaRPr b="0" lang="en-US" sz="1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 u="sng">
                <a:solidFill>
                  <a:srgbClr val="ff0000"/>
                </a:solidFill>
                <a:uFillTx/>
                <a:latin typeface="Times New Roman"/>
              </a:rPr>
              <a:t>لا تتخلفوا عن الدرس</a:t>
            </a:r>
            <a:br>
              <a:rPr sz="10600"/>
            </a:b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لا</a:t>
            </a: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 :حرف نهي وجزم</a:t>
            </a:r>
            <a:br>
              <a:rPr sz="10600"/>
            </a:b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تخلفوا</a:t>
            </a: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 :فعل مضارع مجزوم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بـ ( لا ) وعلامة جزمه حذف النون و واو الجماعة ضمير متصل مبني في محل رفع فاع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cc66"/>
                </a:solidFill>
                <a:latin typeface="Times New Roman"/>
              </a:rPr>
              <a:t>الخلاصة</a:t>
            </a:r>
            <a:endParaRPr b="0" lang="en-US" sz="20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ـ </a:t>
            </a:r>
            <a:r>
              <a:rPr b="0" lang="ar-SA" sz="8000" spc="-1" strike="noStrike">
                <a:solidFill>
                  <a:srgbClr val="ff0000"/>
                </a:solidFill>
                <a:latin typeface="Times New Roman"/>
              </a:rPr>
              <a:t>الأفعال الخمسة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: هي كل فعل مضارع اتصل بآخر ه ألف الاثنين أو واو الجماعة أو ياء المخاطب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cc66"/>
                </a:solidFill>
                <a:latin typeface="Times New Roman"/>
              </a:rPr>
              <a:t>علامة رفع الأفعال الخمسة ثبوت النون   وعلامة نصبها وجزمها حذف النون .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5867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</a:rPr>
              <a:t>يكون الضمير</a:t>
            </a:r>
            <a:r>
              <a:rPr b="0" lang="ar-SA" sz="7200" spc="-1" strike="noStrike">
                <a:solidFill>
                  <a:srgbClr val="ffcc66"/>
                </a:solidFill>
                <a:latin typeface="Times New Roman"/>
              </a:rPr>
              <a:t> :( ألف الاثنين ، و واو الجماعة ،وياء المخاطبة ) في محل رفع فاعل ،أو نائب فاعل ، أو اسم لـ ( كان ) أو إحدى أخواتها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كت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شر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cc66"/>
                </a:solidFill>
                <a:latin typeface="Times New Roman"/>
              </a:rPr>
              <a:t>كيف تعرب الأفعال الخمسة ؟</a:t>
            </a:r>
            <a:endParaRPr b="0" lang="en-US" sz="117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رفع الأفعال الخمسة بثبوت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752480"/>
            <a:ext cx="2438280" cy="914400"/>
          </a:xfrm>
          <a:prstGeom prst="downArrowCallout">
            <a:avLst>
              <a:gd name="adj1" fmla="val 66669"/>
              <a:gd name="adj2" fmla="val 6666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743200"/>
            <a:ext cx="7239240" cy="38098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طالب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اكر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دروسهما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تِ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ح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نصب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828800"/>
            <a:ext cx="2438280" cy="1066680"/>
          </a:xfrm>
          <a:prstGeom prst="downArrowCallout">
            <a:avLst>
              <a:gd name="adj1" fmla="val 57152"/>
              <a:gd name="adj2" fmla="val 57146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048120"/>
            <a:ext cx="8382240" cy="35049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جتمع الطالبان كي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كرا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درس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الحق خير ل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20:01:47Z</dcterms:created>
  <dc:creator/>
  <dc:description/>
  <dc:language>en-US</dc:language>
  <cp:lastModifiedBy>Arabic</cp:lastModifiedBy>
  <dcterms:modified xsi:type="dcterms:W3CDTF">2006-02-19T13:16:01Z</dcterms:modified>
  <cp:revision>29</cp:revision>
  <dc:subject>قواعد اللغة العربية</dc:subject>
  <dc:title>الأفعال الخمسة</dc:title>
</cp:coreProperties>
</file>