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6357-66AD-4A32-B459-C05EEC54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2A4-DBC6-44C2-8719-445BFEB6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A6F6-FE35-4B96-AF97-8AAED16E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8D60-9149-4083-A76E-F2D25DE8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1FD-8FFA-4604-AA94-88592FE8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A7CE-F992-4BEA-A6AC-A066ADEC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58B-18B6-457A-94B1-A008113E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5CF-C515-40DC-A8ED-6AA666F1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AB85-D615-4AB2-AF90-DC5937D0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0692-8A01-4D8E-9A79-6ECD4C29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04AB-3CDB-41C3-AECD-76E5E9C6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5BCC-1470-44B0-BE49-F5EA773F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7873-6D9E-4AC3-A978-A649A4F08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l (polite)expressions for expressing disagreement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g 101   lear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guess that is true,but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guess you could say that,but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understand what you mean,but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`s more or less true ,but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 ,but isn`t it also true that…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signment;Agreeing/disagree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g.1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 .1 Listen( to the tapescript)for appropriate uses of expressions and answer the following questions.-conversation 1-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arkable Individu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 Voca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uke:a happy accident,a lucky surpr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light:the most important or the best p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12720" y="3805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   Keep up with:to stay equal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 Vertebra:a section of the spine or back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ing likes/plea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like …                                                              gentl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enjoy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`m pleased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`m happy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appreciate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`m delighted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`m thrilled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my idea of….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`s terrific/great/super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 terrific /great/super….!                    strong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love…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traight Arrow Connector 4"/>
          <p:cNvCxnSpPr/>
          <p:nvPr/>
        </p:nvCxnSpPr>
        <p:spPr>
          <a:xfrm>
            <a:off x="7467480" y="1981080"/>
            <a:ext cx="76680" cy="3810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pressing dislikes/displea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 don`t especially/really like….                              gentle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 don`t care for…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 dislike…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 don`t have time for…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bugs me(inform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rks 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 can`t tolerate…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more than I can stan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 can`t take/stand/bear….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 rotten…..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 hate….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 detest…!                                                              stronge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Straight Arrow Connector 4"/>
          <p:cNvCxnSpPr/>
          <p:nvPr/>
        </p:nvCxnSpPr>
        <p:spPr>
          <a:xfrm>
            <a:off x="6553080" y="1676520"/>
            <a:ext cx="76680" cy="3658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ample question:Use expressions likes/dislik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pleasure/displea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g.1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situati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uation 2&amp;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 the voca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tical:considering all details in order to understand somet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rcumnavigate:to go completely around somet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se:to join together into a single 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ey Mat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dy language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elements speaks more than the actual w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dy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ne of vo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al expressions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signal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gnal words used in a lecture help to listen more effectivel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Sample question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Q.Underline /circle the signal word used in the sente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  Now I`m going to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outlin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oday`s subject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yo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  Now I`m going to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review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yesterday`s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ter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Some verbs that serve as signal word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alyze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434960" y="685800"/>
            <a:ext cx="7499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in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f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crib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cu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pla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llustr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pe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mmariz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view  et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vulging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ulge means ‘to give out or disclose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ulging information means speaking out ‘what is really happening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ous/important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a lecturer is about to divulge information he announces this using one of the following expre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ressions for divulging in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pite what you may believe/have he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e`s how it really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f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ality is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ruth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formal expressions for divulging in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al story is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`s really going on i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ting conver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page.1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the incomplete conversation1,2 &amp;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expressions for divulging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ing and challenging pro and con arguments pg.9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 :arguments for(supporting argume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:arguments again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rrowing money from a bank can help you start a new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siness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ressions used to link pros and cons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wever,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can  also put you into debt if the business fails.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ight Brace 3"/>
          <p:cNvSpPr/>
          <p:nvPr/>
        </p:nvSpPr>
        <p:spPr>
          <a:xfrm>
            <a:off x="7772400" y="3352680"/>
            <a:ext cx="152280" cy="533520"/>
          </a:xfrm>
          <a:custGeom>
            <a:avLst/>
            <a:gdLst>
              <a:gd name="textAreaLeft" fmla="*/ 0 w 152280"/>
              <a:gd name="textAreaRight" fmla="*/ 55080 w 152280"/>
              <a:gd name="textAreaTop" fmla="*/ 3960 h 533520"/>
              <a:gd name="textAreaBottom" fmla="*/ 529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16200" y="10800"/>
                  <a:pt x="21600" y="10800"/>
                </a:cubicBezTo>
                <a:cubicBezTo>
                  <a:pt x="162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ight Brace 5"/>
          <p:cNvSpPr/>
          <p:nvPr/>
        </p:nvSpPr>
        <p:spPr>
          <a:xfrm>
            <a:off x="7162920" y="5257800"/>
            <a:ext cx="152280" cy="380880"/>
          </a:xfrm>
          <a:custGeom>
            <a:avLst/>
            <a:gdLst>
              <a:gd name="textAreaLeft" fmla="*/ 0 w 152280"/>
              <a:gd name="textAreaRight" fmla="*/ 55080 w 152280"/>
              <a:gd name="textAreaTop" fmla="*/ 3960 h 380880"/>
              <a:gd name="textAreaBottom" fmla="*/ 376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0"/>
                  <a:pt x="10800" y="720"/>
                </a:cubicBezTo>
                <a:lnTo>
                  <a:pt x="10800" y="10080"/>
                </a:lnTo>
                <a:cubicBezTo>
                  <a:pt x="10800" y="10440"/>
                  <a:pt x="16200" y="10800"/>
                  <a:pt x="21600" y="10800"/>
                </a:cubicBezTo>
                <a:cubicBezTo>
                  <a:pt x="16200" y="10800"/>
                  <a:pt x="10800" y="11160"/>
                  <a:pt x="10800" y="11520"/>
                </a:cubicBezTo>
                <a:lnTo>
                  <a:pt x="10800" y="20880"/>
                </a:lnTo>
                <a:cubicBezTo>
                  <a:pt x="10800" y="2124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eft Brace 6"/>
          <p:cNvSpPr/>
          <p:nvPr/>
        </p:nvSpPr>
        <p:spPr>
          <a:xfrm>
            <a:off x="3886200" y="4495680"/>
            <a:ext cx="46080" cy="381240"/>
          </a:xfrm>
          <a:custGeom>
            <a:avLst/>
            <a:gdLst>
              <a:gd name="textAreaLeft" fmla="*/ 29520 w 46080"/>
              <a:gd name="textAreaRight" fmla="*/ 46440 w 46080"/>
              <a:gd name="textAreaTop" fmla="*/ 1080 h 381240"/>
              <a:gd name="textAreaBottom" fmla="*/ 38016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8"/>
                  <a:pt x="10800" y="216"/>
                </a:cubicBezTo>
                <a:lnTo>
                  <a:pt x="10800" y="10584"/>
                </a:lnTo>
                <a:cubicBezTo>
                  <a:pt x="10800" y="10692"/>
                  <a:pt x="5400" y="10800"/>
                  <a:pt x="0" y="10800"/>
                </a:cubicBezTo>
                <a:cubicBezTo>
                  <a:pt x="5400" y="10800"/>
                  <a:pt x="10800" y="10908"/>
                  <a:pt x="10800" y="11016"/>
                </a:cubicBezTo>
                <a:lnTo>
                  <a:pt x="10800" y="21384"/>
                </a:lnTo>
                <a:cubicBezTo>
                  <a:pt x="10800" y="214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ions used  to link pros and c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g.95 lea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hou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eth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the other h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the contr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 pg 95 ex.1 Matching up pro and con arg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          Pros and c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am is  built in your vill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23880" y="2362320"/>
          <a:ext cx="6096240" cy="3276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3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Vocabs   Pg.9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eed :multip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:to put money into a project in order to earn more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an :to give something with the intention of getting it b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 fire:under attack;needing def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 the meanings given bef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ions for expressing agreem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g 101     lea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form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olutely!                                               Exact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`ll say!                                                        I ag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know what you mean                            I agree with th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`s/You`re right .                                 I couldn`t agree mor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`s for sure!                                         That`s(absolutely)tru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`d better believe it!                            That`s/You`re correc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say that again!                            That`s precisely the poin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8:43:53Z</dcterms:created>
  <dc:creator>High Tech</dc:creator>
  <dc:description/>
  <dc:language>en-US</dc:language>
  <cp:lastModifiedBy>dell</cp:lastModifiedBy>
  <dcterms:modified xsi:type="dcterms:W3CDTF">2012-01-01T09:51:35Z</dcterms:modified>
  <cp:revision>10</cp:revision>
  <dc:subject/>
  <dc:title>Slide 1</dc:title>
</cp:coreProperties>
</file>