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979E-254B-4A88-9CE7-51B36A6875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981E-4775-4CE2-BBDF-F303BCC1F6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5728-99E5-419B-801F-207BF37381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E822-93CA-4802-898B-A8E7D229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D64D-1C69-4BF4-8118-ECCD9D6F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A349-1A57-4A78-8E8A-02271C920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729D-FD5C-4F62-B25F-38D9E0587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7AF8-1378-4695-9456-0701CA7B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8C5B-4EC0-4FFB-A7F7-AC1AD946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F3DB-71C1-47F8-87CE-2797D856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9BAD-F68C-48FC-92B5-F93B9891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EF6E-A4EA-404B-AE19-765C210D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45A5-4365-4177-9239-4AD6CD56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23F8-E9EE-4804-8BC6-9A83301F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F21C-15D2-4F0F-87E0-23726A8C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D4EC-AFBC-4565-82C9-60BFD9ED83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ressing wishes ,hopes and desi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ays to express wishes , hopes and desi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ish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onl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op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ample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mplete the  sentence appropriate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only ………………………………………………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wish……………………………………………….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hope ………………………………………………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sh ‘ used for things that are less likely to happen-pessimistic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g.I wish I were a famous athle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ish I were a bi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pe’ used for things that are likely to happen-optimistic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g. I hope I can be successf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ope  I pass my examin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only’ has a similar function to ‘wish’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g.If only I were a famous athle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only I were a bir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ions for final ex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se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isten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xercise fr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pt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&amp;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go online student edi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evis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hee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esent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rom chapter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4,5,6,7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&amp;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esent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rom chapter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&amp;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al examination :oral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ory nar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limit: 5/6 min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ks: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ate:24-01-143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on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12.30-2.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pic: Any story of your choice that express chronological order of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: No make up exam for absent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 exam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 exam for absentees from 12.15-2.00 on Saturday 22-01-143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Name of the exam and absent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Mid term written-Ahlam Ahm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Debate-Alya Zalem,Ahlam Ahmad,Aishah Hass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Presentation:Em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Group discussion:Reem,Hanan,Alya,Areej,Fahdah,Ghade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Revision sheet 4 &amp; 5-Reem ,Hanan, Alya, Areej ,Fahdah ,Ghade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 Revision sheet 6,7 &amp; 8 –Dalal,Maram,Ahlam Zayed,    Hassa,Fahdah,Aishah,Mashael Shaf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 text b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se girls are requested to submit their text book for assess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r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ss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l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hlam Ahm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hda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ishah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sha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pter 9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uman Behavi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Voca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eld of Interest:    a division of academic stu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dom:      Ch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ye contact:  Looking directly into someone`s ey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g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gressions are used to offer additional information during a lecture or spee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g. By the way,    Oh,I forgot to mention(for announcing a digress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g. Back to our topic,  To continue with our main point(for announcing a return to the main topi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g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questions that are added at the end of the statement are called as tag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hree types of tag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Genuine tag question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ask for information  .Speaker wants to know the answer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i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g.You `re coming to soccer practice today, aren`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Straight Arrow Connector 12"/>
          <p:cNvCxnSpPr/>
          <p:nvPr/>
        </p:nvCxnSpPr>
        <p:spPr>
          <a:xfrm flipV="1">
            <a:off x="685440" y="5409360"/>
            <a:ext cx="68652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hetorical tag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ask for agreement or confirmation.Speaker knows the answer already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Fal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g.You`ve come to every game, haven`t yo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hallenging tag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signal a challenge.Affirmative statement followed by affirmative tag question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i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g.So they think they`re going to win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ch,do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Straight Arrow Connector 4"/>
          <p:cNvCxnSpPr/>
          <p:nvPr/>
        </p:nvCxnSpPr>
        <p:spPr>
          <a:xfrm>
            <a:off x="7010280" y="1752120"/>
            <a:ext cx="61056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Straight Arrow Connector 8"/>
          <p:cNvCxnSpPr/>
          <p:nvPr/>
        </p:nvCxnSpPr>
        <p:spPr>
          <a:xfrm flipV="1">
            <a:off x="2971800" y="5028480"/>
            <a:ext cx="53424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ad the following sentence and identify if it is a genuine,rhetorical or challenging tag ques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. You haven`t written the re examination, have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u?   -Rhetorical Tag ques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u are waiting for the taxi, aren`t you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Genuine Tag ques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.   They think they are great ,do they? –Challenging Tag ques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Straight Arrow Connector 4"/>
          <p:cNvCxnSpPr/>
          <p:nvPr/>
        </p:nvCxnSpPr>
        <p:spPr>
          <a:xfrm>
            <a:off x="990360" y="2971440"/>
            <a:ext cx="61020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Straight Arrow Connector 8"/>
          <p:cNvCxnSpPr/>
          <p:nvPr/>
        </p:nvCxnSpPr>
        <p:spPr>
          <a:xfrm flipV="1">
            <a:off x="6324480" y="3351960"/>
            <a:ext cx="45792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Straight Arrow Connector 10"/>
          <p:cNvCxnSpPr/>
          <p:nvPr/>
        </p:nvCxnSpPr>
        <p:spPr>
          <a:xfrm flipV="1">
            <a:off x="5791320" y="4342680"/>
            <a:ext cx="45792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pter 10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rime and Punish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ocab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Freewil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The freedom that humans have to make choices and guide their own fates and destin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Lif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–and-dea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: very importa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Predetermin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:The belief that all events have already been deci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Programme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:Controlled to do a certain thing or behave a certain way automatically or without think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phra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phrase means to restate an idea using different wo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ample question:Paraphrase the following sent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The unexamined life is not worth liv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s.   If you don`t look closely at your own behavior, your life will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 meaningles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. May be we are programmed to do the things we d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s:We might be doing our activities automatically and withou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nking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.If you feel that you are not in control, then you also might feel that you do not have to take responsibility for your choi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s: The uncontrolled life you lead may make you believe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the events in your life are predetermin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.Our relationship to the past and the future seems to be connected with our present choi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s: Our experiences are connected to the freewill we exercise   today and this will shape  our fut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16:51:40Z</dcterms:created>
  <dc:creator>Acer</dc:creator>
  <dc:description/>
  <dc:language>en-US</dc:language>
  <cp:lastModifiedBy>dell</cp:lastModifiedBy>
  <dcterms:modified xsi:type="dcterms:W3CDTF">2012-01-01T09:52:02Z</dcterms:modified>
  <cp:revision>19</cp:revision>
  <dc:subject/>
  <dc:title>Chapter 9 Human Behavior</dc:title>
</cp:coreProperties>
</file>