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B54-4887-44D2-9E45-30A5AE28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841-0980-4239-929A-B1115D51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D41-976D-4113-9AAF-0297C447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64F-322A-4258-8340-B44584C4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085-C733-424E-87A5-CFC0289E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25C-4F3F-403E-9D4D-6DD76BCC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346-3BED-4ECA-8B90-5B64E803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0E6-A9B5-4E3F-A18F-BDCE74AE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CFA-E34B-4F9B-B39F-2C16FDFE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927-8BBE-497A-896B-D15AA6A2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F34-9161-4762-A3AA-92C81ED3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2C0-6BD5-4FF1-9F21-FA89F68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8749-F91A-4FC4-ADAE-169050F69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صنع القرار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ملية صنع القرار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Decision Making Proces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6002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حتى يحقق القرار النتائج المنشودة و أن يكون القرار فعالا في جل المشكلات يجب إتباع الخطوات الآتية في عملية صنع القرار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وضع أهداف محدد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حديد و تشخيص المشكل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وضع الأولوي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حديد معايير القرا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أعطاء قيم و أوزان للمعايي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طوير الحلول البديل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قييم الحلول البديل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ختيار البديل الأنسب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تنفيذ القرا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ea typeface="Arial"/>
              </a:rPr>
              <a:t>-تقييم فاعلية القرا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شاركة الأفراد في صنع القرار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ماهي المشاركة: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شاركة تعني انغماس الأفراد ذهنيا و عاطفيا في العمل بما يشجعهم على المساهمة في أهداف الجماع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أساليب و فنون المشارك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تتم مشاركة العاملين في صنع القرارات على أساس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فردي أو جماع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صورة رسمية أو غير رسم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شاركة الفردية: هي تأثير الفرد في قرارات رئيس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شاركة الجماعية : تتم من خلال الأساليب التشاورية أو الديمقراط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ور المعلومات في صنع القرارات الإدارية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تعتمد عملية صنع القرارات أساسا في المنظمة على المعلومات المتوافرة لصانع القرار. لذلك الشروط الواجب توافرها في المعلومات هي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سهولة الحصول علي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أن تصل في الوقت المناس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لها علاقة مباشرة بعمل المنظ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صحيحة و خالية من الأخط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كاملة : تتضمن جميع التفاصيل الضرور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واض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Calibri"/>
                <a:cs typeface="Arial"/>
              </a:rPr>
              <a:t>تقوم نظم المعلوما</a:t>
            </a:r>
            <a:r>
              <a:rPr b="1" lang="ar-TN" sz="2500" spc="-1" strike="noStrike">
                <a:solidFill>
                  <a:srgbClr val="000000"/>
                </a:solidFill>
                <a:latin typeface="Calibri"/>
                <a:cs typeface="Arial"/>
              </a:rPr>
              <a:t>ت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ement Information Systems</a:t>
            </a:r>
            <a:r>
              <a:rPr b="1" lang="ar-SA" sz="2500" spc="-1" strike="noStrike">
                <a:solidFill>
                  <a:srgbClr val="000000"/>
                </a:solidFill>
                <a:latin typeface="Calibri"/>
                <a:ea typeface="Arial"/>
              </a:rPr>
              <a:t>) بدور هام و  حيوي في صنع القرارات المتعلقة بمختلف الجوانب و المجالات التنظيمية ,و في توفير ميزة تنافسية للمنظمات و مساعدتها على استمرار النمو و التوسع 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صل الثالث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Calibri"/>
                <a:cs typeface="Arial"/>
              </a:rPr>
              <a:t>تمثل عملية صنع القرارات الإدارية دورا محوريا من ادوار و وظائف المدير في أي منظمة حكومية كانت أو خاصة ,صناعية , تجارية  أم خدمية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000000"/>
                </a:solidFill>
                <a:latin typeface="Calibri"/>
                <a:cs typeface="Arial"/>
              </a:rPr>
              <a:t>الضغوطات و التحديات المعاصرة جعلت عملية صنع القرارات أكثر تعقيدا و أهمية من أي وقت مضى لذلك سنناقش مفهوم القرار و صنع القرار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098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428640" y="228600"/>
            <a:ext cx="52578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ماهو مفهوم القرار وصنع القرار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ecision and Decision Making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ن المفيد التمييز بين القرار و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ملية صن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ماهو القرار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قرار هو سلوك, تصرف واعي من بين عدة بدائل, إنه اختيار واعي من بين بديلين فأكثر تم تحليلها, يتبعه فعل أو إجراء لتنفيذ هذا الاختي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743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ماهي عملية صنع القرار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Arial"/>
              </a:rPr>
              <a:t>عملية صنع القرار تتضمن سلسلة من الخطوات المترابطة المؤدية إلى قرار,و تنفيذ هذا القرار و متابعت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0" y="3816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  <a:cs typeface="Calibri"/>
              </a:rPr>
              <a:t>السؤال المطروح: ماهو الفرق بين القرار وعملية صنع القرار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Object 6"/>
          <p:cNvGraphicFramePr/>
          <p:nvPr/>
        </p:nvGraphicFramePr>
        <p:xfrm>
          <a:off x="0" y="1623960"/>
          <a:ext cx="9144000" cy="54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3960"/>
                    <a:ext cx="914400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تصنيف القرار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Types of deci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صنف القرارات الإدارية إلى نوعين رئيسي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قرارات مبرمجة 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قوم بصنعها الإدارة الوسط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قرارات غير مبرمجة :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تقوم بصنعها الإدارة العلي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-القرار المبرمج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روتيني – متكرر- يعالج و يتناول مشكلات و حالات و مواقف متكرر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-</a:t>
            </a:r>
            <a:r>
              <a:rPr b="0" lang="ar-SA" sz="32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القرار الغير المبرمج: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محدد و يتعلق بمشكلات, حالات, مواقف متجددة و ليست متكررة و غير روتينية, و إنها معقدة أو مهمة جدا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alibri"/>
                <a:cs typeface="Times New Roman"/>
              </a:rPr>
              <a:t>كذلك يمكن تصنيف  القرارات إلى قرارات</a:t>
            </a:r>
            <a:r>
              <a:rPr b="0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ar-SA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-استباقية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oactive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- قرارات رد الفعل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active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):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يصنع استجابة (رد فعل) لتغيرات خار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Arial"/>
              </a:rPr>
              <a:t>السؤال المطروح: ماهو القرار ألاستباقي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هو قرار يتم صنعه تحسبا أو توقعا لتغير خارجي أو ظروف أخرى, و ذلك تفاديا لتطور المشكل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Calibri"/>
                <a:cs typeface="Times New Roman"/>
              </a:rPr>
              <a:t>نماذج صنع القرار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يصنف صنع القرارات الإدارية إلى نموذجين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نموذج الرش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نموذج السلوك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النموذج الرشيد:</a:t>
            </a: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يطلق عليه النموذج المثالي, وتنظرعلى المديانه كامل الرشدوان لديه معرفة كاملة بالبدائل ونتائج كل بديل ويقوم بصنع قرارت مثلى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 u="sng">
                <a:solidFill>
                  <a:srgbClr val="ff0000"/>
                </a:solidFill>
                <a:uFillTx/>
                <a:latin typeface="Calibri"/>
                <a:cs typeface="Arial"/>
              </a:rPr>
              <a:t>النموذج السلوكي</a:t>
            </a:r>
            <a:r>
              <a:rPr b="0" lang="ar-SA" sz="3000" spc="-1" strike="noStrike">
                <a:solidFill>
                  <a:srgbClr val="ff0000"/>
                </a:solidFill>
                <a:latin typeface="Calibri"/>
                <a:ea typeface="Arial"/>
              </a:rPr>
              <a:t>: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يرى العديد من الكتاب أن الافتراضات التي بني عليها النموذج الرشيد نادرا ما تتحقق, كذلك قرارات المدير بعيدة كثيرا عن الرشد الكامل حيث تكون مرتبطة بمشاعر صانع القرارت والمتغيرات البيئي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  <a:cs typeface="Arial"/>
              </a:rPr>
              <a:t>لذلك يعتقد  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هربرت سايمون</a:t>
            </a:r>
            <a:r>
              <a:rPr b="0" lang="ar-SA" sz="4800" spc="-1" strike="noStrike">
                <a:solidFill>
                  <a:srgbClr val="000000"/>
                </a:solidFill>
                <a:latin typeface="Calibri"/>
                <a:ea typeface="Arial"/>
              </a:rPr>
              <a:t> أن الإداري يكتفي بالقرار المرضي بدلا من السعي للوصول إلى الاختيار الأمثل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2T07:58:31Z</dcterms:created>
  <dc:creator>user</dc:creator>
  <dc:description/>
  <dc:language>en-US</dc:language>
  <cp:lastModifiedBy>Fatomah-Tosh</cp:lastModifiedBy>
  <dcterms:modified xsi:type="dcterms:W3CDTF">2011-10-05T18:59:26Z</dcterms:modified>
  <cp:revision>13</cp:revision>
  <dc:subject/>
  <dc:title>صنع القرار</dc:title>
</cp:coreProperties>
</file>