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265-08EB-45F6-9A96-4F1737D3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6F47-532B-4672-A15C-D82E5D4A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49F-FE50-46AB-AEA8-E18D29B2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1D0-81A7-4F31-ABC1-2886F382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0F9C-5EF8-4E28-82DE-8C193C62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6275-963D-4F9A-845A-512D992A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181A-2E56-4645-BA3F-7EE153F5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A29D-13A9-407E-AE7E-784090EC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C3BF-FFA6-4B20-934B-66593E65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7A4C-7375-4FBC-BCA1-8A013534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356A-EE40-4F21-A813-4769A6F6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45B-3332-487C-919D-7A67BD8B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206F-DD8F-4F69-A134-19CBE6C2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5F84-1E5B-4DF4-994B-21C273D3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D63A-ED8E-4452-93E6-8843E20D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0A40-0101-4ED3-A07A-3AFAFE7E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BC78-FD6D-4DB8-ABEA-B039C077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F49-2C07-4E12-88A4-5ACC2446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384-4993-468D-BC39-5E9C2B70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11F-9B7A-4896-AA22-1084E282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C2A9-5EE8-461B-9DBB-00864F49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7753-66A7-4872-9BD9-B78CA7CA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A832-D92D-481A-B870-7625CFBC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F3D7-06CD-48A4-8E8F-B867F70C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E6A8-8F60-43B1-B5D4-03D00F1FE07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C58B-4874-49D6-BD5C-06BA885F547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ccecff"/>
                </a:solidFill>
                <a:uFillTx/>
                <a:latin typeface="Arial"/>
              </a:rPr>
              <a:t>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68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مرونة العرض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رابعاً: عرض متكافئ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عروضة يساوي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=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771640" y="3105000"/>
            <a:ext cx="12240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56000" y="3537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0" y="450864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0" y="3789360"/>
            <a:ext cx="0" cy="684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56240" y="4545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376000" y="3789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76360" y="3573360"/>
            <a:ext cx="104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ccecff"/>
                </a:solidFill>
                <a:latin typeface="Arial"/>
              </a:rPr>
              <a:t>المقصود بالمرونة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8560" y="1599840"/>
            <a:ext cx="84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ساسية أو مدى الاستجابة لشيء ما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السعريه: مدى تأثر الكميه المعروضة للتغير في السعر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ات في الكمية المعروضة نتيجة تغير الثمن قد تكون كبيرة أو ضئيلة . فلا بد مقياس لمعرفة مدى التجاوب بين الكميات المعروضة من سلعة والتغيرات في ثمنها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قياس المرونة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تقاس المرونة بقسمة التغير النسبي في الكمية المعروضة على التغير في الثم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التغير النسبي في الكمية المعروض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مرونة =    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التغير النسبي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  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–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تغير النسبي في الكمية المعروضة = ــــــــــــــــــــــــــــ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–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النسبي في الثمن =  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 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ثال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احسب مرونة العرض على سلعة التفاح إذا كان سعر التفاح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6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شا والكمية المعروض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كغم وعند انخفاض السعر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4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شا انخفضت الكمية المعروضة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7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كغم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ل:                               =              = 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6624720" y="425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4168800"/>
            <a:ext cx="35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3537000"/>
            <a:ext cx="33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 –  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ــ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60 – 4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26360" y="4092480"/>
            <a:ext cx="11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5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5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أولاً: عرض عديم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لا تتغير الكميه المعروضة مهما تغير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= صف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303372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2744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19640" y="4653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11280" y="3860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080" y="36082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76360" y="3465360"/>
            <a:ext cx="97164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64440" y="3249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ثانيا: عرض لا نهائي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هما تغيرت الكميه المعروضة فلا يتغير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6360" y="3465360"/>
            <a:ext cx="176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8000" y="2744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00360" y="3500280"/>
            <a:ext cx="0" cy="10447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880" y="46162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34653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40600" y="4653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ثالثا: عرض مرن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عروضة أكبر من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&gt;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11280" y="4508640"/>
            <a:ext cx="284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627280" y="3213000"/>
            <a:ext cx="2449440" cy="6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4365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00360" y="3573360"/>
            <a:ext cx="0" cy="971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3880" y="4653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19640" y="3429000"/>
            <a:ext cx="0" cy="11160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53320" y="46162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410920" y="357336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411280" y="3392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رابعاً: عرض غير مرن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عروضة أقل من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&lt;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095640" y="2744640"/>
            <a:ext cx="504720" cy="15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19640" y="3284640"/>
            <a:ext cx="34920" cy="12589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24360" y="454500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11640" y="360828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61320" y="4545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448000" y="3608280"/>
            <a:ext cx="900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410920" y="328464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ajdi</cp:lastModifiedBy>
  <dcterms:modified xsi:type="dcterms:W3CDTF">2008-04-02T07:40:4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