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EAB7-1E3C-4316-9FC4-0E66B43EF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E71C-488D-4FEC-AE91-43C57E75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8FD5-76FB-46AE-9ADD-D41A32CE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3E07-4FD0-4484-AD28-165857372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1FF0-C6BF-4E0E-A6DA-079349777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DB30-59C9-4807-9A02-3420140F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9983-AACD-470C-881F-8B09FCC1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1F35-0DAE-4E37-A8A9-FC796237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6D2E-9C80-4016-BC0F-49F1AC1C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CFF5-CA79-4320-A403-16ACF011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0566-ECB5-4DC8-BD03-2953ACA1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0585-D479-4461-9839-E426AC94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9B9B-4B0D-42DF-86BC-A4370C7E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DBD0-CDBE-41E8-A263-7595BD7D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9EA8-0B23-424A-8270-A024C391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9836-32E5-49E5-BC68-02DBFBC8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8604-F873-4998-B5AE-3A145095B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60C8-737B-4E76-89D9-EA3A4880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FAD9-FDEC-46C4-9666-186047DA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3047-E2F6-4F00-A092-1463587D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2005-EC81-4F34-A8C7-DDEAA62D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B351-2638-49A1-ACAE-623BB440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CBEA-B405-45B8-AE6E-D931CEF9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AADC-2E94-4B4B-BCF9-8A9D4139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7237-1CCA-4BB4-98D0-39982D86CBF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D267-71C5-4AE1-83BC-38E13770523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 u="sng">
                <a:solidFill>
                  <a:srgbClr val="ccecff"/>
                </a:solidFill>
                <a:uFillTx/>
                <a:latin typeface="Arial"/>
              </a:rPr>
              <a:t>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6836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( 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مرونة الطلب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أنواع 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رابعاً: طلب غير مرن</a:t>
            </a: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تغير في الكمية المطلوبة أقل من التغير في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رسم البياني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&lt;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2411280" y="2997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11280" y="4508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95640" y="2852640"/>
            <a:ext cx="792000" cy="162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08000" y="2816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11640" y="45086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92360" y="3608280"/>
            <a:ext cx="34920" cy="9003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24360" y="4545000"/>
            <a:ext cx="4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11640" y="3284640"/>
            <a:ext cx="36360" cy="12603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61320" y="454500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2410920" y="3573000"/>
            <a:ext cx="1081080" cy="349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2448000" y="3249360"/>
            <a:ext cx="900000" cy="34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78600" y="35211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40000" y="317664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أنواع 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رابعاً: طلب متكافئ المرونة</a:t>
            </a: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تغير في الكمية المطلوبة يساوي التغير في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رسم البياني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=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411280" y="2997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11280" y="4508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71640" y="3068640"/>
            <a:ext cx="1079640" cy="11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8000" y="2816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11640" y="45086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92360" y="3860640"/>
            <a:ext cx="34920" cy="6130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24360" y="4545000"/>
            <a:ext cx="4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40000" y="3537000"/>
            <a:ext cx="36720" cy="10080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61320" y="454500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2376000" y="3789000"/>
            <a:ext cx="1081080" cy="349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2376000" y="3573000"/>
            <a:ext cx="863640" cy="34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78600" y="35211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40000" y="317664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 u="sng">
                <a:solidFill>
                  <a:srgbClr val="ccecff"/>
                </a:solidFill>
                <a:uFillTx/>
                <a:latin typeface="Arial"/>
              </a:rPr>
              <a:t>مرونة نقطة الوسط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ccecff"/>
                </a:solidFill>
                <a:latin typeface="Arial"/>
              </a:rPr>
              <a:t>قياس المرونة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تقاس المرونة بقسمة التغير النسبي في الكمية المطلوبة على التغير في الثمن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التغير النسبي في الكمية المطلوبة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المرونة =    ـــــــــــــــــــــــــــــــــــــــــــــــــــــــــــ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  التغير النسبي في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ccecff"/>
                </a:solidFill>
                <a:latin typeface="Arial"/>
              </a:rPr>
              <a:t>قياس مرونة نقطة الوسط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لكن ماذا لو انعكست الحالة فالكمية الأولى أصبحت الثانية والثانية أصبحت الأولى والثمن انعكس كذلك.  ولذلك لا بد من حساب نقطة الوسط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                                            ك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– ك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التغير النسبي في الكمية المطلوبة = ــــــــــــــــــــــــــــ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                                            ك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+  ك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                                     ـــــــــــــــــــــــــــــــــــــــــ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                                                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                            س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– س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لتغير النسبي في الثمن =  ــــــــــــــــــــــ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                            س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+ س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                     ــــــــــــــــــــــــــــــــــــــــ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                                  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انظر المثال في الكتاب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ccecff"/>
                </a:solidFill>
                <a:latin typeface="Arial"/>
              </a:rPr>
              <a:t>المثال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831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استخرج مرونة الطلب للسلعة أ إذا كانت الكمية المطلوبة 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1000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 وحدة عند السعر 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 دينار للوحدة وأن الكمية المطلوبة 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1500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 وحدة عند السعر 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8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 دينار للوحدة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تقيس مرونة الطلب التقاطعية مدى استجابة الكمية المطلوبة من السلعة (أ) للتغير في ثمن السلع (ب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ورياضيا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التغير النسبي في الكمية المطلوبة للسلعة أ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المرونة =    ـــــــــــــــــــــــــــــــــــــــــــــــــــــــــــ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التغير النسبي في ثمن السلعة 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ccecff"/>
                </a:solidFill>
                <a:latin typeface="Arial"/>
              </a:rPr>
              <a:t>مرونة الطلب التقاطعية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مثال </a:t>
            </a: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1</a:t>
            </a: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وتوضح لنا مرونة الطلب التقاطعية العلاقة بين السلع البديلة والسلع المكملة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ثال:  احسب مرونة الطلب التقاطعية للسلعتين البرتقال والموز إذا علمت أن ارتفاع سعر الموز بنسبة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20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% أدى إلى زيادة الكمية المطلوبة من البرتقال بنسبة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% 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مثال </a:t>
            </a: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احسب مرونة الطلب التقاطعية للسلعتين الشاي والسكر إذا علمت أن ارتفاع سعر السكر بنسبة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% أدى إلى انخفاض الكمية المطلوبة من الشاي بنسبة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5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% 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ccecff"/>
                </a:solidFill>
                <a:latin typeface="Arial"/>
              </a:rPr>
              <a:t>المقصود بالمرونة</a:t>
            </a:r>
            <a:r>
              <a:rPr b="0" lang="ar-SA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58560" y="1599840"/>
            <a:ext cx="8461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حساسية أو مدى الاستجابة لشيء ما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880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السعريه: مدى تأثر الكميه المطلوبة للتغير في السعر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880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الداخلية: مدى تأثر الكميه المطلوبة للتغير في الدخل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880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880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تغيرات في الكمية المطلوبة في الكمية المطلوبة نتيجة تغير الثمن قد تكون كبيرة أو ضئيلة . فلا بد مقياس لمعرفة مدى التجاوب بين الكميات المطلوبة من سلعة والتغيرات في ثمنها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تقيس مدى استجابة التغير في الكمية المطلوبة للتغير في الدخل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ورياضيا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التغير النسبي في الكمية المطلوبة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=    ـــــــــــــــــــــــــــــــــــــــــــــــــــــــــــ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التغير النسبي في الدخ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انظر المثال ص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86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8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ccecff"/>
                </a:solidFill>
                <a:latin typeface="Arial"/>
              </a:rPr>
              <a:t>مرونة الطلب الدخلية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ملاحظ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0" y="159192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إشارة السالبة: معناها أن السلعة رديئة. لأن المستهلك خفض من الكمية المطلوبة عند ارتفاع دخله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إشارة الموجبة: معناها أن السلعة عاديه. لأن المستهلك زاد من الكمية المطلوبة عند ارتفاع دخله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ccecff"/>
                </a:solidFill>
                <a:latin typeface="Arial"/>
              </a:rPr>
              <a:t>محددات مرونة الطلب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-252360" y="134136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ffcc66"/>
                </a:solidFill>
                <a:uFillTx/>
                <a:latin typeface="Verdana"/>
              </a:rPr>
              <a:t>أولا: مدى وجود بديل للسلعة</a:t>
            </a:r>
            <a:r>
              <a:rPr b="0" lang="ar-SA" sz="4400" spc="-1" strike="noStrike" u="sng">
                <a:solidFill>
                  <a:srgbClr val="ffcc66"/>
                </a:solidFill>
                <a:uFillTx/>
                <a:latin typeface="Verdana"/>
              </a:rPr>
              <a:t> </a:t>
            </a:r>
            <a:r>
              <a:rPr b="0" lang="ar-SA" sz="4400" spc="-1" strike="noStrike" u="sng">
                <a:solidFill>
                  <a:srgbClr val="ffcc66"/>
                </a:solidFill>
                <a:uFillTx/>
                <a:latin typeface="Verdan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إذا وجد بديل جيد للسلعة (دجاج ، لحم) كانت المرونة مرتفعه لان أي ارتفاع بسيط في السلعة سيؤثر على الكمية المطلوبة عنها والانتقال إلى السلعة البديلة الأخر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ثانياً: مدى ضرورة السلعة للمستهل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ar-SA" sz="4000" spc="-1" strike="noStrike">
                <a:solidFill>
                  <a:srgbClr val="ffffff"/>
                </a:solidFill>
                <a:latin typeface="Verdana"/>
              </a:rPr>
              <a:t>كلما كانت السلعة ضرورية كان الطلب قليل المرونة فإذا ارتفع السعر فان التغير في الكميه المطلوبة سيكون قليلا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ثالثاً: حجم نصيب السلعة في الدخل الكلي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ar-SA" sz="4000" spc="-1" strike="noStrike">
                <a:solidFill>
                  <a:srgbClr val="ffffff"/>
                </a:solidFill>
                <a:latin typeface="Verdana"/>
              </a:rPr>
              <a:t>إذا كان نصيب السلعة من الدخل قليل كان الطلب قليل المرونة والعكس صحيح</a:t>
            </a:r>
            <a:r>
              <a:rPr b="0" lang="ar-SA" sz="40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رابعاً: حجم دخل المستهل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ar-SA" sz="4000" spc="-1" strike="noStrike">
                <a:solidFill>
                  <a:srgbClr val="ffffff"/>
                </a:solidFill>
                <a:latin typeface="Verdana"/>
              </a:rPr>
              <a:t>كلما كان دخل المستهلك مرتفعا كلما كان الطلب قليل المرونة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ccecff"/>
                </a:solidFill>
                <a:latin typeface="Arial"/>
              </a:rPr>
              <a:t>قياس المرونة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تقاس المرونة بقسمة التغير النسبي في الكمية المطلوبة على التغير في الثمن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التغير النسبي في الكمية المطلوبة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المرونة =    ـــــــــــــــــــــــــــــــــــــــــــــــــــــــــــ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  التغير النسبي في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                      ك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– ك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التغير النسبي في الكمية المطلوبة = ــــــــــــــــــــــــــــ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                           ك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        س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– س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تغير النسبي في الثمن =  ــــــــــــــــــــــ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           س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مثال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احسب مرونة الطلب على سلعة التفاح إذا كان سعر التفاح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60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قرشا والكمية المطلوبة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00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كغم وعند انخفاض السعر إلى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45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قرشا ارتفعت الكمية المطلوبة إلى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50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كغم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حل:                               =              =  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6624720" y="4257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2000" y="4168800"/>
            <a:ext cx="35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56000" y="3537000"/>
            <a:ext cx="33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00 –  15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ــــــــــــــــ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60 – 4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26360" y="4092480"/>
            <a:ext cx="118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- 50 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5 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27280" y="4797360"/>
            <a:ext cx="1476360" cy="11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43280" y="6021360"/>
            <a:ext cx="11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السالب دلالة على العلاقة العكسي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مثال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سلعة ما سعرها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قروش والكميه المطلوبة منها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00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كغم ارتفع سعرها إلى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2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قروش وانخفضت الكميه المطلوبة إلى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95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كغم احسب مرونة الطلب وما نوع المرونة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حل:                               =              =  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2,5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6624720" y="4257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32000" y="4168800"/>
            <a:ext cx="35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56000" y="3537000"/>
            <a:ext cx="33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00 – 9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ــــــــــــــــ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0 – 1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26360" y="4092480"/>
            <a:ext cx="118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5 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- 20 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27280" y="4797360"/>
            <a:ext cx="1476360" cy="11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43280" y="6021360"/>
            <a:ext cx="11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السالب دلالة على العلاقة العكسي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أنواع 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أولاً: طلب عديم المرونة</a:t>
            </a: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لا تتغير الكميه المطلوبة مهما تغير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رسم البياني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= صف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2997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11280" y="4508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48000" y="303372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8000" y="274464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19640" y="4653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11280" y="386064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28080" y="36082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76360" y="3465360"/>
            <a:ext cx="97164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64440" y="32497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أنواع 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ثانيا: طلب لا نهائي المرونة</a:t>
            </a: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هما تغيرت الكميه المطلوبة فلا يتغير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رسم البياني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2411280" y="2997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11280" y="4508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76360" y="3465360"/>
            <a:ext cx="176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08000" y="274464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11640" y="45086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00360" y="3500280"/>
            <a:ext cx="0" cy="104472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19880" y="461628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59280" y="34653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40600" y="465300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أنواع 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ثالثا: طلب مرن</a:t>
            </a: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تغير في الكمية المطلوبة أكبر من التغير في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رسم البياني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&gt;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2411280" y="2997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11280" y="4508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56000" y="3213000"/>
            <a:ext cx="172872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08000" y="2816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11640" y="45086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600360" y="3573360"/>
            <a:ext cx="0" cy="9716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19880" y="461628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59280" y="34653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40600" y="465300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2410920" y="3573000"/>
            <a:ext cx="1258920" cy="349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410920" y="3392640"/>
            <a:ext cx="613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78600" y="35211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40000" y="317664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majdi</cp:lastModifiedBy>
  <dcterms:modified xsi:type="dcterms:W3CDTF">2008-03-30T14:42:5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