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FF8-720A-410B-BD51-F3BD5E39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125-CFCB-4E76-81D9-2943465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50A-7483-497B-A514-6D431652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A11-08CC-4CA1-918B-FAAA33D4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BE54-A3B6-4D44-BA89-947D592D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695F-F737-4A56-ACEF-C37A1B0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E8CA-6F80-496A-9018-516533A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2D6-ECD1-489A-91D1-8FB8A00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A61-2BFE-4E82-A8B5-D04CCE5B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929-7ECA-4526-8CED-6B33030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81DF-5DA7-4C94-AE9E-40406FF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04-6AF8-4EBE-9A35-BCF6F5D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AB3-369D-4631-82F6-517540E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FB25-1D24-4DC0-AD30-B2550C79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75B-4D7F-4E70-A1D6-780ED9E5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08B7-58A7-4586-9F29-30AB2A2E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5B9A-B061-4356-8819-6FFBC87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A74-3778-49C4-AA63-8CFE89A6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B1D-B79D-4A96-A100-CF6ABA9F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C19-E721-4292-99EF-EB963CEF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B43-F35B-4173-8E03-FF8FA3B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740-512A-4336-86C1-4EC2C0DA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F42-9B8A-4EE4-B052-D37DBA8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B2A-4E8E-40A7-80C4-400353B9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C5F9-DDED-4591-B254-20458388EC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8BE-49F0-49A2-9A62-0BFB62B503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طلب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95640" y="2852640"/>
            <a:ext cx="792000" cy="16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608280"/>
            <a:ext cx="34920" cy="90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1640" y="3284640"/>
            <a:ext cx="36360" cy="126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410920" y="3573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448000" y="3249360"/>
            <a:ext cx="90000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3068640"/>
            <a:ext cx="1079640" cy="11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860640"/>
            <a:ext cx="34920" cy="6130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3537000"/>
            <a:ext cx="36720" cy="1008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376000" y="3789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376000" y="3573000"/>
            <a:ext cx="86364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مرونة نقطة الوسط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مرونة نقطة الوسط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لكن ماذا لو انعكست الحالة فالكمية الأولى أصبحت الثانية والثانية أصبحت الأولى والثمن انعكس كذلك.  ولذلك لا بد من حساب نقطة الوسط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ـ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نظر المثال في الكت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المثال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31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استخرج مرونة الطلب للسلعة أ إذا كانت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وأن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رونة الطلب التقاطعية مدى استجابة الكمية المطلوبة من السلعة (أ) للتغير في ثمن السلع (ب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التغير النسبي في الكمية المطلوبة للسلعة 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التغير النسبي في ثمن السلعة 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تقاطع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وتوضح لنا مرونة الطلب التقاطعية العلاقة بين السلع البديلة والسلع المكمل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ثال:  احسب مرونة الطلب التقاطعية للسلعتين البرتقال والموز إذا علمت أن ارتفاع سعر الموز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زيادة الكمية المطلوبة من البرتقال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احسب مرونة الطلب التقاطعية للسلعتين الشاي والسكر إذا علمت أن ارتفاع سعر السكر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انخفاض الكمية المطلوبة من الشاي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طلوب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داخلية: مدى تأثر الكميه المطلوبة للتغير في الدخل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طلوبة في الكمية المطلوبة نتيجة تغير الثمن قد تكون كبيرة أو ضئيلة . فلا بد مقياس لمعرفة مدى التجاوب بين الكميات المطلوب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دى استجابة التغير في الكمية المطلوبة للتغير في الدخ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التغير النسبي في الدخ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انظر المثال ص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6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دخل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لاحظ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5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سالبة: معناها أن السلعة رديئة. لأن المستهلك خفض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موجبة: معناها أن السلعة عاديه. لأن المستهلك زاد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حددات مرونة الطلب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25236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أولا: مدى وجود بديل للسلعة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إذا وجد بديل جيد للسلعة (دجاج ، لحم) كانت المرونة مرتفعه لان أي ارتفاع بسيط في السلعة سيؤثر على الكمية المطلوبة عنها والانتقال إلى السلعة البديلة الأخر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نياً: مدى ضرورة السلعة ل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ت السلعة ضرورية كان الطلب قليل المرونة فإذا ارتفع السعر فان التغير في الكميه المطلوبة سيكون قليلا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لثاً: حجم نصيب السلعة في الدخل الكل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إذا كان نصيب السلعة من الدخل قليل كان الطلب قليل المرونة والعكس صحيح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رابعاً: حجم دخل ا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 دخل المستهلك مرتفعا كلما كان الطلب قليل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طلب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طلو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رتفعت الكمية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1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5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سلعة ما سعر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لكميه المطلوبة من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كغم ارتفع سعرها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نخفضت الكميه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احسب مرونة الطلب وما نوع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,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 – 1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طلب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طلوبة مهما تغير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طلب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طلوب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طلب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213000"/>
            <a:ext cx="1728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410920" y="3573000"/>
            <a:ext cx="125892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0920" y="3392640"/>
            <a:ext cx="6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3-30T14:42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