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EEC-5DCE-4C8C-A5B1-884D1888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053-1667-4972-9A07-BCE6DFC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B52-1B78-43D0-97D6-86E97E69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938-92C6-4F52-B8A0-CF7CE538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C9CD-1AD8-4AEC-A326-7B6887D1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0117-E71A-4A51-BAD9-03DDE2AA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1CD9-CEED-46C0-84C7-B1CCA683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D71-35D8-46FF-92FB-A9751042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0C6C-B1E7-4950-91C2-FEDEA63F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B84-2B93-427E-AAA3-0501D8A3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B29-7B56-4EF0-B194-DF02482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202-F263-4D09-B736-9DE62C06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8D5F-B7E4-40DD-A491-88B09A33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01E8-3B31-4A60-86F9-5852DC2C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1AB5-6BCF-4819-A084-F3A0838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7588-547D-4701-9820-F2E0F54E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B443-3F35-498F-9656-312E3BB8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031-6856-4FD3-B542-0AE0B07D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9F7-59F0-46EA-B883-F5952F4F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A79-A36E-4225-BFC0-57C2BC2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BDF-BA73-4836-A996-B927E040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4E4-8100-4E4B-A07F-378B3F6A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C05-1A9B-448C-9862-74C44725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EE1-7D5C-47DC-AFF7-6EEBAD4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4477-96F4-4340-B50E-26D6FEF856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A828-D992-447F-902A-A14C19D073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عرض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310500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56000" y="3537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0" y="45086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0" y="3789360"/>
            <a:ext cx="0" cy="684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5624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376000" y="378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76360" y="3573360"/>
            <a:ext cx="104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عروض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عروضة نتيجة تغير الثمن قد تكون كبيرة أو ضئيلة . فلا بد مقياس لمعرفة مدى التجاوب بين الكميات المعروض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عروض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عروض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عروض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عرض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عروض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نخفضت الكمية المعروض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7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عرض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عروضة مهما 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عرض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عروض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عرض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4508640"/>
            <a:ext cx="28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27280" y="3213000"/>
            <a:ext cx="2449440" cy="6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4365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388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3429000"/>
            <a:ext cx="0" cy="1116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5332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10920" y="3573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411280" y="3392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095640" y="2744640"/>
            <a:ext cx="504720" cy="15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3284640"/>
            <a:ext cx="34920" cy="12589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1640" y="36082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448000" y="3608280"/>
            <a:ext cx="900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10920" y="328464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4-02T07:40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