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AE3E-6A50-4049-AC24-4553B6DBA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3945-4F9A-4F5F-A975-8EEE5FC5F0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DAC5-BFF6-4C8C-BE98-29C2EB389B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1640-126C-4669-9351-71C243A303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B8F-F4BB-4E75-9C4E-E4CFE5D5D1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A28-DFE4-4BFD-86C8-24C9799143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DD15-2896-4C9D-B766-BF3D1EF87C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F91-1865-425C-8AB1-BBF3CE93DD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046-1D49-4B72-B1E3-E1F13117569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68D9-0C93-434E-92A7-C08F2748BD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4507-6A42-4D72-BE70-F86CE03CBD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9199-719B-46EB-8564-B9CF8A95F8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AEA5-AB12-4776-A9CE-F30813F5D6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9C10-044C-4CB4-B7C2-966184768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394F-7A29-4D75-AAAC-8E2FE4A52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AEE4-82DF-4647-94FD-8802DE2A9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896D-D889-491C-A0F3-F744410C2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FF6C-1552-4348-A29F-8D110E40D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44E9-22B0-4C13-8651-18954255B6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E349-0455-425E-8FD4-FF48708C1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7A0F-50EA-47B7-AFD9-27DFD0290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505C-5240-46F1-B2AD-BB69D29222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2805-3904-433E-8F42-FE9D3E991B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C38D-6410-4DFF-A2BB-A71BD6F33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BDD1-FE43-44DF-860A-B79BE78260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FF48-5381-46AE-9FB3-0CF875F678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4EE-09CC-485E-8839-16695FF3C7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23B-D6F7-4722-8EF5-A0F112974C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A3B-1D2E-4025-BB33-F99FC2FAAD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62A-DD6F-4F4A-A8A5-53F8C9136A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AEB-F8F5-4B62-9606-6F8D43A15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95A9-B9CB-430F-A9A1-730700110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490-C179-4E1C-BD7A-580C2F7F22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4E3-84A6-4A69-85E1-295E82D83C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435-EAA4-4CA2-B656-684085133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327-255D-4A52-9FD5-16C939A1A1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D21-A7CB-46E8-88B0-9C5E5C5756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1C5-7D2D-48FC-85F8-DE5A44FB3A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398-4B30-4CC3-B972-E8417DFC0C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F75A-66EE-4A3E-9EAB-AB94D12E8F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E41F-5AEF-4C34-82FD-68E666DC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CD03-AFEF-4E4B-87D6-BCD94B656E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7995E-8116-49E0-9AB9-02F1AEFD91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6B254-EE06-43F5-8893-090044DD1F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65CDF-6092-4A54-B972-8A5EDA2A18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C3AC0-D0D2-414C-B2CA-A566EDCF47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03AC0-015B-44C5-9599-82FE0545D1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A1860-A343-48F4-B590-69F36A7216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D416E-A915-47BC-AD72-5EB6178141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B8451-0536-4571-A978-3B680166F0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0A53-A6D8-4C45-A781-AC63339497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2867B-D2DD-4D94-AA68-755021E46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DE66-E3B6-451C-80C1-52D067D8B5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0386B-0D05-499C-9123-4AA77D59A9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F0E4-B121-4E92-B6C4-C7F7E7A4C5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54FD-41A3-41F0-87D4-F82E9C3813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B8D4-A4F1-4B3E-BFB1-445F76C721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4BBB4-08D7-4C58-ABEF-25FA9C46AD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3566C-37BC-4DF0-9D46-ACF59A28A7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6BB8D-B930-465F-B96A-3FA371EBF1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0AFBF-9A65-4440-9C85-FD05909FFC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9F6AE-912D-4E56-996C-141307412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611F-B333-4A99-AF32-B538E6FA30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DD28-AF37-433C-9032-7F96111397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087C8-EFFA-4F14-949C-F46057210D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20A9E-7188-4549-AD3F-7FB94913408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92F5-3069-46AF-8295-5F5A7CD5D1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A885-5CCB-419A-9ED0-12818D650F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625A-272C-4B82-BEBD-E5A25AB9A7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0C2-483A-4AD9-9292-EEB1719873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604A-E9BE-4A68-B68A-FB9CF0E513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E365-30DD-4AF4-B090-AAD2B78B3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DED4-DFEC-40CA-9074-D6D153E6E99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F95-20CA-44F2-8836-5E9AB8394C5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9B2-A7D7-48F5-9B75-D73360ABF64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78D-7BE6-45E7-BA61-E5EC4BF191E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4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353-4B62-456A-BC56-54A380CE972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7A9A-353C-431C-8E18-82932B46817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B5C2-7190-4DDA-A3BA-6BD77618D2C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546-4E81-4816-9D67-0081A17BDF4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0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020-82E1-4DA3-AC1C-249C644694D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33CB-1AD3-407A-97AE-6580BBD389D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5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2E1-50A3-418C-B997-992A8E809037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0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E9E6-9A30-469E-91AE-B93398A99D74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6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5A5A-E8C5-48E9-B88C-209E010702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C36-F170-4A45-957E-02A154D5C56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15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44D-AD0C-4714-A88B-057ADAC6B23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أهداف مراجعة القدرات المعرف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أعطاء نظرة شاملة لنطاق وطبيعة وهيكل المعرفة في قسم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يف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الحالة الفعلية عن الخصائص الكمية للمقادير المتوفرة من المعرفة داخل مستودع المعرفة المحد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- التزود بمعنى واضح لمدخلات البيانات الخام للخطة الإستراتيجية اللازمة لتشغيل المعرف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9500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يشتمل تقرير مراجعة القدرات المعرفية على النتائج الرئيسية  التي تتضم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ديد الواضح لسبب اتباع مراجعة المعرفة بالمنظم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دقيق لعملية المارجعة ذات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ليل دقة وحساسية النتائ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اتمة حيث يجب أن تلخص النتائج التفصيلية لمراجعة القدرات المعرفية بشكل سهل وقابل للفه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خريطة مجمعة للمعرفة يظهر العلاقة بين مستودعات المعرفة التي تمتلكها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حتوى المعرفة بكل قسم ووسائل تسجيل المعلومات فيها ، بالإضافة لتسجيل خصائص الوصفية والكمية لكل قس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هرس مجمع لمحتويات التقري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9500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هناك مجموعة من التساؤلات عن مراجعة  القدرات المعرفية تشمل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فهوم الأعمال.( 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رسالة وأهداف فريق العمل الخاص بكب وحدة تنظيمي؟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فنية للمنظم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عتمد على المعرفة و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وليد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صف الطرق المختلفة التي تستخدم لتصنيف المعرفة بالمنظمة (مثل خرائط المعرفة لمن يعرف وماذ يعرف؟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هناك تصنيف للمعرفة المرتبطة بخبرات النجاح والفش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متوفرة لتحويل المعرفة من الأفراد والفرق إلى الأفراد والفرق الأخرى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حاملي المعر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يركزون على ما هو أفض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نوع المشاركة المتوفرة بين الإدارة وحاملي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غ يستخدم التدريب لزيادة المعرفة والمهارات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تحقيق الربط بين المكافآت ومستويات المعرفة والمهار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عرفة التي تنقل بواسطة تكنولوجيا المعلوم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ستخدم تكنولوجيا المعلومات فقط في تشغيل البيانات أم تستخدم أيضا في 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تطبيق مشروعات نظم المعلومات المرتبطة بإدارة المعرف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صميم الهيكل التنظي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هل تدفق المعلومات في الوحدة التنظيمية يشجع أم يعيق الإبتك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) كيف يمكن لأي فرد داخل المنظمة أن يكون داخل شبكات الأعمال الحديثة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ea typeface="PT Bold Heading"/>
              </a:rPr>
              <a:t>(الطرق المختلفة لتحليل المعر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التي تستخدم في مراجعة القدرات المعرفية منها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خرائط التدف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ماذج المدخلات والمخرجات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دراسة قوائم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قائم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إستبيان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جلسات المجموعة القائمة على المراجع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دارة الوسطى للتعرف على المحاذير المخت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بيئي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فهم المعرفة الحالية وما هو دورها في المنظمة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نظام التحليل الشفهي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ارف البسيطة جدا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95000" y="17521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المعرفة الأساسي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حديد المعرفة الكلية وأيضاً المعرفة الأكثر تفصيلاً المرتبطة ب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خريطة ل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كل المستويات التنظيمية أو شبكات الأعم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تحليل الحرج لوظيفة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حديد المجالات الأكثر حساسية للمعر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إحتياجات وإستخدام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تقييم الوضع الراهن للمعرفة وكيف يمكن تحسين المواق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وضع وتوصيف نموذج المعرفة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. لمعرفة تفاصيل المعرفة كثيفة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تحليل تدفق المعرفة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ستخدم لتوفير نظرة شاملة لتغيرات المعرفة، مكاسب وخسائر،ومدخلات العمليات، ووظيفة الأعمال على مستوى المنظمة كك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9500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أخيرًا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وضع خريطة للمعرفة يوضح تصنيف وتدفق المعرفة.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جزء هام جداً في مراجعة القدرات المعرفي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فضل تمثيل لخرائط المعرفة هي القصص </a:t>
            </a:r>
            <a:r>
              <a:rPr b="0" lang="ar-SA" sz="16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هي تغطي الأطر والقيم والرسائل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إن أكثر الأنشطة الإنتاجية في هذه المراجع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نظم المعرفة المرتبطة بالعملا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ذاكرة المنظمة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في المساعدة على التعلم ومنع تكرار الأخط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3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صنيف المباشر للخبراء الحقيقيين 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( تحديد الفائدة التي ستعود للمنظمة من هؤلاء الخبراء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قدرات المعرفية المتعلقة بالإنتاج يتطلب التركيز على التساؤلات الاتية لحل مشكلة هام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تي نمتلك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اهي المعرفة التي نفتقر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 ومن الذي يحتاج إلى هذه المعرفة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استخدام هذه المعرفة؟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6D5-7BD2-47E6-AA2B-0D73F613C44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90360" y="426708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راب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حليل فجوة المعرفة 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نقسم فجوة المعرفة بالمنظمة إلى نوعين رئيسي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داخلية ( خاصة بنقاط القوة والضعف بالمنظم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داخل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فعل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عمله الشركة فعلاً وما تستطيع عمله) ومن هذه الفجوة نحدد بدقة القدرات الذاتية للمعرفة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هدف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ما تستطيع الشركة فعله وما يجب أن تفعله) من هذه الفجوة نحدد بدقة إمكانات التطور الداخلية في المنظمة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                                                                      أنظر الرسم الت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5"/>
          <p:cNvSpPr/>
          <p:nvPr/>
        </p:nvSpPr>
        <p:spPr>
          <a:xfrm>
            <a:off x="165240" y="175248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5" name="Group 19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26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27" name="Straight Arrow Connector 6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28" name="Straight Connector 8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Straight Connector 9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Arc 12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4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6"/>
            <p:cNvSpPr/>
            <p:nvPr/>
          </p:nvSpPr>
          <p:spPr>
            <a:xfrm>
              <a:off x="3880080" y="194220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مخط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7"/>
            <p:cNvSpPr/>
            <p:nvPr/>
          </p:nvSpPr>
          <p:spPr>
            <a:xfrm>
              <a:off x="6934320" y="4344480"/>
              <a:ext cx="173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أداء الفع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داخل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أولاً: الفجوة الخارجية( خاصة بالفرص والتهديدات التي تتعرض لها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وينظر للفجوة الخارجية من زاويتين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ولى: فجوة المتاح والإمكانية.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أي الفرق بين ما تتيحه البيئة فعلاً وما تستطيع فعله المنظمة) ومن هذه الفجوة نحدد مدى جاهزية المنظمة لاقتناص الفرص وتجنب التهديد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ثانية: فجوة بين الإمكانية والقدرة على صناعة الفرص وتجنب التهديدات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 أي الفرق بين أمكانيات المنظمة وما تستطيع به التأثير في قيادة بيئة المعرفة ) من هذه الفجوة نحدد بدقة إمكانات المنظمة في التأثير في البيئة الخارجية فلا تكون مستجيبة لها فقط بل يتعدى ذلك فتؤثر فيها بما يخدم مصلحتها وتقود صناعة المعرفة في هذا المجا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3"/>
          <p:cNvGrpSpPr/>
          <p:nvPr/>
        </p:nvGrpSpPr>
        <p:grpSpPr>
          <a:xfrm>
            <a:off x="495360" y="1599840"/>
            <a:ext cx="8832960" cy="4572360"/>
            <a:chOff x="495360" y="1599840"/>
            <a:chExt cx="8832960" cy="4572360"/>
          </a:xfrm>
        </p:grpSpPr>
        <p:cxnSp>
          <p:nvCxnSpPr>
            <p:cNvPr id="537" name="Straight Arrow Connector 4"/>
            <p:cNvCxnSpPr/>
            <p:nvPr/>
          </p:nvCxnSpPr>
          <p:spPr>
            <a:xfrm flipV="1">
              <a:off x="1402920" y="1599840"/>
              <a:ext cx="1080" cy="457272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cxnSp>
          <p:nvCxnSpPr>
            <p:cNvPr id="538" name="Straight Arrow Connector 5"/>
            <p:cNvCxnSpPr/>
            <p:nvPr/>
          </p:nvCxnSpPr>
          <p:spPr>
            <a:xfrm>
              <a:off x="495360" y="5638680"/>
              <a:ext cx="7925760" cy="1080"/>
            </a:xfrm>
            <a:prstGeom prst="straightConnector1">
              <a:avLst/>
            </a:prstGeom>
            <a:ln w="57240">
              <a:solidFill>
                <a:srgbClr val="ccb661"/>
              </a:solidFill>
              <a:miter/>
              <a:tailEnd len="med" type="arrow" w="med"/>
            </a:ln>
          </p:spPr>
        </p:cxnSp>
        <p:sp>
          <p:nvSpPr>
            <p:cNvPr id="539" name="Straight Connector 6"/>
            <p:cNvSpPr/>
            <p:nvPr/>
          </p:nvSpPr>
          <p:spPr>
            <a:xfrm flipV="1">
              <a:off x="1403280" y="4038120"/>
              <a:ext cx="6191280" cy="16002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traight Connector 7"/>
            <p:cNvSpPr/>
            <p:nvPr/>
          </p:nvSpPr>
          <p:spPr>
            <a:xfrm flipV="1">
              <a:off x="1407960" y="2286000"/>
              <a:ext cx="4535640" cy="33530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Arc 8"/>
            <p:cNvSpPr/>
            <p:nvPr/>
          </p:nvSpPr>
          <p:spPr>
            <a:xfrm>
              <a:off x="4705560" y="2590560"/>
              <a:ext cx="2311200" cy="2971800"/>
            </a:xfrm>
            <a:custGeom>
              <a:avLst/>
              <a:gdLst>
                <a:gd name="textAreaLeft" fmla="*/ 1155600 w 2311200"/>
                <a:gd name="textAreaRight" fmla="*/ 2311560 w 2311200"/>
                <a:gd name="textAreaTop" fmla="*/ 0 h 2971800"/>
                <a:gd name="textAreaBottom" fmla="*/ 1486080 h 2971800"/>
              </a:gdLst>
              <a:ahLst/>
              <a:rect l="textAreaLeft" t="textAreaTop" r="textAreaRight" b="textAreaBottom"/>
              <a:pathLst>
                <a:path stroke="0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  <a:lnTo>
                    <a:pt x="1066800" y="1485900"/>
                  </a:lnTo>
                  <a:close/>
                </a:path>
                <a:path fill="none" w="2133600" h="2971800">
                  <a:moveTo>
                    <a:pt x="1066802" y="0"/>
                  </a:moveTo>
                  <a:lnTo>
                    <a:pt x="1066802" y="0"/>
                  </a:lnTo>
                  <a:arcTo wR="1066800" hR="1485900" stAng="-5399995" swAng="5400002"/>
                </a:path>
              </a:pathLst>
            </a:custGeom>
            <a:noFill/>
            <a:ln w="57240">
              <a:solidFill>
                <a:srgbClr val="ccb661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8255160" y="533412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ز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1898640" y="1942200"/>
              <a:ext cx="36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صناعة الفرص والقدرة على تجنب التهديد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5572440" y="4508280"/>
              <a:ext cx="33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الفرص والتهديدات في البيئ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12"/>
            <p:cNvSpPr/>
            <p:nvPr/>
          </p:nvSpPr>
          <p:spPr>
            <a:xfrm>
              <a:off x="4994280" y="319572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Calibri"/>
                  <a:cs typeface="PT Bold Heading"/>
                </a:rPr>
                <a:t>فجوة المعرفة الخارج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TextBox 13"/>
          <p:cNvSpPr/>
          <p:nvPr/>
        </p:nvSpPr>
        <p:spPr>
          <a:xfrm>
            <a:off x="165240" y="1846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ذا نعني ب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فكما أن المنظمات الصناعية تحدد المخزون المتاح من الأصول المادية إن منظمات المعرفة يجب أن تحدد المخزون الرأسمالي من الأصول الفكرية لتحصل على إجبابات للأسئلة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تاحة لد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تحتاج إلي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ما هي المعرفة التي غير  المتاح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كيف يمكن أن تطبقها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لذلك الإدارة الناجحة للمعرفة في المنظمة عليها ان تبدأ من هذه التساؤلات، وأن تراجع إجاباتها عليها كل فترة للتحسين والتطوير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عتبر الجزء الحيوي في منهجية إدارة المعرفة هو مراجعة القدرات المعرفية من حيث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غزارة أو ندرة المعلومات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تحذير من القصور في المعلومات وما شابه ذلك في 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القدرة على حفظ المعلومات المتصلة بموضوع معين جنباً إلى جن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قيادة الإكتشافات الهامة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إستخدام العادي للبيانات التي تقادمت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601"/>
              </a:spcBef>
              <a:buClr>
                <a:srgbClr val="003f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عدم معرفة وقت اللجوء للخبير فيما يتعلق بتوفير بعض البيانات لإستخدامها في مجال محدد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بدأ مراجعة القدرات المعرفية بـ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قييم مخزون المعرفة والذي يمثل الخطوة الأولى في أي استراتيجية فعالة لإدارة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حصول على المعرفة الضمنية بإستخدام تكنولوجيا المعلومات وفرق العمل وفرق النقا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عن الأفراد الذين يعرفون محتويات التغذية العكسية عن العملاء الرئيسيين  والتي تعتبر نقطة الإنطلاق نحو الإبتكارات وتطوير المنتج وتحديث نظم الإنتاج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بحث عن الفرص وتقييم البيانات التي يتم جمعها من حيث الصلة والشكل والطبيعة والصلة الوثيقة بموضوع معين، ودرجة الإستفادة والتكلفة والوقت والدق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550"/>
              </a:spcBef>
              <a:buClr>
                <a:srgbClr val="003f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راجعة التوثيق لتحديد كل الذين يملكون مقداراً وفيراً من مستودعات المعرف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admin</cp:lastModifiedBy>
  <dcterms:modified xsi:type="dcterms:W3CDTF">2011-10-10T15:58:12Z</dcterms:modified>
  <cp:revision>153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