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EEDB0-6ADA-44E9-81DC-15CC2F679A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D106B-6289-466A-A844-D53B596157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B2D18-D32B-4312-B3A2-01940ADC97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B6DCC-F224-40CF-A46A-51FCE10095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FA07A-8833-42DE-8613-9EFA6C7F61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B331F-974E-4DB5-A3C9-0F80668E6F2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DD21E-A9CB-4743-B98D-08C3AFA4C15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F4F4A-E6ED-462D-B989-2F5D5E26AFC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D3903-91B4-433B-BB2A-20ACC04C8DB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E6F3B-97B2-469C-A6A7-8391E4DE2C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D43C7-AE2C-4AB5-98D7-D907DE7313B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A2E38-BBD9-41DC-9098-9E2412810D4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60D07-379D-402C-9013-A5C15452B8A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15242-C645-4C05-9E90-51394AE2B6E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098FD-B883-4BB4-927C-FF2B3650DDC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B5B53-F0A1-4F1A-9EF1-E1CAFCEC090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281C2-0D06-4B10-B19C-7128871AE33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211BC-7CC6-4D04-A055-EBB66EDB331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036FC-4C76-43A8-919F-90410CA5F45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2F434-8732-438F-B7E2-ACA7E6715F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12B12-A7FF-4E14-BD1E-D81ED03223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C6DED-ABBA-49DB-BC78-9C0D4D5DAA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38E2B-5884-46DB-A527-A60D6CB58D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A914C-9ED5-4556-B6EC-1152609967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4914720" y="6377040"/>
            <a:ext cx="57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0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4CEA1-4B64-484F-B047-8F3C68E7F752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51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A23BB-172B-4510-98EA-5E9D262676F2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ccb6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a379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4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03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73876-C9D6-4F3A-91DD-EAFF27B98321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1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0" y="2133720"/>
            <a:ext cx="2666880" cy="144756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7238880" y="2133720"/>
            <a:ext cx="2667240" cy="144756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2"/>
          </p:nvPr>
        </p:nvSpPr>
        <p:spPr>
          <a:xfrm>
            <a:off x="5409720" y="6492960"/>
            <a:ext cx="482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AEE9E-A3D3-40DE-A291-B38D75D39438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af97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55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9"/>
          <p:cNvSpPr/>
          <p:nvPr/>
        </p:nvSpPr>
        <p:spPr>
          <a:xfrm>
            <a:off x="543240" y="6291360"/>
            <a:ext cx="40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م الإ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ل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كتروني والتعل</a:t>
            </a:r>
            <a:r>
              <a:rPr b="1" lang="ar-EG" sz="1600" spc="-1" strike="noStrike">
                <a:solidFill>
                  <a:srgbClr val="ffffff"/>
                </a:solidFill>
                <a:latin typeface="Calibri"/>
              </a:rPr>
              <a:t>ي</a:t>
            </a: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4889520" y="63691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989F6-4043-4299-8E8E-2E95E852D6E8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0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5410080" y="649296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A6FF3-24E0-4BE4-ACE7-EFB16ECCAD99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0" y="0"/>
            <a:ext cx="9906120" cy="3429000"/>
          </a:xfrm>
          <a:prstGeom prst="rect">
            <a:avLst/>
          </a:prstGeom>
          <a:solidFill>
            <a:srgbClr val="ad99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ubtitle 2"/>
          <p:cNvSpPr/>
          <p:nvPr/>
        </p:nvSpPr>
        <p:spPr>
          <a:xfrm>
            <a:off x="5823000" y="4648320"/>
            <a:ext cx="4083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f4d52"/>
                </a:solidFill>
                <a:latin typeface="Calibri"/>
              </a:rPr>
              <a:t>جامعة الملك فيص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f4d52"/>
                </a:solidFill>
                <a:latin typeface="Calibri"/>
              </a:rPr>
              <a:t>عمادة التعلم الإلكتروني والتعليم عن بع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f4d52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7"/>
          <p:cNvGrpSpPr/>
          <p:nvPr/>
        </p:nvGrpSpPr>
        <p:grpSpPr>
          <a:xfrm>
            <a:off x="6494400" y="1981080"/>
            <a:ext cx="2600280" cy="2524320"/>
            <a:chOff x="6494400" y="1981080"/>
            <a:chExt cx="2600280" cy="2524320"/>
          </a:xfrm>
        </p:grpSpPr>
        <p:sp>
          <p:nvSpPr>
            <p:cNvPr id="209" name="Oval 8"/>
            <p:cNvSpPr/>
            <p:nvPr/>
          </p:nvSpPr>
          <p:spPr>
            <a:xfrm>
              <a:off x="6591240" y="2043000"/>
              <a:ext cx="2417760" cy="239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0" name="Picture 2" descr="http://kfu.files.googlepages.com/newKFUlogo.jpg"/>
            <p:cNvPicPr/>
            <p:nvPr/>
          </p:nvPicPr>
          <p:blipFill>
            <a:blip r:embed="rId1"/>
            <a:stretch/>
          </p:blipFill>
          <p:spPr>
            <a:xfrm>
              <a:off x="6494400" y="1981080"/>
              <a:ext cx="2600280" cy="252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1" name="Freeform 10"/>
          <p:cNvSpPr/>
          <p:nvPr/>
        </p:nvSpPr>
        <p:spPr>
          <a:xfrm>
            <a:off x="0" y="2666880"/>
            <a:ext cx="6091200" cy="1447920"/>
          </a:xfrm>
          <a:custGeom>
            <a:avLst/>
            <a:gdLst/>
            <a:ahLst/>
            <a:rect l="l" t="t" r="r" b="b"/>
            <a:pathLst>
              <a:path w="6090557" h="1447800">
                <a:moveTo>
                  <a:pt x="1" y="0"/>
                </a:moveTo>
                <a:lnTo>
                  <a:pt x="5366657" y="0"/>
                </a:lnTo>
                <a:cubicBezTo>
                  <a:pt x="5558647" y="0"/>
                  <a:pt x="5742774" y="76268"/>
                  <a:pt x="5878532" y="212026"/>
                </a:cubicBezTo>
                <a:cubicBezTo>
                  <a:pt x="6014289" y="347784"/>
                  <a:pt x="6090557" y="531911"/>
                  <a:pt x="6090557" y="723901"/>
                </a:cubicBezTo>
                <a:lnTo>
                  <a:pt x="6090557" y="723900"/>
                </a:lnTo>
                <a:cubicBezTo>
                  <a:pt x="6090557" y="915890"/>
                  <a:pt x="6014289" y="1100017"/>
                  <a:pt x="5878531" y="1235775"/>
                </a:cubicBezTo>
                <a:cubicBezTo>
                  <a:pt x="5742773" y="1371533"/>
                  <a:pt x="5558646" y="1447800"/>
                  <a:pt x="5366656" y="1447800"/>
                </a:cubicBezTo>
                <a:lnTo>
                  <a:pt x="0" y="14478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itle 1"/>
          <p:cNvSpPr/>
          <p:nvPr/>
        </p:nvSpPr>
        <p:spPr>
          <a:xfrm>
            <a:off x="457200" y="2971800"/>
            <a:ext cx="50990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756525"/>
                </a:solidFill>
                <a:latin typeface="AYM Wadiy S_U normal."/>
                <a:cs typeface="PT Bold Heading"/>
              </a:rPr>
              <a:t>اسم المقرر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756525"/>
                </a:solidFill>
                <a:latin typeface="AYM Wadiy S_U normal."/>
                <a:cs typeface="PT Bold Heading"/>
              </a:rPr>
              <a:t>إدارة المعرفة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7f7f7f"/>
                </a:solidFill>
                <a:latin typeface="Calibri"/>
                <a:cs typeface="PT Bold Heading"/>
              </a:rPr>
              <a:t>اسم المدر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7f7f7f"/>
                </a:solidFill>
                <a:latin typeface="Calibri"/>
                <a:cs typeface="PT Bold Heading"/>
              </a:rPr>
              <a:t>د. محمد الجيزاوي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10"/>
          <p:cNvSpPr/>
          <p:nvPr/>
        </p:nvSpPr>
        <p:spPr>
          <a:xfrm>
            <a:off x="380880" y="640548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F4413-A2A0-4434-B157-B1FCFB976AB1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af9738"/>
                </a:solidFill>
                <a:latin typeface="Calibri"/>
                <a:cs typeface="PT Bold Heading"/>
              </a:rPr>
              <a:t>شكل يبين مصفوفة فارغ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495360" y="1905120"/>
          <a:ext cx="8915400" cy="3504960"/>
        </p:xfrm>
        <a:graphic>
          <a:graphicData uri="http://schemas.openxmlformats.org/drawingml/2006/table">
            <a:tbl>
              <a:tblPr/>
              <a:tblGrid>
                <a:gridCol w="2582640"/>
                <a:gridCol w="2652840"/>
                <a:gridCol w="3679920"/>
              </a:tblGrid>
              <a:tr h="1556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4000" spc="-1" strike="noStrike">
                          <a:solidFill>
                            <a:srgbClr val="ff0000"/>
                          </a:solidFill>
                          <a:latin typeface="Calibri"/>
                          <a:cs typeface="PT Bold Heading"/>
                        </a:rPr>
                        <a:t>المجالات الوظيفية لحاملي المعرفة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ffffff"/>
                          </a:solidFill>
                          <a:latin typeface="Calibri"/>
                          <a:cs typeface="PT Bold Heading"/>
                        </a:rPr>
                        <a:t>المنظم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ffffff"/>
                          </a:solidFill>
                          <a:latin typeface="Calibri"/>
                          <a:ea typeface="PT Bold Heading"/>
                        </a:rPr>
                        <a:t>(وحدة تنظيمية رقم </a:t>
                      </a:r>
                      <a:r>
                        <a:rPr b="1" lang="ar-SA" sz="3200" spc="-1" strike="noStrike">
                          <a:solidFill>
                            <a:srgbClr val="ffffff"/>
                          </a:solidFill>
                          <a:latin typeface="Calibri"/>
                          <a:ea typeface="PT Bold Heading"/>
                        </a:rPr>
                        <a:t>1</a:t>
                      </a:r>
                      <a:r>
                        <a:rPr b="1" lang="ar-SA" sz="3200" spc="-1" strike="noStrike">
                          <a:solidFill>
                            <a:srgbClr val="ffffff"/>
                          </a:solidFill>
                          <a:latin typeface="Calibri"/>
                          <a:ea typeface="PT Bold Heading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مجال الوظيفي الثان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مجال الوظيفي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أو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4000" spc="-1" strike="noStrike">
                          <a:solidFill>
                            <a:srgbClr val="ff0000"/>
                          </a:solidFill>
                          <a:latin typeface="Calibri"/>
                          <a:cs typeface="PT Bold Heading"/>
                        </a:rPr>
                        <a:t>المجال المعرفي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-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-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مجال معرفي رقم 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-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-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مجال معرفي رقم 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-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-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مجال معرفي رقم 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  <p:sp>
        <p:nvSpPr>
          <p:cNvPr id="248" name="Slide Number Placeholder 3"/>
          <p:cNvSpPr/>
          <p:nvPr/>
        </p:nvSpPr>
        <p:spPr>
          <a:xfrm>
            <a:off x="9423360" y="63565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69DB6-A04C-4EAD-8887-BFED6EEA40E0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af9738"/>
                </a:solidFill>
                <a:latin typeface="Calibri"/>
                <a:cs typeface="PT Bold Heading"/>
              </a:rPr>
              <a:t>مثال تطبيقي على: وظيفة سك العملة</a:t>
            </a:r>
            <a:r>
              <a:rPr b="0" lang="ar-SA" sz="4400" spc="-1" strike="noStrike">
                <a:solidFill>
                  <a:srgbClr val="af9738"/>
                </a:solidFill>
                <a:latin typeface="Calibri"/>
                <a:ea typeface="PT Bold Heading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228600" y="1087560"/>
          <a:ext cx="9310680" cy="4703760"/>
        </p:xfrm>
        <a:graphic>
          <a:graphicData uri="http://schemas.openxmlformats.org/drawingml/2006/table">
            <a:tbl>
              <a:tblPr/>
              <a:tblGrid>
                <a:gridCol w="957240"/>
                <a:gridCol w="766800"/>
                <a:gridCol w="779400"/>
                <a:gridCol w="766800"/>
                <a:gridCol w="777960"/>
                <a:gridCol w="836640"/>
                <a:gridCol w="779400"/>
                <a:gridCol w="836640"/>
                <a:gridCol w="777960"/>
                <a:gridCol w="838080"/>
                <a:gridCol w="1193760"/>
              </a:tblGrid>
              <a:tr h="578520">
                <a:tc gridSpan="2"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حسن (م أسطوان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علي ( مدرب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محمود ( مدرب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محمد ( م المدير 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أحمد ( المدير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مجال الوظيف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مرغو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فعل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مرغو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فعل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مرغو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فعل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مرغو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فعل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مرغو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فعل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مجال المعرف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be3c2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علم المعاد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be3c2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أسطوان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be3c2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فر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be3c2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طلا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be3c2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تروس الطلا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be3c2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معاير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be3c2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تبريد الخام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be3c2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مجمو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متوس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be3c2"/>
                    </a:solidFill>
                  </a:tcPr>
                </a:tc>
              </a:tr>
              <a:tr h="518040">
                <a:tc gridSpan="2"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.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.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متوسط الفجو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756525"/>
                    </a:solidFill>
                  </a:tcPr>
                </a:tc>
              </a:tr>
            </a:tbl>
          </a:graphicData>
        </a:graphic>
      </p:graphicFrame>
      <p:sp>
        <p:nvSpPr>
          <p:cNvPr id="251" name="عنوان 3"/>
          <p:cNvSpPr/>
          <p:nvPr/>
        </p:nvSpPr>
        <p:spPr>
          <a:xfrm>
            <a:off x="1219320" y="5715000"/>
            <a:ext cx="7315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af9738"/>
                </a:solidFill>
                <a:latin typeface="Calibri"/>
                <a:cs typeface="PT Bold Heading"/>
              </a:rPr>
              <a:t>المتوسط العام للمستوى الفعلي = </a:t>
            </a:r>
            <a:r>
              <a:rPr b="0" lang="ar-SA" sz="1800" spc="-1" strike="noStrike">
                <a:solidFill>
                  <a:srgbClr val="af9738"/>
                </a:solidFill>
                <a:latin typeface="Calibri"/>
                <a:ea typeface="PT Bold Heading"/>
              </a:rPr>
              <a:t>24.12</a:t>
            </a:r>
            <a:r>
              <a:rPr b="0" lang="ar-SA" sz="1800" spc="-1" strike="noStrike">
                <a:solidFill>
                  <a:srgbClr val="af9738"/>
                </a:solidFill>
                <a:latin typeface="Calibri"/>
                <a:ea typeface="PT Bold Heading"/>
              </a:rPr>
              <a:t>   </a:t>
            </a:r>
            <a:r>
              <a:rPr b="0" lang="ar-SA" sz="1800" spc="-1" strike="noStrike">
                <a:solidFill>
                  <a:srgbClr val="af9738"/>
                </a:solidFill>
                <a:latin typeface="Arial"/>
                <a:cs typeface="PT Bold Heading"/>
              </a:rPr>
              <a:t>المتوسط العام للمستوى المرغوب = </a:t>
            </a:r>
            <a:r>
              <a:rPr b="0" lang="ar-SA" sz="1800" spc="-1" strike="noStrike">
                <a:solidFill>
                  <a:srgbClr val="af9738"/>
                </a:solidFill>
                <a:latin typeface="Arial"/>
                <a:ea typeface="PT Bold Heading"/>
              </a:rPr>
              <a:t>31.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فجوة المعرفة = </a:t>
            </a:r>
            <a:r>
              <a:rPr b="0" lang="ar-SA" sz="32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24.12</a:t>
            </a:r>
            <a:r>
              <a:rPr b="0" lang="ar-SA" sz="32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- </a:t>
            </a:r>
            <a:r>
              <a:rPr b="0" lang="ar-SA" sz="32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31.26</a:t>
            </a:r>
            <a:r>
              <a:rPr b="0" lang="ar-SA" sz="32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= - </a:t>
            </a:r>
            <a:r>
              <a:rPr b="0" lang="ar-SA" sz="32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7.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                  </a:t>
            </a:r>
            <a:r>
              <a:rPr b="0" lang="ar-SA" sz="32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= -0.43- 1.14 – 1.85 – 2.43 – 1.29= -7.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                                                                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فجوة المعرف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            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متوسط الفجوة المعرفية = ـــــــــــــــــــــــــــــــــ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                                                        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عدد المجالات المعرفية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                                                               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- 7.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          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متوسط الفجوة المعرفية = ـــــــــــــــــــــــــ = - 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1.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                                                                   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7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495000" y="15238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ويتم الحصول على أرقام المصفوفة من خلال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37609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يحدد حاملي المعرفة المستويات الحالية من المعرفة لكل مجال معرفي وذلك لكل زميل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37609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تعقد جلسات جماعية للمناقشة بين العاملين ليعرض كل فرد رأيه في المقادير، ويمكن استخدام طريقة الاختبار العشوائي للتأكد من المقادي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37609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وبنفس الطريقة التي تم تحديد المستويات الحالية للمعرفة يتم تحديد المستويات المرغوب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500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af9738"/>
                </a:solidFill>
                <a:latin typeface="Calibri"/>
                <a:cs typeface="PT Bold Heading"/>
              </a:rPr>
              <a:t>توضح مصفوفة المعرفة ثلاثة عناصر يمكن قياسها بصورة كمية بالمنظمة هي</a:t>
            </a:r>
            <a:r>
              <a:rPr b="0" lang="ar-SA" sz="4400" spc="-1" strike="noStrike">
                <a:solidFill>
                  <a:srgbClr val="af9738"/>
                </a:solidFill>
                <a:latin typeface="Calibri"/>
                <a:ea typeface="PT Bold Heading"/>
              </a:rPr>
              <a:t>: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228240" y="13716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78080" indent="-478080" algn="r" rtl="1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e_AlMatee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مستوى الطموح لكل مجال وظيفي لكل عامل. فيحدد كل عام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0320" indent="-478080" algn="r" rtl="1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e_AlMatee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احتياجات التدريس والتعلم لكل عضو بالمنظم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0320" indent="-478080" algn="r" rtl="1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e_AlMatee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إن يكون لكل عضو بالمنظمة برنامج لتطوير موهبته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0320" indent="-478080" algn="r" rtl="1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e_AlMatee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تحديد مستوى الطموح ككل ، وفجوة المعرفة في المجال الوظيفي المحدد عن طريق متوسط المقادير لكل العاملين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 algn="r" rtl="1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e_AlMatee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متوسط فجوة المعرفة لكل مجال معرف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 algn="r" rtl="1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e_AlMatee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تغطية الطموح المعرفي. وهو مؤشر للأداء يقيس إلى أي مدى تقابل الوظيفة مستوى الطموح، وهنا ثلاث احتمالات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0320" indent="-478080" algn="r" rtl="1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e_AlMatee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المستوى الحالي &gt; المستوى المرغوب وهنا لا توجد فجوة للمعرف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0320" indent="-478080" algn="r" rtl="1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e_AlMatee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المستوى الحالي = المستوى المرغوب : وهنا الفجوة صف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0320" indent="-478080" algn="r" rtl="1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e_AlMatee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المستوى الحالي &lt; المستوى المرغوب، والفرق يمثل فجوة المعرفة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af9738"/>
                </a:solidFill>
                <a:latin typeface="Calibri"/>
                <a:cs typeface="PT Bold Heading"/>
              </a:rPr>
              <a:t>معادلة تغطية الطموح المعرفي ( ت ط م )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53d75"/>
                </a:solidFill>
                <a:latin typeface="Calibri"/>
                <a:ea typeface="PT Bold Heading"/>
              </a:rPr>
              <a:t>                                                     </a:t>
            </a:r>
            <a:r>
              <a:rPr b="0" lang="ar-SA" sz="2400" spc="-1" strike="noStrike">
                <a:solidFill>
                  <a:srgbClr val="253d75"/>
                </a:solidFill>
                <a:latin typeface="Calibri"/>
                <a:cs typeface="PT Bold Heading"/>
              </a:rPr>
              <a:t>متوسط فجوة المعرف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253d75"/>
                </a:solidFill>
                <a:latin typeface="Calibri"/>
                <a:cs typeface="PT Bold Heading"/>
              </a:rPr>
              <a:t>تغطية الطموح المعرفي =   </a:t>
            </a:r>
            <a:r>
              <a:rPr b="0" lang="ar-SA" sz="3200" spc="-1" strike="noStrike">
                <a:solidFill>
                  <a:srgbClr val="253d75"/>
                </a:solidFill>
                <a:latin typeface="Calibri"/>
                <a:ea typeface="PT Bold Heading"/>
              </a:rPr>
              <a:t>1</a:t>
            </a:r>
            <a:r>
              <a:rPr b="0" lang="ar-SA" sz="3200" spc="-1" strike="noStrike">
                <a:solidFill>
                  <a:srgbClr val="253d75"/>
                </a:solidFill>
                <a:latin typeface="Calibri"/>
                <a:ea typeface="PT Bold Heading"/>
              </a:rPr>
              <a:t>+ ( ـــــــــــــــــــــ )   </a:t>
            </a:r>
            <a:r>
              <a:rPr b="0" lang="ar-SA" sz="3200" spc="-1" strike="noStrike">
                <a:solidFill>
                  <a:srgbClr val="253d75"/>
                </a:solidFill>
                <a:latin typeface="Calibri"/>
              </a:rPr>
              <a:t>×</a:t>
            </a:r>
            <a:r>
              <a:rPr b="0" lang="ar-SA" sz="3200" spc="-1" strike="noStrike">
                <a:solidFill>
                  <a:srgbClr val="253d75"/>
                </a:solidFill>
                <a:latin typeface="Calibri"/>
                <a:ea typeface="PT Bold Heading"/>
              </a:rPr>
              <a:t> </a:t>
            </a:r>
            <a:r>
              <a:rPr b="0" lang="ar-SA" sz="3200" spc="-1" strike="noStrike">
                <a:solidFill>
                  <a:srgbClr val="253d75"/>
                </a:solidFill>
                <a:latin typeface="Calibri"/>
                <a:ea typeface="PT Bold Heading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3d75"/>
                </a:solidFill>
                <a:latin typeface="Calibri"/>
                <a:ea typeface="PT Bold Heading"/>
              </a:rPr>
              <a:t>        </a:t>
            </a:r>
            <a:r>
              <a:rPr b="0" lang="ar-SA" sz="3200" spc="-1" strike="noStrike">
                <a:solidFill>
                  <a:srgbClr val="253d75"/>
                </a:solidFill>
                <a:latin typeface="Calibri"/>
                <a:ea typeface="PT Bold Heading"/>
              </a:rPr>
              <a:t>                                              </a:t>
            </a:r>
            <a:r>
              <a:rPr b="0" lang="ar-SA" sz="2000" spc="-1" strike="noStrike">
                <a:solidFill>
                  <a:srgbClr val="253d75"/>
                </a:solidFill>
                <a:latin typeface="Calibri"/>
                <a:cs typeface="PT Bold Heading"/>
              </a:rPr>
              <a:t>متوسط مستوى الطمو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53d75"/>
                </a:solidFill>
                <a:latin typeface="Calibri"/>
                <a:cs typeface="PT Bold Heading"/>
              </a:rPr>
              <a:t>وهناك نميز بين اثنين من تغطية الطموح المعرفي هما</a:t>
            </a:r>
            <a:r>
              <a:rPr b="0" lang="ar-SA" sz="2400" spc="-1" strike="noStrike">
                <a:solidFill>
                  <a:srgbClr val="253d75"/>
                </a:solidFill>
                <a:latin typeface="Calibri"/>
                <a:ea typeface="PT Bold Heading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53d75"/>
                </a:solidFill>
                <a:latin typeface="Calibri"/>
                <a:ea typeface="PT Bold Heading"/>
              </a:rPr>
              <a:t>1- </a:t>
            </a:r>
            <a:r>
              <a:rPr b="0" lang="ar-SA" sz="2400" spc="-1" strike="noStrike">
                <a:solidFill>
                  <a:srgbClr val="253d75"/>
                </a:solidFill>
                <a:latin typeface="Calibri"/>
                <a:cs typeface="PT Bold Heading"/>
              </a:rPr>
              <a:t>الأداء الكلي للإدارة.  ونستخدم فيه كل فجوات المعرفة ( عادةً ما تكون صفر أو</a:t>
            </a:r>
            <a:r>
              <a:rPr b="0" lang="ar-SA" sz="2400" spc="-1" strike="noStrike">
                <a:solidFill>
                  <a:srgbClr val="253d75"/>
                </a:solidFill>
                <a:latin typeface="Calibri"/>
                <a:ea typeface="PT Bold Heading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53d75"/>
                </a:solidFill>
                <a:latin typeface="Calibri"/>
                <a:cs typeface="PT Bold Heading"/>
              </a:rPr>
              <a:t>اقل) ونستخدم فيه أيضاً كل مستويات المعرفة</a:t>
            </a:r>
            <a:r>
              <a:rPr b="0" lang="ar-SA" sz="2400" spc="-1" strike="noStrike">
                <a:solidFill>
                  <a:srgbClr val="253d75"/>
                </a:solidFill>
                <a:latin typeface="Calibri"/>
                <a:ea typeface="PT Bold Headin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53d75"/>
                </a:solidFill>
                <a:latin typeface="Calibri"/>
                <a:ea typeface="PT Bold Heading"/>
              </a:rPr>
              <a:t>2- </a:t>
            </a:r>
            <a:r>
              <a:rPr b="0" lang="ar-SA" sz="2400" spc="-1" strike="noStrike">
                <a:solidFill>
                  <a:srgbClr val="253d75"/>
                </a:solidFill>
                <a:latin typeface="Calibri"/>
                <a:cs typeface="PT Bold Heading"/>
              </a:rPr>
              <a:t>نستخدم تغطية الطموح المعرفي فقط في أحد المجالات فقط إن كان فيها فجوة</a:t>
            </a:r>
            <a:r>
              <a:rPr b="0" lang="ar-SA" sz="2400" spc="-1" strike="noStrike">
                <a:solidFill>
                  <a:srgbClr val="253d75"/>
                </a:solidFill>
                <a:latin typeface="Calibri"/>
                <a:ea typeface="PT Bold Headin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قوس متوسط أيمن 5"/>
          <p:cNvSpPr/>
          <p:nvPr/>
        </p:nvSpPr>
        <p:spPr>
          <a:xfrm>
            <a:off x="5334120" y="1676520"/>
            <a:ext cx="457200" cy="1676160"/>
          </a:xfrm>
          <a:custGeom>
            <a:avLst/>
            <a:gdLst>
              <a:gd name="textAreaLeft" fmla="*/ 0 w 457200"/>
              <a:gd name="textAreaRight" fmla="*/ 320760 w 457200"/>
              <a:gd name="textAreaTop" fmla="*/ 18720 h 1676160"/>
              <a:gd name="textAreaBottom" fmla="*/ 165744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46"/>
                  <a:pt x="21600" y="491"/>
                </a:cubicBezTo>
                <a:lnTo>
                  <a:pt x="21600" y="21109"/>
                </a:lnTo>
                <a:cubicBezTo>
                  <a:pt x="21600" y="21355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قوس متوسط أيسر 6"/>
          <p:cNvSpPr/>
          <p:nvPr/>
        </p:nvSpPr>
        <p:spPr>
          <a:xfrm>
            <a:off x="2209680" y="1676520"/>
            <a:ext cx="381240" cy="1600200"/>
          </a:xfrm>
          <a:custGeom>
            <a:avLst/>
            <a:gdLst>
              <a:gd name="textAreaLeft" fmla="*/ 111960 w 381240"/>
              <a:gd name="textAreaRight" fmla="*/ 381600 w 381240"/>
              <a:gd name="textAreaTop" fmla="*/ 15840 h 1600200"/>
              <a:gd name="textAreaBottom" fmla="*/ 158436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15"/>
                  <a:pt x="0" y="429"/>
                </a:cubicBezTo>
                <a:lnTo>
                  <a:pt x="0" y="21171"/>
                </a:lnTo>
                <a:cubicBezTo>
                  <a:pt x="0" y="21386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af9738"/>
                </a:solidFill>
                <a:latin typeface="Calibri"/>
                <a:cs typeface="PT Bold Heading"/>
              </a:rPr>
              <a:t>تطبيق على مثال سك العمل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PT Bold Heading"/>
              </a:rPr>
              <a:t>تغطية الطموح المعرفي للمجال الأول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PT Bold Heading"/>
              </a:rPr>
              <a:t>ت ط م (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1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) = {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1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+(-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4.57/0.43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)}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×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=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90.59%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 من مستوى الطموح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4.5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PT Bold Heading"/>
              </a:rPr>
              <a:t>تغطية الطموح للمجال الثان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PT Bold Heading"/>
              </a:rPr>
              <a:t>ت ط م (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2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) = {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1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+(-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6.28/1.14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)}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×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81.84%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 في مستوى الطموح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6.2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PT Bold Heading"/>
              </a:rPr>
              <a:t>وهكذا بقية المجالات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PT Bold Heading"/>
              </a:rPr>
              <a:t>تغطية الطموح المعرفي في الأداء الكلي للإدار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PT Bold Heading"/>
              </a:rPr>
              <a:t>ت ط م للأداء الكلي = {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1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+(-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6.25/1.02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)}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×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=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83.68%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 في مستوى الطموح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PT Bold Heading"/>
              </a:rPr>
              <a:t>6.2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161AD-18F0-42C6-902B-1EC394DDA21C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عنوان 1"/>
          <p:cNvSpPr/>
          <p:nvPr/>
        </p:nvSpPr>
        <p:spPr>
          <a:xfrm>
            <a:off x="838080" y="549360"/>
            <a:ext cx="85345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عنصر نائب للمحتوى 2"/>
          <p:cNvSpPr/>
          <p:nvPr/>
        </p:nvSpPr>
        <p:spPr>
          <a:xfrm>
            <a:off x="1020600" y="14479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 rtl="1">
              <a:lnSpc>
                <a:spcPct val="100000"/>
              </a:lnSpc>
              <a:spcBef>
                <a:spcPts val="75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itle 1"/>
          <p:cNvSpPr/>
          <p:nvPr/>
        </p:nvSpPr>
        <p:spPr>
          <a:xfrm>
            <a:off x="838080" y="120600"/>
            <a:ext cx="853452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5960" y="2971440"/>
            <a:ext cx="967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4f4d52"/>
                </a:solidFill>
                <a:latin typeface="Calibri"/>
                <a:cs typeface="PT Bold Heading"/>
              </a:rPr>
              <a:t>مع تمنياتي للجميع بالنجاح والتوفيق</a:t>
            </a:r>
            <a:endParaRPr b="0" lang="en-US" sz="60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Group 5" descr=""/>
          <p:cNvPicPr/>
          <p:nvPr/>
        </p:nvPicPr>
        <p:blipFill>
          <a:blip r:embed="rId1"/>
          <a:stretch/>
        </p:blipFill>
        <p:spPr>
          <a:xfrm>
            <a:off x="6377040" y="1889280"/>
            <a:ext cx="2786040" cy="270648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8"/>
          <p:cNvSpPr/>
          <p:nvPr/>
        </p:nvSpPr>
        <p:spPr>
          <a:xfrm>
            <a:off x="3429000" y="3352680"/>
            <a:ext cx="2819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7200" spc="-1" strike="noStrike">
                <a:solidFill>
                  <a:srgbClr val="ffffff"/>
                </a:solidFill>
                <a:latin typeface="Calibri"/>
              </a:rPr>
              <a:t>بحمد الل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reeform 6"/>
          <p:cNvSpPr/>
          <p:nvPr/>
        </p:nvSpPr>
        <p:spPr>
          <a:xfrm>
            <a:off x="3429000" y="2209680"/>
            <a:ext cx="2689200" cy="1236960"/>
          </a:xfrm>
          <a:custGeom>
            <a:avLst/>
            <a:gdLst>
              <a:gd name="textAreaLeft" fmla="*/ 0 w 2689200"/>
              <a:gd name="textAreaRight" fmla="*/ 2689560 w 2689200"/>
              <a:gd name="textAreaTop" fmla="*/ 0 h 1236960"/>
              <a:gd name="textAreaBottom" fmla="*/ 1237320 h 1236960"/>
            </a:gdLst>
            <a:ahLst/>
            <a:rect l="textAreaLeft" t="textAreaTop" r="textAreaRight" b="textAreaBottom"/>
            <a:pathLst>
              <a:path w="1687" h="775">
                <a:moveTo>
                  <a:pt x="1374" y="74"/>
                </a:moveTo>
                <a:lnTo>
                  <a:pt x="1308" y="141"/>
                </a:lnTo>
                <a:lnTo>
                  <a:pt x="1248" y="80"/>
                </a:lnTo>
                <a:lnTo>
                  <a:pt x="1177" y="152"/>
                </a:lnTo>
                <a:lnTo>
                  <a:pt x="1100" y="75"/>
                </a:lnTo>
                <a:lnTo>
                  <a:pt x="1169" y="8"/>
                </a:lnTo>
                <a:lnTo>
                  <a:pt x="1229" y="68"/>
                </a:lnTo>
                <a:lnTo>
                  <a:pt x="1298" y="0"/>
                </a:lnTo>
                <a:lnTo>
                  <a:pt x="1374" y="74"/>
                </a:lnTo>
                <a:close/>
                <a:moveTo>
                  <a:pt x="1687" y="612"/>
                </a:moveTo>
                <a:lnTo>
                  <a:pt x="1686" y="635"/>
                </a:lnTo>
                <a:lnTo>
                  <a:pt x="1683" y="657"/>
                </a:lnTo>
                <a:lnTo>
                  <a:pt x="1677" y="678"/>
                </a:lnTo>
                <a:lnTo>
                  <a:pt x="1669" y="698"/>
                </a:lnTo>
                <a:lnTo>
                  <a:pt x="1656" y="723"/>
                </a:lnTo>
                <a:lnTo>
                  <a:pt x="1649" y="731"/>
                </a:lnTo>
                <a:lnTo>
                  <a:pt x="1641" y="739"/>
                </a:lnTo>
                <a:lnTo>
                  <a:pt x="1633" y="745"/>
                </a:lnTo>
                <a:lnTo>
                  <a:pt x="1623" y="750"/>
                </a:lnTo>
                <a:lnTo>
                  <a:pt x="1603" y="753"/>
                </a:lnTo>
                <a:lnTo>
                  <a:pt x="1583" y="751"/>
                </a:lnTo>
                <a:lnTo>
                  <a:pt x="1561" y="743"/>
                </a:lnTo>
                <a:lnTo>
                  <a:pt x="1542" y="731"/>
                </a:lnTo>
                <a:lnTo>
                  <a:pt x="1523" y="715"/>
                </a:lnTo>
                <a:lnTo>
                  <a:pt x="1504" y="695"/>
                </a:lnTo>
                <a:lnTo>
                  <a:pt x="1488" y="672"/>
                </a:lnTo>
                <a:lnTo>
                  <a:pt x="1474" y="646"/>
                </a:lnTo>
                <a:lnTo>
                  <a:pt x="1462" y="619"/>
                </a:lnTo>
                <a:lnTo>
                  <a:pt x="1425" y="640"/>
                </a:lnTo>
                <a:lnTo>
                  <a:pt x="1387" y="660"/>
                </a:lnTo>
                <a:lnTo>
                  <a:pt x="1346" y="678"/>
                </a:lnTo>
                <a:lnTo>
                  <a:pt x="1305" y="694"/>
                </a:lnTo>
                <a:lnTo>
                  <a:pt x="1251" y="710"/>
                </a:lnTo>
                <a:lnTo>
                  <a:pt x="1198" y="722"/>
                </a:lnTo>
                <a:lnTo>
                  <a:pt x="1146" y="729"/>
                </a:lnTo>
                <a:lnTo>
                  <a:pt x="1095" y="731"/>
                </a:lnTo>
                <a:lnTo>
                  <a:pt x="1060" y="728"/>
                </a:lnTo>
                <a:lnTo>
                  <a:pt x="1025" y="719"/>
                </a:lnTo>
                <a:lnTo>
                  <a:pt x="1008" y="711"/>
                </a:lnTo>
                <a:lnTo>
                  <a:pt x="991" y="702"/>
                </a:lnTo>
                <a:lnTo>
                  <a:pt x="974" y="691"/>
                </a:lnTo>
                <a:lnTo>
                  <a:pt x="957" y="678"/>
                </a:lnTo>
                <a:lnTo>
                  <a:pt x="929" y="653"/>
                </a:lnTo>
                <a:lnTo>
                  <a:pt x="908" y="627"/>
                </a:lnTo>
                <a:lnTo>
                  <a:pt x="900" y="615"/>
                </a:lnTo>
                <a:lnTo>
                  <a:pt x="895" y="603"/>
                </a:lnTo>
                <a:lnTo>
                  <a:pt x="889" y="577"/>
                </a:lnTo>
                <a:lnTo>
                  <a:pt x="780" y="628"/>
                </a:lnTo>
                <a:lnTo>
                  <a:pt x="659" y="683"/>
                </a:lnTo>
                <a:lnTo>
                  <a:pt x="603" y="706"/>
                </a:lnTo>
                <a:lnTo>
                  <a:pt x="552" y="724"/>
                </a:lnTo>
                <a:lnTo>
                  <a:pt x="481" y="746"/>
                </a:lnTo>
                <a:lnTo>
                  <a:pt x="415" y="762"/>
                </a:lnTo>
                <a:lnTo>
                  <a:pt x="355" y="772"/>
                </a:lnTo>
                <a:lnTo>
                  <a:pt x="302" y="775"/>
                </a:lnTo>
                <a:lnTo>
                  <a:pt x="268" y="774"/>
                </a:lnTo>
                <a:lnTo>
                  <a:pt x="236" y="772"/>
                </a:lnTo>
                <a:lnTo>
                  <a:pt x="206" y="769"/>
                </a:lnTo>
                <a:lnTo>
                  <a:pt x="178" y="764"/>
                </a:lnTo>
                <a:lnTo>
                  <a:pt x="153" y="758"/>
                </a:lnTo>
                <a:lnTo>
                  <a:pt x="129" y="751"/>
                </a:lnTo>
                <a:lnTo>
                  <a:pt x="107" y="741"/>
                </a:lnTo>
                <a:lnTo>
                  <a:pt x="88" y="731"/>
                </a:lnTo>
                <a:lnTo>
                  <a:pt x="68" y="717"/>
                </a:lnTo>
                <a:lnTo>
                  <a:pt x="50" y="701"/>
                </a:lnTo>
                <a:lnTo>
                  <a:pt x="35" y="681"/>
                </a:lnTo>
                <a:lnTo>
                  <a:pt x="22" y="661"/>
                </a:lnTo>
                <a:lnTo>
                  <a:pt x="12" y="639"/>
                </a:lnTo>
                <a:lnTo>
                  <a:pt x="8" y="626"/>
                </a:lnTo>
                <a:lnTo>
                  <a:pt x="5" y="613"/>
                </a:lnTo>
                <a:lnTo>
                  <a:pt x="1" y="587"/>
                </a:lnTo>
                <a:lnTo>
                  <a:pt x="0" y="558"/>
                </a:lnTo>
                <a:lnTo>
                  <a:pt x="2" y="523"/>
                </a:lnTo>
                <a:lnTo>
                  <a:pt x="6" y="491"/>
                </a:lnTo>
                <a:lnTo>
                  <a:pt x="13" y="459"/>
                </a:lnTo>
                <a:lnTo>
                  <a:pt x="23" y="428"/>
                </a:lnTo>
                <a:lnTo>
                  <a:pt x="34" y="407"/>
                </a:lnTo>
                <a:lnTo>
                  <a:pt x="48" y="381"/>
                </a:lnTo>
                <a:lnTo>
                  <a:pt x="66" y="379"/>
                </a:lnTo>
                <a:lnTo>
                  <a:pt x="52" y="411"/>
                </a:lnTo>
                <a:lnTo>
                  <a:pt x="45" y="432"/>
                </a:lnTo>
                <a:lnTo>
                  <a:pt x="41" y="455"/>
                </a:lnTo>
                <a:lnTo>
                  <a:pt x="38" y="478"/>
                </a:lnTo>
                <a:lnTo>
                  <a:pt x="37" y="502"/>
                </a:lnTo>
                <a:lnTo>
                  <a:pt x="38" y="522"/>
                </a:lnTo>
                <a:lnTo>
                  <a:pt x="42" y="540"/>
                </a:lnTo>
                <a:lnTo>
                  <a:pt x="47" y="557"/>
                </a:lnTo>
                <a:lnTo>
                  <a:pt x="55" y="573"/>
                </a:lnTo>
                <a:lnTo>
                  <a:pt x="66" y="588"/>
                </a:lnTo>
                <a:lnTo>
                  <a:pt x="78" y="603"/>
                </a:lnTo>
                <a:lnTo>
                  <a:pt x="93" y="616"/>
                </a:lnTo>
                <a:lnTo>
                  <a:pt x="110" y="629"/>
                </a:lnTo>
                <a:lnTo>
                  <a:pt x="128" y="641"/>
                </a:lnTo>
                <a:lnTo>
                  <a:pt x="149" y="650"/>
                </a:lnTo>
                <a:lnTo>
                  <a:pt x="171" y="659"/>
                </a:lnTo>
                <a:lnTo>
                  <a:pt x="183" y="662"/>
                </a:lnTo>
                <a:lnTo>
                  <a:pt x="194" y="665"/>
                </a:lnTo>
                <a:lnTo>
                  <a:pt x="220" y="671"/>
                </a:lnTo>
                <a:lnTo>
                  <a:pt x="245" y="675"/>
                </a:lnTo>
                <a:lnTo>
                  <a:pt x="274" y="677"/>
                </a:lnTo>
                <a:lnTo>
                  <a:pt x="304" y="678"/>
                </a:lnTo>
                <a:lnTo>
                  <a:pt x="352" y="676"/>
                </a:lnTo>
                <a:lnTo>
                  <a:pt x="379" y="673"/>
                </a:lnTo>
                <a:lnTo>
                  <a:pt x="405" y="669"/>
                </a:lnTo>
                <a:lnTo>
                  <a:pt x="462" y="657"/>
                </a:lnTo>
                <a:lnTo>
                  <a:pt x="522" y="641"/>
                </a:lnTo>
                <a:lnTo>
                  <a:pt x="571" y="625"/>
                </a:lnTo>
                <a:lnTo>
                  <a:pt x="623" y="606"/>
                </a:lnTo>
                <a:lnTo>
                  <a:pt x="738" y="559"/>
                </a:lnTo>
                <a:lnTo>
                  <a:pt x="923" y="476"/>
                </a:lnTo>
                <a:lnTo>
                  <a:pt x="927" y="494"/>
                </a:lnTo>
                <a:lnTo>
                  <a:pt x="932" y="512"/>
                </a:lnTo>
                <a:lnTo>
                  <a:pt x="940" y="529"/>
                </a:lnTo>
                <a:lnTo>
                  <a:pt x="949" y="545"/>
                </a:lnTo>
                <a:lnTo>
                  <a:pt x="961" y="561"/>
                </a:lnTo>
                <a:lnTo>
                  <a:pt x="975" y="575"/>
                </a:lnTo>
                <a:lnTo>
                  <a:pt x="990" y="588"/>
                </a:lnTo>
                <a:lnTo>
                  <a:pt x="1007" y="600"/>
                </a:lnTo>
                <a:lnTo>
                  <a:pt x="1035" y="617"/>
                </a:lnTo>
                <a:lnTo>
                  <a:pt x="1049" y="624"/>
                </a:lnTo>
                <a:lnTo>
                  <a:pt x="1064" y="629"/>
                </a:lnTo>
                <a:lnTo>
                  <a:pt x="1092" y="637"/>
                </a:lnTo>
                <a:lnTo>
                  <a:pt x="1106" y="639"/>
                </a:lnTo>
                <a:lnTo>
                  <a:pt x="1120" y="639"/>
                </a:lnTo>
                <a:lnTo>
                  <a:pt x="1164" y="638"/>
                </a:lnTo>
                <a:lnTo>
                  <a:pt x="1210" y="631"/>
                </a:lnTo>
                <a:lnTo>
                  <a:pt x="1256" y="622"/>
                </a:lnTo>
                <a:lnTo>
                  <a:pt x="1304" y="608"/>
                </a:lnTo>
                <a:lnTo>
                  <a:pt x="1343" y="593"/>
                </a:lnTo>
                <a:lnTo>
                  <a:pt x="1379" y="578"/>
                </a:lnTo>
                <a:lnTo>
                  <a:pt x="1411" y="561"/>
                </a:lnTo>
                <a:lnTo>
                  <a:pt x="1439" y="543"/>
                </a:lnTo>
                <a:lnTo>
                  <a:pt x="1429" y="509"/>
                </a:lnTo>
                <a:lnTo>
                  <a:pt x="1415" y="445"/>
                </a:lnTo>
                <a:lnTo>
                  <a:pt x="1409" y="413"/>
                </a:lnTo>
                <a:lnTo>
                  <a:pt x="1406" y="365"/>
                </a:lnTo>
                <a:lnTo>
                  <a:pt x="1403" y="317"/>
                </a:lnTo>
                <a:lnTo>
                  <a:pt x="1385" y="251"/>
                </a:lnTo>
                <a:lnTo>
                  <a:pt x="1411" y="149"/>
                </a:lnTo>
                <a:lnTo>
                  <a:pt x="1507" y="340"/>
                </a:lnTo>
                <a:lnTo>
                  <a:pt x="1507" y="365"/>
                </a:lnTo>
                <a:lnTo>
                  <a:pt x="1465" y="336"/>
                </a:lnTo>
                <a:lnTo>
                  <a:pt x="1461" y="341"/>
                </a:lnTo>
                <a:lnTo>
                  <a:pt x="1458" y="347"/>
                </a:lnTo>
                <a:lnTo>
                  <a:pt x="1461" y="381"/>
                </a:lnTo>
                <a:lnTo>
                  <a:pt x="1469" y="424"/>
                </a:lnTo>
                <a:lnTo>
                  <a:pt x="1475" y="451"/>
                </a:lnTo>
                <a:lnTo>
                  <a:pt x="1483" y="475"/>
                </a:lnTo>
                <a:lnTo>
                  <a:pt x="1491" y="495"/>
                </a:lnTo>
                <a:lnTo>
                  <a:pt x="1501" y="511"/>
                </a:lnTo>
                <a:lnTo>
                  <a:pt x="1525" y="498"/>
                </a:lnTo>
                <a:lnTo>
                  <a:pt x="1549" y="490"/>
                </a:lnTo>
                <a:lnTo>
                  <a:pt x="1571" y="483"/>
                </a:lnTo>
                <a:lnTo>
                  <a:pt x="1592" y="481"/>
                </a:lnTo>
                <a:lnTo>
                  <a:pt x="1616" y="484"/>
                </a:lnTo>
                <a:lnTo>
                  <a:pt x="1626" y="488"/>
                </a:lnTo>
                <a:lnTo>
                  <a:pt x="1636" y="494"/>
                </a:lnTo>
                <a:lnTo>
                  <a:pt x="1651" y="506"/>
                </a:lnTo>
                <a:lnTo>
                  <a:pt x="1663" y="518"/>
                </a:lnTo>
                <a:lnTo>
                  <a:pt x="1672" y="532"/>
                </a:lnTo>
                <a:lnTo>
                  <a:pt x="1680" y="548"/>
                </a:lnTo>
                <a:lnTo>
                  <a:pt x="1685" y="576"/>
                </a:lnTo>
                <a:lnTo>
                  <a:pt x="1687" y="612"/>
                </a:lnTo>
                <a:close/>
                <a:moveTo>
                  <a:pt x="553" y="364"/>
                </a:moveTo>
                <a:lnTo>
                  <a:pt x="487" y="431"/>
                </a:lnTo>
                <a:lnTo>
                  <a:pt x="428" y="370"/>
                </a:lnTo>
                <a:lnTo>
                  <a:pt x="356" y="441"/>
                </a:lnTo>
                <a:lnTo>
                  <a:pt x="280" y="365"/>
                </a:lnTo>
                <a:lnTo>
                  <a:pt x="347" y="297"/>
                </a:lnTo>
                <a:lnTo>
                  <a:pt x="409" y="359"/>
                </a:lnTo>
                <a:lnTo>
                  <a:pt x="479" y="289"/>
                </a:lnTo>
                <a:lnTo>
                  <a:pt x="553" y="364"/>
                </a:lnTo>
                <a:close/>
                <a:moveTo>
                  <a:pt x="1636" y="637"/>
                </a:moveTo>
                <a:lnTo>
                  <a:pt x="1622" y="613"/>
                </a:lnTo>
                <a:lnTo>
                  <a:pt x="1605" y="593"/>
                </a:lnTo>
                <a:lnTo>
                  <a:pt x="1597" y="587"/>
                </a:lnTo>
                <a:lnTo>
                  <a:pt x="1589" y="583"/>
                </a:lnTo>
                <a:lnTo>
                  <a:pt x="1577" y="582"/>
                </a:lnTo>
                <a:lnTo>
                  <a:pt x="1561" y="584"/>
                </a:lnTo>
                <a:lnTo>
                  <a:pt x="1543" y="591"/>
                </a:lnTo>
                <a:lnTo>
                  <a:pt x="1536" y="595"/>
                </a:lnTo>
                <a:lnTo>
                  <a:pt x="1556" y="624"/>
                </a:lnTo>
                <a:lnTo>
                  <a:pt x="1568" y="636"/>
                </a:lnTo>
                <a:lnTo>
                  <a:pt x="1580" y="644"/>
                </a:lnTo>
                <a:lnTo>
                  <a:pt x="1590" y="649"/>
                </a:lnTo>
                <a:lnTo>
                  <a:pt x="1601" y="652"/>
                </a:lnTo>
                <a:lnTo>
                  <a:pt x="1611" y="649"/>
                </a:lnTo>
                <a:lnTo>
                  <a:pt x="1625" y="644"/>
                </a:lnTo>
                <a:lnTo>
                  <a:pt x="1636" y="637"/>
                </a:lnTo>
                <a:close/>
                <a:moveTo>
                  <a:pt x="1288" y="458"/>
                </a:moveTo>
                <a:lnTo>
                  <a:pt x="1287" y="475"/>
                </a:lnTo>
                <a:lnTo>
                  <a:pt x="1285" y="489"/>
                </a:lnTo>
                <a:lnTo>
                  <a:pt x="1280" y="500"/>
                </a:lnTo>
                <a:lnTo>
                  <a:pt x="1275" y="509"/>
                </a:lnTo>
                <a:lnTo>
                  <a:pt x="1268" y="516"/>
                </a:lnTo>
                <a:lnTo>
                  <a:pt x="1259" y="522"/>
                </a:lnTo>
                <a:lnTo>
                  <a:pt x="1248" y="525"/>
                </a:lnTo>
                <a:lnTo>
                  <a:pt x="1237" y="526"/>
                </a:lnTo>
                <a:lnTo>
                  <a:pt x="1222" y="523"/>
                </a:lnTo>
                <a:lnTo>
                  <a:pt x="1214" y="518"/>
                </a:lnTo>
                <a:lnTo>
                  <a:pt x="1208" y="513"/>
                </a:lnTo>
                <a:lnTo>
                  <a:pt x="1198" y="499"/>
                </a:lnTo>
                <a:lnTo>
                  <a:pt x="1191" y="483"/>
                </a:lnTo>
                <a:lnTo>
                  <a:pt x="1183" y="505"/>
                </a:lnTo>
                <a:lnTo>
                  <a:pt x="1179" y="513"/>
                </a:lnTo>
                <a:lnTo>
                  <a:pt x="1173" y="523"/>
                </a:lnTo>
                <a:lnTo>
                  <a:pt x="1165" y="529"/>
                </a:lnTo>
                <a:lnTo>
                  <a:pt x="1158" y="534"/>
                </a:lnTo>
                <a:lnTo>
                  <a:pt x="1150" y="538"/>
                </a:lnTo>
                <a:lnTo>
                  <a:pt x="1142" y="539"/>
                </a:lnTo>
                <a:lnTo>
                  <a:pt x="1134" y="538"/>
                </a:lnTo>
                <a:lnTo>
                  <a:pt x="1123" y="534"/>
                </a:lnTo>
                <a:lnTo>
                  <a:pt x="1114" y="529"/>
                </a:lnTo>
                <a:lnTo>
                  <a:pt x="1107" y="522"/>
                </a:lnTo>
                <a:lnTo>
                  <a:pt x="1101" y="513"/>
                </a:lnTo>
                <a:lnTo>
                  <a:pt x="1097" y="504"/>
                </a:lnTo>
                <a:lnTo>
                  <a:pt x="1094" y="492"/>
                </a:lnTo>
                <a:lnTo>
                  <a:pt x="1092" y="466"/>
                </a:lnTo>
                <a:lnTo>
                  <a:pt x="1095" y="430"/>
                </a:lnTo>
                <a:lnTo>
                  <a:pt x="1098" y="407"/>
                </a:lnTo>
                <a:lnTo>
                  <a:pt x="1070" y="439"/>
                </a:lnTo>
                <a:lnTo>
                  <a:pt x="1070" y="427"/>
                </a:lnTo>
                <a:lnTo>
                  <a:pt x="1079" y="408"/>
                </a:lnTo>
                <a:lnTo>
                  <a:pt x="1094" y="387"/>
                </a:lnTo>
                <a:lnTo>
                  <a:pt x="1113" y="373"/>
                </a:lnTo>
                <a:lnTo>
                  <a:pt x="1112" y="399"/>
                </a:lnTo>
                <a:lnTo>
                  <a:pt x="1112" y="424"/>
                </a:lnTo>
                <a:lnTo>
                  <a:pt x="1113" y="455"/>
                </a:lnTo>
                <a:lnTo>
                  <a:pt x="1117" y="476"/>
                </a:lnTo>
                <a:lnTo>
                  <a:pt x="1122" y="483"/>
                </a:lnTo>
                <a:lnTo>
                  <a:pt x="1127" y="490"/>
                </a:lnTo>
                <a:lnTo>
                  <a:pt x="1133" y="493"/>
                </a:lnTo>
                <a:lnTo>
                  <a:pt x="1142" y="494"/>
                </a:lnTo>
                <a:lnTo>
                  <a:pt x="1157" y="490"/>
                </a:lnTo>
                <a:lnTo>
                  <a:pt x="1164" y="485"/>
                </a:lnTo>
                <a:lnTo>
                  <a:pt x="1172" y="480"/>
                </a:lnTo>
                <a:lnTo>
                  <a:pt x="1181" y="467"/>
                </a:lnTo>
                <a:lnTo>
                  <a:pt x="1186" y="455"/>
                </a:lnTo>
                <a:lnTo>
                  <a:pt x="1182" y="433"/>
                </a:lnTo>
                <a:lnTo>
                  <a:pt x="1175" y="403"/>
                </a:lnTo>
                <a:lnTo>
                  <a:pt x="1171" y="387"/>
                </a:lnTo>
                <a:lnTo>
                  <a:pt x="1191" y="359"/>
                </a:lnTo>
                <a:lnTo>
                  <a:pt x="1196" y="376"/>
                </a:lnTo>
                <a:lnTo>
                  <a:pt x="1203" y="399"/>
                </a:lnTo>
                <a:lnTo>
                  <a:pt x="1206" y="425"/>
                </a:lnTo>
                <a:lnTo>
                  <a:pt x="1210" y="448"/>
                </a:lnTo>
                <a:lnTo>
                  <a:pt x="1214" y="464"/>
                </a:lnTo>
                <a:lnTo>
                  <a:pt x="1221" y="473"/>
                </a:lnTo>
                <a:lnTo>
                  <a:pt x="1227" y="480"/>
                </a:lnTo>
                <a:lnTo>
                  <a:pt x="1236" y="483"/>
                </a:lnTo>
                <a:lnTo>
                  <a:pt x="1246" y="484"/>
                </a:lnTo>
                <a:lnTo>
                  <a:pt x="1255" y="483"/>
                </a:lnTo>
                <a:lnTo>
                  <a:pt x="1261" y="479"/>
                </a:lnTo>
                <a:lnTo>
                  <a:pt x="1265" y="473"/>
                </a:lnTo>
                <a:lnTo>
                  <a:pt x="1268" y="464"/>
                </a:lnTo>
                <a:lnTo>
                  <a:pt x="1263" y="444"/>
                </a:lnTo>
                <a:lnTo>
                  <a:pt x="1260" y="431"/>
                </a:lnTo>
                <a:lnTo>
                  <a:pt x="1254" y="415"/>
                </a:lnTo>
                <a:lnTo>
                  <a:pt x="1239" y="384"/>
                </a:lnTo>
                <a:lnTo>
                  <a:pt x="1261" y="353"/>
                </a:lnTo>
                <a:lnTo>
                  <a:pt x="1279" y="401"/>
                </a:lnTo>
                <a:lnTo>
                  <a:pt x="1286" y="429"/>
                </a:lnTo>
                <a:lnTo>
                  <a:pt x="1288" y="458"/>
                </a:lnTo>
                <a:close/>
                <a:moveTo>
                  <a:pt x="846" y="364"/>
                </a:moveTo>
                <a:lnTo>
                  <a:pt x="1275" y="242"/>
                </a:lnTo>
                <a:lnTo>
                  <a:pt x="1222" y="284"/>
                </a:lnTo>
                <a:lnTo>
                  <a:pt x="792" y="406"/>
                </a:lnTo>
                <a:lnTo>
                  <a:pt x="846" y="364"/>
                </a:lnTo>
                <a:close/>
                <a:moveTo>
                  <a:pt x="892" y="106"/>
                </a:moveTo>
                <a:lnTo>
                  <a:pt x="881" y="110"/>
                </a:lnTo>
                <a:lnTo>
                  <a:pt x="875" y="101"/>
                </a:lnTo>
                <a:lnTo>
                  <a:pt x="869" y="95"/>
                </a:lnTo>
                <a:lnTo>
                  <a:pt x="863" y="92"/>
                </a:lnTo>
                <a:lnTo>
                  <a:pt x="859" y="95"/>
                </a:lnTo>
                <a:lnTo>
                  <a:pt x="853" y="100"/>
                </a:lnTo>
                <a:lnTo>
                  <a:pt x="844" y="125"/>
                </a:lnTo>
                <a:lnTo>
                  <a:pt x="834" y="162"/>
                </a:lnTo>
                <a:lnTo>
                  <a:pt x="825" y="205"/>
                </a:lnTo>
                <a:lnTo>
                  <a:pt x="813" y="205"/>
                </a:lnTo>
                <a:lnTo>
                  <a:pt x="805" y="178"/>
                </a:lnTo>
                <a:lnTo>
                  <a:pt x="797" y="156"/>
                </a:lnTo>
                <a:lnTo>
                  <a:pt x="787" y="144"/>
                </a:lnTo>
                <a:lnTo>
                  <a:pt x="780" y="140"/>
                </a:lnTo>
                <a:lnTo>
                  <a:pt x="762" y="140"/>
                </a:lnTo>
                <a:lnTo>
                  <a:pt x="754" y="138"/>
                </a:lnTo>
                <a:lnTo>
                  <a:pt x="748" y="134"/>
                </a:lnTo>
                <a:lnTo>
                  <a:pt x="743" y="128"/>
                </a:lnTo>
                <a:lnTo>
                  <a:pt x="738" y="121"/>
                </a:lnTo>
                <a:lnTo>
                  <a:pt x="736" y="115"/>
                </a:lnTo>
                <a:lnTo>
                  <a:pt x="736" y="106"/>
                </a:lnTo>
                <a:lnTo>
                  <a:pt x="737" y="96"/>
                </a:lnTo>
                <a:lnTo>
                  <a:pt x="741" y="88"/>
                </a:lnTo>
                <a:lnTo>
                  <a:pt x="747" y="84"/>
                </a:lnTo>
                <a:lnTo>
                  <a:pt x="755" y="83"/>
                </a:lnTo>
                <a:lnTo>
                  <a:pt x="769" y="85"/>
                </a:lnTo>
                <a:lnTo>
                  <a:pt x="781" y="94"/>
                </a:lnTo>
                <a:lnTo>
                  <a:pt x="793" y="106"/>
                </a:lnTo>
                <a:lnTo>
                  <a:pt x="802" y="125"/>
                </a:lnTo>
                <a:lnTo>
                  <a:pt x="820" y="165"/>
                </a:lnTo>
                <a:lnTo>
                  <a:pt x="828" y="129"/>
                </a:lnTo>
                <a:lnTo>
                  <a:pt x="834" y="103"/>
                </a:lnTo>
                <a:lnTo>
                  <a:pt x="842" y="83"/>
                </a:lnTo>
                <a:lnTo>
                  <a:pt x="846" y="74"/>
                </a:lnTo>
                <a:lnTo>
                  <a:pt x="850" y="68"/>
                </a:lnTo>
                <a:lnTo>
                  <a:pt x="854" y="63"/>
                </a:lnTo>
                <a:lnTo>
                  <a:pt x="859" y="59"/>
                </a:lnTo>
                <a:lnTo>
                  <a:pt x="867" y="56"/>
                </a:lnTo>
                <a:lnTo>
                  <a:pt x="874" y="57"/>
                </a:lnTo>
                <a:lnTo>
                  <a:pt x="880" y="61"/>
                </a:lnTo>
                <a:lnTo>
                  <a:pt x="893" y="75"/>
                </a:lnTo>
                <a:lnTo>
                  <a:pt x="892" y="106"/>
                </a:lnTo>
                <a:close/>
                <a:moveTo>
                  <a:pt x="500" y="84"/>
                </a:moveTo>
                <a:lnTo>
                  <a:pt x="500" y="92"/>
                </a:lnTo>
                <a:lnTo>
                  <a:pt x="497" y="101"/>
                </a:lnTo>
                <a:lnTo>
                  <a:pt x="487" y="117"/>
                </a:lnTo>
                <a:lnTo>
                  <a:pt x="481" y="123"/>
                </a:lnTo>
                <a:lnTo>
                  <a:pt x="472" y="131"/>
                </a:lnTo>
                <a:lnTo>
                  <a:pt x="450" y="143"/>
                </a:lnTo>
                <a:lnTo>
                  <a:pt x="389" y="167"/>
                </a:lnTo>
                <a:lnTo>
                  <a:pt x="356" y="167"/>
                </a:lnTo>
                <a:lnTo>
                  <a:pt x="398" y="148"/>
                </a:lnTo>
                <a:lnTo>
                  <a:pt x="420" y="136"/>
                </a:lnTo>
                <a:lnTo>
                  <a:pt x="440" y="123"/>
                </a:lnTo>
                <a:lnTo>
                  <a:pt x="471" y="98"/>
                </a:lnTo>
                <a:lnTo>
                  <a:pt x="395" y="98"/>
                </a:lnTo>
                <a:lnTo>
                  <a:pt x="387" y="99"/>
                </a:lnTo>
                <a:lnTo>
                  <a:pt x="370" y="112"/>
                </a:lnTo>
                <a:lnTo>
                  <a:pt x="370" y="91"/>
                </a:lnTo>
                <a:lnTo>
                  <a:pt x="383" y="72"/>
                </a:lnTo>
                <a:lnTo>
                  <a:pt x="393" y="64"/>
                </a:lnTo>
                <a:lnTo>
                  <a:pt x="404" y="62"/>
                </a:lnTo>
                <a:lnTo>
                  <a:pt x="500" y="62"/>
                </a:lnTo>
                <a:lnTo>
                  <a:pt x="502" y="69"/>
                </a:lnTo>
                <a:lnTo>
                  <a:pt x="500" y="84"/>
                </a:lnTo>
                <a:close/>
                <a:moveTo>
                  <a:pt x="117" y="259"/>
                </a:moveTo>
                <a:lnTo>
                  <a:pt x="113" y="276"/>
                </a:lnTo>
                <a:lnTo>
                  <a:pt x="105" y="294"/>
                </a:lnTo>
                <a:lnTo>
                  <a:pt x="96" y="303"/>
                </a:lnTo>
                <a:lnTo>
                  <a:pt x="88" y="310"/>
                </a:lnTo>
                <a:lnTo>
                  <a:pt x="78" y="314"/>
                </a:lnTo>
                <a:lnTo>
                  <a:pt x="68" y="315"/>
                </a:lnTo>
                <a:lnTo>
                  <a:pt x="58" y="314"/>
                </a:lnTo>
                <a:lnTo>
                  <a:pt x="48" y="310"/>
                </a:lnTo>
                <a:lnTo>
                  <a:pt x="41" y="303"/>
                </a:lnTo>
                <a:lnTo>
                  <a:pt x="35" y="294"/>
                </a:lnTo>
                <a:lnTo>
                  <a:pt x="29" y="282"/>
                </a:lnTo>
                <a:lnTo>
                  <a:pt x="25" y="270"/>
                </a:lnTo>
                <a:lnTo>
                  <a:pt x="23" y="259"/>
                </a:lnTo>
                <a:lnTo>
                  <a:pt x="22" y="246"/>
                </a:lnTo>
                <a:lnTo>
                  <a:pt x="23" y="227"/>
                </a:lnTo>
                <a:lnTo>
                  <a:pt x="26" y="205"/>
                </a:lnTo>
                <a:lnTo>
                  <a:pt x="33" y="182"/>
                </a:lnTo>
                <a:lnTo>
                  <a:pt x="40" y="156"/>
                </a:lnTo>
                <a:lnTo>
                  <a:pt x="50" y="131"/>
                </a:lnTo>
                <a:lnTo>
                  <a:pt x="60" y="107"/>
                </a:lnTo>
                <a:lnTo>
                  <a:pt x="71" y="86"/>
                </a:lnTo>
                <a:lnTo>
                  <a:pt x="84" y="67"/>
                </a:lnTo>
                <a:lnTo>
                  <a:pt x="83" y="80"/>
                </a:lnTo>
                <a:lnTo>
                  <a:pt x="79" y="97"/>
                </a:lnTo>
                <a:lnTo>
                  <a:pt x="74" y="117"/>
                </a:lnTo>
                <a:lnTo>
                  <a:pt x="68" y="140"/>
                </a:lnTo>
                <a:lnTo>
                  <a:pt x="55" y="184"/>
                </a:lnTo>
                <a:lnTo>
                  <a:pt x="52" y="202"/>
                </a:lnTo>
                <a:lnTo>
                  <a:pt x="51" y="217"/>
                </a:lnTo>
                <a:lnTo>
                  <a:pt x="53" y="231"/>
                </a:lnTo>
                <a:lnTo>
                  <a:pt x="57" y="245"/>
                </a:lnTo>
                <a:lnTo>
                  <a:pt x="64" y="256"/>
                </a:lnTo>
                <a:lnTo>
                  <a:pt x="70" y="260"/>
                </a:lnTo>
                <a:lnTo>
                  <a:pt x="75" y="261"/>
                </a:lnTo>
                <a:lnTo>
                  <a:pt x="84" y="258"/>
                </a:lnTo>
                <a:lnTo>
                  <a:pt x="91" y="249"/>
                </a:lnTo>
                <a:lnTo>
                  <a:pt x="100" y="234"/>
                </a:lnTo>
                <a:lnTo>
                  <a:pt x="109" y="212"/>
                </a:lnTo>
                <a:lnTo>
                  <a:pt x="112" y="217"/>
                </a:lnTo>
                <a:lnTo>
                  <a:pt x="116" y="225"/>
                </a:lnTo>
                <a:lnTo>
                  <a:pt x="117" y="242"/>
                </a:lnTo>
                <a:lnTo>
                  <a:pt x="117" y="2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8" descr="logo EDE.png"/>
          <p:cNvPicPr/>
          <p:nvPr/>
        </p:nvPicPr>
        <p:blipFill>
          <a:blip r:embed="rId2"/>
          <a:stretch/>
        </p:blipFill>
        <p:spPr>
          <a:xfrm>
            <a:off x="914400" y="2133720"/>
            <a:ext cx="2109960" cy="2361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3"/>
          <p:cNvSpPr/>
          <p:nvPr/>
        </p:nvSpPr>
        <p:spPr>
          <a:xfrm>
            <a:off x="487692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1E260-F757-4B57-A18C-81338520727F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itle 4"/>
          <p:cNvSpPr/>
          <p:nvPr/>
        </p:nvSpPr>
        <p:spPr>
          <a:xfrm>
            <a:off x="685800" y="2340000"/>
            <a:ext cx="84200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سلسلة القيمة للمعرف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ومصفوفة المعرف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itle 4"/>
          <p:cNvSpPr/>
          <p:nvPr/>
        </p:nvSpPr>
        <p:spPr>
          <a:xfrm>
            <a:off x="1463760" y="4191120"/>
            <a:ext cx="7086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  <a:cs typeface="PT Bold Heading"/>
              </a:rPr>
              <a:t>المحاضرة السابع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756525"/>
                </a:solidFill>
                <a:latin typeface="AYM Wadiy S_U normal."/>
                <a:ea typeface="PT Bold Heading"/>
              </a:rPr>
              <a:t>  </a:t>
            </a:r>
            <a:r>
              <a:rPr b="1" lang="ar-SA" sz="2400" spc="-1" strike="noStrike">
                <a:solidFill>
                  <a:srgbClr val="af9738"/>
                </a:solidFill>
                <a:latin typeface="AYM Wadiy S_U normal."/>
                <a:cs typeface="PT Bold Heading"/>
              </a:rPr>
              <a:t>وهي ذات متغيرات متعددة)</a:t>
            </a:r>
            <a:r>
              <a:rPr b="1" lang="en-US" sz="1600" spc="-1" strike="noStrike">
                <a:solidFill>
                  <a:srgbClr val="af9738"/>
                </a:solidFill>
                <a:latin typeface="AYM Wadiy S_U normal."/>
                <a:ea typeface="PT Bold Heading"/>
              </a:rPr>
              <a:t>)</a:t>
            </a:r>
            <a:r>
              <a:rPr b="1" lang="en-US" sz="3700" spc="-1" strike="noStrike">
                <a:solidFill>
                  <a:srgbClr val="756525"/>
                </a:solidFill>
                <a:latin typeface="AYM Wadiy S_U normal."/>
                <a:ea typeface="PT Bold Heading"/>
              </a:rPr>
              <a:t> </a:t>
            </a:r>
            <a:r>
              <a:rPr b="1" lang="ar-SA" sz="3700" spc="-1" strike="noStrike">
                <a:solidFill>
                  <a:srgbClr val="756525"/>
                </a:solidFill>
                <a:latin typeface="AYM Wadiy S_U normal."/>
                <a:ea typeface="PT Bold Heading"/>
              </a:rPr>
              <a:t> </a:t>
            </a:r>
            <a:r>
              <a:rPr b="1" lang="ar-SA" sz="3700" spc="-1" strike="noStrike">
                <a:solidFill>
                  <a:srgbClr val="af9738"/>
                </a:solidFill>
                <a:latin typeface="AYM Wadiy S_U normal."/>
                <a:cs typeface="PT Bold Heading"/>
              </a:rPr>
              <a:t>معادلة المعرفة</a:t>
            </a:r>
            <a:endParaRPr b="0" lang="en-US" sz="37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المعرفة = المعلومات (الخبرة </a:t>
            </a:r>
            <a:r>
              <a:rPr b="1" lang="ar-SA" sz="4400" spc="-1" strike="noStrike">
                <a:solidFill>
                  <a:srgbClr val="376092"/>
                </a:solidFill>
                <a:latin typeface="ae_AlMateen"/>
              </a:rPr>
              <a:t>×</a:t>
            </a:r>
            <a:r>
              <a:rPr b="0" lang="ar-SA" sz="4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المهارات</a:t>
            </a:r>
            <a:r>
              <a:rPr b="1" lang="ar-SA" sz="4400" spc="-1" strike="noStrike">
                <a:solidFill>
                  <a:srgbClr val="376092"/>
                </a:solidFill>
                <a:latin typeface="ae_AlMateen"/>
              </a:rPr>
              <a:t> ×</a:t>
            </a:r>
            <a:r>
              <a:rPr b="0" lang="ar-SA" sz="44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الاتجاه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9423360" y="63565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89772-0C66-43C3-B4C5-AA7CE505224A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وسيلة شرح مستطيلة مستديرة الزوايا 2"/>
          <p:cNvSpPr/>
          <p:nvPr/>
        </p:nvSpPr>
        <p:spPr>
          <a:xfrm>
            <a:off x="7696080" y="3505320"/>
            <a:ext cx="2057400" cy="2133360"/>
          </a:xfrm>
          <a:prstGeom prst="wedgeRoundRectCallout">
            <a:avLst>
              <a:gd name="adj1" fmla="val -57888"/>
              <a:gd name="adj2" fmla="val -71004"/>
              <a:gd name="adj3" fmla="val 16667"/>
            </a:avLst>
          </a:prstGeom>
          <a:gradFill rotWithShape="0">
            <a:gsLst>
              <a:gs pos="0">
                <a:srgbClr val="fff0a4"/>
              </a:gs>
              <a:gs pos="100000">
                <a:srgbClr val="fffbe5"/>
              </a:gs>
            </a:gsLst>
            <a:lin ang="16200000"/>
          </a:gradFill>
          <a:ln w="9360">
            <a:solidFill>
              <a:srgbClr val="ccb66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  <a:cs typeface="PT Bold Heading"/>
              </a:rPr>
              <a:t>وهي المعرفة التي يمكن تدوينها بصورة فعلية بواسطة الفرد في وظيفته، والمعبر عنها بلغة مفهومة والتي تم أحرازها وفهمها فهماً كاملا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وسيلة شرح مع سهم إلى الأعلى 5"/>
          <p:cNvSpPr/>
          <p:nvPr/>
        </p:nvSpPr>
        <p:spPr>
          <a:xfrm>
            <a:off x="5867280" y="2209680"/>
            <a:ext cx="1828800" cy="838440"/>
          </a:xfrm>
          <a:prstGeom prst="upArrowCallout">
            <a:avLst>
              <a:gd name="adj1" fmla="val 24985"/>
              <a:gd name="adj2" fmla="val 24993"/>
              <a:gd name="adj3" fmla="val 25000"/>
              <a:gd name="adj4" fmla="val 70041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  <a:cs typeface="PT Bold Heading"/>
              </a:rPr>
              <a:t>المعرفة الصريح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وسيلة شرح مستطيلة مستديرة الزوايا 10"/>
          <p:cNvSpPr/>
          <p:nvPr/>
        </p:nvSpPr>
        <p:spPr>
          <a:xfrm>
            <a:off x="4952880" y="3505320"/>
            <a:ext cx="2057400" cy="2133360"/>
          </a:xfrm>
          <a:prstGeom prst="wedgeRoundRectCallout">
            <a:avLst>
              <a:gd name="adj1" fmla="val -46990"/>
              <a:gd name="adj2" fmla="val -106986"/>
              <a:gd name="adj3" fmla="val 16667"/>
            </a:avLst>
          </a:prstGeom>
          <a:gradFill rotWithShape="0">
            <a:gsLst>
              <a:gs pos="0">
                <a:srgbClr val="fff0a4"/>
              </a:gs>
              <a:gs pos="100000">
                <a:srgbClr val="fffbe5"/>
              </a:gs>
            </a:gsLst>
            <a:lin ang="16200000"/>
          </a:gradFill>
          <a:ln w="9360">
            <a:solidFill>
              <a:srgbClr val="ccb66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PT Bold Heading"/>
              </a:rPr>
              <a:t>وهي المعرفة المتحصل عليها من خلال الاكتشاف أو الملاحظ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وسيلة شرح مستطيلة مستديرة الزوايا 11"/>
          <p:cNvSpPr/>
          <p:nvPr/>
        </p:nvSpPr>
        <p:spPr>
          <a:xfrm>
            <a:off x="2590920" y="3505320"/>
            <a:ext cx="2057400" cy="2133360"/>
          </a:xfrm>
          <a:prstGeom prst="wedgeRoundRectCallout">
            <a:avLst>
              <a:gd name="adj1" fmla="val -31893"/>
              <a:gd name="adj2" fmla="val -109819"/>
              <a:gd name="adj3" fmla="val 16667"/>
            </a:avLst>
          </a:prstGeom>
          <a:gradFill rotWithShape="0">
            <a:gsLst>
              <a:gs pos="0">
                <a:srgbClr val="fff0a4"/>
              </a:gs>
              <a:gs pos="100000">
                <a:srgbClr val="fffbe5"/>
              </a:gs>
            </a:gsLst>
            <a:lin ang="16200000"/>
          </a:gradFill>
          <a:ln w="9360">
            <a:solidFill>
              <a:srgbClr val="ccb66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PT Bold Heading"/>
              </a:rPr>
              <a:t>وهي البراعة اليدوية والعقلية، والقدرات المختلف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وسيلة شرح مستطيلة مستديرة الزوايا 12"/>
          <p:cNvSpPr/>
          <p:nvPr/>
        </p:nvSpPr>
        <p:spPr>
          <a:xfrm>
            <a:off x="304920" y="3513240"/>
            <a:ext cx="2057400" cy="2133360"/>
          </a:xfrm>
          <a:prstGeom prst="wedgeRoundRectCallout">
            <a:avLst>
              <a:gd name="adj1" fmla="val -9671"/>
              <a:gd name="adj2" fmla="val -108606"/>
              <a:gd name="adj3" fmla="val 16667"/>
            </a:avLst>
          </a:prstGeom>
          <a:gradFill rotWithShape="0">
            <a:gsLst>
              <a:gs pos="0">
                <a:srgbClr val="fff0a4"/>
              </a:gs>
              <a:gs pos="100000">
                <a:srgbClr val="fffbe5"/>
              </a:gs>
            </a:gsLst>
            <a:lin ang="16200000"/>
          </a:gradFill>
          <a:ln w="9360">
            <a:solidFill>
              <a:srgbClr val="ccb66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PT Bold Heading"/>
              </a:rPr>
              <a:t>هي التصرفات التي يتميز بها الفرد في المواقف الخاصة والتي تنشأ من الافتراضات الأساسية والعبادات والقيم التي يؤمن بها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وسيلة شرح مع سهم إلى الأعلى 9"/>
          <p:cNvSpPr/>
          <p:nvPr/>
        </p:nvSpPr>
        <p:spPr>
          <a:xfrm>
            <a:off x="838080" y="2209680"/>
            <a:ext cx="4876920" cy="838440"/>
          </a:xfrm>
          <a:prstGeom prst="upArrowCallout">
            <a:avLst>
              <a:gd name="adj1" fmla="val 24992"/>
              <a:gd name="adj2" fmla="val 24990"/>
              <a:gd name="adj3" fmla="val 25000"/>
              <a:gd name="adj4" fmla="val 70041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  <a:cs typeface="PT Bold Heading"/>
              </a:rPr>
              <a:t>المعرفة الضمنية ( الكامنة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af9738"/>
                </a:solidFill>
                <a:latin typeface="AYM Wadiy S_U normal."/>
                <a:cs typeface="PT Bold Heading"/>
              </a:rPr>
              <a:t>سلسلة القيمة للمعرف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تعتبر سلسلة القيمة للمعرفة من خصائص المنظمات كثيفة المعرفة، لأنها تعتبر جزءًا ضرورياً من عملية صناعة المعرفة          ( أنظر الشكل التالي)</a:t>
            </a:r>
            <a:r>
              <a:rPr b="0" lang="ar-SA" sz="28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9423360" y="63565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DBDB6-5713-46F0-A51A-96918F2B9122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مخطط انسيابي: مهلة 3"/>
          <p:cNvSpPr/>
          <p:nvPr/>
        </p:nvSpPr>
        <p:spPr>
          <a:xfrm>
            <a:off x="838080" y="3200400"/>
            <a:ext cx="1454400" cy="1447920"/>
          </a:xfrm>
          <a:prstGeom prst="flowChartDelay">
            <a:avLst/>
          </a:prstGeom>
          <a:gradFill rotWithShape="0">
            <a:gsLst>
              <a:gs pos="0">
                <a:srgbClr val="fff0a4"/>
              </a:gs>
              <a:gs pos="100000">
                <a:srgbClr val="fffbe5"/>
              </a:gs>
            </a:gsLst>
            <a:lin ang="16200000"/>
          </a:gradFill>
          <a:ln w="9360">
            <a:solidFill>
              <a:srgbClr val="ccb66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PT Bold Heading"/>
              </a:rPr>
              <a:t>الرسال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PT Bold Heading"/>
              </a:rPr>
              <a:t>الرؤي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PT Bold Heading"/>
              </a:rPr>
              <a:t>الأهدا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PT Bold Heading"/>
              </a:rPr>
              <a:t>الاستراتيج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خماسي 4"/>
          <p:cNvSpPr/>
          <p:nvPr/>
        </p:nvSpPr>
        <p:spPr>
          <a:xfrm>
            <a:off x="2282760" y="3200400"/>
            <a:ext cx="2822760" cy="1447920"/>
          </a:xfrm>
          <a:custGeom>
            <a:avLst/>
            <a:gdLst>
              <a:gd name="textAreaLeft" fmla="*/ 0 w 2822760"/>
              <a:gd name="textAreaRight" fmla="*/ 2823120 w 282276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60" y="0"/>
                </a:lnTo>
                <a:lnTo>
                  <a:pt x="21600" y="10800"/>
                </a:lnTo>
                <a:lnTo>
                  <a:pt x="1606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0a4"/>
              </a:gs>
              <a:gs pos="100000">
                <a:srgbClr val="fffbe5"/>
              </a:gs>
            </a:gsLst>
            <a:lin ang="16200000"/>
          </a:gradFill>
          <a:ln w="9360">
            <a:solidFill>
              <a:srgbClr val="ccb66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PT Bold Heading"/>
              </a:rPr>
              <a:t>تطوير المعرف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  <a:ea typeface="PT Bold Heading"/>
              </a:rPr>
              <a:t>(توضيح المخزون المتاح من المعرفة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  <a:ea typeface="PT Bold Heading"/>
              </a:rPr>
              <a:t>(تحديد الاحتياجات من المعرفة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خماسي 8"/>
          <p:cNvSpPr/>
          <p:nvPr/>
        </p:nvSpPr>
        <p:spPr>
          <a:xfrm>
            <a:off x="4626000" y="3200400"/>
            <a:ext cx="2155680" cy="1447920"/>
          </a:xfrm>
          <a:custGeom>
            <a:avLst/>
            <a:gdLst>
              <a:gd name="textAreaLeft" fmla="*/ 0 w 2155680"/>
              <a:gd name="textAreaRight" fmla="*/ 2156040 w 215568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347" y="0"/>
                </a:lnTo>
                <a:lnTo>
                  <a:pt x="21600" y="10800"/>
                </a:lnTo>
                <a:lnTo>
                  <a:pt x="1434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0a4"/>
              </a:gs>
              <a:gs pos="100000">
                <a:srgbClr val="fffbe5"/>
              </a:gs>
            </a:gsLst>
            <a:lin ang="16200000"/>
          </a:gradFill>
          <a:ln w="9360">
            <a:solidFill>
              <a:srgbClr val="ccb66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PT Bold Heading"/>
              </a:rPr>
              <a:t>نشر المعرف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  <a:ea typeface="PT Bold Heading"/>
              </a:rPr>
              <a:t>(انتقال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  <a:ea typeface="PT Bold Heading"/>
              </a:rPr>
              <a:t>(مشاركة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خماسي 9"/>
          <p:cNvSpPr/>
          <p:nvPr/>
        </p:nvSpPr>
        <p:spPr>
          <a:xfrm>
            <a:off x="6324480" y="3200400"/>
            <a:ext cx="1986120" cy="1447920"/>
          </a:xfrm>
          <a:custGeom>
            <a:avLst/>
            <a:gdLst>
              <a:gd name="textAreaLeft" fmla="*/ 0 w 1986120"/>
              <a:gd name="textAreaRight" fmla="*/ 1986480 w 198612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727" y="0"/>
                </a:lnTo>
                <a:lnTo>
                  <a:pt x="21600" y="10800"/>
                </a:lnTo>
                <a:lnTo>
                  <a:pt x="1372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0a4"/>
              </a:gs>
              <a:gs pos="100000">
                <a:srgbClr val="fffbe5"/>
              </a:gs>
            </a:gsLst>
            <a:lin ang="16200000"/>
          </a:gradFill>
          <a:ln w="9360">
            <a:solidFill>
              <a:srgbClr val="ccb66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PT Bold Heading"/>
              </a:rPr>
              <a:t>تطبيق المعرف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مخطط انسيابي: مهلة 10"/>
          <p:cNvSpPr/>
          <p:nvPr/>
        </p:nvSpPr>
        <p:spPr>
          <a:xfrm>
            <a:off x="7918560" y="3200400"/>
            <a:ext cx="1454040" cy="1447920"/>
          </a:xfrm>
          <a:prstGeom prst="flowChartDelay">
            <a:avLst/>
          </a:prstGeom>
          <a:gradFill rotWithShape="0">
            <a:gsLst>
              <a:gs pos="0">
                <a:srgbClr val="fff0a4"/>
              </a:gs>
              <a:gs pos="100000">
                <a:srgbClr val="fffbe5"/>
              </a:gs>
            </a:gsLst>
            <a:lin ang="16200000"/>
          </a:gradFill>
          <a:ln w="9360">
            <a:solidFill>
              <a:srgbClr val="ccb66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PT Bold Heading"/>
              </a:rPr>
              <a:t>تقيي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PT Bold Heading"/>
              </a:rPr>
              <a:t>وتقدي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PT Bold Heading"/>
              </a:rPr>
              <a:t>المعرف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4" name="رابط بشكل مرفق 6"/>
          <p:cNvCxnSpPr/>
          <p:nvPr/>
        </p:nvCxnSpPr>
        <p:spPr>
          <a:xfrm flipH="1">
            <a:off x="612000" y="3924000"/>
            <a:ext cx="8769960" cy="1486440"/>
          </a:xfrm>
          <a:prstGeom prst="bentConnector3">
            <a:avLst>
              <a:gd name="adj1" fmla="val -2602"/>
            </a:avLst>
          </a:prstGeom>
          <a:ln w="38160">
            <a:solidFill>
              <a:srgbClr val="ceb966"/>
            </a:solidFill>
            <a:miter/>
            <a:tailEnd len="med" type="arrow" w="med"/>
          </a:ln>
        </p:spPr>
      </p:cxnSp>
      <p:cxnSp>
        <p:nvCxnSpPr>
          <p:cNvPr id="235" name="رابط بشكل مرفق 12"/>
          <p:cNvCxnSpPr/>
          <p:nvPr/>
        </p:nvCxnSpPr>
        <p:spPr>
          <a:xfrm flipH="1" flipV="1" rot="5400000">
            <a:off x="39960" y="4609440"/>
            <a:ext cx="1372320" cy="229320"/>
          </a:xfrm>
          <a:prstGeom prst="bentConnector3">
            <a:avLst>
              <a:gd name="adj1" fmla="val 100918"/>
            </a:avLst>
          </a:prstGeom>
          <a:ln w="38160">
            <a:solidFill>
              <a:srgbClr val="ceb9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ومما لا شك فيه أن أي نمط من أنماط إدارة المعرفة يبحث في سلسلة القيمة</a:t>
            </a:r>
            <a:r>
              <a:rPr b="0" lang="ar-SA" sz="24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للمعرفة ينبغي أن يبنى على </a:t>
            </a:r>
            <a:r>
              <a:rPr b="0" lang="ar-SA" sz="2400" spc="-1" strike="noStrike">
                <a:solidFill>
                  <a:srgbClr val="ff0000"/>
                </a:solidFill>
                <a:latin typeface="ae_AlMateen"/>
                <a:cs typeface="PT Bold Heading"/>
              </a:rPr>
              <a:t>عنصرين هامين </a:t>
            </a: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هما</a:t>
            </a:r>
            <a:r>
              <a:rPr b="0" lang="ar-SA" sz="24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1- </a:t>
            </a: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ضمان أن العمالة ذات القيمة العالية للمعرفة ليس لديهم الرغبة في ترك</a:t>
            </a:r>
            <a:r>
              <a:rPr b="0" lang="ar-SA" sz="24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المنظمة</a:t>
            </a:r>
            <a:r>
              <a:rPr b="0" lang="ar-SA" sz="24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2- </a:t>
            </a: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ضرورة التأكد من أن المعرفة الضمنية والمتوفرة بكثرة يمكن توضيحها من خلال العملية التجسيدية، وإمكانية الوصول إليها عن طريق المنظمة مثل المعلومات تماماً</a:t>
            </a:r>
            <a:r>
              <a:rPr b="0" lang="ar-SA" sz="24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ويمكن تحديد </a:t>
            </a:r>
            <a:r>
              <a:rPr b="0" lang="ar-SA" sz="3200" spc="-1" strike="noStrike">
                <a:solidFill>
                  <a:srgbClr val="ff0000"/>
                </a:solidFill>
                <a:latin typeface="ae_AlMateen"/>
                <a:cs typeface="PT Bold Heading"/>
              </a:rPr>
              <a:t>مقياس لنشاط سلسلة القيمة للمعرفة </a:t>
            </a:r>
            <a:r>
              <a:rPr b="0" lang="ar-SA" sz="32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من خلال</a:t>
            </a:r>
            <a:r>
              <a:rPr b="0" lang="ar-SA" sz="32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1- </a:t>
            </a:r>
            <a:r>
              <a:rPr b="0" lang="ar-SA" sz="32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في أي مجال تمتلك المنظمة معرفة أفضل أكثر من منافسيها</a:t>
            </a:r>
            <a:r>
              <a:rPr b="0" lang="ar-SA" sz="32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2- </a:t>
            </a:r>
            <a:r>
              <a:rPr b="0" lang="ar-SA" sz="32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امتلاك دليل/ قاعدة بيانات على الحاسب الآلي لتوضيح أين تتوافر المعرفة في منظمتن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9423360" y="63565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4A5BA-E0F1-4858-B489-1E827C72C019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af9738"/>
                </a:solidFill>
                <a:latin typeface="AYM Wadiy S_U normal."/>
                <a:cs typeface="PT Bold Heading"/>
              </a:rPr>
              <a:t>أنشطة سلسلة القيمة للمعرف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 algn="r" rtl="1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e_AlMatee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ae_AlMateen"/>
                <a:cs typeface="PT Bold Heading"/>
              </a:rPr>
              <a:t>تحديد الحاجة للمعرفة. </a:t>
            </a: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ويتم ذلك من خلال عاملين هما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8680" indent="-488520" algn="r" rtl="1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e_AlMatee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تحديد أي أنواع المعرفة الضرورية لتحقيق استراتيجية الشرك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8680" indent="-488520" algn="r" rtl="1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e_AlMatee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استخدام عمليات ذات إجراءات منتظم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 algn="r" rtl="1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e_AlMatee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ae_AlMateen"/>
                <a:cs typeface="PT Bold Heading"/>
              </a:rPr>
              <a:t>تحديد المعرفة المتاحة </a:t>
            </a: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ويتم ذلك من خلال عاملين هما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8680" indent="-488520" algn="r" rtl="1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e_AlMatee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تحديد أي المجالات لديها معرفة أفضل من المنافسين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8680" indent="-488520" algn="r" rtl="1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e_AlMatee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توفر دليل وقواعد بيانات على الحاسب وأين هي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 algn="r" rtl="1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e_AlMatee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ae_AlMateen"/>
                <a:cs typeface="PT Bold Heading"/>
              </a:rPr>
              <a:t>تطوير المعرفة. </a:t>
            </a: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من خلال عاملين هم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8680" indent="-488520" algn="r" rtl="1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e_AlMatee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امتلاك إجراءات رسمية لتطوير المعرفة مثل برامج التطوير والتدريب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8680" indent="-488520" algn="r" rtl="1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e_AlMatee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أمكانية توفير المعرفة من الخارج في حالة الحاجة إلى ذلك بغض النظر عن التكلف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af9738"/>
                </a:solidFill>
                <a:latin typeface="AYM Wadiy S_U normal."/>
                <a:cs typeface="PT Bold Heading"/>
              </a:rPr>
              <a:t>العمليات الوظيفية لسلسلة القيمة للمعرفة</a:t>
            </a:r>
            <a:endParaRPr b="0" lang="en-US" sz="4000" spc="-1" strike="noStrike">
              <a:solidFill>
                <a:srgbClr val="376092"/>
              </a:solidFill>
              <a:latin typeface="Calibri"/>
            </a:endParaRPr>
          </a:p>
        </p:txBody>
      </p:sp>
      <p:pic>
        <p:nvPicPr>
          <p:cNvPr id="242" name="عنصر نائب للمحتوى 3" descr=""/>
          <p:cNvPicPr/>
          <p:nvPr/>
        </p:nvPicPr>
        <p:blipFill>
          <a:blip r:embed="rId1"/>
          <a:stretch/>
        </p:blipFill>
        <p:spPr>
          <a:xfrm>
            <a:off x="493560" y="1573200"/>
            <a:ext cx="8918640" cy="4632480"/>
          </a:xfrm>
          <a:prstGeom prst="rect">
            <a:avLst/>
          </a:prstGeom>
          <a:ln w="0">
            <a:noFill/>
          </a:ln>
        </p:spPr>
      </p:pic>
      <p:sp>
        <p:nvSpPr>
          <p:cNvPr id="243" name="Slide Number Placeholder 3"/>
          <p:cNvSpPr/>
          <p:nvPr/>
        </p:nvSpPr>
        <p:spPr>
          <a:xfrm>
            <a:off x="9423360" y="63565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A4442-77F5-41F4-B7A2-EF721E4B1614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af9738"/>
                </a:solidFill>
                <a:latin typeface="AYM Wadiy S_U normal."/>
                <a:cs typeface="PT Bold Heading"/>
              </a:rPr>
              <a:t>مصفوفة المعرف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تعتبر مصفوفة المعرفة أحد الوسائل التي تساعد المنظمة على</a:t>
            </a:r>
            <a:r>
              <a:rPr b="0" lang="ar-SA" sz="24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</a:t>
            </a: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تصنيف المعرفة</a:t>
            </a:r>
            <a:r>
              <a:rPr b="0" lang="ar-SA" sz="24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وإمكانية اكتشاف فجوة المعرفة ( الفرق السالب بين المستوى الفعلي والمستوى المرغوب فيه من المعرفة)</a:t>
            </a:r>
            <a:r>
              <a:rPr b="0" lang="ar-SA" sz="24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وتتكون مصفوفة المعرفة من عنصرين أساسيين هما</a:t>
            </a:r>
            <a:r>
              <a:rPr b="0" lang="ar-SA" sz="24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1- </a:t>
            </a: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المجال المعرفي. ( توصيف محدد للمعرفة في ضوء الرسالة والرؤية والأهداف والإستراتيجية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76092"/>
                </a:solidFill>
                <a:latin typeface="ae_AlMateen"/>
                <a:ea typeface="PT Bold Heading"/>
              </a:rPr>
              <a:t>2- </a:t>
            </a:r>
            <a:r>
              <a:rPr b="0" lang="ar-SA" sz="2400" spc="-1" strike="noStrike">
                <a:solidFill>
                  <a:srgbClr val="376092"/>
                </a:solidFill>
                <a:latin typeface="ae_AlMateen"/>
                <a:cs typeface="PT Bold Heading"/>
              </a:rPr>
              <a:t>المجال الوظيفي.( الربط بين مجالات المعرفة والعنصر البشري وعنصر الموهبة البشرية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9:14:34Z</dcterms:created>
  <dc:creator>nader darawsheh</dc:creator>
  <dc:description>مقدمة:</dc:description>
  <dc:language>en-US</dc:language>
  <cp:lastModifiedBy>Mohammad Ahmed Algezawy</cp:lastModifiedBy>
  <dcterms:modified xsi:type="dcterms:W3CDTF">2011-10-19T06:48:19Z</dcterms:modified>
  <cp:revision>136</cp:revision>
  <dc:subject/>
  <dc:title>كليه إدارة أعمال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كليه إدارة أعمال</vt:lpwstr>
  </property>
  <property fmtid="{D5CDD505-2E9C-101B-9397-08002B2CF9AE}" pid="3" name="SlideDescription">
    <vt:lpwstr>مقدمة:</vt:lpwstr>
  </property>
</Properties>
</file>