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5D46-A034-433C-B67A-2216FA19A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F6AE-E497-4206-BC5F-D514C37C65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5F10-991D-4CED-BA33-907075B46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CDB2-B1A4-450F-806B-D5CD0E387CB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5B81-649C-4D3F-B6FB-C0068DF6E88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62C7-E599-4A56-ABE4-DBD942E40FB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3657-3F55-41B2-9409-7A90BC22C7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4066-1F94-44C2-99E1-8ABB59D0C0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E58F-2E53-40E1-932E-5A8409028CB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72D8-0FC8-4A56-A45B-E1CFA0A1C7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7FB3-9502-4F78-8DAE-D050F6C7093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514-415A-4915-ACD0-FD9E9C37B44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DE54-D1D7-429B-80C3-E4E08644CF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9B6-5115-43A7-ACF0-55A425480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641E-36D7-468E-AC56-EA46F65075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36CA-6517-4CC9-8F68-66D25F1DE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6826-D365-4FA0-94B7-CD530B38F8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AFE1-6A03-4703-9AB2-753F4FF2B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18EE-0723-4AD0-9A4E-28F671E0E0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E361-594D-4FEE-BDFC-3AF0880B04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9285-237F-4950-9C7E-9C64EE4C27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C764-09CA-4551-AE2C-8AE4B8D6BE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3F80-52AF-4B98-A475-1BA0A7127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E33F-FF90-409B-9D5C-D141EB73A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E774-2C3A-4F6C-8453-0880EE5CD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DF1E-BA36-4113-A5DB-CC6E97F8B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1882-5565-4D3C-9311-9A838D9B4E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EB6A-8DF4-4E8C-B549-24ED79F09A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DB72-7AEA-4579-90EF-5BA633852F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CF2-61AC-47B2-A32A-2001D59EE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746-5D1E-45DD-9BD4-8927801999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F49-6E78-455E-A0B3-4DD7BC1188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250-2450-4332-A198-64259FB723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5FC-0C68-4989-8F94-6C78B1791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1BA5-826B-4EF7-9C9F-CA0200FD4E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011-C05F-415A-9846-C058F2F691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B8E-9A3D-46E4-BB26-8ECF72BCD1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711-7726-4BD6-98A2-02A400C293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F4B-C9FE-4C3F-861B-335EE679E6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096-8FB1-4111-AC19-34C484A90F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CC1-CB19-422B-83ED-5CFE6830D3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28A-11EE-4DFE-9594-98F2111AD6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133B-A60A-4479-8F22-E50E20193E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6383-9BB5-4334-97AD-195F483F1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D2FC-EBBE-4DD9-A4C2-EC5B570E04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B7CA1-3FF1-41BB-899F-C85022CB44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4FDA8-2B38-4665-8C04-F2E114C37F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B7C99-E468-4E51-9103-7F266B7DA2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E38DD-56F9-47C1-85A5-5A57BA7F3B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86254-4624-4DFD-BEBE-C372642B5C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DF184-B595-4E01-BECC-74E532B9C2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6290-DDCE-4B2F-88CE-72141367B8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D349C-3DF5-4462-A3C8-64E1D3CC1F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5BC95-0DA3-4A4A-9152-FB637F6271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AC725-4452-42A1-8457-08D52AE72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EF25-9DDB-4CEA-ADFF-A2C1AC9713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F01A6-C87D-4851-84EC-694FE91080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3374-CEBD-4BE4-9DAC-0E6FEBF3D0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347F-4718-424F-8F1B-FF01EAB228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114FC-A2E8-4E3B-829C-B3435FA7DD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C38F-EC17-4DEF-9A90-093491CF3F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9F443-55B0-49A3-AD2E-B7D728F802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F2187-4981-4C37-906B-2EB706E75A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CE591-A0B5-4C95-96EF-833170A61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85DA-6474-4FB6-AD8A-F4DF6930A9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51657-66ED-4204-BFD7-B4763F3A89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D7579-CCDE-40D9-9E10-B1B848FCCF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6880A-D566-41DF-B7EC-6EB79DAA44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D1281-D83D-43E2-A801-6BB84E869F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2B2E-7CD1-40A2-92CB-32BAF78ED6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48EFF-1544-47FA-92A4-C5C01849F3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1B3B3-E230-462A-81A7-CD86F8262D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9660-4A78-4C1F-98BF-D21FDE9B9AFF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58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3E95-6F4D-4EE1-930F-ACC567E0503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6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5E67-333F-4503-BFFA-50ADCC08B20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2A65-1736-458F-B29F-ED55F330D44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45370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6C23-7745-47F7-88FB-53321811371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149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0FCA-82E7-465C-89A5-02D3A8762E5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01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422E-5B26-472C-95D9-09B57F310AAA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4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B020-111A-4FF6-A017-3BF0FFA4482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253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2AF-8CF2-4613-AFE9-3358FD9D0F3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02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516-1B02-4808-A4CF-3A303CA0DA0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354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91C-F63C-407F-B7AD-5E5B81E3BC6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681960" y="2133720"/>
            <a:ext cx="24620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5"/>
          </p:nvPr>
        </p:nvSpPr>
        <p:spPr>
          <a:xfrm>
            <a:off x="499392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697-074D-4B50-A330-BA110628D9F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Group 7"/>
          <p:cNvGrpSpPr/>
          <p:nvPr/>
        </p:nvGrpSpPr>
        <p:grpSpPr>
          <a:xfrm>
            <a:off x="7948440" y="5791320"/>
            <a:ext cx="868680" cy="914400"/>
            <a:chOff x="7948440" y="5791320"/>
            <a:chExt cx="868680" cy="914400"/>
          </a:xfrm>
        </p:grpSpPr>
        <p:sp>
          <p:nvSpPr>
            <p:cNvPr id="406" name="Oval 12"/>
            <p:cNvSpPr/>
            <p:nvPr/>
          </p:nvSpPr>
          <p:spPr>
            <a:xfrm>
              <a:off x="7980120" y="5813280"/>
              <a:ext cx="80856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7948440" y="5791320"/>
              <a:ext cx="8686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Rectangle 15"/>
          <p:cNvSpPr/>
          <p:nvPr/>
        </p:nvSpPr>
        <p:spPr>
          <a:xfrm>
            <a:off x="626328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19632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7" descr="logo EDE.png"/>
          <p:cNvPicPr/>
          <p:nvPr/>
        </p:nvPicPr>
        <p:blipFill>
          <a:blip r:embed="rId3"/>
          <a:stretch/>
        </p:blipFill>
        <p:spPr>
          <a:xfrm>
            <a:off x="281160" y="5791320"/>
            <a:ext cx="77436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8"/>
          <p:cNvSpPr/>
          <p:nvPr/>
        </p:nvSpPr>
        <p:spPr>
          <a:xfrm>
            <a:off x="84780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5252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4513320" y="6369120"/>
            <a:ext cx="44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6CF-00C5-4227-B28B-CA19F0E95F8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8699400" y="281160"/>
            <a:ext cx="28260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1"/>
          <p:cNvSpPr/>
          <p:nvPr/>
        </p:nvSpPr>
        <p:spPr>
          <a:xfrm>
            <a:off x="384120" y="1365120"/>
            <a:ext cx="858060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8699400" y="0"/>
            <a:ext cx="28260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450684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4994280" y="6492960"/>
            <a:ext cx="44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77D-347C-4473-ADAE-9E6B56E93C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ubtitle 2"/>
          <p:cNvSpPr/>
          <p:nvPr/>
        </p:nvSpPr>
        <p:spPr>
          <a:xfrm>
            <a:off x="5375160" y="4648320"/>
            <a:ext cx="3768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5994360" y="1981080"/>
            <a:ext cx="2400480" cy="2524320"/>
            <a:chOff x="5994360" y="1981080"/>
            <a:chExt cx="2400480" cy="2524320"/>
          </a:xfrm>
        </p:grpSpPr>
        <p:sp>
          <p:nvSpPr>
            <p:cNvPr id="515" name="Oval 8"/>
            <p:cNvSpPr/>
            <p:nvPr/>
          </p:nvSpPr>
          <p:spPr>
            <a:xfrm>
              <a:off x="6083280" y="2043000"/>
              <a:ext cx="22323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6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994360" y="1981080"/>
              <a:ext cx="24004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Freeform 10"/>
          <p:cNvSpPr/>
          <p:nvPr/>
        </p:nvSpPr>
        <p:spPr>
          <a:xfrm>
            <a:off x="0" y="2666880"/>
            <a:ext cx="562284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422280" y="2971800"/>
            <a:ext cx="4707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10"/>
          <p:cNvSpPr/>
          <p:nvPr/>
        </p:nvSpPr>
        <p:spPr>
          <a:xfrm>
            <a:off x="352440" y="6405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5F82-8EDE-49C2-893A-FFC63340F8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خطو ة الثالثة: أستخلاص النتائ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cs typeface="PT Bold Heading"/>
              </a:rPr>
              <a:t>وترتبط هذه الخطوة بتلخيص النتائج التي تم التوصل إليها من خلال تحليل استبانة المعرفة بقسمي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1943280" y="6377040"/>
            <a:ext cx="52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C3A8-F1EA-4D78-8CD9-4DD4D6E6C33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عنوان 1"/>
          <p:cNvSpPr/>
          <p:nvPr/>
        </p:nvSpPr>
        <p:spPr>
          <a:xfrm>
            <a:off x="773280" y="549360"/>
            <a:ext cx="7878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لمحتوى 2"/>
          <p:cNvSpPr/>
          <p:nvPr/>
        </p:nvSpPr>
        <p:spPr>
          <a:xfrm>
            <a:off x="94284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itle 1"/>
          <p:cNvSpPr/>
          <p:nvPr/>
        </p:nvSpPr>
        <p:spPr>
          <a:xfrm>
            <a:off x="773280" y="120600"/>
            <a:ext cx="78786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9840" y="297144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Group 5" descr=""/>
          <p:cNvPicPr/>
          <p:nvPr/>
        </p:nvPicPr>
        <p:blipFill>
          <a:blip r:embed="rId1"/>
          <a:stretch/>
        </p:blipFill>
        <p:spPr>
          <a:xfrm>
            <a:off x="5870520" y="1884240"/>
            <a:ext cx="2597040" cy="271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165480" y="3352680"/>
            <a:ext cx="260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"/>
          <p:cNvSpPr/>
          <p:nvPr/>
        </p:nvSpPr>
        <p:spPr>
          <a:xfrm>
            <a:off x="3165480" y="2209680"/>
            <a:ext cx="2482920" cy="1236960"/>
          </a:xfrm>
          <a:custGeom>
            <a:avLst/>
            <a:gdLst>
              <a:gd name="textAreaLeft" fmla="*/ 0 w 2482920"/>
              <a:gd name="textAreaRight" fmla="*/ 2482920 w 24829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logo EDE.png"/>
          <p:cNvPicPr/>
          <p:nvPr/>
        </p:nvPicPr>
        <p:blipFill>
          <a:blip r:embed="rId2"/>
          <a:stretch/>
        </p:blipFill>
        <p:spPr>
          <a:xfrm>
            <a:off x="844560" y="2133720"/>
            <a:ext cx="19461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34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خطوات مراجعة القدرات</a:t>
            </a:r>
            <a:br>
              <a:rPr sz="4400"/>
            </a:b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معرفيةبالمنظم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خامس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خطوات مراجعة القدرات المعرف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هدف مراجعة القدرات المعرفية إلى حل مشاكل الأعمال في المنظمة من خلال النقاط التالي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601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ا هي المعرفة المتاحة حالياً في القسم أو الإدارة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ea typeface="PT Bold Heading"/>
              </a:rPr>
              <a:t>(المنطقة المستهدفة) 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خلال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المعرفة المتاحة حالياً والمحتمل الحصول عليها من المصادر المختلفة، وتحديد العوامل البيئية التي تؤثر على القسم أو الإدار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وتخصيص (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تصنيف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 ) المعرفة الضمنية والمعرفة الواضحة في المنطقة المستهدف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بناء خريطة المعرفة لتصنيف وتدفق المعرفة في المنظمة وكذلك في القسم أو الإدارة المستهدفة (هذه الخريطة متعلقة بــ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فراد الوثائق الأفكار الموارد الخارجية ودرجة كثافتها التي تحدد سهولة أو صعوبة حصول الأفراد على المعرفة منها</a:t>
            </a:r>
            <a:r>
              <a:rPr b="0" lang="ar-SA" sz="18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تحديد المعرفة التي تفتقر إليها المنطقة المستهدفة وتشم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عمل تحليل فجوة لتحديد ما هي المعرفة التي تفتقدها لتحقيق أهداف الأعما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f5e"/>
                </a:solidFill>
                <a:latin typeface="Calibri"/>
                <a:cs typeface="PT Bold Heading"/>
              </a:rPr>
              <a:t>تحديد من يحتاج إلى هذه المعرفة المفقود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00"/>
              </a:spcBef>
              <a:buClr>
                <a:srgbClr val="003f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2400" spc="-1" strike="noStrike">
                <a:solidFill>
                  <a:srgbClr val="003f5e"/>
                </a:solidFill>
                <a:latin typeface="Calibri"/>
                <a:ea typeface="PT Bold Heading"/>
              </a:rPr>
              <a:t>) الحصول على التوصيات من مراجعة القدرات المعرفية للإدارة من خلال النظر إلى الوضع القائم والتحسينات الممكنة لأنشطة إدارة المعرفة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يقسم الاستبيان إلى قسم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أول: يغطي الخطوة الأولى في مراجعة القدرات المعرف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قسم الثاني: يغطي الخطوة 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f5e"/>
                </a:solidFill>
                <a:latin typeface="Calibri"/>
                <a:cs typeface="PT Bold Heading"/>
              </a:rPr>
              <a:t>أما الخطوة الثالثة من المراجعة تستخلص من الخطوة الأولى والثان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أداة المستخدمة في مراجعة القدرات   المعرفية ( استبيان المعرفة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222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أول: تحديد ما هي المعرفة المتوفرة حالياً في المنطقة المستهد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ضع قائمة محددة لتقسيمات المعرفة التي تحتاج إليها في وظيفت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أي تقسيمات ا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متاحة حالياً لديك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499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Calibri"/>
                <a:cs typeface="PT Bold Heading"/>
              </a:rPr>
              <a:t>لكل تقسي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لمعرفة المحددة في السؤال رقم (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)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؟ من فضلك أعطي أمثلة محددة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عدد المصادر التي تحصل على المعرفة منها؟ وأي المصادر تستخدم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بالإضافة إليك من الذي من المحتمل أن يحتاج إ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ستخدم أنت والأخرون المعرفة المحددة في السؤال رقم 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ؤلاء الذين من المحتمل أن يستخدموا هذه المعرفة؟ ومن من المحتمل ألا يحصل ع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عمليات الرئيسية التي تستخدمها للحصول على هذه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تستخدم تلك المعرفة لتحقيق فوائد القيمة المضافة لمنظمت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تأثيرات البيئية الخارجية التي تؤثر على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9760" indent="-41580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الذي تتوقع أن يساعدك استخدام المعرفة كما هي؟ أم تحويلها لتكون أكثر فعالي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جزاء في تلك المعرفة التي تعتبرها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ممكن الوصول إليها، مدى غزارتها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 ضئيلة أو متفرق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 قديمة منتهية الصلاحية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1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كيف يمكن أن ترسل المعرفة الحالية؟ ما هي الطريقة الأكثر فعالية في أرسال المعرف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2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	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م الخبراء الذين في حوزة المنظمة ولديهم أنواعاً من المعرفة تحتاج إليه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3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في أي شكل من أشكال المعرفة  تستطيع الحصول عليها من الخبراء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4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الوثائق الرئيسية والموارد الخارجية التي تستخدمها أو التي تحتاج إليها لإنجاز وظيفتك بصورة أيسر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(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15</a:t>
            </a:r>
            <a:r>
              <a:rPr b="0" lang="ar-SA" sz="1600" spc="-1" strike="noStrike">
                <a:solidFill>
                  <a:srgbClr val="003f5e"/>
                </a:solidFill>
                <a:latin typeface="Calibri"/>
                <a:ea typeface="PT Bold Heading"/>
              </a:rPr>
              <a:t>) ما هي أنواع المعرفة التي تحتاج إليها كجزء من عملك اليومي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قصير (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2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002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الأجل الطويل (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5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قسم الثاني: ما هي المعرفة التي نفتقدها في المنطقة المستهدف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أسئلة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حتاج إليها لأداء وظيفتك بصورة أفضل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ما هي تقسيمات المعرفة التي تعيد استخدامها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هل لديك أمثلة على معرفة لا يمكن أعادة استخدامها . ولكن إعادة استخدامها سوف تكون 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499"/>
              </a:spcBef>
              <a:buClr>
                <a:srgbClr val="af9738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f9738"/>
                </a:solidFill>
                <a:latin typeface="Calibri"/>
                <a:cs typeface="PT Bold Heading"/>
              </a:rPr>
              <a:t>لكل تقسيم من تقسيمات المعرفة في السؤال رقم 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af9738"/>
                </a:solidFill>
                <a:latin typeface="Calibri"/>
                <a:ea typeface="PT Bold Heading"/>
              </a:rPr>
              <a:t> أجب عما يلي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لى أي درجة يمكن تحسين مستوى الأداء لكل المعرفة الممكن الوصول إليها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يمكن أن يخدم المصدر المحتمل لتلك المعرف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88400" indent="-4204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أنواع الأسئلة التي تستطيع أن تجد لها إجابة عندك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736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لكل نوع من المعرفة المحددة في هذا السؤال أجب على الأسئلة التال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فتقد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57716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نواع المرتبطة ب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أداء الوظيف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مزايا التنافسية للمنظم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8000" indent="-42048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الأسئلة الإدارية البسيطة</a:t>
            </a:r>
            <a:r>
              <a:rPr b="0" lang="ar-SA" sz="1200" spc="-1" strike="noStrike">
                <a:solidFill>
                  <a:srgbClr val="ff0000"/>
                </a:solidFill>
                <a:latin typeface="Calibri"/>
                <a:ea typeface="PT Bold Heading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أي الإدارات أو الأفراد الذين تعتقد أنهم لا يجيبون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إذا كانت الإجابة على السؤال السابق بلا فلما بريك  لا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المجالات تسأل نفسك نفس الأنواع المتكررة من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الذي تم سؤاله ولم يجب على الأسئلة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في أي إدارة يعمل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وفي أي مستوى وظيفي؟ المسمى الوظيف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r" rtl="1">
              <a:spcBef>
                <a:spcPts val="400"/>
              </a:spcBef>
              <a:buClr>
                <a:srgbClr val="003f5e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3f5e"/>
                </a:solidFill>
                <a:latin typeface="Calibri"/>
                <a:cs typeface="PT Bold Heading"/>
              </a:rPr>
              <a:t>من هي الإدارات أو من هم الأفراد الذين لديهم أتصال معك بالمعلومات؟ لك إدارة أو فرد أجب عن الأسئلة التالية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مستوى التنظيمي الذي يشغله المستقصي من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هل المستقصي منه جديد ( أقل من سنة )     متوسط الأجل  (  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1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-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   طويل الآجل  ( أكثر من 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3</a:t>
            </a: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أسئلة التي تسألها للأخرين بالمنظم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عرفة المطلوبة والتي تعتبر   ( ضرورية لأداء العمل )    ( ضرورية لتحقيق المزايا التنافسية للمنظمة )   ( ضرورية للوصول للإبتكارات)       ( التي انتهت صلاحيتها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آليات التي قد تكون مفيدة لتشجيع مشاركة المعرفة ونقلها في منظم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ي المظاهر التي تعوق الإدارة الفعالة للمعرفة؟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ea typeface="PT Bold Heading"/>
              </a:rPr>
              <a:t>( ما هي قيود مشاركة ونقل المعرفة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ما هو السبب الرئيسي الذي ينتج عنه الأخطاء في وظيفتك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28880" indent="-228600" algn="r" rtl="1">
              <a:spcBef>
                <a:spcPts val="300"/>
              </a:spcBef>
              <a:buClr>
                <a:srgbClr val="003f5e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3f5e"/>
                </a:solidFill>
                <a:latin typeface="Calibri"/>
                <a:cs typeface="PT Bold Heading"/>
              </a:rPr>
              <a:t>كم من الوقت ينقضي للبحث عن المعرفة التي تطلبها؟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8:59:50Z</dcterms:created>
  <dc:creator>Mohammad Ahmed Algezawy</dc:creator>
  <dc:description/>
  <dc:language>en-US</dc:language>
  <cp:lastModifiedBy>Windows User</cp:lastModifiedBy>
  <dcterms:modified xsi:type="dcterms:W3CDTF">2011-10-17T12:19:07Z</dcterms:modified>
  <cp:revision>2</cp:revision>
  <dc:subject/>
  <dc:title>عرض تقديمي في PowerPoint</dc:title>
</cp:coreProperties>
</file>