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F8A0-AED7-4380-B303-515448DA8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1B5D-0C24-45CD-9BB4-53F9E4013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A436-45EE-4962-80D2-5EC18DCBF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531-481B-46B6-9740-53B7128D4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1B28-D1B5-439C-AFA1-ADF3BE372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5826-1B51-4E76-8F07-A7B0656D3C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442B-FE1E-4FB2-9E25-AB454AC170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C67E-AF7D-414D-8CAC-0495C4DC72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149C-D3A9-42F0-BC4E-A6B4242256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E730-0C19-4BB9-8C53-6173E4816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23B4-5AEE-4BA7-AB9E-37517B5B65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B2DB-F232-4559-A676-0E65F72EF0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4DE0-CB12-48C1-97ED-D2C4FC2E19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5358-9DAA-4D1D-A633-D71DA3F184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B2E3-280E-428E-AD56-200B7AA195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8087-C1F0-4039-9B07-8F20A0F801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C760-ABF5-45D0-A41E-93E822A5F3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CC4A-E24B-48B4-8908-F297BCA277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E675-5D28-468E-AC70-57D1B7B25B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1726-36C7-4252-9D98-A0B04CB0B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90FD-4E64-4ED3-AD64-5E8FDBA10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D6EA-CC9E-43AF-B9FD-C8683A9F3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08C3-245A-4D49-B93E-29BF3BCD4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1C13-E970-4AC0-B572-E3A3F808C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BE4-E66A-44CF-80F8-2835FD6F654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57AC-190B-4AC1-ADF2-C18E24BEC98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9C2-E542-435D-AE6D-A9C2B4C9210B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2A51-7261-4BCA-A46E-D93F4D3CF5E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8D29-43CB-4D8E-B2CE-E7CAACBE0FB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9CD2-10B4-4318-8BAA-F802DEAB604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F5FD-B99F-41D7-AE21-7AC7E4619A6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8B8F-6BE5-474F-93F4-DEC41E492F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4C7-C603-4788-8553-8853538E47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ضرة</a:t>
            </a:r>
            <a:r>
              <a:rPr b="0" lang="ar-EG" sz="4400" spc="-1" strike="noStrike">
                <a:solidFill>
                  <a:srgbClr val="37609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مهي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تعريف بمقرر إدارة المعرف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هدف المقرر العام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D3A-9785-4653-82FE-18CA8168B25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447920" y="2286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رسيخ القواعد والمفاهيم الأساسية لإدارة المعرفة، وآليات التعامل مع رأس المال المعرفي، وأفضل تطبيقاته في قطاع الأ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أهداف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AFE-9FF6-4A61-ACC6-6E8ED2C8CD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838080" y="182880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ن يتعرف الطالب على مفاهيم ومبادئ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مكن الطالب من مراجعة القدرات المعرفية ل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حسن الطالب التعامل مع سلسلة القيمة للمعرفة ومصفوف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فهم الطالب ماهية الأصول المعرفية وخصائصها وعملية نق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تعرف الطالب على الدراسات المبكر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PT Bold Heading"/>
              </a:rPr>
              <a:t>أن يجيد الطالب التعامل مع دراسات الحالة في إدارة المعرف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محتويات المنهج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4028-2550-4F00-9B4F-EE8ACE10A5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143000"/>
          <a:ext cx="7467480" cy="5187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قائمة الموضوع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973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فاهيم ومبادئ إدارة 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راتيجية إدارة المعرفة ومسئولية قيادة المنظمات تجاه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اجعة القدرات المعرف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سلسلة القيمة للمعرفة ، ومصفوف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مليات إنتاج المعرفة والتحديات التي تقابلها المنظ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صول المعرفية وخصائصها وعملية نقل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ظمة المتعلم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ئة المعرفية(مشاركة البيئة في البناء المعرفي، بناء وترابط البيئة المعرفية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راسات المبكرة في إدارة 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4212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دراسة حالات في إدارة المعرف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3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كتاب المقرر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F840-0642-40E9-875C-BD4DE21F3B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47920" y="15606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الإدارة الاستراتيجية للمعرفة – د. ممدوح عبد العزيز رفاعي – طبع بمعرفة المؤلف – القاهرة –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7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** إدارة المعرفة – د. سعد غالب ياسين – دار المسيرة للطباعة والنشر-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2006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  <a:ea typeface="PT Bold Headi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14440" y="3313080"/>
            <a:ext cx="974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كتاب متوفر لد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جرير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- مكتبة العبيكان بجميع فروعها في أنحاء الممل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كت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مراجع الإضافية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974-2C06-4A0A-8285-30F820B3DB5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198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n Wei Choo, the Knowing organization: how organization use information to construct meaning create knowledge, and make decisions, Oxford university press, 199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E653-8A79-4C57-94F9-72799960F5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838080" y="546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99072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1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2362320"/>
          <a:ext cx="7086600" cy="2225520"/>
        </p:xfrm>
        <a:graphic>
          <a:graphicData uri="http://schemas.openxmlformats.org/drawingml/2006/table">
            <a:tbl>
              <a:tblPr/>
              <a:tblGrid>
                <a:gridCol w="2386080"/>
                <a:gridCol w="47005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نشا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شاركة في منتديات الحوار على البلاك بور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حضور المحاضرات المسجلة والمحاضرات المباش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واجبات المنزل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7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ختبار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در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موع النهائ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4d52"/>
                </a:solidFill>
                <a:latin typeface="Calibri"/>
                <a:cs typeface="PT Bold Heading"/>
              </a:rPr>
              <a:t>توزيع الدرجات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7E37-708C-4CB7-A7B1-36EDED69966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62120" y="15238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ساعات المكتب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رقم جوال المقر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05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alibri"/>
                <a:cs typeface="PT Bold Heading"/>
              </a:rPr>
              <a:t>سيكون الجوال مفتوح في الأوقات المحددة بعالية وسيتم إغلاقة خارج هذه الأوقات، لذا على الجميع التقيد بهذه المواع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70c0"/>
                </a:solidFill>
                <a:latin typeface="Calibri"/>
                <a:cs typeface="PT Bold Heading"/>
              </a:rPr>
              <a:t>البريد الإلكترون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PT Bold Heading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ezawy@kfu.edu.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905120"/>
          <a:ext cx="4572000" cy="1482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وق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يو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ب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2.00-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ثن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0.30-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ثلاث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81240" y="1519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4d52"/>
                </a:solidFill>
                <a:latin typeface="Calibri"/>
                <a:cs typeface="PT Bold Heading"/>
              </a:rPr>
              <a:t>الساعات المكتبية وجوال المقرر والبريد الإلكتروني</a:t>
            </a:r>
            <a:r>
              <a:rPr b="0" lang="ar-SA" sz="4000" spc="-1" strike="noStrike">
                <a:solidFill>
                  <a:srgbClr val="4f4d52"/>
                </a:solidFill>
                <a:latin typeface="Calibri"/>
                <a:ea typeface="PT Bold Heading"/>
              </a:rPr>
              <a:t>: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user</cp:lastModifiedBy>
  <dcterms:modified xsi:type="dcterms:W3CDTF">2011-10-07T12:53:55Z</dcterms:modified>
  <cp:revision>109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