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8092-D64C-4B26-A30B-A1CD9F663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5811-3926-4E6E-A210-F18835EC5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4600-1DDB-46A7-8DC2-983130561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BC0A-4C6C-4B55-9A7B-93095EC3F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9457-69EB-4A53-B1AE-73176EBF3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39CD-F340-443F-B893-F82C6BFEE3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4954-EE91-4BAA-9912-B4433A32F2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534F-B21E-400B-8803-EE562F3275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C457-2FB0-4884-B5AA-89B7D6D7E2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F441-154E-43C0-BFB2-4335DD3A60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436B-F7DB-4686-9A8C-D9B050C1FF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A677-1B81-45F3-8A74-958F64D9A1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9FF9-0195-4E67-B2C9-4BB7D5E6F5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247C-DE5A-4322-95DB-A692EBC3EC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2A89-DCB7-4B7F-85B6-788DA976BD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7227-711E-462F-9D9C-AF6554E9ED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E8A0-7BD2-4F53-83AA-AF72D5E24F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7C89-5361-409C-862E-EF8E0ADDCD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BF3A-256D-4F1B-88AD-6FD80A6C2E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DFFF-A2A0-4A4D-9706-5CBD2AD66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726D-6F23-48C5-8521-4BF04A801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A356-5E37-4D3B-84AD-847DE5C8E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C8CF-C2C0-455B-83DD-CC4029EC0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3E85-53F8-42D6-818A-C77E07249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E2E8-10C7-41F6-99F5-B609A163E9A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7EE5-2C95-4D87-8826-709209B795BE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F0C-2E7A-4E1C-8798-D00FFFFAA179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FD2E-6911-45AD-9E6A-359BB293212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9467-254F-464A-A11C-AD989471CC63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25E0-35EC-456A-9887-9F9532E1C38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E4D7-83D6-4A41-AFC9-6E22110736A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95000" y="20574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4)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ذاتية.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عملية تحول المعرفة الواضحة إلى معرفة ضمني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فهي مرتبطة ارتباط وثيق بالتعلم من خلال الممارسة داخل المنظمة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هذه العملية عدة أشكال منها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حاكاة والتجري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3646-4EBF-48CD-AA7C-64CD75D6B78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B33C-31F5-48B9-A1FF-476A8A4B182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مليات صناع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ثام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فهوم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CA9C-BACE-491A-A837-1E7524C3400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5800" y="1600200"/>
            <a:ext cx="8686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نه عملية ذاتية ومستمرة تتجاوز الوجود المادي للحدود القديمة للنفس إلى النفس الجديدة من خلال الاستحواذ على البيئة الجديدة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وجهة نظر جديدة للمعرفة الجديد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812880" y="38862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عتبر عملية تكوين المعرفة والابتكار أمراً بالغ الأهمية حيث يضمن للمنظمة تطبيق أنواع حديثة من المعرفة بما يحفظ لها الصدارة بين منافس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عملية صناع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مد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ملية صناعة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لى خمس مراحل أساسية ه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بحث عن معلومات جد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ختيار المعلومة المناسب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نقل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فكير ( التفكير العميق- السببية – التقييم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5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خبرة في اختبار الفهم لهذه المعلو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النظر </a:t>
            </a: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لعملية صناعة المعرفة واستخدمها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زاوية أخرى من خلال أربعة خطوات هي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أليف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تصديق على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شاركة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4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	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الأفكار المفيد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خمس توجهات أولية مختلف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الاستحواذ على المعرفة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البحث عن المعرفة الموجودة وفهم متطلباتها والبحث عنها في عدة مصادر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الذكاء التنافسي بين الشركات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خلق معرفة جديد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ل أنشطة البحوث في شركات الدواء وعملية الإبتكار في مجال الإعلان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جميع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النشر يعتبر مثال أولي لتجميع المعرفة وعمليات التصميم والطباعة وتصحيح بروفات الطباعة أعمال تراكمية للنش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تطبيق المعرفة المتا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 الطبيب لا يتوقع أن يصنع الطبيب معرفة جديدة بل يطبق المعرفة الطبية المتوافرة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ب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عض المنظمات تركز على إعادة استخدام المعرف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مثال عمليات تطوير المنتج من خلال المعرفة السابقة في المنظمة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نموذج صناعة المعرفة الديناميكي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26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93560" y="1352520"/>
            <a:ext cx="89186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صناعة المعرفة من العناصر الخارجي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مخطط انسيابي: استخراج 2"/>
          <p:cNvSpPr/>
          <p:nvPr/>
        </p:nvSpPr>
        <p:spPr>
          <a:xfrm>
            <a:off x="4114800" y="2743200"/>
            <a:ext cx="3276720" cy="2514600"/>
          </a:xfrm>
          <a:prstGeom prst="flowChartExtract">
            <a:avLst/>
          </a:prstGeom>
          <a:gradFill rotWithShape="0">
            <a:gsLst>
              <a:gs pos="0">
                <a:srgbClr val="d5ebbf"/>
              </a:gs>
              <a:gs pos="100000">
                <a:srgbClr val="f3faed"/>
              </a:gs>
            </a:gsLst>
            <a:lin ang="16200000"/>
          </a:gradFill>
          <a:ln w="9360">
            <a:solidFill>
              <a:srgbClr val="99ad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استخراج 5"/>
          <p:cNvSpPr/>
          <p:nvPr/>
        </p:nvSpPr>
        <p:spPr>
          <a:xfrm>
            <a:off x="1828800" y="2743200"/>
            <a:ext cx="3276720" cy="2514600"/>
          </a:xfrm>
          <a:prstGeom prst="flowChartExtract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وسيلة شرح على شكل سحابة 4"/>
          <p:cNvSpPr/>
          <p:nvPr/>
        </p:nvSpPr>
        <p:spPr>
          <a:xfrm>
            <a:off x="5105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وسيلة شرح على شكل سحابة 7"/>
          <p:cNvSpPr/>
          <p:nvPr/>
        </p:nvSpPr>
        <p:spPr>
          <a:xfrm>
            <a:off x="2819520" y="1447920"/>
            <a:ext cx="1447560" cy="990360"/>
          </a:xfrm>
          <a:prstGeom prst="cloudCallout">
            <a:avLst>
              <a:gd name="adj1" fmla="val -4069"/>
              <a:gd name="adj2" fmla="val 78175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  <a:cs typeface="PT Bold Heading"/>
              </a:rPr>
              <a:t>العملاء/ المورد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وسيلة شرح مع سهم إلى الأعلى 8"/>
          <p:cNvSpPr/>
          <p:nvPr/>
        </p:nvSpPr>
        <p:spPr>
          <a:xfrm>
            <a:off x="3886200" y="4952880"/>
            <a:ext cx="1371600" cy="1219320"/>
          </a:xfrm>
          <a:prstGeom prst="upArrowCallout">
            <a:avLst>
              <a:gd name="adj1" fmla="val 25000"/>
              <a:gd name="adj2" fmla="val 24997"/>
              <a:gd name="adj3" fmla="val 46833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ساحة الفهم والثقة المتبادلة تتكون من خلال الخب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رابط مستقيم 10"/>
          <p:cNvSpPr/>
          <p:nvPr/>
        </p:nvSpPr>
        <p:spPr>
          <a:xfrm>
            <a:off x="685800" y="3809880"/>
            <a:ext cx="731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مستطيل مستدير الزوايا 12"/>
          <p:cNvSpPr/>
          <p:nvPr/>
        </p:nvSpPr>
        <p:spPr>
          <a:xfrm>
            <a:off x="99072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مستطيل مستدير الزوايا 14"/>
          <p:cNvSpPr/>
          <p:nvPr/>
        </p:nvSpPr>
        <p:spPr>
          <a:xfrm>
            <a:off x="990720" y="2971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مستطيل مستدير الزوايا 15"/>
          <p:cNvSpPr/>
          <p:nvPr/>
        </p:nvSpPr>
        <p:spPr>
          <a:xfrm>
            <a:off x="274320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حاجات، المعرفة النماذج العق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مستدير الزوايا 16"/>
          <p:cNvSpPr/>
          <p:nvPr/>
        </p:nvSpPr>
        <p:spPr>
          <a:xfrm>
            <a:off x="4876920" y="411480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  <a:cs typeface="PT Bold Heading"/>
              </a:rPr>
              <a:t>معرفة عن المنتجات ، الأسواق، النماذج العقل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مستدير الزوايا 17"/>
          <p:cNvSpPr/>
          <p:nvPr/>
        </p:nvSpPr>
        <p:spPr>
          <a:xfrm>
            <a:off x="3886200" y="297180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Calibri"/>
                <a:cs typeface="PT Bold Heading"/>
              </a:rPr>
              <a:t>تبادل المعرفة الواضحة من خلال  المناقشات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رابط كسهم مستقيم 18"/>
          <p:cNvCxnSpPr>
            <a:stCxn id="234" idx="3"/>
            <a:endCxn id="236" idx="1"/>
          </p:cNvCxnSpPr>
          <p:nvPr/>
        </p:nvCxnSpPr>
        <p:spPr>
          <a:xfrm>
            <a:off x="2286000" y="434304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رابط كسهم مستقيم 20"/>
          <p:cNvCxnSpPr>
            <a:endCxn id="237" idx="1"/>
          </p:cNvCxnSpPr>
          <p:nvPr/>
        </p:nvCxnSpPr>
        <p:spPr>
          <a:xfrm>
            <a:off x="4038120" y="4343040"/>
            <a:ext cx="839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رابط كسهم مستقيم 22"/>
          <p:cNvCxnSpPr>
            <a:endCxn id="238" idx="1"/>
          </p:cNvCxnSpPr>
          <p:nvPr/>
        </p:nvCxnSpPr>
        <p:spPr>
          <a:xfrm>
            <a:off x="2285640" y="3200040"/>
            <a:ext cx="1600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رابط كسهم مستقيم 24"/>
          <p:cNvCxnSpPr/>
          <p:nvPr/>
        </p:nvCxnSpPr>
        <p:spPr>
          <a:xfrm flipV="1">
            <a:off x="3429000" y="3428280"/>
            <a:ext cx="2324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رابط كسهم مستقيم 26"/>
          <p:cNvCxnSpPr/>
          <p:nvPr/>
        </p:nvCxnSpPr>
        <p:spPr>
          <a:xfrm flipV="1">
            <a:off x="5715000" y="3428280"/>
            <a:ext cx="38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مربع نص 27"/>
          <p:cNvSpPr/>
          <p:nvPr/>
        </p:nvSpPr>
        <p:spPr>
          <a:xfrm>
            <a:off x="5676840" y="32767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تجسيد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ربع نص 28"/>
          <p:cNvSpPr/>
          <p:nvPr/>
        </p:nvSpPr>
        <p:spPr>
          <a:xfrm>
            <a:off x="7086600" y="35766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0000"/>
                </a:solidFill>
                <a:latin typeface="Arial"/>
                <a:cs typeface="PT Bold Heading"/>
              </a:rPr>
              <a:t>الحد الفاصل بين المعرفة الصريحة والمعرفة الضمنية لدى المنظمة والعناصر الخارج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شكال تحول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1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) العملية الاجتماع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التحول من المعرفة الضمنية إلى المعرفة الضمنية أيضاً من خلال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اكتساب المهنة بصورة تقليدية من خلال قضاء الوقت في التعلم مع المعلم أكثر من اكتسابها من الدراسة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قد تأخذ أكثر من شكل منها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راكم المعرف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 من خلال جمع المديرين للمعلومات ومشاركة الخبرة مع الموردين والعملاء والحوار والنقاش مع المنافسي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7680" indent="-49356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نقل المعرفة الضمن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 الإحتكاك المباشر بالخبراء والمهنيين والنقاش والشرح والأمثلة والتجارب التي ينفذو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9500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2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جسيدية. </a:t>
            </a:r>
            <a:r>
              <a:rPr b="1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ي عملية تحويل المعرفة الضمنية إلى معرفة واضحة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أي أن المعرفة تبلورت مثل عملية تطوير المنتج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r>
              <a:rPr b="0" lang="ar-SA" sz="20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cs typeface="PT Bold Heading"/>
              </a:rPr>
              <a:t>وتأخذ هذه العملية عدة أشكال منها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 </a:t>
            </a:r>
            <a:r>
              <a:rPr b="0" lang="ar-SA" sz="2800" spc="-1" strike="noStrike" u="sng">
                <a:solidFill>
                  <a:srgbClr val="376092"/>
                </a:solidFill>
                <a:uFillTx/>
                <a:latin typeface="ae_AlMateen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سهيل عملية الإبداع لدى الأفراد وصانعي المعرفة بالمنظمة  واستخدام أسلوب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استثارة في مناقشة عملية صناعة المعرفة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ea typeface="PT Bold Heading"/>
              </a:rPr>
              <a:t>(3)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e_AlMateen"/>
                <a:cs typeface="PT Bold Heading"/>
              </a:rPr>
              <a:t>العملية التوافقية.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هي تعني تحويل المعرفة الواضحة إلى معرفة واضحة ولكنها أكثر تعقيداً. 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( حيث يتم جمع المعرفة الواضحة من داخل وخارج المنظمة ويتم توحيدها وطباعتها وتشغيلها وتحويلها في شكل معرفة جديدة)</a:t>
            </a: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e_AlMateen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أخذ عدة أشكال منها التركيب والتشغيل لقواعد البيانات، ومنها النشر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Mohammad Ahmed Algezawy</cp:lastModifiedBy>
  <dcterms:modified xsi:type="dcterms:W3CDTF">2011-10-20T17:48:18Z</dcterms:modified>
  <cp:revision>130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