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743-B116-4796-8C27-84FBF83D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A19-1821-4B07-B9CA-A0C6219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D5F-C261-4764-9F5C-58EDA284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806-D114-431F-9E4F-472350D5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D164-EB33-43D8-BF12-97792C1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9BE9-6CCE-4B7D-B517-322C05F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6B7-E427-458E-91F5-949FE4C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7206-75D2-4366-B353-71ADBE1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C019-8EB7-44C6-AC28-15FF27A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EF2D-7FBF-4572-B66C-50CC71B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ACE1-C5B5-4396-8609-4207170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61F-7832-45C1-9EBD-64B9208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5C12-6049-4CB2-A4F5-363C855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BBCB-5B75-4C20-AE04-95FFEEC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0258-AA2F-4054-8044-72B32A32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71AE-B744-413F-B7F0-FE0BFCB6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B4C-ABA6-4B64-9C37-14BB37D1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348-A4FD-40A6-A596-2222CDE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32F-7667-45BF-ACD4-D203447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65D-787B-4692-A714-89110E9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317-7EAA-4940-970C-C2B6F5D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81F-7CEC-4E64-A9A7-F868C2E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D62-D295-4CD3-ADF9-012625A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D26-3FFE-4F2C-AD2C-795F094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70A-1FFE-41FC-AD49-80789C53CEB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18C-7F21-4704-89F5-715F0E3122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Complex Claus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44792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s. Lubna Bahamm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drive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as i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had no driving lic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ounger sister i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elligent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der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ults of the exam came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a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expec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Manner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semblance, degree, or effe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dent studie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rd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may get the first place on cla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mployee arrives to work on time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le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should be f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da speaks English fluently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lived in the UK for five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atima fails the exam, she has to repea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Caus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son, purpose, condition, or contr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clause that functions as a noun becomes a noun clause and then it can take the pla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verb (direct or indirect),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 object of prepos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ased on its location in the sent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762120" y="533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2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.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oun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a noun/pronoun/noun phrase or clause that represents the doer of the 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 Obj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who or what receives the action of the verb (verb must be a transitive action ver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She kick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∙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direct Obj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to whom or for what the action was done (verb must be a transitive action ver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Her mother g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gift card to the 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 of the Preposi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the noun or pronoun that the preposition refers 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She r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w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lmost fe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ds that introduce noun clau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2193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 clauses can be introduced by words that are also called subordinators AND relative pronouns (this can get tric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Words in green- introduce noun clause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Words in blue – introduce noun &amp; adj cla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in black – introduce noun &amp; adv cla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How, how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et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at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ichever, whomever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at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i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o, whom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oever, whos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ing the function of your noun cla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key to determining if a clause is a noun clause is to first learn and be able to recognize when you see a word that introduces a noun clau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condly, find out where the clause is located in your sentenc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the clause comes right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fter a preposi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then it is a noun clause acting as the object of the preposition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it come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t the beginning of the sentence AND before the acting verb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f the sentence is the subject of the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ntenc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Noun clause functions continued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astly, if the clause come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fter the main action verb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the sentence it will be direct object or indirect objec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44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is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 really do not want to know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6e6000"/>
                </a:solidFill>
                <a:latin typeface="Comic Sans MS"/>
              </a:rPr>
              <a:t>ingredient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in Aunt Nancy's st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gredients = no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place the noun ingredients with a clause, we hav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oun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 really do not want to know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6e6000"/>
                </a:solidFill>
                <a:latin typeface="Comic Sans MS"/>
              </a:rPr>
              <a:t>what Aunt Nancy adds to her ste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unt Nancy adds to her stew”= is a noun clause functioning as the objec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the verb “know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jective Clau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140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 pronouns introduce adjective clau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ost common Relative Pronou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o, whom, which, whomever, whose, what,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lso be relative pronouns used to introduce adjective clauses BUT are most often subordinators- IT DEPENDS ON WHAT IT IS REFERRING TO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f you take the adjective clause out of your sentence, your sentence will still be left with a main cla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lso be a subordinate conjunction that starts an adjective c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Allison likes pathway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re she can s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other people in case of an emergen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ere can she see other people in an emergenc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74880" y="3008160"/>
            <a:ext cx="6797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304920" y="360360"/>
            <a:ext cx="8076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djective clause describes/modifies a nou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pronoun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Modifies - means it refers 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s an adjective modifies a noun or pronoun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jective clause acts in the same way, except it is 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of words acting like an adjective would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Thunderstorm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hich are often quite unpredic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em to arise when the weather forecast least expects them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often quite unpredictable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is made up of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 clau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dependent claus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70c0"/>
                </a:solidFill>
                <a:uFillTx/>
                <a:latin typeface="Comic Sans MS"/>
              </a:rPr>
              <a:t>Adjective Clause Practi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70c0"/>
                </a:solidFill>
                <a:latin typeface="Comic Sans MS"/>
              </a:rPr>
              <a:t>Read each sentence, pick out the complete adjective clause, CIRCLE the relative pronoun and write out the noun or pronoun that your adjective clause modifies</a:t>
            </a:r>
            <a:r>
              <a:rPr b="0" i="1" lang="en-US" sz="24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man who looked pale was very si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He was sitting in the emergency room that was very crow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he woman who you called will be here soo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He lived in chamber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had once belonged to his deceased partne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00" y="228240"/>
            <a:ext cx="7988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Find the adjective clause in the following sentences and which word it modif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I play a kind of music that nobody li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The man whom you saw was not the famous act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I remember the day when I took my first airplane r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I have a neighbor whose parents live in Austral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The hint that I learned about cleaning the walk saved me much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at nobody lik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either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usic or k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 prepositional phrase can separate the introductory word from the word it modifi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om you s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I took my first airplane 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ose parents live in Austral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eighb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at I learned about cleaning the wal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n adverbial subordinate clau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4 kinds of adverbial claus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6665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x sentence are fun to analys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MPj04384650000"/>
          <p:cNvPicPr/>
          <p:nvPr/>
        </p:nvPicPr>
        <p:blipFill>
          <a:blip r:embed="rId1"/>
          <a:stretch/>
        </p:blipFill>
        <p:spPr>
          <a:xfrm>
            <a:off x="2286000" y="838080"/>
            <a:ext cx="426708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 simple sentence? Give examp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’s a compound sentence? Give exampl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’s a complex senten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principal/independent/main cla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know a subordinate cla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3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Types of Dependent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three kinds of dependent clause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jective clau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verb claus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un clau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927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y are they important?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enhance writing; thus, it’s not so choppy. They allow for better fluency when reading; hence, better comprehension, and they break the monotony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064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Subordinate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1219320" y="1676520"/>
            <a:ext cx="2133360" cy="19047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495680" y="1676520"/>
            <a:ext cx="0" cy="83808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5562720" y="1676520"/>
            <a:ext cx="2286000" cy="19047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5720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Nomi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3. Adjecti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019240" y="2514600"/>
            <a:ext cx="5038920" cy="3720960"/>
          </a:xfrm>
          <a:prstGeom prst="rect">
            <a:avLst/>
          </a:prstGeom>
          <a:noFill/>
          <a:ln w="57240">
            <a:solidFill>
              <a:srgbClr val="703d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Adverbial Cla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ubordinate clause that takes the place of an adverb, describ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rb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studies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jective: The cat is extremely cle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nother adverb: He talks very quick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Types of Adverbial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idea they express, adverbial clauses are divided into four kin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3520" y="43434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Place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Manner                      Ca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1066680" y="2895120"/>
            <a:ext cx="6934320" cy="1386360"/>
            <a:chOff x="1066680" y="2895120"/>
            <a:chExt cx="6934320" cy="1386360"/>
          </a:xfrm>
        </p:grpSpPr>
        <p:sp>
          <p:nvSpPr>
            <p:cNvPr id="169" name="Line 4"/>
            <p:cNvSpPr/>
            <p:nvPr/>
          </p:nvSpPr>
          <p:spPr>
            <a:xfrm>
              <a:off x="1066680" y="36576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>
              <a:off x="1066680" y="3672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327672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550080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00100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4495680" y="28951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52640" y="6094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Tim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particular time, duration, or frequ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Dur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ay in London, I visited many pla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ather left to work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woke up this mor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by cried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was coo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Plac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place, from a place, or to a pla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re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go, I am used to taking my cat with 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was ordered to go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ca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l find your book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put it last 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bna</dc:creator>
  <dc:description/>
  <dc:language>en-US</dc:language>
  <cp:lastModifiedBy>almas</cp:lastModifiedBy>
  <dcterms:modified xsi:type="dcterms:W3CDTF">2013-10-03T10:20:2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