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8"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move the slide</a:t>
            </a:r>
            <a:endParaRPr b="0" lang="en-US" sz="4400" spc="-1" strike="noStrike">
              <a:solidFill>
                <a:srgbClr val="376092"/>
              </a:solidFill>
              <a:latin typeface="Calibri"/>
            </a:endParaRPr>
          </a:p>
        </p:txBody>
      </p:sp>
      <p:sp>
        <p:nvSpPr>
          <p:cNvPr id="5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24A1-87A9-4CC6-9C6F-26191178F29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52560" y="685800"/>
            <a:ext cx="495288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AE78-CCE1-4693-9A57-D4BDB613BC2C}"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52560" y="685800"/>
            <a:ext cx="495288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C719-AA60-4616-A1E2-3CB9FAB2B4AC}"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D9008-2745-4583-AB73-F16A3CB73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04126D5-6CE3-40DF-837F-A0B7A5EC31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D8C0D82-4E01-4246-829F-D65E601085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60FC96E-D294-4175-8A89-ADF6766A81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4696798-4B62-4D10-AC7D-8DF5858DC4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B86542-D971-4E8B-B020-6FA2C001DFF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B27B55-B63E-49E4-B503-09ACF11098F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CC28DD-96C8-4778-A925-6F7DCD50CD1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654BB1D-B1DD-4950-B9E9-1E9076E224C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B8756FF-74E1-4C97-A992-ED2F26DD4E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AB2EDAF-AC4C-423A-9CF2-8650BE541E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C3AAB7-8D2F-4649-9F33-CAC4760A1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F19B4F8-FBCA-47DE-AAE7-AABA5E65B9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73383A-8AA6-458C-8AC6-95EB9153C9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64AA4DF-9D58-4F57-A0E6-DC0C80B2FF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EC6BDF5-2665-4F43-B5A0-59F592A7DD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E50D9B0-C4AD-4B2A-A891-777FA1C8D8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70E6312-E8B9-4F99-8FB7-83B621095CB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EFFF9E-FC99-430A-B557-36AEE06486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E4B235-DC3E-486D-8E84-9C038A468CA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430317-0634-4696-8A04-C79E3B8789A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F346CB-51D3-4E1B-B285-444F33EC4AB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56F2CED-70DF-4927-8401-189C5F97A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05A2DFC-B29A-4003-8592-063F8AB3BE8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34E9CE7-F005-42A7-AEBD-112AE90DD7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BBACEC0-D43C-4B64-8B9C-3094281AD85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F89B020-2C6A-44B5-8780-5E5F5170CCB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5F88630-1DD1-4CB3-9907-DDFA2435D71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B7046F-2963-4856-9AC3-BA02A952ACC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5F67303-7D0C-4384-B144-6BFE83798B6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E1CFF4B-912C-454B-9BDB-7944868399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252988A-D49B-42E2-9C63-CC6BBE22D8A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B2AEC5-02D9-48F1-98C6-8EDF3D5BAC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DA54E0-0E03-4D73-8C2C-8E33C0078F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A9809F-FEB0-474B-8E3D-C269906537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4BD8125-395B-48B9-BC1E-13A0D8AA89D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3CCE852-1305-49DB-82D5-AC4FBDC435A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8BF69DD-E6BA-40F8-A02F-3446AB4CB38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12C4949-B154-4779-B61E-15F075114FB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0265FD1-3703-4D74-880E-1FCB8AFC409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05BA1F8-D686-4B76-935E-F04DBA4F953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1586104-B29D-496F-A711-58BDCAFDDD6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62208CE-AB50-46F0-A1D7-6A98FFD33B2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A0BDD62-1DC5-4675-BE3C-5EBBABA8F27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99C6AB-5686-46A7-AF66-E27C7E97AD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A4D66A-F400-4E7F-89DE-50D0B75E721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92B275-A495-464F-B3E2-C5F4105473A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A553C9-6D20-44CE-B1FF-0C75A59109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18F4FF-9A2E-493E-9799-F0AC2A2293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E5C60B9-4334-4E74-BE4D-7D8C23208B9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AB5A6B8-D1B7-4FD4-862E-6EFED6A958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F9848F-2587-4175-A5C5-B3E977133B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0F8A5A-F0EA-439C-BFAB-76FE57133F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D97DA34-88E8-49A7-85E0-80B25A8C46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A1CAC7E-7C5F-41E4-AF5E-204F0CF10C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7172B8F-B9D9-44AD-9B3B-CC585C7B48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319F9A3-CDAF-4436-A398-B0A1C8C3E7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0E6F11-061A-4E90-BD8E-1B6B22B9E7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E2F087-5C50-457D-BAA0-FDC8CF0519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037EB7-A4B1-4592-BE35-D1CF807112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510DD61-BF85-4927-926B-6EBD504D09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E9A00CA-EF66-4225-80A6-3AD2EF69208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527F7D5-C5C9-4B8C-BAD0-902F73B945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2165D04-2DB6-4CFE-B91E-9579321DCB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FD0CB3E-8C0D-4648-AF54-8D69C83400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BA73B8A-734E-4602-B485-B27DD4316F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966CFB-F303-4462-AFFB-903B6ABAF1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730080-691C-40F8-99B2-7F2A7C43C19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22934B-6872-4301-8DE1-3B772C323C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62A091-63EE-4CD3-8240-13126A3325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5F5D5CD-8B59-426B-9E19-188E70FF7BF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4C9D22-BE13-48FC-8175-450D92FA61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CF40-DD4F-45A2-B6A2-316F27C4B0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361F-DC15-4DFC-B4D2-2192926E5E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A39B-0C8B-438A-9B80-8981F6A18F7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43C8-AFC7-4BDD-877C-C10745E496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DC39-FE89-4E8B-8539-2CD5E59405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9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94"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0B08-3697-4E05-B4C8-2F58703D23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Subtitle 2"/>
          <p:cNvSpPr/>
          <p:nvPr/>
        </p:nvSpPr>
        <p:spPr>
          <a:xfrm>
            <a:off x="5823000" y="4648320"/>
            <a:ext cx="393048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53d75"/>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253d75"/>
                </a:solidFill>
                <a:latin typeface="Calibri"/>
              </a:rPr>
              <a:t>كلية إدارة الأعما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253d75"/>
                </a:solidFill>
                <a:latin typeface="Calibri"/>
              </a:rPr>
              <a:t>قسم </a:t>
            </a:r>
            <a:r>
              <a:rPr b="1" lang="ar-SA" sz="2400" spc="-1" strike="noStrike">
                <a:solidFill>
                  <a:srgbClr val="253d75"/>
                </a:solidFill>
                <a:latin typeface="Calibri"/>
              </a:rPr>
              <a:t>القانون</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Arial"/>
            </a:endParaRPr>
          </a:p>
        </p:txBody>
      </p:sp>
      <p:grpSp>
        <p:nvGrpSpPr>
          <p:cNvPr id="598" name="Group 7"/>
          <p:cNvGrpSpPr/>
          <p:nvPr/>
        </p:nvGrpSpPr>
        <p:grpSpPr>
          <a:xfrm>
            <a:off x="6494400" y="1981080"/>
            <a:ext cx="2600280" cy="2524320"/>
            <a:chOff x="6494400" y="1981080"/>
            <a:chExt cx="2600280" cy="2524320"/>
          </a:xfrm>
        </p:grpSpPr>
        <p:sp>
          <p:nvSpPr>
            <p:cNvPr id="59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601" name="Freeform 10"/>
          <p:cNvSpPr/>
          <p:nvPr/>
        </p:nvSpPr>
        <p:spPr>
          <a:xfrm>
            <a:off x="0" y="2666880"/>
            <a:ext cx="6091200" cy="14479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53d75"/>
                </a:solidFill>
                <a:latin typeface="AYM Wadiy S_U normal."/>
                <a:cs typeface="Times New Roman"/>
              </a:rPr>
              <a:t>اسم المقرر</a:t>
            </a:r>
            <a:r>
              <a:rPr b="1" lang="ar-DZ" sz="3200" spc="-1" strike="noStrike">
                <a:solidFill>
                  <a:srgbClr val="253d75"/>
                </a:solidFill>
                <a:latin typeface="AYM Wadiy S_U normal."/>
                <a:ea typeface="Times New Roman"/>
              </a:rPr>
              <a:t>: </a:t>
            </a:r>
            <a:r>
              <a:rPr b="1" lang="ar-SA" sz="3200" spc="-1" strike="noStrike">
                <a:solidFill>
                  <a:srgbClr val="253d75"/>
                </a:solidFill>
                <a:latin typeface="AYM Wadiy S_U normal."/>
                <a:cs typeface="Times New Roman"/>
              </a:rPr>
              <a:t>القانون التجاري</a:t>
            </a:r>
            <a:br>
              <a:rPr sz="2800"/>
            </a:br>
            <a:r>
              <a:rPr b="1" lang="ar-SA" sz="2000" spc="-1" strike="noStrike">
                <a:solidFill>
                  <a:srgbClr val="253d75"/>
                </a:solidFill>
                <a:latin typeface="Calibri"/>
                <a:cs typeface="Times New Roman"/>
              </a:rPr>
              <a:t>د </a:t>
            </a:r>
            <a:r>
              <a:rPr b="1" lang="ar-SA" sz="2400" spc="-1" strike="noStrike">
                <a:solidFill>
                  <a:srgbClr val="253d75"/>
                </a:solidFill>
                <a:latin typeface="Calibri"/>
                <a:cs typeface="Times New Roman"/>
              </a:rPr>
              <a:t>مصطفى عبد المجيد بخوش</a:t>
            </a:r>
            <a:r>
              <a:rPr b="1" lang="en-US" sz="2400" spc="-1" strike="noStrike">
                <a:solidFill>
                  <a:srgbClr val="253d75"/>
                </a:solidFill>
                <a:latin typeface="Calibri"/>
                <a:ea typeface="Times New Roman"/>
              </a:rPr>
              <a:t> .</a:t>
            </a:r>
            <a:endParaRPr b="0" lang="en-US" sz="2400" spc="-1" strike="noStrike">
              <a:solidFill>
                <a:srgbClr val="000000"/>
              </a:solidFill>
              <a:latin typeface="Arial"/>
            </a:endParaRPr>
          </a:p>
        </p:txBody>
      </p:sp>
      <p:sp>
        <p:nvSpPr>
          <p:cNvPr id="60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FE7B-9308-474F-9EBD-DDACBC9C56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مستطيل 1"/>
          <p:cNvSpPr/>
          <p:nvPr/>
        </p:nvSpPr>
        <p:spPr>
          <a:xfrm>
            <a:off x="237960" y="857160"/>
            <a:ext cx="9501480" cy="5639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أما إّذا كان غرض الشركة القيام بالأعمال التجارية فإنها تكتسب صفة التاجر وتتحمل بالتزامات التجار كإمساك الدفاتر التجارية والقيد في السجل التجاري.</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أما في ما يتعلق بالمسؤولية الجنائية فقد استقر الفقه والقضاء على القول بعدم قيامها بالنسبة للشركة والأشخاص المعنوية بشكل عام. وذلك لأن العقوبة شخصيه لا توقع إلا على الشخص الذي ارتكب الفعل الإجرامي كما أنه من غير الممكن عملاً إيقاع العقوبات الجسمانية كالحبس والسجن على شخص معنوي ليس له وجود محسوس كالشركة, والذي يسأل دائما هو مرتكب الجريمة نفسه من ممثلي الشركة القانونيين.</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يجوز أن تسأل الشركة عن الجرائم التي لا تتعدى عقوبتها الغرامات المالية ديوان المظالم.</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88520" y="691920"/>
            <a:ext cx="8915400" cy="3879720"/>
          </a:xfrm>
          <a:prstGeom prst="rect">
            <a:avLst/>
          </a:prstGeom>
          <a:solidFill>
            <a:srgbClr val="ffffcc"/>
          </a:solidFill>
          <a:ln w="0">
            <a:noFill/>
          </a:ln>
        </p:spPr>
        <p:txBody>
          <a:bodyPr anchor="t">
            <a:normAutofit fontScale="82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3</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للشركة اسم مستقل</a:t>
            </a:r>
            <a:r>
              <a:rPr b="1" lang="en-US" sz="2800" spc="-1" strike="noStrike">
                <a:solidFill>
                  <a:srgbClr val="ff0000"/>
                </a:solidFill>
                <a:latin typeface="Verdana"/>
                <a:ea typeface="Times New Roman"/>
              </a:rPr>
              <a:t> </a:t>
            </a:r>
            <a:r>
              <a:rPr b="1" lang="ar-SA" sz="2800" spc="-1" strike="noStrike">
                <a:solidFill>
                  <a:srgbClr val="ff0000"/>
                </a:solidFill>
                <a:latin typeface="Verdana"/>
                <a:ea typeface="Times New Roman"/>
              </a:rPr>
              <a:t>:</a:t>
            </a:r>
            <a:endParaRPr b="0" lang="en-US" sz="2800" spc="-1" strike="noStrike">
              <a:solidFill>
                <a:srgbClr val="000000"/>
              </a:solidFill>
              <a:latin typeface="Calibri"/>
            </a:endParaRPr>
          </a:p>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cs typeface="Times New Roman"/>
              </a:rPr>
              <a:t>من النتائج التي تترتب على اكتساب الشخصية الاعتبارية أن لكل شركة اسم خاص يميزها عن باقي الشركات، </a:t>
            </a:r>
            <a:r>
              <a:rPr b="1" lang="ar-SA" sz="2500" spc="-1" strike="noStrike">
                <a:solidFill>
                  <a:srgbClr val="000000"/>
                </a:solidFill>
                <a:latin typeface="Arial"/>
                <a:cs typeface="Times New Roman"/>
              </a:rPr>
              <a:t>ويتم التوقيع على سائر معاملاتها والتزاماتها.</a:t>
            </a:r>
            <a:r>
              <a:rPr b="1" lang="ar-SA" sz="2500" spc="-1" strike="noStrike">
                <a:solidFill>
                  <a:srgbClr val="000000"/>
                </a:solidFill>
                <a:latin typeface="Verdana"/>
                <a:cs typeface="Times New Roman"/>
              </a:rPr>
              <a:t>شأنها في ذلك شأن الشخص الطبيعي . ويختلف اسم الشركة </a:t>
            </a:r>
            <a:r>
              <a:rPr b="1" lang="ar-SA" sz="2500" spc="-1" strike="noStrike">
                <a:solidFill>
                  <a:srgbClr val="000000"/>
                </a:solidFill>
                <a:latin typeface="Arial"/>
                <a:cs typeface="Times New Roman"/>
              </a:rPr>
              <a:t>باختلاف شكل الشركة:</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شركة التضامن وشركات التوصية بنوعيها أسم الشركة يتكون من أسماء الشركاء المتضامنين ويتضمن أسم أحد الشركاء المتضامنون مع شركاه.</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شركة المساهمة لها أسم تجاري مستمد من الغرض الذي أنشأت من أجله الشركة.</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الشركات ذات المسؤولية المحدودة يجوز أن يكون لها عنوان أو اسم تجاري حسب رغبة الشركاء.</a:t>
            </a:r>
            <a:endParaRPr b="0" lang="en-US" sz="2500" spc="-1" strike="noStrike">
              <a:solidFill>
                <a:srgbClr val="000000"/>
              </a:solidFill>
              <a:latin typeface="Calibri"/>
            </a:endParaRPr>
          </a:p>
          <a:p>
            <a:pPr indent="0" algn="just"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p:nvPr>
        </p:nvSpPr>
        <p:spPr>
          <a:xfrm>
            <a:off x="237960" y="428760"/>
            <a:ext cx="9429840" cy="5357520"/>
          </a:xfrm>
          <a:prstGeom prst="rect">
            <a:avLst/>
          </a:prstGeom>
          <a:solidFill>
            <a:srgbClr val="ffffcc"/>
          </a:solidFill>
          <a:ln w="0">
            <a:noFill/>
          </a:ln>
        </p:spPr>
        <p:txBody>
          <a:bodyPr anchor="t">
            <a:normAutofit fontScale="90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4</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للشركة موطن مستقل</a:t>
            </a:r>
            <a:r>
              <a:rPr b="1" lang="en-US" sz="2800" spc="-1" strike="noStrike">
                <a:solidFill>
                  <a:srgbClr val="ff0000"/>
                </a:solidFill>
                <a:latin typeface="Verdana"/>
                <a:ea typeface="Times New Roman"/>
              </a:rPr>
              <a:t> </a:t>
            </a:r>
            <a:r>
              <a:rPr b="1" lang="ar-SA" sz="2800" spc="-1" strike="noStrike">
                <a:solidFill>
                  <a:srgbClr val="ff0000"/>
                </a:solidFill>
                <a:latin typeface="Verdana"/>
                <a:ea typeface="Times New Roman"/>
              </a:rPr>
              <a:t>: </a:t>
            </a:r>
            <a:endParaRPr b="0" lang="en-US" sz="28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يجب أن يكون للشركة موطن مستقل</a:t>
            </a:r>
            <a:r>
              <a:rPr b="1" lang="en-US" sz="2400" spc="-1" strike="noStrike">
                <a:solidFill>
                  <a:srgbClr val="000000"/>
                </a:solidFill>
                <a:latin typeface="Verdana"/>
                <a:ea typeface="Times New Roman"/>
              </a:rPr>
              <a:t> </a:t>
            </a:r>
            <a:r>
              <a:rPr b="1" lang="ar-SA" sz="2400" spc="-1" strike="noStrike">
                <a:solidFill>
                  <a:srgbClr val="000000"/>
                </a:solidFill>
                <a:latin typeface="Verdana"/>
                <a:cs typeface="Times New Roman"/>
              </a:rPr>
              <a:t>غير موطن الشركاء . ويعتبر موطنا للشركة المكان الذي يوجد فيه مركز إدارتها</a:t>
            </a:r>
            <a:r>
              <a:rPr b="1" lang="en-US" sz="2400" spc="-1" strike="noStrike">
                <a:solidFill>
                  <a:srgbClr val="000000"/>
                </a:solidFill>
                <a:latin typeface="Verdana"/>
                <a:ea typeface="Times New Roman"/>
              </a:rPr>
              <a:t> </a:t>
            </a:r>
            <a:r>
              <a:rPr b="1" lang="ar-SA" sz="2400" spc="-1" strike="noStrike">
                <a:solidFill>
                  <a:srgbClr val="000000"/>
                </a:solidFill>
                <a:latin typeface="Verdana"/>
                <a:cs typeface="Times New Roman"/>
              </a:rPr>
              <a:t>وإذا كان للشركة فروعا متعددة في أماكن مختلفة فإن المكان الذي يوجد به كل فرع يعتبر موطنا خاصا بالأعمال المتعلقة به</a:t>
            </a:r>
            <a:r>
              <a:rPr b="1" lang="en-US" sz="2400" spc="-1" strike="noStrike">
                <a:solidFill>
                  <a:srgbClr val="000000"/>
                </a:solidFill>
                <a:latin typeface="Verdana"/>
                <a:ea typeface="Times New Roman"/>
              </a:rPr>
              <a:t> </a:t>
            </a:r>
            <a:r>
              <a:rPr b="1" lang="ar-SA" sz="2400" spc="-1" strike="noStrike">
                <a:solidFill>
                  <a:srgbClr val="000000"/>
                </a:solidFill>
                <a:latin typeface="Verdana"/>
                <a:ea typeface="Times New Roman"/>
              </a:rPr>
              <a:t>.</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ويكون الاختصاص المحلى في الدعاوى المتعلقة بالشركة للمحكمة التي يقع في دائرتها مركز إدارتها ، أي موطن الشركة ، وإذا كانت الدعوى مرفوعة على الشركة يجب تبليغ كافة الأوراق القضائية إلى الشركة في مركز إدارتها</a:t>
            </a:r>
            <a:r>
              <a:rPr b="1" lang="en-US" sz="2400" spc="-1" strike="noStrike">
                <a:solidFill>
                  <a:srgbClr val="000000"/>
                </a:solidFill>
                <a:latin typeface="Verdana"/>
                <a:ea typeface="Times New Roman"/>
              </a:rPr>
              <a:t> </a:t>
            </a:r>
            <a:r>
              <a:rPr b="1" lang="ar-SA" sz="2400" spc="-1" strike="noStrike">
                <a:solidFill>
                  <a:srgbClr val="000000"/>
                </a:solidFill>
                <a:latin typeface="Verdana"/>
                <a:ea typeface="Times New Roman"/>
              </a:rPr>
              <a:t>. </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يعين نظام الشركة أو عقدها التأسيسي موطن الشركة ولذلك فإن تغيير موطن الشركة يقتضي تعديل عقد الشركة أو نظامها وشهر التعديل بالطرق المقررة قانوناً.</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لتحديد الموطن بالنسبة إلى للشركة أهمية خاصة ففيه ترفع الدعاوي على الشركة ويطلب شهر إفلاسها أمام المحكمة التي يقع في دائرتها هذا الموطن كما تعلن إليها فيه جميع الأوراق القانونية.</a:t>
            </a:r>
            <a:endParaRPr b="0" lang="en-US" sz="2400" spc="-1" strike="noStrike">
              <a:solidFill>
                <a:srgbClr val="000000"/>
              </a:solidFill>
              <a:latin typeface="Calibri"/>
            </a:endParaRPr>
          </a:p>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166320" y="214200"/>
            <a:ext cx="9572760" cy="5572080"/>
          </a:xfrm>
          <a:prstGeom prst="rect">
            <a:avLst/>
          </a:prstGeom>
          <a:solidFill>
            <a:srgbClr val="ffffcc"/>
          </a:solidFill>
          <a:ln w="0">
            <a:noFill/>
          </a:ln>
        </p:spPr>
        <p:txBody>
          <a:bodyPr anchor="t">
            <a:normAutofit fontScale="80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5</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جنسية الشركة:</a:t>
            </a:r>
            <a:endParaRPr b="0" lang="en-US" sz="28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 </a:t>
            </a:r>
            <a:r>
              <a:rPr b="1" lang="ar-SA" sz="2400" spc="-1" strike="noStrike">
                <a:solidFill>
                  <a:srgbClr val="000000"/>
                </a:solidFill>
                <a:latin typeface="Calibri"/>
              </a:rPr>
              <a:t>لا توجد شركة عديمة الجنسية وعندما تفقد الشركة جنسيتها تحتم حلها وتصفيتها, لا يوجد شركة مزدوجة الجنسية والشركات التي توصف بالدولية يصدق فقط هذا الوصف على نشاط هذه الشركات من حيث امتداده إلى إقليم أكثر من دولة وليس على جنسية الشركات.</a:t>
            </a:r>
            <a:endParaRPr b="0" lang="en-US" sz="2400" spc="-1" strike="noStrike">
              <a:solidFill>
                <a:srgbClr val="000000"/>
              </a:solidFill>
              <a:latin typeface="Calibri"/>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تظهر أهمية جنسية الشركة في نواحِ كثيرة منها:</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نظام القانوني الذي تخضع له الشركة من حيث تكوينها وأدارتها وحلها وتصفيتها.</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عرفة الدولة التي تتمتع الشركة بحمايتها في المجال الدولي.</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عرفة الحقوق التي تتمتع بها الشركة.</a:t>
            </a:r>
            <a:endParaRPr b="0" lang="en-US" sz="2400" spc="-1" strike="noStrike">
              <a:solidFill>
                <a:srgbClr val="000000"/>
              </a:solidFill>
              <a:latin typeface="Calibri"/>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فالشركات ذات الجنسية السعودية تنقسم إلى فئتين:</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فئة الأولى: تتمتع بكافة الحقوق المعترف بها للسعوديين نظرا لتمثيلها لمصالح وطنيه بحته.</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فئة الثانية: لا تتمتع بكافة هذه الحقوق نظرا لتخلف هذه الشروط.</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هو يعني أن المشروع السعودي قد أخذ بمعيار الرقابة أو المصالح المسيطرة على الشركة لتحديد مدى ما تتمتع به الشركة من الحقوق المعترف بها للسعودي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166680" y="371520"/>
            <a:ext cx="9572760" cy="35067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ea typeface="Times New Roman"/>
              </a:rPr>
              <a:t>(</a:t>
            </a:r>
            <a:r>
              <a:rPr b="1" lang="ar-SA" sz="2800" spc="-1" strike="noStrike">
                <a:solidFill>
                  <a:srgbClr val="ff0000"/>
                </a:solidFill>
                <a:latin typeface="Verdana"/>
                <a:ea typeface="Times New Roman"/>
              </a:rPr>
              <a:t>6</a:t>
            </a:r>
            <a:r>
              <a:rPr b="1" lang="ar-SA" sz="2800" spc="-1" strike="noStrike">
                <a:solidFill>
                  <a:srgbClr val="ff0000"/>
                </a:solidFill>
                <a:latin typeface="Verdana"/>
                <a:ea typeface="Times New Roman"/>
              </a:rPr>
              <a:t>) تمثيل الشركة:</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لا بد من وجود شخص طبيعي واحد أو أكثر لكي يعبر عن إرادة الشركة ويدير شؤونها ويمثلها في علاقتها مع الغير وأمام القضاء.</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ثل الشركة مديرها أو رئيس مجلس الإدارة أو العضو المنتدب بحسب الأحوال، وأي من هؤلاء يعمل باسمها، فالشركة تكون مدعية أو مدعى عليها بحسب الأحوال، وهو الذى ينقل إليها آثار التعاقد</a:t>
            </a:r>
            <a:r>
              <a:rPr b="1" lang="en-US" sz="2800" spc="-1" strike="noStrike">
                <a:solidFill>
                  <a:srgbClr val="000000"/>
                </a:solidFill>
                <a:latin typeface="Arial"/>
              </a:rPr>
              <a:t> </a:t>
            </a:r>
            <a:r>
              <a:rPr b="1" lang="ar-SA" sz="2800" spc="-1" strike="noStrike">
                <a:solidFill>
                  <a:srgbClr val="0000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D336-9EC8-4841-B49A-6B28062606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2"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Group 5"/>
          <p:cNvGrpSpPr/>
          <p:nvPr/>
        </p:nvGrpSpPr>
        <p:grpSpPr>
          <a:xfrm>
            <a:off x="5181480" y="1981080"/>
            <a:ext cx="2600280" cy="2524320"/>
            <a:chOff x="5181480" y="1981080"/>
            <a:chExt cx="2600280" cy="2524320"/>
          </a:xfrm>
        </p:grpSpPr>
        <p:sp>
          <p:nvSpPr>
            <p:cNvPr id="624" name="Oval 6"/>
            <p:cNvSpPr/>
            <p:nvPr/>
          </p:nvSpPr>
          <p:spPr>
            <a:xfrm>
              <a:off x="527832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Picture 2" descr="http://kfu.files.googlepages.com/newKFUlogo.jpg"/>
            <p:cNvPicPr/>
            <p:nvPr/>
          </p:nvPicPr>
          <p:blipFill>
            <a:blip r:embed="rId1"/>
            <a:stretch/>
          </p:blipFill>
          <p:spPr>
            <a:xfrm>
              <a:off x="5181480" y="1981080"/>
              <a:ext cx="2600280" cy="2524320"/>
            </a:xfrm>
            <a:prstGeom prst="rect">
              <a:avLst/>
            </a:prstGeom>
            <a:ln w="0">
              <a:noFill/>
            </a:ln>
          </p:spPr>
        </p:pic>
      </p:grpSp>
      <p:sp>
        <p:nvSpPr>
          <p:cNvPr id="626" name="Rectangle 8"/>
          <p:cNvSpPr/>
          <p:nvPr/>
        </p:nvSpPr>
        <p:spPr>
          <a:xfrm>
            <a:off x="2362320" y="33526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27" name="Freeform 6"/>
          <p:cNvSpPr/>
          <p:nvPr/>
        </p:nvSpPr>
        <p:spPr>
          <a:xfrm>
            <a:off x="2362320" y="2209680"/>
            <a:ext cx="2689200" cy="1236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1F91-E7C7-442B-A714-1E6489837D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605" name="Title 4" descr=""/>
          <p:cNvPicPr/>
          <p:nvPr/>
        </p:nvPicPr>
        <p:blipFill>
          <a:blip r:embed="rId1"/>
          <a:stretch/>
        </p:blipFill>
        <p:spPr>
          <a:xfrm>
            <a:off x="2425680" y="2139840"/>
            <a:ext cx="5054760" cy="143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3"/>
          <p:cNvSpPr/>
          <p:nvPr/>
        </p:nvSpPr>
        <p:spPr>
          <a:xfrm>
            <a:off x="2881440" y="0"/>
            <a:ext cx="4721040" cy="714240"/>
          </a:xfrm>
          <a:prstGeom prst="rect">
            <a:avLst/>
          </a:prstGeom>
          <a:solidFill>
            <a:srgbClr val="ffffcc"/>
          </a:solidFill>
          <a:ln w="9360">
            <a:solidFill>
              <a:srgbClr val="66aec7"/>
            </a:solidFill>
            <a:miter/>
          </a:ln>
          <a:effectLst>
            <a:outerShdw dist="23040" dir="5400000" blurRad="0" rotWithShape="0">
              <a:srgbClr val="000000">
                <a:alpha val="35000"/>
              </a:srgbClr>
            </a:outerShdw>
          </a:effectLst>
        </p:spPr>
        <p:style>
          <a:lnRef idx="0"/>
          <a:fillRef idx="0"/>
          <a:effectRef idx="0"/>
          <a:fontRef idx="minor"/>
        </p:style>
        <p:txBody>
          <a:bodyPr lIns="0" rIns="1836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Times New Roman"/>
              </a:rPr>
              <a:t>الشخصية المعنوية للشركة</a:t>
            </a:r>
            <a:endParaRPr b="0" lang="en-US" sz="3200" spc="-1" strike="noStrike">
              <a:solidFill>
                <a:srgbClr val="000000"/>
              </a:solidFill>
              <a:latin typeface="Arial"/>
            </a:endParaRPr>
          </a:p>
        </p:txBody>
      </p:sp>
      <p:pic>
        <p:nvPicPr>
          <p:cNvPr id="607" name="Rectangle 3" descr=""/>
          <p:cNvPicPr/>
          <p:nvPr/>
        </p:nvPicPr>
        <p:blipFill>
          <a:blip r:embed="rId1"/>
          <a:stretch/>
        </p:blipFill>
        <p:spPr>
          <a:xfrm>
            <a:off x="-201600" y="774720"/>
            <a:ext cx="10180800" cy="466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606"/>
                                        </p:tgtEl>
                                        <p:attrNameLst>
                                          <p:attrName>style.visibility</p:attrName>
                                        </p:attrNameLst>
                                      </p:cBhvr>
                                      <p:to>
                                        <p:strVal val="visible"/>
                                      </p:to>
                                    </p:set>
                                    <p:anim calcmode="lin" valueType="num">
                                      <p:cBhvr additive="repl">
                                        <p:cTn id="7" dur="1000" fill="hold"/>
                                        <p:tgtEl>
                                          <p:spTgt spid="606"/>
                                        </p:tgtEl>
                                        <p:attrNameLst>
                                          <p:attrName>ppt_x</p:attrName>
                                        </p:attrNameLst>
                                      </p:cBhvr>
                                      <p:tavLst>
                                        <p:tav tm="0">
                                          <p:val>
                                            <p:strVal val="#ppt_x-.2"/>
                                          </p:val>
                                        </p:tav>
                                        <p:tav tm="100000">
                                          <p:val>
                                            <p:strVal val="#ppt_x"/>
                                          </p:val>
                                        </p:tav>
                                      </p:tavLst>
                                    </p:anim>
                                    <p:anim calcmode="lin" valueType="num">
                                      <p:cBhvr additive="repl">
                                        <p:cTn id="8"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9" dur="1000"/>
                                        <p:tgtEl>
                                          <p:spTgt spid="60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9">
                                  <p:stCondLst>
                                    <p:cond delay="0"/>
                                  </p:stCondLst>
                                  <p:childTnLst>
                                    <p:set>
                                      <p:cBhvr>
                                        <p:cTn id="13" dur="1" fill="hold">
                                          <p:stCondLst>
                                            <p:cond delay="0"/>
                                          </p:stCondLst>
                                        </p:cTn>
                                        <p:tgtEl>
                                          <p:spTgt spid="607"/>
                                        </p:tgtEl>
                                        <p:attrNameLst>
                                          <p:attrName>style.visibility</p:attrName>
                                        </p:attrNameLst>
                                      </p:cBhvr>
                                      <p:to>
                                        <p:strVal val="visible"/>
                                      </p:to>
                                    </p:set>
                                    <p:anim calcmode="lin" valueType="num">
                                      <p:cBhvr additive="repl">
                                        <p:cTn id="14" dur="1000" fill="hold"/>
                                        <p:tgtEl>
                                          <p:spTgt spid="607"/>
                                        </p:tgtEl>
                                        <p:attrNameLst>
                                          <p:attrName>ppt_x</p:attrName>
                                        </p:attrNameLst>
                                      </p:cBhvr>
                                      <p:tavLst>
                                        <p:tav tm="0">
                                          <p:val>
                                            <p:strVal val="#ppt_x-.2"/>
                                          </p:val>
                                        </p:tav>
                                        <p:tav tm="100000">
                                          <p:val>
                                            <p:strVal val="#ppt_x"/>
                                          </p:val>
                                        </p:tav>
                                      </p:tavLst>
                                    </p:anim>
                                    <p:anim calcmode="lin" valueType="num">
                                      <p:cBhvr additive="repl">
                                        <p:cTn id="15" dur="1000" fill="hold"/>
                                        <p:tgtEl>
                                          <p:spTgt spid="607"/>
                                        </p:tgtEl>
                                        <p:attrNameLst>
                                          <p:attrName>ppt_y</p:attrName>
                                        </p:attrNameLst>
                                      </p:cBhvr>
                                      <p:tavLst>
                                        <p:tav tm="0">
                                          <p:val>
                                            <p:strVal val="#ppt_y"/>
                                          </p:val>
                                        </p:tav>
                                        <p:tav tm="100000">
                                          <p:val>
                                            <p:strVal val="#ppt_y"/>
                                          </p:val>
                                        </p:tav>
                                      </p:tavLst>
                                    </p:anim>
                                    <p:animEffect filter="wipe(right)" transition="in">
                                      <p:cBhvr additive="repl">
                                        <p:cTn id="16" dur="10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Rectangle 1" descr=""/>
          <p:cNvPicPr/>
          <p:nvPr/>
        </p:nvPicPr>
        <p:blipFill>
          <a:blip r:embed="rId1"/>
          <a:stretch/>
        </p:blipFill>
        <p:spPr>
          <a:xfrm>
            <a:off x="-109440" y="1006560"/>
            <a:ext cx="10002600" cy="41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2505240" y="0"/>
            <a:ext cx="5965560" cy="571680"/>
          </a:xfrm>
          <a:prstGeom prst="rect">
            <a:avLst/>
          </a:prstGeom>
          <a:solidFill>
            <a:srgbClr val="ffffcc"/>
          </a:solidFill>
          <a:ln w="9360">
            <a:solidFill>
              <a:srgbClr val="66aec7"/>
            </a:solidFill>
            <a:miter/>
          </a:ln>
          <a:effectLst>
            <a:outerShdw dist="23040" dir="5400000" blurRad="0" rotWithShape="0">
              <a:srgbClr val="000000">
                <a:alpha val="35000"/>
              </a:srgbClr>
            </a:outerShdw>
          </a:effectLst>
        </p:spPr>
        <p:style>
          <a:lnRef idx="0"/>
          <a:fillRef idx="0"/>
          <a:effectRef idx="0"/>
          <a:fontRef idx="minor"/>
        </p:style>
        <p:txBody>
          <a:bodyPr lIns="0" rIns="1836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L-Mohanad Bold"/>
              </a:rPr>
              <a:t>متى تكتسب الشركة الشخصية المعنوية ومتى تنتهى </a:t>
            </a:r>
            <a:endParaRPr b="0" lang="en-US" sz="2800" spc="-1" strike="noStrike">
              <a:solidFill>
                <a:srgbClr val="000000"/>
              </a:solidFill>
              <a:latin typeface="Arial"/>
            </a:endParaRPr>
          </a:p>
        </p:txBody>
      </p:sp>
      <p:pic>
        <p:nvPicPr>
          <p:cNvPr id="610" name="Rectangle 3" descr=""/>
          <p:cNvPicPr/>
          <p:nvPr/>
        </p:nvPicPr>
        <p:blipFill>
          <a:blip r:embed="rId1"/>
          <a:stretch/>
        </p:blipFill>
        <p:spPr>
          <a:xfrm>
            <a:off x="-189000" y="633240"/>
            <a:ext cx="10234800" cy="43167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609"/>
                                        </p:tgtEl>
                                        <p:attrNameLst>
                                          <p:attrName>style.visibility</p:attrName>
                                        </p:attrNameLst>
                                      </p:cBhvr>
                                      <p:to>
                                        <p:strVal val="visible"/>
                                      </p:to>
                                    </p:set>
                                    <p:anim calcmode="lin" valueType="num">
                                      <p:cBhvr additive="repl">
                                        <p:cTn id="23" dur="1000" fill="hold"/>
                                        <p:tgtEl>
                                          <p:spTgt spid="609"/>
                                        </p:tgtEl>
                                        <p:attrNameLst>
                                          <p:attrName>ppt_x</p:attrName>
                                        </p:attrNameLst>
                                      </p:cBhvr>
                                      <p:tavLst>
                                        <p:tav tm="0">
                                          <p:val>
                                            <p:strVal val="#ppt_x-.2"/>
                                          </p:val>
                                        </p:tav>
                                        <p:tav tm="100000">
                                          <p:val>
                                            <p:strVal val="#ppt_x"/>
                                          </p:val>
                                        </p:tav>
                                      </p:tavLst>
                                    </p:anim>
                                    <p:anim calcmode="lin" valueType="num">
                                      <p:cBhvr additive="repl">
                                        <p:cTn id="24" dur="1000" fill="hold"/>
                                        <p:tgtEl>
                                          <p:spTgt spid="609"/>
                                        </p:tgtEl>
                                        <p:attrNameLst>
                                          <p:attrName>ppt_y</p:attrName>
                                        </p:attrNameLst>
                                      </p:cBhvr>
                                      <p:tavLst>
                                        <p:tav tm="0">
                                          <p:val>
                                            <p:strVal val="#ppt_y"/>
                                          </p:val>
                                        </p:tav>
                                        <p:tav tm="100000">
                                          <p:val>
                                            <p:strVal val="#ppt_y"/>
                                          </p:val>
                                        </p:tav>
                                      </p:tavLst>
                                    </p:anim>
                                    <p:animEffect filter="wipe(right)" transition="in">
                                      <p:cBhvr additive="repl">
                                        <p:cTn id="25" dur="1000"/>
                                        <p:tgtEl>
                                          <p:spTgt spid="60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9">
                                  <p:stCondLst>
                                    <p:cond delay="0"/>
                                  </p:stCondLst>
                                  <p:childTnLst>
                                    <p:set>
                                      <p:cBhvr>
                                        <p:cTn id="29" dur="1" fill="hold">
                                          <p:stCondLst>
                                            <p:cond delay="0"/>
                                          </p:stCondLst>
                                        </p:cTn>
                                        <p:tgtEl>
                                          <p:spTgt spid="610"/>
                                        </p:tgtEl>
                                        <p:attrNameLst>
                                          <p:attrName>style.visibility</p:attrName>
                                        </p:attrNameLst>
                                      </p:cBhvr>
                                      <p:to>
                                        <p:strVal val="visible"/>
                                      </p:to>
                                    </p:set>
                                    <p:anim calcmode="lin" valueType="num">
                                      <p:cBhvr additive="repl">
                                        <p:cTn id="30" dur="1000" fill="hold"/>
                                        <p:tgtEl>
                                          <p:spTgt spid="610"/>
                                        </p:tgtEl>
                                        <p:attrNameLst>
                                          <p:attrName>ppt_x</p:attrName>
                                        </p:attrNameLst>
                                      </p:cBhvr>
                                      <p:tavLst>
                                        <p:tav tm="0">
                                          <p:val>
                                            <p:strVal val="#ppt_x-.2"/>
                                          </p:val>
                                        </p:tav>
                                        <p:tav tm="100000">
                                          <p:val>
                                            <p:strVal val="#ppt_x"/>
                                          </p:val>
                                        </p:tav>
                                      </p:tavLst>
                                    </p:anim>
                                    <p:anim calcmode="lin" valueType="num">
                                      <p:cBhvr additive="repl">
                                        <p:cTn id="31"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32" dur="1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07800" y="-360"/>
            <a:ext cx="7707240" cy="76500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Times New Roman"/>
              </a:rPr>
              <a:t>النتائج المترتبة على وجود الشخصية المعنوية</a:t>
            </a:r>
            <a:r>
              <a:rPr b="1" lang="ar-SA" sz="3200" spc="-1" strike="noStrike">
                <a:solidFill>
                  <a:srgbClr val="ff0000"/>
                </a:solidFill>
                <a:latin typeface="Calibri"/>
                <a:ea typeface="Verdana"/>
              </a:rPr>
              <a:t> </a:t>
            </a:r>
            <a:endParaRPr b="0" lang="en-US" sz="3200" spc="-1" strike="noStrike">
              <a:solidFill>
                <a:srgbClr val="376092"/>
              </a:solidFill>
              <a:latin typeface="Calibri"/>
            </a:endParaRPr>
          </a:p>
        </p:txBody>
      </p:sp>
      <p:sp>
        <p:nvSpPr>
          <p:cNvPr id="612" name="PlaceHolder 2"/>
          <p:cNvSpPr>
            <a:spLocks noGrp="1"/>
          </p:cNvSpPr>
          <p:nvPr>
            <p:ph/>
          </p:nvPr>
        </p:nvSpPr>
        <p:spPr>
          <a:xfrm>
            <a:off x="128520" y="928800"/>
            <a:ext cx="9577440" cy="4803840"/>
          </a:xfrm>
          <a:prstGeom prst="rect">
            <a:avLst/>
          </a:prstGeom>
          <a:solidFill>
            <a:srgbClr val="ffffcc"/>
          </a:solidFill>
          <a:ln w="0">
            <a:noFill/>
          </a:ln>
        </p:spPr>
        <p:txBody>
          <a:bodyPr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SA" sz="2800" spc="-1" strike="noStrike">
                <a:solidFill>
                  <a:srgbClr val="000000"/>
                </a:solidFill>
                <a:latin typeface="Calibri"/>
              </a:rPr>
              <a:t>يمكن إجمال الآثار المترتبة على اكتساب الشركة للشخصية المعنوية فيما يلي</a:t>
            </a:r>
            <a:r>
              <a:rPr b="1" lang="en-US" sz="2800" spc="-1" strike="noStrike">
                <a:solidFill>
                  <a:srgbClr val="000000"/>
                </a:solidFill>
                <a:latin typeface="Calibri"/>
              </a:rPr>
              <a:t> </a:t>
            </a:r>
            <a:r>
              <a:rPr b="1" lang="ar-SA" sz="2800" spc="-1" strike="noStrike">
                <a:solidFill>
                  <a:srgbClr val="000000"/>
                </a:solidFill>
                <a:latin typeface="Calibri"/>
              </a:rPr>
              <a:t>:</a:t>
            </a:r>
            <a:endParaRPr b="0" lang="en-US" sz="2800" spc="-1" strike="noStrike">
              <a:solidFill>
                <a:srgbClr val="000000"/>
              </a:solidFill>
              <a:latin typeface="Calibri"/>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a:t>
            </a:r>
            <a:r>
              <a:rPr b="1" lang="en-US" sz="2800" spc="-1" strike="noStrike">
                <a:solidFill>
                  <a:srgbClr val="ff3300"/>
                </a:solidFill>
                <a:latin typeface="Calibri"/>
              </a:rPr>
              <a:t>1</a:t>
            </a:r>
            <a:r>
              <a:rPr b="1" lang="en-US" sz="2800" spc="-1" strike="noStrike">
                <a:solidFill>
                  <a:srgbClr val="ff3300"/>
                </a:solidFill>
                <a:latin typeface="Calibri"/>
              </a:rPr>
              <a:t>) </a:t>
            </a:r>
            <a:r>
              <a:rPr b="1" lang="ar-SA" sz="2800" spc="-1" strike="noStrike">
                <a:solidFill>
                  <a:srgbClr val="ff3300"/>
                </a:solidFill>
                <a:latin typeface="Calibri"/>
              </a:rPr>
              <a:t>الذمة المالية المستقلة للشركة</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ي مجموع ما للشركة وما عليها من حقوق والتزامات مالية وتتركب ذمة الشركة في جانبها الإيجابي من مجموع الحصص التي يقدمها الشركاء وكافة الأموال والمنقولات التي تكتسبها نتيجة مباشرتها لنشاطها, وفي جانبها السلبي من الديون الناشئة عن معاملاتها.</a:t>
            </a:r>
            <a:endParaRPr b="0" lang="en-US" sz="2800" spc="-1" strike="noStrike">
              <a:solidFill>
                <a:srgbClr val="000000"/>
              </a:solidFill>
              <a:latin typeface="Calibri"/>
            </a:endParaRPr>
          </a:p>
          <a:p>
            <a:pPr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ذمة المالية للشركة مستقلة استقلالا تاما عن الذمم المالية لباقي الشركاء، فالشركاء ليسوا مالكين على الشيوع لمال الشركة، وإنما هو ملك لها ومستقل عن أموال الشركاء الشخصية، وليس للشركاء إلا الحق فيما قد تدره الشركة من أرباح، فيكون رأس مال الشركة وموجوداتها مملوكا ملكية خالصة للشركة</a:t>
            </a:r>
            <a:r>
              <a:rPr b="1" lang="en-US" sz="2800" spc="-1" strike="noStrike">
                <a:solidFill>
                  <a:srgbClr val="000000"/>
                </a:solidFill>
                <a:latin typeface="Calibri"/>
              </a:rPr>
              <a:t> </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
          <p:cNvSpPr/>
          <p:nvPr/>
        </p:nvSpPr>
        <p:spPr>
          <a:xfrm>
            <a:off x="166680" y="-717120"/>
            <a:ext cx="9572760" cy="73461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cs typeface="Times New Roman"/>
              </a:rPr>
              <a:t>يترتب على تمتع الشركة بالذمة المالية المستقلة النتائج الآتية:</a:t>
            </a:r>
            <a:endParaRPr b="0" lang="en-US" sz="28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نتقال ملكية الحصص إلى الشركة: تخرج الحصص المقدمة على سبيل التمليك من ذمم الشركاء وتنتقل إلى ذمة الشركة ولا يكون للشركاء بعد ذلك إلا مجرد نصيب في الإرباح الاحتمالية أو في الأموال التي تبقى بعد تصفية الشركة وهذا النصيب لا يعدو كونه ديناً في ذمة الشركة.</a:t>
            </a:r>
            <a:endParaRPr b="0" lang="en-US" sz="28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ذمة الشركة تشكل الضمان العام لدائني الشركة وحدهم دون دائني الشركة الشخصيين, ومن ثم فلا يجوز لدائني الشريك إن يطالبوا بالحجز على أموال الشركة أو على الحصة التي قدمها الشريك في رأس المال ويقتصر حقهم فقط على الحجز تحت يد الشركة على نصيب ذلك الشريك من الأرباح وذلك طالما أن الشركة قائمه, أما إذا انحلت الشركة وتمت التصفية فتزول عندئذ شخصيتها المعنوية, ولا يكون لدائني الشركة سوى الحجز على نصيب ذلك الشريك في فائض التصف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مستطيل 1"/>
          <p:cNvSpPr/>
          <p:nvPr/>
        </p:nvSpPr>
        <p:spPr>
          <a:xfrm>
            <a:off x="166680" y="714240"/>
            <a:ext cx="9572760" cy="5943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امتناع المقاصة بين ديون الشركة وديون الشركاء, فلا يجوز لأحد مديني الشركة أن يمتنع عن الوفاء بدينه لها بحجه انه أصبح دائنا لأحد الشركاء, كما لا يجوز لمدين أحد الشركاء إن يمتنع عن الوفاء بدينه له بحجة انه أصبح دائنا للشركة.</a:t>
            </a:r>
            <a:endParaRPr b="0" lang="en-US" sz="32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تعدد واستقلال التفليسات: الأصل أن إفلاس الشركة لا يستتبع إفلاس الشركاء كما أن إفلاس أحد الشركاء لا يستتبع إفلاس الشركة.</a:t>
            </a:r>
            <a:endParaRPr b="0" lang="en-US" sz="32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غير أن إفلاس شركة التضامن وشركة التوصية بنوعيها يستتبع إفلاس الشركاء غير المتضامنين في الشركة نظراً لمسئوليتهم التضامنية والمطلقة عن ديون الش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
          <p:cNvSpPr/>
          <p:nvPr/>
        </p:nvSpPr>
        <p:spPr>
          <a:xfrm>
            <a:off x="166680" y="-214920"/>
            <a:ext cx="9572760" cy="570204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Calibri"/>
              </a:rPr>
              <a:t>(</a:t>
            </a:r>
            <a:r>
              <a:rPr b="1" lang="ar-SA" sz="3200" spc="-1" strike="noStrike">
                <a:solidFill>
                  <a:srgbClr val="ff3300"/>
                </a:solidFill>
                <a:latin typeface="Calibri"/>
              </a:rPr>
              <a:t>2</a:t>
            </a:r>
            <a:r>
              <a:rPr b="1" lang="ar-SA" sz="3200" spc="-1" strike="noStrike">
                <a:solidFill>
                  <a:srgbClr val="ff3300"/>
                </a:solidFill>
                <a:latin typeface="Calibri"/>
              </a:rPr>
              <a:t>) أهلية الشركة:</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للشركة أهليه قانونيه كاملة بالنسبة إلى الحقوق المالية وذلك في الحدود التي يعينها سند إنشائها أو التي يقررها القانون.</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أهلية الشركة كشخص معنوي محدودة بحدود الغرض الذي قامت من أجله كما رسمها عقد الشركة ونظامها, إذا حدد نشاط الشركة بنوع معين من التجارة فلا يجوز لها مباشرة نوع آخر إلا بعد تعديل العقد أو النظام.</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أما في حدود الغرض الذي أنشأت من أجله فيجوز أن تبرم كافة التصرفات القانونية من بيع وشراء وخلافه.</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لا تمتد أهلية الشركة كقاعدة عامه إلى التبرع وذلك نظراً لمنافاة ذلك لغرض الشركة وهي السعي لتحقيق الأرباح, ويجوز للشركة قبول التبرعات التي لا تكون مقرونة بشروط تتنافى مع غرضها.</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تعتبر الشركة مسئوله مدنيا عن الأفعال الضارة التي تقع من مديرها أو الحيوانات التي في حراستها, كما تعتبر مسئوله بداهة عن تنفيذ التزاماتها التعاق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DELL</dc:creator>
  <dc:description/>
  <dc:language>en-US</dc:language>
  <cp:lastModifiedBy>DELL</cp:lastModifiedBy>
  <dcterms:modified xsi:type="dcterms:W3CDTF">2012-10-19T11:40:53Z</dcterms:modified>
  <cp:revision>386</cp:revision>
  <dc:subject/>
  <dc:title>Slide 1</dc:title>
</cp:coreProperties>
</file>