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B373-AF3C-4678-A09D-D1142F904A8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CEE4-CB61-4B21-BA5F-F40F3352FBE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EE95-A0D5-4574-9F0E-BD4A6985F0E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BE5D-8E78-4086-92EA-72AC0FC83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618E-E965-4868-87B2-10F92EC217B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6D1-D0B3-452C-B53B-F4FD61FA28A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605E-7178-4062-AE1B-1F3B157E3D7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7791-6D71-462C-B04F-E05010FDAF6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207-767F-4E38-8E38-08A1BCF1A28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7F1-CD5C-4780-A5E6-EBC05C8ACA7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4DB-A25C-4BE3-ABE1-F2D72CC6314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D74-4D0E-47F2-BF2B-E4F14788AAE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21D2-4E8C-4F4D-8468-BD228F66349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902-EE22-4EDD-93DE-7E430F675F9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F4CE1-C173-4699-BC35-37BCCD909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CAA9-CFE1-4725-BFDF-C9DD97611D6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E2C0A-3CE8-4A8A-B98C-DE9E25A58F5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7951B-EF2E-4FCB-BB38-90D37A7594F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2E84C-1383-409A-972E-01657EE101F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1A0F5-69D0-4338-907E-AC4AF2E23BB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3A4DB-65BF-473B-8F70-B0F01128B09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B8D42-D4F3-4900-901C-34DC748FA25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12851-932B-48BD-B928-F23C41EC834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D0F22-DF34-489D-AE18-1B9868CA444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9374A-1B9C-4091-A35E-A76CA1A5AD0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734AB-948E-4E68-B0E5-6961CC3FA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E90F-70D0-488D-889B-FBF512640A3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D02D4-2C07-4FA9-9633-44F1B96761D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4FF2B-D09E-42E0-95C2-FCF782367CC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7F4AD-89D4-4323-B859-A66728DF0DA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84E42-2350-4054-8547-16E870A4DB0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8D7BD-AF01-4432-B7C8-9DBB5A05670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AD546-917D-4810-A72A-F2726DE0498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4AE8C-F4C7-4052-BD7C-0C23A547033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18D65-2F0C-41A1-A9CB-189521ABF4D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9F98E-24C0-407B-98B6-B24580841EC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D5857-45FE-4174-B2E5-720D01FA4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5940-7E1B-4420-AC6E-C6D92CFEC1A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A6739-5299-487D-BBE8-53466DB3732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B7BDA-9439-471E-A52E-018D252731F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BC156-8363-4930-9FB1-69E6ADA6741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F17C-BE47-4990-8A18-3381EB7AFAD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67FF-6BE1-4701-8D0D-91FDEC82281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19D4-4603-4A2D-91C1-0058C5E25FB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80C9-A732-4D66-BE7B-FD4C71ED20B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B5CE-9FF9-48A0-A3DB-98F29E99B4B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E879-208B-4CD2-98D5-6504F904A3C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2F3A-5662-490C-87FF-EFE0F7D332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2F1C9-3635-433B-9AA3-055A38AFC58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AF2D-B1A4-4DD9-8A7C-D28A78F2C72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9CF3-A610-4BA3-A282-BB829011B68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A3CC-3B28-4A68-BA83-819F3210B52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26D5-77E1-4EE0-8192-71291D2E361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D76B-3922-43A6-B62C-0610DD2291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5568A-05A4-48F6-BEAF-1AD2C28327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9C03-5E37-4C23-881B-3345C4EEE2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4E14D-F325-481D-83C5-E337979CFF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CFB9E-7DA9-4CBA-9B1F-E547B1370F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DF4EA-BF17-4871-AA05-1545EAC482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5527-2F04-43D1-8CC6-968327B5D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7B83C-5BEE-4AD1-B84C-152BA1959E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E9B20-6439-41E0-B414-DCC25DF5EC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58190-CD27-4D2A-9DBC-B76422764D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4F6A2-501D-44EF-9F4F-B960BF2787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8232C-B7FC-4BE0-AB94-730D063BEA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1066-2769-447B-91A8-12BB0CDD9F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F81B-97F0-42C1-9901-2F6869869B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5576-5304-479F-ABCB-97A172D8C72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57F9-E4BE-4D73-B5EF-21C00909511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89DE-CEB7-4B39-84D5-D3B2DD252EF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D9513-A157-4A41-8D96-3BE1806AEF7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1CBD-7F4F-40FA-8742-B1F4E3DE8BA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4F0-2C9F-4A0A-8807-ACD8B46E8E7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208-C8BF-418C-A4F6-009FCE8A2FF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2EBF-6896-41A5-8CD3-0D38CF801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4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6998-DA4D-4E4C-99D9-497E8B32B74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9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5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6F92-8BDC-4B24-8BDA-F696860BCD7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6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7CA0-C99D-48ED-851D-288739A8C48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8592-103E-43BD-8291-F0DE73B70D0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9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4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9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7F43-3F42-40E3-BFF9-5696CB59FF9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2E21-5417-472E-A61B-34C19D0E836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0" y="7632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ubtitle 2"/>
          <p:cNvSpPr/>
          <p:nvPr/>
        </p:nvSpPr>
        <p:spPr>
          <a:xfrm>
            <a:off x="6019920" y="4648320"/>
            <a:ext cx="354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9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itle 1"/>
          <p:cNvSpPr/>
          <p:nvPr/>
        </p:nvSpPr>
        <p:spPr>
          <a:xfrm>
            <a:off x="457200" y="28954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مبادئ التربية ترب </a:t>
            </a: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ea typeface="Times New Roman"/>
              </a:rPr>
              <a:t>10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ea typeface="Times New Roman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حاضرة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راجعة للمقرر</a:t>
            </a:r>
            <a:br>
              <a:rPr sz="3700"/>
            </a:br>
            <a:r>
              <a:rPr b="1" lang="ar-SA" sz="2200" spc="-1" strike="noStrike">
                <a:solidFill>
                  <a:srgbClr val="7f7f7f"/>
                </a:solidFill>
                <a:latin typeface="Calibri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7FA6-88C4-4E4D-BEA2-B40B3DF1210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000" spc="-1" strike="noStrike">
                <a:solidFill>
                  <a:srgbClr val="527e56"/>
                </a:solidFill>
                <a:latin typeface="Calibri"/>
              </a:rPr>
              <a:t>السابعة </a:t>
            </a:r>
            <a:br>
              <a:rPr sz="4000"/>
            </a:br>
            <a:r>
              <a:rPr b="1" lang="ar-SA" sz="3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مفهوم الثقافة</a:t>
            </a:r>
            <a:r>
              <a:rPr b="1" lang="ar-SA" sz="3600" spc="-1" strike="noStrike">
                <a:solidFill>
                  <a:srgbClr val="bdc09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52280" y="1447920"/>
            <a:ext cx="9601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ناك تعريفات مختلفة للثقافة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تايلور :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رف الثقافة بأنها "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هي ذلك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الكل المركب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لذي يتضمن المعرفة والعقيدة والفن والقانون والأخلاق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بن خلدون 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صف الثقافة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بالعمر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الذي هو من صنع الإنس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يعرفه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كلباتريك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بأنها ”كل ما صنعته يد الانسات وعقله من أشياء ومظاهر فى البيئة الاجتماعية ,أي كل ما اخترعه الانسان أو ما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كتشفه وكان له دور فى العملية التعليمية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“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مكونات 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الثقافة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أولا: الجوانب غير المادية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لغة، وهي أداة الثقافة ووعاؤها. , الفنون والآداب والعلوم وسائر أنواع المعارف التي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ينتجها الإنسان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,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اتجاهات ,التقاليد, المعايير الاجتماعية, القيم الاجتماع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..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L-Mohanad Bold"/>
              </a:rPr>
              <a:t>ثانياً : الجوانب المادية : </a:t>
            </a:r>
            <a:r>
              <a:rPr b="1" lang="ar-SA" sz="18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و هي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تتضمن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كل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ما ينتجة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الانسان من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مخترعات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حسية</a:t>
            </a:r>
            <a:r>
              <a:rPr b="1" lang="en-US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مثل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مساكن والشوارع والأسوا</a:t>
            </a:r>
            <a:r>
              <a:rPr b="1" lang="ar-EG" sz="2400" spc="-1" strike="noStrike">
                <a:solidFill>
                  <a:srgbClr val="676a55"/>
                </a:solidFill>
                <a:latin typeface="Calibri"/>
                <a:cs typeface="AL-Mohanad Bold"/>
              </a:rPr>
              <a:t>ق</a:t>
            </a:r>
            <a:r>
              <a:rPr b="1" lang="en-US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تصنف الثقافة في المجتمع إلى ثلاث أصناف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1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عموميات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عناصر التي يشترك فيها الغالبية العظمى من أفراد المجتمع الواحد مثل: الزى واللغة والتح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2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خصوصيات: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ظواهر التي لا يشارك فيها سوى أفراد من فئة متميزة معينة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مثل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ثقافة أهل الحضر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و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الريف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3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بدائل أو المتغيرات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: تشمل الأشياء التي لا يشارك فيها إلا عدد محدود من الأفراد مثل بعض التقاليع والموض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B720-059D-4E4B-8998-65F2E261187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مراجعة محاضرة السابعة </a:t>
            </a:r>
            <a:br>
              <a:rPr sz="40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أسس الاجتماعية للتربية</a:t>
            </a:r>
            <a:br>
              <a:rPr sz="40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مجتمع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هو ”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مجموعة كبيرة من الناس، تعيش معاً في جماعات متماسكة، في إقليم معين، وتجمعهم ثقافة واحدة ومصالح مشتركة، ولديهم إحساس بالانتماء للجماعة.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.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 يتكون المجتمع من ثلاثة عناصر رئيسة تتداخل فيما بينها هى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 ـ البيئة الجغرافية أو الفيزيق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بما تشمل مساحة من الأرض والتضاريس والجبال والسواحل والصحاري ...وثروات طبيع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ب ـ الأفراد أو السكا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ذين يعيشون على هذه الأرض ، ولهم أنشطة اجتماعية وثقافية ، ولهم مهن ، وبيئات ( ريف / حض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ج ـ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التنظيم الاجتماعي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، وتشمل المنظمات الاجتماعية والتربوية  والاقتصادية والإدارية والمهنية والثقافية والمشروعات التي يديرها الأفرا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واع التربية فى المجتم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في هذا النوع من التربية تنظم الخبرات التي يتعرض لها الأفراد بقصد تعليمهم وتدريبهم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ولا: 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شكلية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من خلال احتكاك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فرد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بغيره من الأفراد داخل المجتمع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ت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تم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عمل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التعلم بطريقة آل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ثالثاً: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لقائ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ويتميز هذا النوع من التربية بالقليل من القصد ليتعلم الفرد شيئاً معيناً لكي يسلك سلوكاً معيناً</a:t>
            </a: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  :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ثانياً:ال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تربية غير شكلية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مراجعة على المحاضرة التاسعة والعاشرة والحادية عشر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L-Mohanad Bold"/>
              </a:rPr>
              <a:t> 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فهوم الفلسف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العلاقة بين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وا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لفلسف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جالات اهتمام فلسفة 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نماذج الفلسفات التربوية: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ـ الفلسفة المثالية وتطبيقاتها التربوية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الإسلامية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ـ الفلسفة الواقعية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برجماتية وتطبيقاتها التربو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طبيعية وتطبيقاتها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إسلامية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خلدو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تيم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غربية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ون ديوى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ان جاك روس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مراجعة على المحاضرة الثانية عشر</a:t>
            </a:r>
            <a:br>
              <a:rPr sz="3200"/>
            </a:br>
            <a:r>
              <a:rPr b="0" lang="en-GB" sz="32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الأسس النفسية للتربية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:- نظريات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نى:</a:t>
            </a:r>
            <a:r>
              <a:rPr b="1" lang="ar-OM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تفكير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لث:</a:t>
            </a:r>
            <a:r>
              <a:rPr b="1" lang="ar-SA" sz="2400" spc="-1" strike="noStrike">
                <a:solidFill>
                  <a:srgbClr val="b0ccb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ذكاء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رابع:  الذاكر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خامس: الفروق الفردي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سادس:الحاجات والدواف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المحاضرة الثالثة عشر والرابعة عشر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7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8000"/>
          </a:bodyPr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فهوم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قوم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بررات التجديدات التربوية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خصائص التجديد التربوى ومراحله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جالات ومعوق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4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نماذج من التجديدات التربوية فى المملكة العربية السعود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ماذج من التجديدات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تعلم المتمركز حول المشكلات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جامعة الافتراضي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ا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لذكاءات المتعدد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سويق التعليم الجامعى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اقتصاد المعرفى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عليم الكب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فريد التعليم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مناخ المدرسى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ي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درس ........  سلوك الإنسان وما يصدر منه من أفعال وحركات وأقوال أثناء تفاعله وتكيفه مع البيئة وأفراد المجتم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تاريخ                                           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اجتما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علم النفس                                              د-علم الأحي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يهدف   .......... إلى القضاء على عناصر الضعف في أحد الكفايات التي يجب أن تتوافر لدى المعلم أو العامل التربوي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لتدريب العلاجي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               ب-التدريب التجديد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تدريب التحويلي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-التدريب التكمي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مقومات مهنة التعلي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أ- النشاط  العقلي                                             ب  الإعداد القبلي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 التدريب أثناء الخدمة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  تنظيم نقابي يضم أصحاب المهن الأخرى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نوع التفكير الذي يحاول الفرد من خلاله التوصل إلى الأسباب التي تكمن وراء الأشياء ، أو الأدلة التي تثبت وجهة نظر معينة ، هو التفكير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التفكير الحسي                                                        ب ـ التفكير المنطق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تفكير الإبداعي                                                      د ـ التفكير الناقد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قال تعالى "لاَ يُكَلِّفُ اللّهُ نَفْسًا إِلاَّ وُسْعَهَا" تدل  هذه الآية الكريمة على أن التربية الإسلامية عمل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ثالية     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ب- عالمية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مستمر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د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اقعية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شير معاجم اللغة العربية إلى أن الأصل اللغوي لكلمة التربية "ربا يربو" يعنى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زيادة و النمو                                                          ب- التنشئة والترعرع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- الإصلاح والرعاي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- التحسين و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9601200" cy="4876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2000"/>
          </a:bodyPr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إ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لى أي مرحلة من المراحل التعليمية التالية يشير هذا الهدف " تكوين الوعي الإيجابي الذي يواجه به الطالب الأفكارَ الهدامة والاتجاهاتِ المضللة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 المرحلة الابتدائية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ب- المرحلة المتوسط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349"/>
              </a:spcBef>
              <a:buClr>
                <a:srgbClr val="000000"/>
              </a:buClr>
              <a:buFont typeface="Calibri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حلة الثانوية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  مرحلة التعليم العال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علم الذي يبحث في التفاعل الاجتماعي داخل المدرسة  ، وبناء الشخصية الاجتماعية للتلميذ ، هو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علم الاجتماع                                                             ب ـ علم الإنسان ( الأنثروبولوجيا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علم النفس                                                                د ـ علم الاجتماع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هي بناء خلق الطفل على ما يليق بالمجتمع الفاضل ". من الأقوال المأثورةلـ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جون ديوي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جان بول سارت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 أفلاطون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طهطاوي</a:t>
            </a:r>
            <a:r>
              <a:rPr b="0" lang="ar-SA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سويق التعليم الجامعي عملية  ....... تشمل التحليل والتخطيط والتنفيذ والرقابة ، كما أنه عملية اجتماعية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أ- نفسية                                                                    ب-إدارية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ج-إحصائية                                                             د- رياض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هدف التربية في  ........ إلى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حشو عقول التلاميذ بالمعلومات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برجماتية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 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فلسفة الطبيع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الفلسفة الواقع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................هى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ي يقوم عليها المنهج التربوي الإلمام بخصائص المتعلم النمائية ، وحاجاته وميوله ، واستعداداته وقدراته ودوافعه إلى التعل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لأسس الاجتماعية                                                    ب-الأسس النفسية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لأسس الفلسفية                                                         د - الأسس الثقاف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4000"/>
          </a:bodyPr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فيلسوف الذي وصف الثقافة" بالعمران الذي هو من صنع الإنسان"هو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تايلور                                                                        ب ـ ابن خلد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أفلاطون                                                                   د - أرسط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ذهب .............إلي محتويات المنهج ليست مهمة بقدر أهمية الطريقة التي يعالج بها المدرس هذه المحتوي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بن تيمية                                                             ب- جان جاك روسو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بن خلدون                                                          د- جون ديو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نظام له مدخلات وعمليات ومخرجات ،  وتمثل ........... الموارد المادية والبشرية وجميع العناصر الضرورية من أجل تحقيق أهداف محدد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  المدخلات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المخرج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عمليات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تغذية المرت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 عبارة عن قدرة عقلية عامة تدخل في جميع الأنشطة التي يقوم بها الفرد وتمكن الفرد من حل المشكل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ذكاء                                                                ب ـ الفروق الفرد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انحراف المعياري                                                د ـ الاتجاه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 دائما ما تلقي الضوء على الحكمة ، وفهم الإنسان وطبيعته وكيف يتعامل مع العالم المادي والمعنوي المحيط به.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إحصاء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ب-  الفلسف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سياس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 -  الأحياء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ناصر الثقافية التي لا يشارك فيها إلا عدد محدود من الأفراد مثل بعض التقاليع والموضات الجديد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ه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عموميات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ب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خصوصيات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بدائل                                                            د- المتوسط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9524880" cy="4952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 يشمل .........المعرفة ( تراكم الخبرات الإنسانية ) التي تقدم للتلاميذ بصورة تدريجية منظمة ،  أو غير المنظم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المحتوى الدراسي                                                             ب ـ الهدف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التقويم التربوي                                                                 د ـ المنهج الدراس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" النتائج النهائية و التغيرات المأمول تحقيقها في سلوك التلاميذ بعد تعرضهم للأنشطة والمناهج التي توفرها المدرسة " هي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محتوى الدراسي                                                       ب ـ الأهداف التربو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تقويم التربوي                                                          د ـ المناهج  التربو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فى نظام .............   يتم إعداد المعلم خلال  السنوات الأربع الأول في حقله التخصصي فقط، وفي السنة الخامسة يتجه الخريج لدراسة بعض مقررات الإعداد المهني  وللتدريب الميداني في كليات الترب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تابعي                                                ب- 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كام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اعداد المؤقت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الاعداد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ستم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الصفات الانفعالية التي  ينبغي أن يتحلى بها المعل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قدرة على إيصال المعلومات                              ب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انضباط في السلو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ونة والبعد عن التصلب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لتزام بالأد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ن المجالات التربوية التالية يدرس الباحثون فيه الكفاءة الداخلية والخارجية للتعليم والتخطيط للتعليم على ضوء حاجات سوق العمل 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اقتصاديات التربية                                  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نظم التربية وإدارتها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مناهج التربية وأساليب التدريس                    د-الجوانب الفلسفية للترب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تتمثل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لاقة بين الدوافع والحاجات في أن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وراء كل حاجة دافع معين                           ب ـ وراء كل دافع حاجة معين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وراء كل حاجة  دافع و اتجاه معين                   د ـ وراء كل حاجة دافع و ميل معي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93726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يعتمد التعليم على الجهد الذي يقوم به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تلميذ                                                                          ب ـ المدرس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مدير المدرسة                                                                د ـ الموجه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ليس من مكونات التجديد التربوي؟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جد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ب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إصلاح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  الزيا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 تؤكد ........على أن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منهج الجيد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هو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مقدار تدريب الطلبة على حل المشكلات باستخدام الأساليب العلمي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فلسفة الإسلامية                                                          ب ـ الفلسفة 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فلسفة الواقعية                                                         د ـ الفلسفة البرجماتي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527e56"/>
                </a:solidFill>
                <a:latin typeface="Calibri"/>
              </a:rPr>
              <a:t>الفهرس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95360" y="1523520"/>
            <a:ext cx="902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أول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 :مراجعة عل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موضوعات المقرر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وضوع الثاني:</a:t>
            </a:r>
            <a:r>
              <a:rPr b="0" lang="ar-OM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أسئلة للمناقشة والتدريب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1362-5ED3-441B-86B6-6CB205ECD6C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0B83-17CB-4855-B7B0-7FE3827539C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105160" y="1523880"/>
            <a:ext cx="464796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4000"/>
          </a:bodyPr>
          <a:p>
            <a:pPr marL="601200" indent="-383760" algn="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مفاهيم  التربية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-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تعددت الآراء حول مفهوم التربية و أختلف الناس حولها ومرجع ذلك يكمن في الاختلاف حول موضوع التربية وأيضا فهم الطبيعة الإنسان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جون ديوي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إلى أن " التربية هي الحياة ، وليست إعداد للحياة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ستورات ميل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-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فيقول أن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التربية هي كل ما يعلمه المرء أو يعلمه لغيره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طهطاو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" التربية هي بناء خلق الطفل على ما يليق بالمجتمع الفاضل  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لودج :-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تربية لها معنيان، فهي تعامل الإنسان مع البيئة المحيط به ،وهذا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مفهوم واسع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لها ، أما التربية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معناها الضيق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فيقصد بها التعليم المدرسي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1523880"/>
            <a:ext cx="495288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7"/>
          <p:cNvSpPr/>
          <p:nvPr/>
        </p:nvSpPr>
        <p:spPr>
          <a:xfrm>
            <a:off x="228600" y="1523880"/>
            <a:ext cx="47242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نياً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:خصائص عملي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إنسان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التربية عملية تشاركيه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فردية وإ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جتماع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التربية تختلف باختلاف الزمان والمكا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عملية مستمر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املية.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نشاط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لثاً :ضرورة التربية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أ) ضرورة التربية للفرد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ن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قل التراث الثقاف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حاجة الطفل الوليد إلى الرعاية والعناية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تنمية وتطوير الفرد ليتعايش معها 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تابع 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05BC-6443-4CA4-B93D-E6B001E4B92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440" y="1599840"/>
            <a:ext cx="8839080" cy="44197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ب) ضرورة الترب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للمجتمع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احتفاظ ب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تعزيز 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مكافحة الأ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رابعاً:أهداف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: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كسب الرزق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نقل الأنماط السلوكية من جيل إلى أخر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مواطن الصالح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فرد دينيا ودنيويا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علمي ل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-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وين فرد ديمقراط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تقدمي المستقبل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877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527e56"/>
                </a:solidFill>
                <a:latin typeface="Calibri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نية</a:t>
            </a:r>
            <a:br>
              <a:rPr sz="32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طبيعة التربية وعلاقتها بالعلوم الأخرى</a:t>
            </a:r>
            <a:br>
              <a:rPr sz="6000"/>
            </a:b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A773-EA61-4F89-A86E-8EC923354DD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181120" y="1523880"/>
            <a:ext cx="4496040" cy="457200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طبيع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لها مقومات العلم من نظريات وقوانين .ومبادئ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طلب التطبيق العلمي للنظريات العلمية بالوسائل التي تحققها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و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يكمل كل منهما الآخر الترب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م من خلال إجراءات وأنشطة تمارس في المؤسسة التربو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-التربية نظام له مدخلات وعمليات ومخرج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Arial"/>
              </a:rPr>
              <a:t> 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مهن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تحتاج إلى تدريب منظم ومستمر وإعداد في مؤسسات علمية متخصص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7"/>
          <p:cNvSpPr/>
          <p:nvPr/>
        </p:nvSpPr>
        <p:spPr>
          <a:xfrm>
            <a:off x="228600" y="1523880"/>
            <a:ext cx="472428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ثانياً علاقة التربية بالعلوم الاخرى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 تأثرت التربية في نشأتها وتطورها بمجموعة من العلوم الإنسانية والاجتماعية والطبيعية والرياضية والتكنولوجية أخذت التربية من العلوم الأخرى ( وخاصة العلوم الإنسانية والاجتماعية ) مفاهيم ونظريات ومصطلحات وأفكار ، وقامت بتطويرها والإفادة منها بما يتناسب مع طبيعتها . وفيما يلي عرضا لعلاقة التربية ببعض العلوم الأخرى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التربية والفلسفة .              ـ التربية  والأنثروبولوجيا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   ـ التربية وعلم الاجتماع .         ـ التربية وعلم السياس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علم النفس .            ـ التربية وعلم الأحيا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الحاسوب .              ـ التربية وعلم الإحص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-التربية وعلم الاقتصاد .           -التربية وعلم التاريخ </a:t>
            </a:r>
            <a:r>
              <a:rPr b="1" lang="ar-SA" sz="1800" spc="-1" strike="noStrike">
                <a:solidFill>
                  <a:srgbClr val="b0ccb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800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لثة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أسس الدينية للتربية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45CB-761A-4418-8CFA-7D6E0DC6E49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105520" y="1523880"/>
            <a:ext cx="4572000" cy="46483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أولاً : أسس التربية الإسلا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7"/>
          <p:cNvSpPr/>
          <p:nvPr/>
        </p:nvSpPr>
        <p:spPr>
          <a:xfrm>
            <a:off x="228600" y="1523880"/>
            <a:ext cx="4724280" cy="63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تكاملية شا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ثالية واق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سلوكية عمل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ستم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إنسانية عال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محافظة مجد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ثانياً:أساليب التربية الإسلامية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قدوة الصالح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ثواب والعقا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توجيه والنص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حوار والمناقش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ممارسة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أسلوب التلقين والحف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5257800" y="1600200"/>
            <a:ext cx="434340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ربية في كل مجتمع لها أسسها العقدية المستوحاة من عقيدة المجتمع والتربية في المجتمع المسلم لها أسسها التي تعتمد على عقيدتها الإسلامية 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أهداف التربية الإسلامية تحقيق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سعادة الإنسان في الدنيا والآخرة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نشئة الإنسان الذي يعبد الله ويخشاه وتقوية الروابط بين المسلمين بالإضافة إل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ربية لضمير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إنسان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هذه الأهداف كلها مستوحاة من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خصائص العامة للإسلا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63468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الرابعة</a:t>
            </a:r>
            <a:br>
              <a:rPr sz="4400"/>
            </a:br>
            <a:r>
              <a:rPr b="1" lang="ar-EG" sz="2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مهنة التعليم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:-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1920" y="1447920"/>
            <a:ext cx="9525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تغير شبه دائم في الأداء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تيجة للخبرة والممارسة والتدريب وليس للنضج فقط ,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أما 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مج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هود يبذل بقصد إكساب المعلومات والمعارف والمهارات للمت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، وبهدف حفز المتعلم ، واستثارة قواه العقلية ، ونشاطه الذاتي ، وتهيئة الظروف التي تمكنه من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د يكون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ذاتيا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يقوم به الفرد بنفسه أما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فيشترط وجود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تقوم مهنة التعليم على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جموعة من المقومات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,نخص منها بالذكر ما يلى: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نشاط العقلي: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خصص العلم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-الإعداد القبل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دريب في أثناء الخدمة -عضوية دائمة في المهنة 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تنظيم نقابي له دوره الاجتماعي والمهني: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مراحل التعلي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ينقسم التعليم في المملكة السعودية إلى قسمين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أول وهو التعليم العام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 , 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ثاني وهو التعليم الع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الركائز الأساسية لعملية التعليم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أ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تعلم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ب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نهج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 ج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ادار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ة  د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علم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1AF9-550D-416E-B3A7-787E72593AA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80092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527e56"/>
                </a:solidFill>
                <a:latin typeface="Calibri"/>
              </a:rPr>
              <a:t>: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الخامسة</a:t>
            </a:r>
            <a:br>
              <a:rPr sz="3600"/>
            </a:b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نظم إعداد المعلم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9601200" cy="4724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78000"/>
          </a:bodyPr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نظام الإعداد التتابعى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نظام الإعداد التكامل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أسس إعداد المعلم</a:t>
            </a:r>
            <a:r>
              <a:rPr b="1" lang="ar-EG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ثقافي العام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أكاديمي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مه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التدريب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1 –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التدريب التكميل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استكمال النقص الناتج عن مرحلة إعداد المعلم في مؤسسات إعداد المعلمين , وقد يكون هذا النقص في الجانب الأكاديمي أو في الجانب المسلك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علاج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عالجة ضعف في أحد الكفايات التي يجب أن تتوافر لدى المعلم أو العامل التربو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تجديد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سايرة المستجدات العلمية والتربوية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4-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تدريب التحويل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وذلك لاكتساب مهارات ومعارف وقدرات وسلوكيات تمكن المعلم من الانتقال (التحول)الى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مجال عمل اخر , عمل جديد أو تخصص جد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صفات المعلم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أ ـ من الناحية الجسم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 ـ من الناحية العقل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ج ـ  من الناحية الانفعال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د ـ من الناحية الاجتماع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 من الناحية المعرف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من الناحية الأخلاق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م ـ من الناحية القياد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8877240" cy="106668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السادسة </a:t>
            </a:r>
            <a:br>
              <a:rPr sz="3200"/>
            </a:b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أهداف التربية والتعليم فى المملكة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9372600" cy="4648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2000"/>
          </a:bodyPr>
          <a:p>
            <a:pPr marL="2811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1-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80880" y="1447920"/>
            <a:ext cx="929664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 u="sng">
                <a:solidFill>
                  <a:srgbClr val="c00000"/>
                </a:solidFill>
                <a:uFillTx/>
                <a:latin typeface="Arial"/>
              </a:rPr>
              <a:t>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Arial"/>
              </a:rPr>
              <a:t>لأ</a:t>
            </a:r>
            <a:r>
              <a:rPr b="1" lang="ar-OM" sz="1800" spc="-1" strike="noStrike" u="sng">
                <a:solidFill>
                  <a:srgbClr val="c00000"/>
                </a:solidFill>
                <a:uFillTx/>
                <a:latin typeface="Arial"/>
              </a:rPr>
              <a:t>هداف التربوية: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 الغاية التي تسعى التربية للوصول اليها مستخدمة في ذلك جميع الوسائل والامكانات المتاح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الاهداف التربوية في الاساس منبثقة من النظرية الفلسفية الاجتماعية السياسية ومصاغة بشكل اهداف محدد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مستويات الاهداف التربو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1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مجالات الاهداف التربو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أولا : المجال المعرفي(الادراكى)</a:t>
            </a:r>
            <a:r>
              <a:rPr b="1" lang="ar-EG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يختص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بالأهداف المرتطبة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بالمعلومات والمفاهيم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وتذكرها وإدراكه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نياً : المجال النفسي حركي ( المهاري )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يختص بالأهداف المرتبطة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هارات التي تتطلب تنسيق بين عضلات الجس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لثاً : المجال الوجداني ( العاطفي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يختص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أهداف المتعلقة بالاتجاهات والعواطف والقيم التقدير والتعاو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أهداف التربية والتعليم فى المملكة العربية السعودية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(رياض الأطفال - المرحلة الابئدائية -المرحلة المتوسطة-التعليم التعليم العالى)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User</cp:lastModifiedBy>
  <dcterms:modified xsi:type="dcterms:W3CDTF">2011-04-20T17:04:11Z</dcterms:modified>
  <cp:revision>161</cp:revision>
  <dc:subject/>
  <dc:title>Slide 1</dc:title>
</cp:coreProperties>
</file>