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7E16-175F-411A-B971-9CC89D5D868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6E23-E848-46B8-8C78-0D0B76246B2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63A8-8F2A-42C5-A68C-F58452834E3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5EBD-0197-46A0-90FF-10AD87E6D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C640-AA72-482C-B3EE-12D54D91F30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B99-D8E3-4E32-B8F8-9545BE6FC9D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53F-9635-46FB-AD83-9493E2DA7DF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8EE9-B3E6-4AD7-93AD-BE05A020BFE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ADA-4727-4B3F-9CAB-8F6343854A4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56B-780D-4FCA-80F3-6624BAE6CFA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FBA-7A5F-4F7E-B97F-264F774F610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96D-F733-4600-A204-71C2839F367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F9E-34B2-47D9-9A03-2C13BB68E9A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C30-77CC-4F36-B2F4-E19283672BB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097E6-C307-4332-BD8E-290AE3293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1AD8-2142-4BEB-98A4-7F1580FE370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7C506-15C6-4122-8DE6-C0BABB2CD5A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D35BC-8E22-41DC-BA67-1B11570CD6D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3AC38-61B6-483D-8CA3-C5C4616639C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6D57A-8C3E-482F-BB29-B7EFCE28F1F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2468D-26FB-4601-BC63-198B2BB3312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F3F02-8A30-478E-B10F-838AAD071A2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54231-BAF8-4483-9F3D-9C27562CA40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98EE2-F228-4B7F-B785-D3CD72CB9D4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8EF3C-C146-4FD2-B42E-24CE8CC8252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9047C-A63E-4C56-B974-57DE7957F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ECE2-B8D3-4DF6-ABA7-58D4E99E105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CBE96-6004-4281-A8C1-FD2E5F6FE42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674D9-1A4A-451D-91D9-8AC7C400278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71D4C-ECB5-496F-8EFD-0C60030C4DF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758F2-4389-442E-8444-FA6AC193451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7DAAE-6618-4D9D-87E5-C23F2151EDD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18244-885D-498B-8E3A-6A67B70397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366F7-8F12-4313-A34C-CBDF0584914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1E695-B0DC-4A03-B824-E165C3D21EA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B1055-BC80-4BE5-B66F-F8E56DCF0C0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E0DEF-B944-4A75-8CC3-528B234D4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8908-BC35-4929-9183-F79BC94DC6B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69E85-9AA6-4D41-A505-DEECDDDD5FB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0D449-3A35-43CC-9F5E-1B18DD20E64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842A9-11CC-41CE-95C9-D2B32A229DB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0F39-5502-4A9D-963D-DBEE1B587CE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D6FE-F1FA-4A63-A39F-20E04515FE9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7DDC-178C-4C1D-8AFE-223E0568006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859C-10B2-4E34-B131-29E667B4870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C0C5-1A14-4922-9EC3-577C342C727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C28F-9A4D-4DCF-9EA6-D118F47CC29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4521-4359-4FC1-A276-04BEA2D410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D58FB-7F0F-4BF6-808E-B59EB04A668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82D8-4B22-4B13-BB5E-80F55984764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EEA3-D904-4DD0-972E-9A514C6A7D3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FE7F-D9A2-4024-91A7-D5D906BE0C2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F5CE-0352-4AD4-A251-5556C42509D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B131-082F-4745-830E-8A40FB4B1A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6799-DD86-42C6-BFB5-DF91BC5F34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BF76-E64E-41D7-B50C-BE6D606FC1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29A2D-78B2-4B98-9AF8-51FA2E7159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E34A-950B-46A9-ABF4-BCB6EEBB86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967D3-C4D7-453A-82B1-BB4B1FD975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8540-9123-4B4D-89F0-46D319069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1E0C-A2AE-4BA7-A06D-08033ECD43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66B69-D755-4AAC-ABB7-40A8DDDF72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9DA21-FC8B-44FB-9CC1-DC68F42A23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1293-481D-4716-B3D0-3615CD40F1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915B-824E-402F-ABFF-4481649B8A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0BC5-49F4-47E8-B4E6-C27F3D744B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FF45-C314-4F90-B63A-DFFAD28358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8141-2707-4C4F-B8DC-729285B30EE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3975-64D1-4CB3-B77F-1BA7A0DE3DB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4037-9050-4A4B-B66A-52FEA98D70E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91EA-1B37-4D50-9A7E-DAFFE4244A5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C5C9-993C-4011-BBBD-C02FFDF05CF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DFE-1E39-4316-AABD-56712C5F457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5C9-5F0C-46D3-B56C-0369B83CB2F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3A4-FC47-46F1-B400-6A014DF07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0A49-8A63-4762-A23E-FE41C069DDF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C837-3817-4F53-82EC-0EC42CD8AF2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BAA2-57DB-460C-BE83-B4FDEB2CEAF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C312-49AC-4CE2-A38C-D76977E9068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B761-DCFE-4900-8DC1-3D4DC2FA632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A791-F36F-4BAF-B4E4-DA8B637186C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0" y="7632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457200" y="28954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مبادئ التربية ترب </a:t>
            </a: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ea typeface="Times New Roman"/>
              </a:rPr>
              <a:t>10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حاضرة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راجعة للمقرر</a:t>
            </a:r>
            <a:br>
              <a:rPr sz="3700"/>
            </a:br>
            <a:r>
              <a:rPr b="1" lang="ar-SA" sz="2200" spc="-1" strike="noStrike">
                <a:solidFill>
                  <a:srgbClr val="7f7f7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7200-78D0-4CF0-A856-2717262D304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000" spc="-1" strike="noStrike">
                <a:solidFill>
                  <a:srgbClr val="527e56"/>
                </a:solidFill>
                <a:latin typeface="Calibri"/>
              </a:rPr>
              <a:t>السابعة </a:t>
            </a:r>
            <a:br>
              <a:rPr sz="4000"/>
            </a:b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فهوم الثقافة</a:t>
            </a:r>
            <a:r>
              <a:rPr b="1" lang="ar-SA" sz="3600" spc="-1" strike="noStrike">
                <a:solidFill>
                  <a:srgbClr val="bdc09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52280" y="1447920"/>
            <a:ext cx="9601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تعريفات مختلفة للثقافة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ايلور :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ف الثقافة بأنها "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هي ذلك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الكل المركب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ذي يتضمن المعرفة والعقيدة والفن والقانون والأخلاق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بن خلدون 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صف الثقافة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بالعمر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الذي هو من صنع الإنس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يعرفه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كلباتريك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بأنها ”كل ما صنعته يد الانسات وعقله من أشياء ومظاهر فى البيئة الاجتماعية ,أي كل ما اخترعه الانسان أو ما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كتشفه وكان له دور فى العملية التعليمية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مكونات 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الثقافة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أولا: الجوانب غير المادية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لغة، وهي أداة الثقافة ووعاؤها. , الفنون والآداب والعلوم وسائر أنواع المعارف التي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ينتجها الإنسان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,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اتجاهات ,التقاليد, المعايير الاجتماعية, القيم الاجتماع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..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L-Mohanad Bold"/>
              </a:rPr>
              <a:t>ثانياً : الجوانب المادية : </a:t>
            </a:r>
            <a:r>
              <a:rPr b="1" lang="ar-SA" sz="18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و هي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تتضمن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كل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ما ينتجة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الانسان من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مخترعات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حسية</a:t>
            </a:r>
            <a:r>
              <a:rPr b="1" lang="en-US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مثل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مساكن والشوارع والأسوا</a:t>
            </a:r>
            <a:r>
              <a:rPr b="1" lang="ar-EG" sz="2400" spc="-1" strike="noStrike">
                <a:solidFill>
                  <a:srgbClr val="676a55"/>
                </a:solidFill>
                <a:latin typeface="Calibri"/>
                <a:cs typeface="AL-Mohanad Bold"/>
              </a:rPr>
              <a:t>ق</a:t>
            </a:r>
            <a:r>
              <a:rPr b="1" lang="en-US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تصنف الثقافة في المجتمع إلى ثلاث أصناف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1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عموميات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عناصر التي يشترك فيها الغالبية العظمى من أفراد المجتمع الواحد مثل: الزى واللغة والتح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2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خصوصيات: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ظواهر التي لا يشارك فيها سوى أفراد من فئة متميزة معينة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مثل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ثقافة أهل الحضر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و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الريف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3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بدائل أو المتغيرات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: تشمل الأشياء التي لا يشارك فيها إلا عدد محدود من الأفراد مثل بعض التقاليع والموض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0D63-B8C3-4170-AECF-19949B5469E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مراجعة محاضرة السابعة </a:t>
            </a:r>
            <a:br>
              <a:rPr sz="40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أسس الاجتماعية للتربية</a:t>
            </a:r>
            <a:br>
              <a:rPr sz="40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مجتمع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هو ”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مجموعة كبيرة من الناس، تعيش معاً في جماعات متماسكة، في إقليم معين، وتجمعهم ثقافة واحدة ومصالح مشتركة، ولديهم إحساس بالانتماء للجماعة.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كون المجتمع من ثلاثة عناصر رئيسة تتداخل فيما بينها هى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 ـ البيئة الجغرافية أو الفيزيق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ما تشمل مساحة من الأرض والتضاريس والجبال والسواحل والصحاري ...وثروات طبيع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ب ـ الأفراد أو السكا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ذين يعيشون على هذه الأرض ، ولهم أنشطة اجتماعية وثقافية ، ولهم مهن ، وبيئات ( ريف / حض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ج ـ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التنظيم الاجتماعي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، وتشمل المنظمات الاجتماعية والتربوية  والاقتصادية والإدارية والمهنية والثقافية والمشروعات التي يديرها الأفرا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واع التربية فى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في هذا النوع من التربية تنظم الخبرات التي يتعرض لها الأفراد بقصد تعليمهم وتدريبهم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ولا: 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شكلية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من خلال احتكاك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فرد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بغيره من الأفراد داخل المجتمع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ت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تم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عمل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التعلم بطريقة آل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ثالثاً: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لقائ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ويتميز هذا النوع من التربية بالقليل من القصد ليتعلم الفرد شيئاً معيناً لكي يسلك سلوكاً معيناً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  :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ثانياً:ال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تربية غير شكلية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مراجعة على المحاضرة التاسعة والعاشرة والحادية عش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L-Mohanad Bold"/>
              </a:rPr>
              <a:t> 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فهوم الفلسف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العلاقة بين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وا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لفلسف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جالات اهتمام فلسفة 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ماذج الفلسفات التربوية: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ـ الفلسفة المثالية وتطبيقاتها التربو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الإسلامية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ـ الفلسفة الواقعية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برجماتية وتطبيقاتها الترب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طبيعية وتطبيقاتها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إسلام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خلد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تي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غربية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ون ديو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ان جاك روس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مراجعة على المحاضرة الثانية عشر</a:t>
            </a:r>
            <a:br>
              <a:rPr sz="3200"/>
            </a:br>
            <a:r>
              <a:rPr b="0" lang="en-GB" sz="32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الأسس النفسية للتربية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:- نظريات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نى:</a:t>
            </a:r>
            <a:r>
              <a:rPr b="1" lang="ar-OM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فكي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لث:</a:t>
            </a:r>
            <a:r>
              <a:rPr b="1" lang="ar-SA" sz="2400" spc="-1" strike="noStrike">
                <a:solidFill>
                  <a:srgbClr val="b0ccb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ذك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رابع:  الذاكر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خامس: الفروق الفرد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سادس:الحاجات والدواف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المحاضرة الثالثة عشر والرابعة عشر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7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فهوم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قوم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بررات التجديدات التربوية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خصائص التجديد التربوى ومراحل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جالات ومعوق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نماذج من التجديدات التربوية فى المملكة العربية السعو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ماذج من التجديدات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تعلم المتمركز حول المشكلات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جامعة الافتراضي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ا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لذكاءات المتعدد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سويق التعليم الجامعى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اقتصاد المعرفى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عليم الكب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فريد التعليم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مناخ المدرس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ي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درس ........  سلوك الإنسان وما يصدر منه من أفعال وحركات وأقوال أثناء تفاعله وتكيفه مع البيئة وأفراد المجتم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تاريخ                                           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اجتما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علم النفس                                              د-علم الأحي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يهدف   .......... إلى القضاء على عناصر الضعف في أحد الكفايات التي يجب أن تتوافر لدى المعلم أو العامل التربوي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تدريب العلاجي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               ب-التدريب التجديد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تدريب التحويلي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-التدريب التكمي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مقومات مهنة التعلي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أ- النشاط  العقلي                                             ب  الإعداد القبلي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 التدريب أثناء الخدمة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  تنظيم نقابي يضم أصحاب المهن الأخرى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نوع التفكير الذي يحاول الفرد من خلاله التوصل إلى الأسباب التي تكمن وراء الأشياء ، أو الأدلة التي تثبت وجهة نظر معينة ، هو التفكير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التفكير الحسي                                                        ب ـ التفكير المنطق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تفكير الإبداعي                                                      د ـ التفكير الناق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قال تعالى "لاَ يُكَلِّفُ اللّهُ نَفْسًا إِلاَّ وُسْعَهَا" تدل  هذه الآية الكريمة على أن التربية الإسلامية عمل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ثالية     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ب- عالمية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مستمر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د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اقعية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شير معاجم اللغة العربية إلى أن الأصل اللغوي لكلمة التربية "ربا يربو" يعنى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زيادة و النمو                                                          ب- التنشئة والترعرع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- الإصلاح والرعاي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- التحسين و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601200" cy="4876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إ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لى أي مرحلة من المراحل التعليمية التالية يشير هذا الهدف " تكوين الوعي الإيجابي الذي يواجه به الطالب الأفكارَ الهدامة والاتجاهاتِ المضللة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 المرحلة الابتدائية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ب- المرحلة المتوسط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349"/>
              </a:spcBef>
              <a:buClr>
                <a:srgbClr val="000000"/>
              </a:buClr>
              <a:buFont typeface="Calibri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حلة الثانوية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  مرحلة التعليم العال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علم الذي يبحث في التفاعل الاجتماعي داخل المدرسة  ، وبناء الشخصية الاجتماعية للتلميذ ، هو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علم الاجتماع                                                             ب ـ علم الإنسان ( الأنثروبولوجيا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علم النفس                                                                د ـ علم الاجتماع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هي بناء خلق الطفل على ما يليق بالمجتمع الفاضل ". من الأقوال المأثورةلـ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جون ديوي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جان بول سارت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 أفلاطون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طهطاوي</a:t>
            </a:r>
            <a:r>
              <a:rPr b="0" lang="ar-SA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سويق التعليم الجامعي عملية  ....... تشمل التحليل والتخطيط والتنفيذ والرقابة ، كما أنه عملية اجتماعي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أ- نفسية                                                                    ب-إدارية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ج-إحصائية                                                             د- رياض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هدف التربية في  ........ إلى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حشو عقول التلاميذ بالمعلومات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رجماتية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 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فلسفة الطبيع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الفلسفة الواقع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................هى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ي يقوم عليها المنهج التربوي الإلمام بخصائص المتعلم النمائية ، وحاجاته وميوله ، واستعداداته وقدراته ودوافعه إلى التعل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لأسس الاجتماعية                                                    ب-الأسس النفسية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لأسس الفلسفية                                                         د - الأسس الثقاف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فيلسوف الذي وصف الثقافة" بالعمران الذي هو من صنع الإنسان"هو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تايلور                                                                        ب ـ ابن خلد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أفلاطون                                                                   د - أرسط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ذهب .............إلي محتويات المنهج ليست مهمة بقدر أهمية الطريقة التي يعالج بها المدرس هذه المحتوي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بن تيمية                                                             ب- جان جاك روسو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بن خلدون                                                          د- جون ديو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نظام له مدخلات وعمليات ومخرجات ،  وتمثل ........... الموارد المادية والبشرية وجميع العناصر الضرورية من أجل تحقيق أهداف محدد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  المدخلات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المخرج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عمليات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تغذية المرت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 عبارة عن قدرة عقلية عامة تدخل في جميع الأنشطة التي يقوم بها الفرد وتمكن الفرد من حل المشكل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ذكاء                                                                ب ـ الفروق الفرد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انحراف المعياري                                                د ـ الاتجاه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 دائما ما تلقي الضوء على الحكمة ، وفهم الإنسان وطبيعته وكيف يتعامل مع العالم المادي والمعنوي المحيط به.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حصاء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ب-  الفلسف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سياس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 -  الأحياء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ناصر الثقافية التي لا يشارك فيها إلا عدد محدود من الأفراد مثل بعض التقاليع والموضات الجديد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ه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عموميات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ب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خصوصيات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بدائل                                                            د- المتوسط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524880" cy="4952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 يشمل .........المعرفة ( تراكم الخبرات الإنسانية ) التي تقدم للتلاميذ بصورة تدريجية منظمة ،  أو غير المنظم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المحتوى الدراسي                                                             ب ـ الهدف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التقويم التربوي                                                                 د ـ المنهج الدراس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" النتائج النهائية و التغيرات المأمول تحقيقها في سلوك التلاميذ بعد تعرضهم للأنشطة والمناهج التي توفرها المدرسة " هي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محتوى الدراسي                                                       ب ـ الأهداف التربو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تقويم التربوي                                                          د ـ المناهج  التربو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فى نظام .............   يتم إعداد المعلم خلال  السنوات الأربع الأول في حقله التخصصي فقط، وفي السنة الخامسة يتجه الخريج لدراسة بعض مقررات الإعداد المهني  وللتدريب الميداني في كليات الترب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تابعي                                                ب- 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كام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اعداد المؤقت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الاعداد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م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الصفات الانفعالية التي  ينبغي أن يتحلى بها المعل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قدرة على إيصال المعلومات                              ب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انضباط في السلو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ونة والبعد عن التصلب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لتزام بالأد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ن المجالات التربوية التالية يدرس الباحثون فيه الكفاءة الداخلية والخارجية للتعليم والتخطيط للتعليم على ضوء حاجات سوق العمل 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اقتصاديات التربية                                  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نظم التربية وإدارتها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مناهج التربية وأساليب التدريس                    د-الجوانب الفلسفية للترب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تتمثل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لاقة بين الدوافع والحاجات في أن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وراء كل حاجة دافع معين                           ب ـ وراء كل دافع حاجة م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وراء كل حاجة  دافع و اتجاه معين                   د ـ وراء كل حاجة دافع و ميل معي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726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يعتمد التعليم على الجهد الذي يقوم به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تلميذ                                                                          ب ـ المدر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مدير المدرسة                                                                د ـ الموجه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ليس من مكونات التجديد التربوي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جد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ب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إصلاح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  الزيا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 تؤكد ........على أن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منهج الجيد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هو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مقدار تدريب الطلبة على حل المشكلات باستخدام الأساليب العلمي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فلسفة الإسلامية                                                          ب ـ الفلسفة 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فلسفة الواقعية                                                         د ـ الفلسفة البرجمات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527e56"/>
                </a:solidFill>
                <a:latin typeface="Calibri"/>
              </a:rPr>
              <a:t>الفهرس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360" y="1523520"/>
            <a:ext cx="902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أول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:مراجعة 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موضوعات المقر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وضوع الثاني:</a:t>
            </a:r>
            <a:r>
              <a:rPr b="0" lang="ar-OM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أسئلة للمناقشة والتدريب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07B0-3119-4B1A-B329-2EF34CAE9F7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0E94-D3F7-4CA0-99D1-6565E083DE3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105160" y="1523880"/>
            <a:ext cx="464796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4000"/>
          </a:bodyPr>
          <a:p>
            <a:pPr marL="601200" indent="-383760" algn="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مفاهيم  التربية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-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تعددت الآراء حول مفهوم التربية و أختلف الناس حولها ومرجع ذلك يكمن في الاختلاف حول موضوع التربية وأيضا فهم الطبيعة الإنسان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جون ديوي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إلى أن " التربية هي الحياة ، وليست إعداد للحياة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ستورات ميل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فيقول أ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التربية هي كل ما يعلمه المرء أو يعلمه لغيره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طهطاو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" التربية هي بناء خلق الطفل على ما يليق بالمجتمع الفاضل 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لودج :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تربية لها معنيان، فهي تعامل الإنسان مع البيئة المحيط به ،وهذا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مفهوم واسع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لها ، أما التربية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معناها الضيق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فيقصد بها التعليم المدرسي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523880"/>
            <a:ext cx="495288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7"/>
          <p:cNvSpPr/>
          <p:nvPr/>
        </p:nvSpPr>
        <p:spPr>
          <a:xfrm>
            <a:off x="228600" y="1523880"/>
            <a:ext cx="47242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نياً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:خصائص عملي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إنسان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التربية عملية تشاركي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فردية وإ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جتماع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التربية تختلف باختلاف الزمان والمك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عملية مستمر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املية.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نشا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لثاً :ضرورة التربية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أ) ضرورة التربية للفرد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ن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قل التراث الثقاف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حاجة الطفل الوليد إلى الرعاية والعناي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تنمية وتطوير الفرد ليتعايش معها 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تابع 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E353-D732-4C20-8981-49FE6ECC61A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599840"/>
            <a:ext cx="8839080" cy="44197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ب) ضرورة الترب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للمجتمع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احتفاظ ب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تعزيز 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مكافحة الأ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رابعاً:أهداف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كسب الرزق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نقل الأنماط السلوكية من جيل إلى أخر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مواطن الصالح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فرد دينيا ودنيويا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علمي ل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-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وين فرد ديمقراط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تقدمي المستقبل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877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527e56"/>
                </a:solidFill>
                <a:latin typeface="Calibri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نية</a:t>
            </a:r>
            <a:br>
              <a:rPr sz="32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طبيعة التربية وعلاقتها بالعلوم الأخرى</a:t>
            </a:r>
            <a:br>
              <a:rPr sz="6000"/>
            </a:b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EEDF-FC28-4497-86B8-092A274F1CD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81120" y="1523880"/>
            <a:ext cx="4496040" cy="457200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طبيع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لها مقومات العلم من نظريات وقوانين .ومبادئ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طلب التطبيق العلمي للنظريات العلمية بالوسائل التي تحقق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و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يكمل كل منهما الآخر الترب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م من خلال إجراءات وأنشطة تمارس في المؤسسة التربو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-التربية نظام له مدخلات وعمليات ومخر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مهن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تحتاج إلى تدريب منظم ومستمر وإعداد في مؤسسات علمية متخصص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228600" y="1523880"/>
            <a:ext cx="47242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ثانياً علاقة التربية بالعلوم الاخرى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تأثرت التربية في نشأتها وتطورها بمجموعة من العلوم الإنسانية والاجتماعية والطبيعية والرياضية والتكنولوجية أخذت التربية من العلوم الأخرى ( وخاصة العلوم الإنسانية والاجتماعية ) مفاهيم ونظريات ومصطلحات وأفكار ، وقامت بتطويرها والإفادة منها بما يتناسب مع طبيعتها . وفيما يلي عرضا لعلاقة التربية ببعض العلوم الأخرى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التربية والفلسفة .              ـ التربية  والأنثروبولوجي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   ـ التربية وعلم الاجتماع .         ـ التربية وعلم السيا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علم النفس .            ـ التربية وعلم الأح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الحاسوب .              ـ التربية وعلم الإحص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-التربية وعلم الاقتصاد .           -التربية وعلم التاريخ </a:t>
            </a:r>
            <a:r>
              <a:rPr b="1" lang="ar-SA" sz="1800" spc="-1" strike="noStrike">
                <a:solidFill>
                  <a:srgbClr val="b0ccb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6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800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لثة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أسس الدينية للتربية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6611-A0CB-40E5-A709-77989B48F23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572000" cy="4648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أولاً : أسس التربية الإسلا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7"/>
          <p:cNvSpPr/>
          <p:nvPr/>
        </p:nvSpPr>
        <p:spPr>
          <a:xfrm>
            <a:off x="228600" y="1523880"/>
            <a:ext cx="472428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تكاملية شا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ثالية واق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سلوكية عم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ستم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إنسانية عا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محافظة مج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ثانياً:أساليب التربية الإسلامية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قدوة الصال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ثواب والعقا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توجيه والنص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حوار والمناق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ممارسة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أسلوب التلقين والحف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257800" y="1600200"/>
            <a:ext cx="43434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ربية في كل مجتمع لها أسسها العقدية المستوحاة من عقيدة المجتمع والتربية في المجتمع المسلم لها أسسها التي تعتمد على عقيدتها الإسلامية 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هداف التربية الإسلامية تحقيق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سعادة الإنسان في الدنيا والآخرة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نشئة الإنسان الذي يعبد الله ويخشاه وتقوية الروابط بين المسلمين بالإضافة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ربية لضمير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إنس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ه الأهداف كلها مستوحاة من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خصائص العامة للإسل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63468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الرابعة</a:t>
            </a:r>
            <a:br>
              <a:rPr sz="4400"/>
            </a:br>
            <a:r>
              <a:rPr b="1" lang="ar-EG" sz="2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مهنة التعليم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:-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1920" y="1447920"/>
            <a:ext cx="9525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تغير شبه دائم في الأداء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تيجة للخبرة والممارسة والتدريب وليس للنضج فقط ,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أما 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مج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هود يبذل بقصد إكساب المعلومات والمعارف والمهارات للمت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، وبهدف حفز المتعلم ، واستثارة قواه العقلية ، ونشاطه الذاتي ، وتهيئة الظروف التي تمكنه من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د يكون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ذاتيا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قوم به الفرد بنفسه أما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فيشترط وجود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تقوم مهنة التعليم على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جموعة من المقومات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,نخص منها بالذكر ما يلى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نشاط العقلي: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خصص العلم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-الإعداد القبل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دريب في أثناء الخدمة -عضوية دائمة في المهنة 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تنظيم نقابي له دوره الاجتماعي والمهني: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مراحل التعلي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ينقسم التعليم في المملكة السعودية إلى قسمين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أول وهو التعليم العام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 , 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ثاني وهو التعليم الع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ركائز الأساسية لعملية التعليم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أ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تعلم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ب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نهج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 ج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ادار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ة  د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علم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9432-9AF2-4734-B672-BA6F0F3B603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80092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527e56"/>
                </a:solidFill>
                <a:latin typeface="Calibri"/>
              </a:rPr>
              <a:t>: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الخامس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نظم إعداد المعلم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601200" cy="47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نظام الإعداد التتابعى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نظام الإعداد التكامل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أسس إعداد المعلم</a:t>
            </a: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ثقافي العام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أكاديمي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مه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التدري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1 –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التدريب التكميل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استكمال النقص الناتج عن مرحلة إعداد المعلم في مؤسسات إعداد المعلمين , وقد يكون هذا النقص في الجانب الأكاديمي أو في الجانب المسلك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علاج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عالجة ضعف في أحد الكفايات التي يجب أن تتوافر لدى المعلم أو العامل التربو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تجديد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سايرة المستجدات العلمية والتربوية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4-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تدريب التحويل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ذلك لاكتساب مهارات ومعارف وقدرات وسلوكيات تمكن المعلم من الانتقال (التحول)ا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جال عمل اخر , عمل جديد أو تخصص 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صفات المعلم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أ ـ من الناحية الجسم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 ـ من الناحية العقل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ج ـ  من الناحية الانفعال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د ـ من الناحية الاجتماع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 من الناحية المعرف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من الناحية الأخلاق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م ـ من الناحية القياد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877240" cy="10666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السادسة </a:t>
            </a:r>
            <a:br>
              <a:rPr sz="3200"/>
            </a:b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أهداف التربية والتعليم فى المملكة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937260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2000"/>
          </a:bodyPr>
          <a:p>
            <a:pPr marL="2811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1-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0880" y="1447920"/>
            <a:ext cx="929664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c00000"/>
                </a:solidFill>
                <a:uFillTx/>
                <a:latin typeface="Arial"/>
              </a:rPr>
              <a:t>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Arial"/>
              </a:rPr>
              <a:t>لأ</a:t>
            </a:r>
            <a:r>
              <a:rPr b="1" lang="ar-OM" sz="1800" spc="-1" strike="noStrike" u="sng">
                <a:solidFill>
                  <a:srgbClr val="c00000"/>
                </a:solidFill>
                <a:uFillTx/>
                <a:latin typeface="Arial"/>
              </a:rPr>
              <a:t>هداف التربوية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 الغاية التي تسعى التربية للوصول اليها مستخدمة في ذلك جميع الوسائل وا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الاهداف التربوية في الاساس منبثقة من النظرية الفلسفية الاجتماعية السياسية ومصاغة بشكل اهداف محدد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مستويات الاهداف التر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جالات الاهداف التربو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أولا : المجال المعرفي(الادراكى)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يختص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بالأهداف المرتطبة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بالمعلومات والمفاهيم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وتذكرها وإدراك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نياً : المجال النفسي حركي ( المهاري )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ختص بالأهداف المرتبطة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هارات التي تتطلب تنسيق بين عضلات الج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لثاً : المجال الوجداني ( العاطفي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يختص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أهداف المتعلقة بالاتجاهات والعواطف والقيم التقدير والتعا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أهداف التربية والتعليم فى المملكة العربية السعودي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(رياض الأطفال - المرحلة الابئدائية -المرحلة المتوسطة-التعليم التعليم العالى)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User</cp:lastModifiedBy>
  <dcterms:modified xsi:type="dcterms:W3CDTF">2011-04-20T17:04:11Z</dcterms:modified>
  <cp:revision>161</cp:revision>
  <dc:subject/>
  <dc:title>Slide 1</dc:title>
</cp:coreProperties>
</file>