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3.png" ContentType="image/png"/>
  <Override PartName="/ppt/media/image31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30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80.png" ContentType="image/png"/>
  <Override PartName="/ppt/media/image15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F21D-CCEA-481F-AC98-5D17A5E1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E07-284C-4071-A5AE-5901FD08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FB9-B4C9-4E00-AD39-5E8FE6C5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C49-7EB1-4C36-9736-C63EAEC8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A64-14A1-4A42-AB64-7B87291B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C2A-118A-4F34-AA08-367EE972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C98-4215-4B35-BD83-270BE483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21A-37D0-4BE6-A018-6D99CE74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098-E331-4129-AD94-7047B59E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295-5FDA-42DF-809C-13425B22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54F-126B-4CAA-9DD3-890BF5A5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DE2-4D81-4D33-A60D-C9A0BCC7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0DDD-36A3-4E5F-8E73-672C0DBE8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6.png"/><Relationship Id="rId6" Type="http://schemas.openxmlformats.org/officeDocument/2006/relationships/image" Target="../media/image52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8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80.png"/><Relationship Id="rId14" Type="http://schemas.openxmlformats.org/officeDocument/2006/relationships/image" Target="../media/image81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image" Target="../media/image16.png"/><Relationship Id="rId9" Type="http://schemas.openxmlformats.org/officeDocument/2006/relationships/image" Target="../media/image10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26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23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37.png"/><Relationship Id="rId9" Type="http://schemas.openxmlformats.org/officeDocument/2006/relationships/image" Target="../media/image4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 rot="19090800">
            <a:off x="3648240" y="1606320"/>
            <a:ext cx="4535280" cy="418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4960" y="260280"/>
            <a:ext cx="328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ملكة العربية السعود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جامعة الدم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كلية التربية بالجب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حليل عد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4960" y="258840"/>
            <a:ext cx="1714680" cy="100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89080" y="2349360"/>
            <a:ext cx="3887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نظيم المصفوف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وطريقة جاكوب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0" y="5924520"/>
            <a:ext cx="34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ص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ى ص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5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1682640" y="115560"/>
            <a:ext cx="1145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0000"/>
                </a:solidFill>
                <a:latin typeface="Arial"/>
              </a:rPr>
              <a:t>مثال (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5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ar-SA" sz="2600" spc="-1" strike="noStrike">
                <a:solidFill>
                  <a:srgbClr val="cc0000"/>
                </a:solidFill>
                <a:latin typeface="Arial"/>
              </a:rPr>
              <a:t>) : أوجدي حل جملة المعادلات الخطية التالية بطريقة جاكوب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003640" y="851040"/>
            <a:ext cx="2305080" cy="274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788000" y="1341360"/>
            <a:ext cx="2663640" cy="339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4932360" y="1851120"/>
            <a:ext cx="2232000" cy="338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19880" y="2435040"/>
            <a:ext cx="479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حيث التقريب الأولي :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3780000" y="2409840"/>
            <a:ext cx="927000" cy="731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1619280" y="2492280"/>
            <a:ext cx="1366920" cy="466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-1282680" y="3083400"/>
            <a:ext cx="1061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0000"/>
                </a:solidFill>
                <a:latin typeface="Arial"/>
              </a:rPr>
              <a:t>الحل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عيد كتابة المعادلات بحيث تصبح مصفوفة الأمثال مصفوفة مهيمن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ي نجعل عناصر القطر الرئيسي أكبر ما يمكن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4427640" y="4508640"/>
            <a:ext cx="259236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572000" y="404640"/>
            <a:ext cx="2548080" cy="311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643280" y="981000"/>
            <a:ext cx="2449800" cy="371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4284720" y="1628640"/>
            <a:ext cx="2824200" cy="65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4211640" y="2492280"/>
            <a:ext cx="2736720" cy="584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4211640" y="3290760"/>
            <a:ext cx="2600280" cy="569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28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1836720" y="4005360"/>
            <a:ext cx="1655640" cy="1454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44560" y="4524120"/>
            <a:ext cx="98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=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  <a:ea typeface="Calibri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80480" y="4524120"/>
            <a:ext cx="34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1"/>
          <a:stretch/>
        </p:blipFill>
        <p:spPr>
          <a:xfrm>
            <a:off x="4932360" y="4076640"/>
            <a:ext cx="719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44280" y="259920"/>
            <a:ext cx="92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لاحظ ان نظيم مصفوفة التكرار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صغر من الواحد أي أن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5651640" y="914400"/>
            <a:ext cx="2016000" cy="968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01440" y="1139400"/>
            <a:ext cx="133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3998880" y="836640"/>
            <a:ext cx="501840" cy="122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3800" y="1139400"/>
            <a:ext cx="57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2771640" y="1127160"/>
            <a:ext cx="801720" cy="501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2124000" y="2205000"/>
            <a:ext cx="5184720" cy="601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2050920" y="3068640"/>
            <a:ext cx="5185080" cy="500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2124000" y="3790800"/>
            <a:ext cx="5040360" cy="492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4067280" y="4479840"/>
            <a:ext cx="1296720" cy="771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535720" y="4668840"/>
            <a:ext cx="92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ومن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692360" y="333360"/>
            <a:ext cx="5798880" cy="552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1619280" y="1198440"/>
            <a:ext cx="5905440" cy="51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1619280" y="2060640"/>
            <a:ext cx="5802120" cy="509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5651640" y="2924280"/>
            <a:ext cx="1373040" cy="939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900000" y="4365720"/>
            <a:ext cx="62866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1258920" y="476280"/>
            <a:ext cx="6346800" cy="501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258920" y="1268280"/>
            <a:ext cx="6418080" cy="507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5867280" y="1989000"/>
            <a:ext cx="1271880" cy="750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137560" y="2923920"/>
            <a:ext cx="260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98-2.9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8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9280" y="344448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8-1.03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61080" y="409212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8-1.03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46560" y="4884480"/>
            <a:ext cx="41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إذن حل المعادلات هو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900000" y="4653000"/>
            <a:ext cx="1866960" cy="1014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4627440" y="4149720"/>
            <a:ext cx="449280" cy="396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4986360" y="2960640"/>
            <a:ext cx="449280" cy="397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1"/>
          <a:stretch/>
        </p:blipFill>
        <p:spPr>
          <a:xfrm>
            <a:off x="4572000" y="3500280"/>
            <a:ext cx="449280" cy="397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775240" y="2923920"/>
            <a:ext cx="221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  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14880" y="3499920"/>
            <a:ext cx="221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  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7080" y="4149360"/>
            <a:ext cx="221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  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2"/>
          <a:stretch/>
        </p:blipFill>
        <p:spPr>
          <a:xfrm>
            <a:off x="2987640" y="2997360"/>
            <a:ext cx="1008000" cy="390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3"/>
          <a:stretch/>
        </p:blipFill>
        <p:spPr>
          <a:xfrm>
            <a:off x="2627280" y="3573360"/>
            <a:ext cx="949320" cy="366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4"/>
          <a:stretch/>
        </p:blipFill>
        <p:spPr>
          <a:xfrm>
            <a:off x="2700360" y="4221000"/>
            <a:ext cx="10080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1480" y="548280"/>
            <a:ext cx="7104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عمل الطالبات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غدير راشد ماجد القحط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ديل محمد عبدالله القحط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ريم حزام القط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(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محولات من قسم الحاسب الآلي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615320" y="189000"/>
            <a:ext cx="10995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نظيم المصفوفة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ظيم المصفوفة(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)هو قيمه حقيقية ويرمز لل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بالرمز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ويحقق الشروط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 و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 إذا و إذا فقط كانت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 |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 =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λ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حيث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عدد حقيقي ويكو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=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|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+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+B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حيث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=|    |n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.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B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79640" y="4189320"/>
            <a:ext cx="431640" cy="401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048200" y="1197000"/>
            <a:ext cx="7398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1696680" y="395280"/>
            <a:ext cx="1116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ومن النظم المعروفة بالنسبة للمصفوفا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|  )    |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)  =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||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قيمة العظمى لمجموع القيم المطلقة لعناصر الأعم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| )     |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) =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|∞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قيمة العظمى لمجموع القيم المطلقة لعناصر الصفو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||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نظيم الإقلي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740640" y="1341360"/>
            <a:ext cx="49536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156360" y="1461960"/>
            <a:ext cx="431640" cy="454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4067280" y="1565280"/>
            <a:ext cx="865080" cy="37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067280" y="3027240"/>
            <a:ext cx="898560" cy="3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940360" y="2924280"/>
            <a:ext cx="432000" cy="453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2708280"/>
            <a:ext cx="49500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5508720" y="4124160"/>
            <a:ext cx="14572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44464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96120" y="333360"/>
            <a:ext cx="8681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ثال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) : احسبي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₁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 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∞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 , ₂|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للمصفوف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     الح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(18,11,8)=1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= 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|              |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|       |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(11,8,18)=1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|              |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|        | 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300720" y="1749600"/>
            <a:ext cx="1069920" cy="67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916360" y="3068640"/>
            <a:ext cx="63324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270160" y="3294000"/>
            <a:ext cx="501480" cy="351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132000" y="3932280"/>
            <a:ext cx="57168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2411280" y="4137120"/>
            <a:ext cx="428760" cy="299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7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5867280" y="4797360"/>
            <a:ext cx="1225800" cy="763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3635280" y="3335400"/>
            <a:ext cx="1152720" cy="309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3708360" y="4056120"/>
            <a:ext cx="115272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44464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7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132000" y="115920"/>
            <a:ext cx="4897440" cy="50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124000" y="115920"/>
            <a:ext cx="706680" cy="514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8000" y="11484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960" y="11484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4.8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93600" y="733680"/>
            <a:ext cx="96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Calibri"/>
              </a:rPr>
              <a:t>من اجل المصفوفات الخاصة التي تمثل متجهات, فإذا كان المتج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867280" y="1268280"/>
            <a:ext cx="522360" cy="91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27400" y="14086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974520" y="2133000"/>
            <a:ext cx="105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إن نظيم المتج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رمز له بالرمز 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|| ومن النظم المعروف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2411280" y="2708280"/>
            <a:ext cx="4627800" cy="43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68160" y="269316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7880" y="321228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جموع القيمة المطل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" y="3701160"/>
            <a:ext cx="13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∞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1476360" y="3860640"/>
            <a:ext cx="628560" cy="393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64800" y="3701160"/>
            <a:ext cx="60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,…,|     | , |    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|    (|                =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2844720" y="3860640"/>
            <a:ext cx="432000" cy="32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3852720" y="3860640"/>
            <a:ext cx="503280" cy="37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5292720" y="3860640"/>
            <a:ext cx="431640" cy="389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5940360" y="3789360"/>
            <a:ext cx="1584360" cy="35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55760" y="4277520"/>
            <a:ext cx="64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سمى نظيم القيم المطلقة العظم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03400" y="276372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5400" y="377208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9560" y="4868280"/>
            <a:ext cx="30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=           =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2378160" y="4792680"/>
            <a:ext cx="609480" cy="652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64000" y="4836960"/>
            <a:ext cx="2160360" cy="536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743040" y="499572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87080" y="515700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ظيم الأقليد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8040" y="202680"/>
            <a:ext cx="770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مثال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) : احسبي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 ,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∞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 ,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 للمتجه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001880" y="115920"/>
            <a:ext cx="545760" cy="1224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3320" y="332640"/>
            <a:ext cx="9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80680" y="764640"/>
            <a:ext cx="115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Arial"/>
              </a:rPr>
              <a:t>الحل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3400" y="1426680"/>
            <a:ext cx="126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2865600" y="1338120"/>
            <a:ext cx="668160" cy="722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1480" y="1426680"/>
            <a:ext cx="39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 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+ |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5360" y="2349000"/>
            <a:ext cx="386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)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(2,3,0,4) =4 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859280" y="2471760"/>
            <a:ext cx="344520" cy="309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11920" y="2363400"/>
            <a:ext cx="56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|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452920" y="2544840"/>
            <a:ext cx="1351080" cy="30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4400" y="2349000"/>
            <a:ext cx="88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∞ =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1080" y="2997000"/>
            <a:ext cx="101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878120" y="2924280"/>
            <a:ext cx="606240" cy="64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843280" y="2955960"/>
            <a:ext cx="2619360" cy="544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77160" y="3068280"/>
            <a:ext cx="4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720" y="3068280"/>
            <a:ext cx="4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5724360" y="2997360"/>
            <a:ext cx="576360" cy="502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293520" y="3068280"/>
            <a:ext cx="4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64600" y="3011040"/>
            <a:ext cx="110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38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483560" y="3695760"/>
            <a:ext cx="11332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جدنا أنه لحل المعاد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بحث عن دالة تكرار محققة للعلاق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=g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ثم نطبق علاقة التكرا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3203640" y="4653000"/>
            <a:ext cx="444600" cy="27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56800" y="4581000"/>
            <a:ext cx="86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3"/>
          <a:stretch/>
        </p:blipFill>
        <p:spPr>
          <a:xfrm>
            <a:off x="4257720" y="4729320"/>
            <a:ext cx="745920" cy="284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37040" y="4595400"/>
            <a:ext cx="200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 = 0,1,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1703160" y="94320"/>
            <a:ext cx="11543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لكن في حال جملة معادلات خطي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X = 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فإننا نبحث عن مصفوفة تكرا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بحيث تكون جملة المعادلات الخطية مكافئة لجملة جديدة من الشكل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X=  α X + 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تكون علاقة التكرار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80520" y="1844280"/>
            <a:ext cx="94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121280" y="4365720"/>
            <a:ext cx="450720" cy="323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50240" y="1860120"/>
            <a:ext cx="75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5940360" y="1916280"/>
            <a:ext cx="863640" cy="366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06680" y="2420640"/>
            <a:ext cx="446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حيث نبدأ من قيمة اختياري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4716360" y="2475000"/>
            <a:ext cx="432000" cy="306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868960" y="1616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56960" y="2435040"/>
            <a:ext cx="206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نحسب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81960" y="2435040"/>
            <a:ext cx="81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771640" y="2492280"/>
            <a:ext cx="432000" cy="306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1908000" y="2492280"/>
            <a:ext cx="432000" cy="328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80320" y="2923920"/>
            <a:ext cx="188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ثم نحسب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97960" y="2923920"/>
            <a:ext cx="81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4716360" y="3029040"/>
            <a:ext cx="432000" cy="328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005440" y="2939760"/>
            <a:ext cx="75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5653080" y="3068640"/>
            <a:ext cx="431640" cy="328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1369800" y="3357720"/>
            <a:ext cx="10699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هكذا ... نحصل على التقريب ذي الرتب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ن التقريب ذي الرتب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الأعتماد على العلاقة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79040" y="4308120"/>
            <a:ext cx="81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30960" y="4235040"/>
            <a:ext cx="75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5221440" y="4292640"/>
            <a:ext cx="8632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999400" y="4235040"/>
            <a:ext cx="295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 =0,1,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...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>
            <a:off x="4716360" y="1916280"/>
            <a:ext cx="451080" cy="32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160" y="4848120"/>
            <a:ext cx="7698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فإذا كانت المتتالية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متقاربة فلها 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4"/>
          <a:stretch/>
        </p:blipFill>
        <p:spPr>
          <a:xfrm>
            <a:off x="1731960" y="4869000"/>
            <a:ext cx="33447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98720" y="115560"/>
            <a:ext cx="137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ي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168880" y="165240"/>
            <a:ext cx="1419120" cy="311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672640" y="633600"/>
            <a:ext cx="615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هذه النهاية هي حل للجملة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= αX +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بالتالي هذه النهاية حل للجم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X=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ذلك لأن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5148360" y="1636560"/>
            <a:ext cx="1800000" cy="301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825440" y="1571400"/>
            <a:ext cx="46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708360" y="1592280"/>
            <a:ext cx="1224000" cy="295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06160" y="1483920"/>
            <a:ext cx="67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2949480" y="1628640"/>
            <a:ext cx="398520" cy="287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765080" y="1483920"/>
            <a:ext cx="135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β)= α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539640" y="1484280"/>
            <a:ext cx="1374840" cy="374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-75960" y="1483920"/>
            <a:ext cx="75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595800" y="2145960"/>
            <a:ext cx="1051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منه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 = αX + 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من الطرائق غير المباشرة لحل جملة المعادلات الخطية ندر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طريقة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جاكوبي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طريقة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غاوس-سيدل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41400" y="130680"/>
            <a:ext cx="8200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*طريقة جاكوب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ثال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) : المصفوفة التالية هي مصفوفة مهيمن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940360" y="1082520"/>
            <a:ext cx="1295640" cy="690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17800" y="1845720"/>
            <a:ext cx="66852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1            |-7| = 7 &gt; 2 + 1 =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2     |25| = 25 &gt; 15 + 3 = 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3          |10|= 10 &gt; 2 + 4 =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نتوقف عن الحل إذا تحقق الشرط التالي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948360" y="4365720"/>
            <a:ext cx="576360" cy="247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660360" y="416376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5651640" y="4281480"/>
            <a:ext cx="1152360" cy="371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293440" y="414936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3080" y="4163760"/>
            <a:ext cx="182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= 1,2,…,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21:02:04Z</dcterms:created>
  <dc:creator>mohammed alqahtani</dc:creator>
  <dc:description/>
  <dc:language>en-US</dc:language>
  <cp:lastModifiedBy>mohammed alqahtani</cp:lastModifiedBy>
  <dcterms:modified xsi:type="dcterms:W3CDTF">2011-05-17T23:00:09Z</dcterms:modified>
  <cp:revision>6</cp:revision>
  <dc:subject/>
  <dc:title>الشريحة 1</dc:title>
</cp:coreProperties>
</file>